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A45E-6BE0-4569-BF0E-8234B6E1C9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s and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s and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occur when different atoms or molecules col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action to happen the particles must have a certain amount of energy – this is called the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at which the reaction happens depends on four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erature of the react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ther or not a catalys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occur when different atoms or molecules coll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action to happen the particles must have a certain amount of energy – this is called the ACTIV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e at which the reaction happens depends on four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mperature of the react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ther or not a catalyst i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mon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asure how fast the product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Measure how fast the reactants are us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rate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common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Measure how fast the product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Measure how fast the reactants are us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product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 of reaction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unt of product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biological catalysts.  They help the reactions that occur in our bodies by controlling the rate of re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is an example of an enzyme.  It is used to help a process called fer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cohol from this process is used in making drinks and the carbon dioxide can be used to make bread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work best in certain cond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are biological catalysts.  They help the reactions that occur in our bodies by controlling the rate of re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is an example of an enzyme.  It is used to help a process called ferment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cohol from this process is used in making drinks and the carbon dioxide can be used to make bread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work best in certain condi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Enzymes are used in washing powders to help digest food stains.  Biological washing powders  will only work on 400C or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Enzymes are used in baby foods to “pre-digest” the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Enzymes are used to convert starch into sugar which can then be used in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Conversion of glucose into fructose – glucose and fructose are “isomers” (they have the same chemical formula), but fructose is swe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of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Enzymes are used in washing powders to help digest food stains.  Biological washing powders  will only work on 400C or 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Enzymes are used in baby foods to “pre-digest” the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Enzymes are used to convert starch into sugar which can then be used in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 Conversion of glucose into fructose – glucose and fructose are “isomers” (they have the same chemical formula), but fructose is swe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A49D-EE1F-4690-B1B2-E47575FB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4449-0BCB-4225-8ED7-AAA2A8A7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CE9D-1043-4177-BA10-08942519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84E-0D70-4F92-ABEF-277CFE04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FF9-46E6-4D6B-AEAF-4C0AD37C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248B-397D-422B-A62F-1F54C0ED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858B-1592-499A-89BD-B7BD08C6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C225-164A-45CE-9BDF-E309926D1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C61-6F98-4C84-A5AF-143EC11B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3AAA-ED49-4E42-B71B-85899EAA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0410-C64D-45BC-B7DF-73D8A79D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C6FF-E1E7-453E-B6F1-BA63CD14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60AB-3DB0-4DE5-9551-0D116CF42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tes of Reactions and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ates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4920" y="12193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Chemical reactions occur when different atoms or molecules colli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04920" y="2514600"/>
            <a:ext cx="8534160" cy="40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Comic Sans MS"/>
              </a:rPr>
              <a:t>For the reaction to happen the particles must have a certain amount of energy – this is called the ACTIVATION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The rate at which the reaction happens depends on four th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temperature of the reac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ff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Their concen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ir surfac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ffcc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ffcc"/>
                </a:solidFill>
                <a:latin typeface="Comic Sans MS"/>
              </a:rPr>
              <a:t>Whether or not a catalyst i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6400800" y="1143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33cc"/>
              </a:gs>
              <a:gs pos="100000">
                <a:srgbClr val="ff91e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7924680" y="1447920"/>
            <a:ext cx="685800" cy="685800"/>
          </a:xfrm>
          <a:prstGeom prst="ellipse">
            <a:avLst/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 rot="900000">
            <a:off x="7009920" y="1447560"/>
            <a:ext cx="838440" cy="304560"/>
          </a:xfrm>
          <a:prstGeom prst="rightArrow">
            <a:avLst>
              <a:gd name="adj1" fmla="val 50000"/>
              <a:gd name="adj2" fmla="val 6882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asuring rate of re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57200" y="1295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ccffcc"/>
                </a:solidFill>
                <a:latin typeface="Comic Sans MS"/>
              </a:rPr>
              <a:t>Two commo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38120" y="21146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1) Measure how fast the products are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57200" y="4876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ff"/>
                </a:solidFill>
                <a:latin typeface="Comic Sans MS"/>
              </a:rPr>
              <a:t>2)  Measure how fast the reactants are us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Rates of reaction 1"/>
          <p:cNvPicPr/>
          <p:nvPr/>
        </p:nvPicPr>
        <p:blipFill>
          <a:blip r:embed="rId1"/>
          <a:srcRect l="11267" t="16009" r="30633" b="9457"/>
          <a:stretch/>
        </p:blipFill>
        <p:spPr>
          <a:xfrm>
            <a:off x="4933800" y="3859200"/>
            <a:ext cx="3410280" cy="2706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Rates of reaction 2"/>
          <p:cNvPicPr/>
          <p:nvPr/>
        </p:nvPicPr>
        <p:blipFill>
          <a:blip r:embed="rId2"/>
          <a:srcRect l="26129" t="21109" r="14413" b="9457"/>
          <a:stretch/>
        </p:blipFill>
        <p:spPr>
          <a:xfrm>
            <a:off x="4933800" y="1128600"/>
            <a:ext cx="3448080" cy="24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24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Rate of reaction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"/>
          <p:cNvSpPr/>
          <p:nvPr/>
        </p:nvSpPr>
        <p:spPr>
          <a:xfrm flipV="1">
            <a:off x="2057400" y="1523880"/>
            <a:ext cx="0" cy="426888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 flipV="1">
            <a:off x="2057400" y="5789160"/>
            <a:ext cx="5638680" cy="3240"/>
          </a:xfrm>
          <a:prstGeom prst="line">
            <a:avLst/>
          </a:prstGeom>
          <a:ln w="507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28600" y="12952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Comic Sans MS"/>
              </a:rPr>
              <a:t>Amount of product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010280" y="6019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 flipV="1">
            <a:off x="2057400" y="3809880"/>
            <a:ext cx="533520" cy="1981440"/>
          </a:xfrm>
          <a:prstGeom prst="line">
            <a:avLst/>
          </a:prstGeom>
          <a:ln w="507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2590920" y="2516040"/>
            <a:ext cx="5238720" cy="1306800"/>
          </a:xfrm>
          <a:custGeom>
            <a:avLst/>
            <a:gdLst/>
            <a:ahLst/>
            <a:rect l="l" t="t" r="r" b="b"/>
            <a:pathLst>
              <a:path w="3300" h="823">
                <a:moveTo>
                  <a:pt x="0" y="823"/>
                </a:moveTo>
                <a:cubicBezTo>
                  <a:pt x="64" y="599"/>
                  <a:pt x="128" y="375"/>
                  <a:pt x="240" y="247"/>
                </a:cubicBezTo>
                <a:cubicBezTo>
                  <a:pt x="352" y="119"/>
                  <a:pt x="416" y="95"/>
                  <a:pt x="672" y="55"/>
                </a:cubicBezTo>
                <a:cubicBezTo>
                  <a:pt x="928" y="15"/>
                  <a:pt x="1338" y="14"/>
                  <a:pt x="1776" y="7"/>
                </a:cubicBezTo>
                <a:cubicBezTo>
                  <a:pt x="2214" y="0"/>
                  <a:pt x="2983" y="10"/>
                  <a:pt x="3300" y="11"/>
                </a:cubicBezTo>
              </a:path>
            </a:pathLst>
          </a:custGeom>
          <a:noFill/>
          <a:ln w="507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9"/>
          <p:cNvGrpSpPr/>
          <p:nvPr/>
        </p:nvGrpSpPr>
        <p:grpSpPr>
          <a:xfrm>
            <a:off x="2057400" y="2558880"/>
            <a:ext cx="5695920" cy="3156120"/>
            <a:chOff x="2057400" y="2558880"/>
            <a:chExt cx="5695920" cy="3156120"/>
          </a:xfrm>
        </p:grpSpPr>
        <p:sp>
          <p:nvSpPr>
            <p:cNvPr id="69" name="Line 10"/>
            <p:cNvSpPr/>
            <p:nvPr/>
          </p:nvSpPr>
          <p:spPr>
            <a:xfrm flipV="1">
              <a:off x="2057400" y="4267080"/>
              <a:ext cx="1219320" cy="1447920"/>
            </a:xfrm>
            <a:prstGeom prst="line">
              <a:avLst/>
            </a:prstGeom>
            <a:ln w="507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1"/>
            <p:cNvSpPr/>
            <p:nvPr/>
          </p:nvSpPr>
          <p:spPr>
            <a:xfrm>
              <a:off x="3276720" y="2558880"/>
              <a:ext cx="4476600" cy="1708200"/>
            </a:xfrm>
            <a:custGeom>
              <a:avLst/>
              <a:gdLst/>
              <a:ahLst/>
              <a:rect l="l" t="t" r="r" b="b"/>
              <a:pathLst>
                <a:path w="2832" h="1064">
                  <a:moveTo>
                    <a:pt x="0" y="1064"/>
                  </a:moveTo>
                  <a:cubicBezTo>
                    <a:pt x="100" y="976"/>
                    <a:pt x="416" y="676"/>
                    <a:pt x="600" y="536"/>
                  </a:cubicBezTo>
                  <a:cubicBezTo>
                    <a:pt x="784" y="396"/>
                    <a:pt x="946" y="304"/>
                    <a:pt x="1104" y="224"/>
                  </a:cubicBezTo>
                  <a:cubicBezTo>
                    <a:pt x="1262" y="144"/>
                    <a:pt x="1390" y="92"/>
                    <a:pt x="1548" y="56"/>
                  </a:cubicBezTo>
                  <a:cubicBezTo>
                    <a:pt x="1706" y="20"/>
                    <a:pt x="1838" y="16"/>
                    <a:pt x="2052" y="8"/>
                  </a:cubicBezTo>
                  <a:cubicBezTo>
                    <a:pt x="2266" y="0"/>
                    <a:pt x="2670" y="8"/>
                    <a:pt x="2832" y="8"/>
                  </a:cubicBezTo>
                </a:path>
              </a:pathLst>
            </a:custGeom>
            <a:noFill/>
            <a:ln w="5076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12"/>
          <p:cNvGrpSpPr/>
          <p:nvPr/>
        </p:nvGrpSpPr>
        <p:grpSpPr>
          <a:xfrm>
            <a:off x="4474800" y="3254400"/>
            <a:ext cx="3754800" cy="1015200"/>
            <a:chOff x="4474800" y="3254400"/>
            <a:chExt cx="3754800" cy="1015200"/>
          </a:xfrm>
        </p:grpSpPr>
        <p:sp>
          <p:nvSpPr>
            <p:cNvPr id="72" name="AutoShape 13"/>
            <p:cNvSpPr/>
            <p:nvPr/>
          </p:nvSpPr>
          <p:spPr>
            <a:xfrm rot="1125600">
              <a:off x="4489200" y="3489480"/>
              <a:ext cx="1519200" cy="342720"/>
            </a:xfrm>
            <a:prstGeom prst="leftArrow">
              <a:avLst>
                <a:gd name="adj1" fmla="val 50000"/>
                <a:gd name="adj2" fmla="val 110819"/>
              </a:avLst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4"/>
            <p:cNvSpPr/>
            <p:nvPr/>
          </p:nvSpPr>
          <p:spPr>
            <a:xfrm>
              <a:off x="5638680" y="3809880"/>
              <a:ext cx="2590920" cy="4597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lower rea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228600" y="3429000"/>
            <a:ext cx="2286000" cy="1191240"/>
            <a:chOff x="228600" y="3429000"/>
            <a:chExt cx="2286000" cy="1191240"/>
          </a:xfrm>
        </p:grpSpPr>
        <p:sp>
          <p:nvSpPr>
            <p:cNvPr id="75" name="AutoShape 16"/>
            <p:cNvSpPr/>
            <p:nvPr/>
          </p:nvSpPr>
          <p:spPr>
            <a:xfrm>
              <a:off x="1905120" y="380988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17"/>
            <p:cNvSpPr/>
            <p:nvPr/>
          </p:nvSpPr>
          <p:spPr>
            <a:xfrm>
              <a:off x="228600" y="3429000"/>
              <a:ext cx="1905120" cy="1191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Fast rate of reactio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18"/>
          <p:cNvGrpSpPr/>
          <p:nvPr/>
        </p:nvGrpSpPr>
        <p:grpSpPr>
          <a:xfrm>
            <a:off x="3429000" y="1295280"/>
            <a:ext cx="4724280" cy="1143000"/>
            <a:chOff x="3429000" y="1295280"/>
            <a:chExt cx="4724280" cy="1143000"/>
          </a:xfrm>
        </p:grpSpPr>
        <p:sp>
          <p:nvSpPr>
            <p:cNvPr id="78" name="Text Box 19"/>
            <p:cNvSpPr/>
            <p:nvPr/>
          </p:nvSpPr>
          <p:spPr>
            <a:xfrm>
              <a:off x="3429000" y="1295280"/>
              <a:ext cx="4724280" cy="825480"/>
            </a:xfrm>
            <a:prstGeom prst="rect">
              <a:avLst/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Slower rate of reaction here due to reactants being used 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20"/>
            <p:cNvSpPr/>
            <p:nvPr/>
          </p:nvSpPr>
          <p:spPr>
            <a:xfrm>
              <a:off x="4191120" y="205740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cc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755640" y="692280"/>
            <a:ext cx="748836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ff"/>
                </a:solidFill>
                <a:latin typeface="Comic Sans MS"/>
              </a:rPr>
              <a:t>Enzymes are biological catalysts.  They help the reactions that occur in our bodies by controlling the rate of reaction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"/>
          <p:cNvSpPr/>
          <p:nvPr/>
        </p:nvSpPr>
        <p:spPr>
          <a:xfrm>
            <a:off x="108000" y="5302080"/>
            <a:ext cx="1800000" cy="1005120"/>
          </a:xfrm>
          <a:custGeom>
            <a:avLst/>
            <a:gdLst/>
            <a:ahLst/>
            <a:rect l="l" t="t" r="r" b="b"/>
            <a:pathLst>
              <a:path w="1728" h="1492">
                <a:moveTo>
                  <a:pt x="0" y="1252"/>
                </a:moveTo>
                <a:cubicBezTo>
                  <a:pt x="108" y="1244"/>
                  <a:pt x="216" y="1236"/>
                  <a:pt x="324" y="1204"/>
                </a:cubicBezTo>
                <a:cubicBezTo>
                  <a:pt x="432" y="1172"/>
                  <a:pt x="558" y="1196"/>
                  <a:pt x="648" y="1060"/>
                </a:cubicBezTo>
                <a:cubicBezTo>
                  <a:pt x="738" y="924"/>
                  <a:pt x="810" y="548"/>
                  <a:pt x="864" y="388"/>
                </a:cubicBezTo>
                <a:cubicBezTo>
                  <a:pt x="918" y="228"/>
                  <a:pt x="918" y="156"/>
                  <a:pt x="972" y="100"/>
                </a:cubicBezTo>
                <a:cubicBezTo>
                  <a:pt x="1026" y="44"/>
                  <a:pt x="1136" y="0"/>
                  <a:pt x="1188" y="52"/>
                </a:cubicBezTo>
                <a:cubicBezTo>
                  <a:pt x="1240" y="104"/>
                  <a:pt x="1246" y="270"/>
                  <a:pt x="1284" y="412"/>
                </a:cubicBezTo>
                <a:cubicBezTo>
                  <a:pt x="1322" y="554"/>
                  <a:pt x="1342" y="724"/>
                  <a:pt x="1416" y="904"/>
                </a:cubicBezTo>
                <a:cubicBezTo>
                  <a:pt x="1490" y="1084"/>
                  <a:pt x="1663" y="1370"/>
                  <a:pt x="1728" y="1492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4"/>
          <p:cNvGrpSpPr/>
          <p:nvPr/>
        </p:nvGrpSpPr>
        <p:grpSpPr>
          <a:xfrm>
            <a:off x="1403280" y="4365720"/>
            <a:ext cx="2089080" cy="1458360"/>
            <a:chOff x="1403280" y="4365720"/>
            <a:chExt cx="2089080" cy="1458360"/>
          </a:xfrm>
        </p:grpSpPr>
        <p:sp>
          <p:nvSpPr>
            <p:cNvPr id="83" name="AutoShape 5"/>
            <p:cNvSpPr/>
            <p:nvPr/>
          </p:nvSpPr>
          <p:spPr>
            <a:xfrm rot="18364800">
              <a:off x="1355400" y="527796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6"/>
            <p:cNvSpPr/>
            <p:nvPr/>
          </p:nvSpPr>
          <p:spPr>
            <a:xfrm>
              <a:off x="1403280" y="4365720"/>
              <a:ext cx="2089080" cy="916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Enzymes are denatured beyond 40</a:t>
              </a:r>
              <a:r>
                <a:rPr b="0" lang="en-GB" sz="1800" spc="-1" strike="noStrike" baseline="30000">
                  <a:solidFill>
                    <a:srgbClr val="ffffff"/>
                  </a:solidFill>
                  <a:latin typeface="Comic Sans MS"/>
                </a:rPr>
                <a:t>O</a:t>
              </a: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3152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34920" y="1484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ff"/>
                </a:solidFill>
                <a:latin typeface="Comic Sans MS"/>
              </a:rPr>
              <a:t>Yeast is an example of an enzyme.  It is used to help a process called fer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9"/>
          <p:cNvGrpSpPr/>
          <p:nvPr/>
        </p:nvGrpSpPr>
        <p:grpSpPr>
          <a:xfrm>
            <a:off x="1692360" y="2205000"/>
            <a:ext cx="5257800" cy="398880"/>
            <a:chOff x="1692360" y="2205000"/>
            <a:chExt cx="5257800" cy="398880"/>
          </a:xfrm>
        </p:grpSpPr>
        <p:sp>
          <p:nvSpPr>
            <p:cNvPr id="88" name="Text Box 10"/>
            <p:cNvSpPr/>
            <p:nvPr/>
          </p:nvSpPr>
          <p:spPr>
            <a:xfrm>
              <a:off x="1692360" y="2205000"/>
              <a:ext cx="5257800" cy="3988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Sugar                   Alcohol + carbon dioxi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1"/>
            <p:cNvSpPr/>
            <p:nvPr/>
          </p:nvSpPr>
          <p:spPr>
            <a:xfrm>
              <a:off x="2700360" y="2421000"/>
              <a:ext cx="1150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2"/>
          <p:cNvSpPr/>
          <p:nvPr/>
        </p:nvSpPr>
        <p:spPr>
          <a:xfrm>
            <a:off x="34920" y="278136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ccff"/>
                </a:solidFill>
                <a:latin typeface="Comic Sans MS"/>
              </a:rPr>
              <a:t>The alcohol from this process is used in making drinks and the carbon dioxide can be used to make bread r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1116000" y="393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Enzymes work best in certain condi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4"/>
          <p:cNvSpPr/>
          <p:nvPr/>
        </p:nvSpPr>
        <p:spPr>
          <a:xfrm>
            <a:off x="3348000" y="5421240"/>
            <a:ext cx="936720" cy="1032120"/>
          </a:xfrm>
          <a:custGeom>
            <a:avLst/>
            <a:gdLst/>
            <a:ahLst/>
            <a:rect l="l" t="t" r="r" b="b"/>
            <a:pathLst>
              <a:path w="590" h="650">
                <a:moveTo>
                  <a:pt x="0" y="650"/>
                </a:moveTo>
                <a:cubicBezTo>
                  <a:pt x="64" y="585"/>
                  <a:pt x="128" y="521"/>
                  <a:pt x="181" y="423"/>
                </a:cubicBezTo>
                <a:cubicBezTo>
                  <a:pt x="234" y="325"/>
                  <a:pt x="279" y="120"/>
                  <a:pt x="317" y="60"/>
                </a:cubicBezTo>
                <a:cubicBezTo>
                  <a:pt x="355" y="0"/>
                  <a:pt x="385" y="22"/>
                  <a:pt x="408" y="60"/>
                </a:cubicBezTo>
                <a:cubicBezTo>
                  <a:pt x="431" y="98"/>
                  <a:pt x="423" y="189"/>
                  <a:pt x="453" y="287"/>
                </a:cubicBezTo>
                <a:cubicBezTo>
                  <a:pt x="483" y="385"/>
                  <a:pt x="536" y="517"/>
                  <a:pt x="590" y="65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5"/>
          <p:cNvSpPr/>
          <p:nvPr/>
        </p:nvSpPr>
        <p:spPr>
          <a:xfrm>
            <a:off x="7524720" y="5445000"/>
            <a:ext cx="936720" cy="1032120"/>
          </a:xfrm>
          <a:custGeom>
            <a:avLst/>
            <a:gdLst/>
            <a:ahLst/>
            <a:rect l="l" t="t" r="r" b="b"/>
            <a:pathLst>
              <a:path w="590" h="650">
                <a:moveTo>
                  <a:pt x="0" y="650"/>
                </a:moveTo>
                <a:cubicBezTo>
                  <a:pt x="64" y="585"/>
                  <a:pt x="128" y="521"/>
                  <a:pt x="181" y="423"/>
                </a:cubicBezTo>
                <a:cubicBezTo>
                  <a:pt x="234" y="325"/>
                  <a:pt x="279" y="120"/>
                  <a:pt x="317" y="60"/>
                </a:cubicBezTo>
                <a:cubicBezTo>
                  <a:pt x="355" y="0"/>
                  <a:pt x="385" y="22"/>
                  <a:pt x="408" y="60"/>
                </a:cubicBezTo>
                <a:cubicBezTo>
                  <a:pt x="431" y="98"/>
                  <a:pt x="423" y="189"/>
                  <a:pt x="453" y="287"/>
                </a:cubicBezTo>
                <a:cubicBezTo>
                  <a:pt x="483" y="385"/>
                  <a:pt x="536" y="517"/>
                  <a:pt x="590" y="650"/>
                </a:cubicBezTo>
              </a:path>
            </a:pathLst>
          </a:custGeom>
          <a:noFill/>
          <a:ln w="381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6"/>
          <p:cNvGrpSpPr/>
          <p:nvPr/>
        </p:nvGrpSpPr>
        <p:grpSpPr>
          <a:xfrm>
            <a:off x="0" y="4797360"/>
            <a:ext cx="9180360" cy="2095560"/>
            <a:chOff x="0" y="4797360"/>
            <a:chExt cx="9180360" cy="2095560"/>
          </a:xfrm>
        </p:grpSpPr>
        <p:sp>
          <p:nvSpPr>
            <p:cNvPr id="95" name="Text Box 17"/>
            <p:cNvSpPr/>
            <p:nvPr/>
          </p:nvSpPr>
          <p:spPr>
            <a:xfrm>
              <a:off x="0" y="4797360"/>
              <a:ext cx="167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ffffff"/>
                  </a:solidFill>
                  <a:latin typeface="Comic Sans MS"/>
                </a:rPr>
                <a:t>Enzyme activ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8"/>
            <p:cNvSpPr/>
            <p:nvPr/>
          </p:nvSpPr>
          <p:spPr>
            <a:xfrm>
              <a:off x="2050920" y="6524640"/>
              <a:ext cx="86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Te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19"/>
            <p:cNvGrpSpPr/>
            <p:nvPr/>
          </p:nvGrpSpPr>
          <p:grpSpPr>
            <a:xfrm>
              <a:off x="108000" y="5373360"/>
              <a:ext cx="2521080" cy="1080000"/>
              <a:chOff x="108000" y="5373360"/>
              <a:chExt cx="2521080" cy="1080000"/>
            </a:xfrm>
          </p:grpSpPr>
          <p:sp>
            <p:nvSpPr>
              <p:cNvPr id="98" name="Line 20"/>
              <p:cNvSpPr/>
              <p:nvPr/>
            </p:nvSpPr>
            <p:spPr>
              <a:xfrm flipV="1">
                <a:off x="10800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21"/>
              <p:cNvSpPr/>
              <p:nvPr/>
            </p:nvSpPr>
            <p:spPr>
              <a:xfrm>
                <a:off x="108000" y="6453360"/>
                <a:ext cx="252108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22"/>
            <p:cNvGrpSpPr/>
            <p:nvPr/>
          </p:nvGrpSpPr>
          <p:grpSpPr>
            <a:xfrm>
              <a:off x="3276720" y="5373360"/>
              <a:ext cx="2520720" cy="1080000"/>
              <a:chOff x="3276720" y="5373360"/>
              <a:chExt cx="2520720" cy="1080000"/>
            </a:xfrm>
          </p:grpSpPr>
          <p:sp>
            <p:nvSpPr>
              <p:cNvPr id="101" name="Line 23"/>
              <p:cNvSpPr/>
              <p:nvPr/>
            </p:nvSpPr>
            <p:spPr>
              <a:xfrm flipV="1">
                <a:off x="327672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>
                <a:off x="3276720" y="6453360"/>
                <a:ext cx="252072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25"/>
            <p:cNvGrpSpPr/>
            <p:nvPr/>
          </p:nvGrpSpPr>
          <p:grpSpPr>
            <a:xfrm>
              <a:off x="6622920" y="5373360"/>
              <a:ext cx="2521080" cy="1080000"/>
              <a:chOff x="6622920" y="5373360"/>
              <a:chExt cx="2521080" cy="1080000"/>
            </a:xfrm>
          </p:grpSpPr>
          <p:sp>
            <p:nvSpPr>
              <p:cNvPr id="104" name="Line 26"/>
              <p:cNvSpPr/>
              <p:nvPr/>
            </p:nvSpPr>
            <p:spPr>
              <a:xfrm flipV="1">
                <a:off x="6622920" y="5373360"/>
                <a:ext cx="0" cy="107964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27"/>
              <p:cNvSpPr/>
              <p:nvPr/>
            </p:nvSpPr>
            <p:spPr>
              <a:xfrm>
                <a:off x="6622920" y="6453360"/>
                <a:ext cx="2521080" cy="0"/>
              </a:xfrm>
              <a:prstGeom prst="line">
                <a:avLst/>
              </a:prstGeom>
              <a:ln w="5076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Text Box 28"/>
            <p:cNvSpPr/>
            <p:nvPr/>
          </p:nvSpPr>
          <p:spPr>
            <a:xfrm>
              <a:off x="5364000" y="652464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9"/>
            <p:cNvSpPr/>
            <p:nvPr/>
          </p:nvSpPr>
          <p:spPr>
            <a:xfrm>
              <a:off x="8604360" y="6524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Comic Sans MS"/>
                </a:rPr>
                <a:t>p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30"/>
          <p:cNvGrpSpPr/>
          <p:nvPr/>
        </p:nvGrpSpPr>
        <p:grpSpPr>
          <a:xfrm>
            <a:off x="900000" y="5302080"/>
            <a:ext cx="719280" cy="1488600"/>
            <a:chOff x="900000" y="5302080"/>
            <a:chExt cx="719280" cy="1488600"/>
          </a:xfrm>
        </p:grpSpPr>
        <p:sp>
          <p:nvSpPr>
            <p:cNvPr id="109" name="Line 31"/>
            <p:cNvSpPr/>
            <p:nvPr/>
          </p:nvSpPr>
          <p:spPr>
            <a:xfrm>
              <a:off x="1258920" y="5302080"/>
              <a:ext cx="0" cy="1165320"/>
            </a:xfrm>
            <a:prstGeom prst="line">
              <a:avLst/>
            </a:prstGeom>
            <a:ln w="38160">
              <a:solidFill>
                <a:srgbClr val="00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32"/>
            <p:cNvSpPr/>
            <p:nvPr/>
          </p:nvSpPr>
          <p:spPr>
            <a:xfrm>
              <a:off x="900000" y="64533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66ff66"/>
                  </a:solidFill>
                  <a:latin typeface="Comic Sans MS"/>
                </a:rPr>
                <a:t>40</a:t>
              </a:r>
              <a:r>
                <a:rPr b="0" lang="en-GB" sz="1600" spc="-1" strike="noStrike" baseline="30000">
                  <a:solidFill>
                    <a:srgbClr val="66ff66"/>
                  </a:solidFill>
                  <a:latin typeface="Comic Sans MS"/>
                </a:rPr>
                <a:t>0</a:t>
              </a:r>
              <a:r>
                <a:rPr b="0" lang="en-GB" sz="1600" spc="-1" strike="noStrike">
                  <a:solidFill>
                    <a:srgbClr val="66ff66"/>
                  </a:solidFill>
                  <a:latin typeface="Comic Sans MS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33"/>
          <p:cNvGrpSpPr/>
          <p:nvPr/>
        </p:nvGrpSpPr>
        <p:grpSpPr>
          <a:xfrm>
            <a:off x="4140360" y="4365720"/>
            <a:ext cx="2016000" cy="1530000"/>
            <a:chOff x="4140360" y="4365720"/>
            <a:chExt cx="2016000" cy="1530000"/>
          </a:xfrm>
        </p:grpSpPr>
        <p:sp>
          <p:nvSpPr>
            <p:cNvPr id="112" name="AutoShape 34"/>
            <p:cNvSpPr/>
            <p:nvPr/>
          </p:nvSpPr>
          <p:spPr>
            <a:xfrm rot="18364800">
              <a:off x="4090680" y="534960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5"/>
            <p:cNvSpPr/>
            <p:nvPr/>
          </p:nvSpPr>
          <p:spPr>
            <a:xfrm>
              <a:off x="4140360" y="4365720"/>
              <a:ext cx="2016000" cy="91692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ould be protease (found in the stomac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6"/>
          <p:cNvGrpSpPr/>
          <p:nvPr/>
        </p:nvGrpSpPr>
        <p:grpSpPr>
          <a:xfrm>
            <a:off x="6877080" y="4365720"/>
            <a:ext cx="2016000" cy="1432440"/>
            <a:chOff x="6877080" y="4365720"/>
            <a:chExt cx="2016000" cy="1432440"/>
          </a:xfrm>
        </p:grpSpPr>
        <p:sp>
          <p:nvSpPr>
            <p:cNvPr id="115" name="AutoShape 37"/>
            <p:cNvSpPr/>
            <p:nvPr/>
          </p:nvSpPr>
          <p:spPr>
            <a:xfrm rot="13596000">
              <a:off x="7114680" y="5277600"/>
              <a:ext cx="901800" cy="228600"/>
            </a:xfrm>
            <a:prstGeom prst="leftArrow">
              <a:avLst>
                <a:gd name="adj1" fmla="val 50000"/>
                <a:gd name="adj2" fmla="val 98622"/>
              </a:avLst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38"/>
            <p:cNvSpPr/>
            <p:nvPr/>
          </p:nvSpPr>
          <p:spPr>
            <a:xfrm>
              <a:off x="6877080" y="4365720"/>
              <a:ext cx="2016000" cy="91692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omic Sans MS"/>
                </a:rPr>
                <a:t>Could be amylase (found in the intestin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" name="Object 39"/>
          <p:cNvGraphicFramePr/>
          <p:nvPr/>
        </p:nvGraphicFramePr>
        <p:xfrm>
          <a:off x="6659640" y="2781360"/>
          <a:ext cx="2154240" cy="103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2781360"/>
                    <a:ext cx="215424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40"/>
          <p:cNvGraphicFramePr/>
          <p:nvPr/>
        </p:nvGraphicFramePr>
        <p:xfrm>
          <a:off x="5715000" y="2400480"/>
          <a:ext cx="66204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400480"/>
                    <a:ext cx="66204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5940360" y="0"/>
            <a:ext cx="3203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49528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Uses of enzy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8101080" y="1413000"/>
          <a:ext cx="933480" cy="7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01080" y="1413000"/>
                    <a:ext cx="93348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5"/>
          <p:cNvGraphicFramePr/>
          <p:nvPr/>
        </p:nvGraphicFramePr>
        <p:xfrm>
          <a:off x="7667640" y="5481720"/>
          <a:ext cx="1436760" cy="12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7640" y="5481720"/>
                    <a:ext cx="1436760" cy="12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 Box 6"/>
          <p:cNvSpPr/>
          <p:nvPr/>
        </p:nvSpPr>
        <p:spPr>
          <a:xfrm>
            <a:off x="0" y="836640"/>
            <a:ext cx="57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1)  Enzymes are used in washing powders to help digest food stains.  Biological washing powders  will only work on 40</a:t>
            </a:r>
            <a:r>
              <a:rPr b="0" lang="en-GB" sz="2400" spc="-1" strike="noStrike" baseline="30000">
                <a:solidFill>
                  <a:srgbClr val="ffccff"/>
                </a:solidFill>
                <a:latin typeface="Comic Sans MS"/>
              </a:rPr>
              <a:t>0</a:t>
            </a: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C or lo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0" y="260028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2)  Enzymes are used in baby foods to “pre-digest” the prote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0" y="3681360"/>
            <a:ext cx="59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ff"/>
                </a:solidFill>
                <a:latin typeface="Comic Sans MS"/>
              </a:rPr>
              <a:t>3)  Enzymes are used to convert starch into sugar which can then be used in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6300720" y="2554560"/>
            <a:ext cx="2018880" cy="311760"/>
            <a:chOff x="6300720" y="2554560"/>
            <a:chExt cx="2018880" cy="311760"/>
          </a:xfrm>
        </p:grpSpPr>
        <p:sp>
          <p:nvSpPr>
            <p:cNvPr id="131" name="Freeform 10"/>
            <p:cNvSpPr/>
            <p:nvPr/>
          </p:nvSpPr>
          <p:spPr>
            <a:xfrm>
              <a:off x="6300720" y="2620080"/>
              <a:ext cx="2016360" cy="220320"/>
            </a:xfrm>
            <a:custGeom>
              <a:avLst/>
              <a:gdLst/>
              <a:ahLst/>
              <a:rect l="l" t="t" r="r" b="b"/>
              <a:pathLst>
                <a:path w="2028" h="192">
                  <a:moveTo>
                    <a:pt x="0" y="192"/>
                  </a:moveTo>
                  <a:cubicBezTo>
                    <a:pt x="40" y="176"/>
                    <a:pt x="80" y="159"/>
                    <a:pt x="120" y="144"/>
                  </a:cubicBezTo>
                  <a:cubicBezTo>
                    <a:pt x="144" y="135"/>
                    <a:pt x="168" y="128"/>
                    <a:pt x="192" y="120"/>
                  </a:cubicBezTo>
                  <a:cubicBezTo>
                    <a:pt x="204" y="116"/>
                    <a:pt x="228" y="108"/>
                    <a:pt x="228" y="108"/>
                  </a:cubicBezTo>
                  <a:cubicBezTo>
                    <a:pt x="300" y="112"/>
                    <a:pt x="372" y="111"/>
                    <a:pt x="444" y="120"/>
                  </a:cubicBezTo>
                  <a:cubicBezTo>
                    <a:pt x="469" y="123"/>
                    <a:pt x="492" y="136"/>
                    <a:pt x="516" y="144"/>
                  </a:cubicBezTo>
                  <a:cubicBezTo>
                    <a:pt x="528" y="148"/>
                    <a:pt x="552" y="156"/>
                    <a:pt x="552" y="156"/>
                  </a:cubicBezTo>
                  <a:cubicBezTo>
                    <a:pt x="733" y="148"/>
                    <a:pt x="817" y="142"/>
                    <a:pt x="972" y="120"/>
                  </a:cubicBezTo>
                  <a:cubicBezTo>
                    <a:pt x="1117" y="72"/>
                    <a:pt x="1265" y="25"/>
                    <a:pt x="1416" y="0"/>
                  </a:cubicBezTo>
                  <a:cubicBezTo>
                    <a:pt x="1546" y="9"/>
                    <a:pt x="1643" y="20"/>
                    <a:pt x="1764" y="60"/>
                  </a:cubicBezTo>
                  <a:cubicBezTo>
                    <a:pt x="1791" y="69"/>
                    <a:pt x="1833" y="69"/>
                    <a:pt x="1860" y="84"/>
                  </a:cubicBezTo>
                  <a:cubicBezTo>
                    <a:pt x="1919" y="117"/>
                    <a:pt x="1958" y="168"/>
                    <a:pt x="2028" y="16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1"/>
            <p:cNvSpPr/>
            <p:nvPr/>
          </p:nvSpPr>
          <p:spPr>
            <a:xfrm rot="20697600">
              <a:off x="6396120" y="267156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2"/>
            <p:cNvSpPr/>
            <p:nvPr/>
          </p:nvSpPr>
          <p:spPr>
            <a:xfrm rot="1133400">
              <a:off x="7922880" y="25754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3"/>
            <p:cNvSpPr/>
            <p:nvPr/>
          </p:nvSpPr>
          <p:spPr>
            <a:xfrm>
              <a:off x="6897240" y="26996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4"/>
            <p:cNvSpPr/>
            <p:nvPr/>
          </p:nvSpPr>
          <p:spPr>
            <a:xfrm rot="20566200">
              <a:off x="7374600" y="2602440"/>
              <a:ext cx="154800" cy="1548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5"/>
            <p:cNvSpPr/>
            <p:nvPr/>
          </p:nvSpPr>
          <p:spPr>
            <a:xfrm>
              <a:off x="6610680" y="270288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6"/>
            <p:cNvSpPr/>
            <p:nvPr/>
          </p:nvSpPr>
          <p:spPr>
            <a:xfrm>
              <a:off x="7076160" y="273060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7"/>
            <p:cNvSpPr/>
            <p:nvPr/>
          </p:nvSpPr>
          <p:spPr>
            <a:xfrm>
              <a:off x="7577280" y="2565360"/>
              <a:ext cx="9540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8"/>
            <p:cNvSpPr/>
            <p:nvPr/>
          </p:nvSpPr>
          <p:spPr>
            <a:xfrm>
              <a:off x="8090280" y="2675160"/>
              <a:ext cx="95040" cy="109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9"/>
            <p:cNvSpPr/>
            <p:nvPr/>
          </p:nvSpPr>
          <p:spPr>
            <a:xfrm>
              <a:off x="6753960" y="271656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0"/>
            <p:cNvSpPr/>
            <p:nvPr/>
          </p:nvSpPr>
          <p:spPr>
            <a:xfrm rot="1065000">
              <a:off x="7744320" y="25786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1"/>
            <p:cNvSpPr/>
            <p:nvPr/>
          </p:nvSpPr>
          <p:spPr>
            <a:xfrm rot="20539200">
              <a:off x="7243200" y="268884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2"/>
            <p:cNvSpPr/>
            <p:nvPr/>
          </p:nvSpPr>
          <p:spPr>
            <a:xfrm rot="1083600">
              <a:off x="8209800" y="27442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3"/>
          <p:cNvGrpSpPr/>
          <p:nvPr/>
        </p:nvGrpSpPr>
        <p:grpSpPr>
          <a:xfrm>
            <a:off x="6156360" y="3789360"/>
            <a:ext cx="2612880" cy="150840"/>
            <a:chOff x="6156360" y="3789360"/>
            <a:chExt cx="2612880" cy="150840"/>
          </a:xfrm>
        </p:grpSpPr>
        <p:sp>
          <p:nvSpPr>
            <p:cNvPr id="145" name="AutoShape 24"/>
            <p:cNvSpPr/>
            <p:nvPr/>
          </p:nvSpPr>
          <p:spPr>
            <a:xfrm>
              <a:off x="615636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5"/>
            <p:cNvSpPr/>
            <p:nvPr/>
          </p:nvSpPr>
          <p:spPr>
            <a:xfrm>
              <a:off x="641412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26"/>
            <p:cNvSpPr/>
            <p:nvPr/>
          </p:nvSpPr>
          <p:spPr>
            <a:xfrm>
              <a:off x="667224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27"/>
            <p:cNvSpPr/>
            <p:nvPr/>
          </p:nvSpPr>
          <p:spPr>
            <a:xfrm>
              <a:off x="693036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28"/>
            <p:cNvSpPr/>
            <p:nvPr/>
          </p:nvSpPr>
          <p:spPr>
            <a:xfrm>
              <a:off x="71884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29"/>
            <p:cNvSpPr/>
            <p:nvPr/>
          </p:nvSpPr>
          <p:spPr>
            <a:xfrm>
              <a:off x="770472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30"/>
            <p:cNvSpPr/>
            <p:nvPr/>
          </p:nvSpPr>
          <p:spPr>
            <a:xfrm>
              <a:off x="744660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31"/>
            <p:cNvSpPr/>
            <p:nvPr/>
          </p:nvSpPr>
          <p:spPr>
            <a:xfrm>
              <a:off x="79624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32"/>
            <p:cNvSpPr/>
            <p:nvPr/>
          </p:nvSpPr>
          <p:spPr>
            <a:xfrm>
              <a:off x="847908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33"/>
            <p:cNvSpPr/>
            <p:nvPr/>
          </p:nvSpPr>
          <p:spPr>
            <a:xfrm>
              <a:off x="8220600" y="3789360"/>
              <a:ext cx="290160" cy="150840"/>
            </a:xfrm>
            <a:prstGeom prst="hexagon">
              <a:avLst>
                <a:gd name="adj" fmla="val 48091"/>
                <a:gd name="vf" fmla="val 11547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34"/>
          <p:cNvGrpSpPr/>
          <p:nvPr/>
        </p:nvGrpSpPr>
        <p:grpSpPr>
          <a:xfrm>
            <a:off x="6084720" y="260280"/>
            <a:ext cx="825840" cy="603360"/>
            <a:chOff x="6084720" y="260280"/>
            <a:chExt cx="825840" cy="603360"/>
          </a:xfrm>
        </p:grpSpPr>
        <p:sp>
          <p:nvSpPr>
            <p:cNvPr id="156" name="Freeform 35"/>
            <p:cNvSpPr/>
            <p:nvPr/>
          </p:nvSpPr>
          <p:spPr>
            <a:xfrm>
              <a:off x="6084720" y="260280"/>
              <a:ext cx="825840" cy="603360"/>
            </a:xfrm>
            <a:custGeom>
              <a:avLst/>
              <a:gdLst/>
              <a:ahLst/>
              <a:rect l="l" t="t" r="r" b="b"/>
              <a:pathLst>
                <a:path w="520" h="380">
                  <a:moveTo>
                    <a:pt x="145" y="380"/>
                  </a:moveTo>
                  <a:cubicBezTo>
                    <a:pt x="138" y="356"/>
                    <a:pt x="127" y="333"/>
                    <a:pt x="123" y="308"/>
                  </a:cubicBezTo>
                  <a:cubicBezTo>
                    <a:pt x="118" y="283"/>
                    <a:pt x="160" y="167"/>
                    <a:pt x="151" y="140"/>
                  </a:cubicBezTo>
                  <a:cubicBezTo>
                    <a:pt x="149" y="134"/>
                    <a:pt x="140" y="143"/>
                    <a:pt x="134" y="145"/>
                  </a:cubicBezTo>
                  <a:cubicBezTo>
                    <a:pt x="114" y="167"/>
                    <a:pt x="68" y="186"/>
                    <a:pt x="39" y="196"/>
                  </a:cubicBezTo>
                  <a:cubicBezTo>
                    <a:pt x="19" y="166"/>
                    <a:pt x="12" y="129"/>
                    <a:pt x="0" y="95"/>
                  </a:cubicBezTo>
                  <a:cubicBezTo>
                    <a:pt x="8" y="72"/>
                    <a:pt x="33" y="64"/>
                    <a:pt x="56" y="56"/>
                  </a:cubicBezTo>
                  <a:cubicBezTo>
                    <a:pt x="99" y="42"/>
                    <a:pt x="46" y="60"/>
                    <a:pt x="89" y="39"/>
                  </a:cubicBezTo>
                  <a:cubicBezTo>
                    <a:pt x="110" y="29"/>
                    <a:pt x="135" y="24"/>
                    <a:pt x="157" y="17"/>
                  </a:cubicBezTo>
                  <a:cubicBezTo>
                    <a:pt x="182" y="0"/>
                    <a:pt x="194" y="0"/>
                    <a:pt x="224" y="6"/>
                  </a:cubicBezTo>
                  <a:cubicBezTo>
                    <a:pt x="244" y="35"/>
                    <a:pt x="251" y="51"/>
                    <a:pt x="263" y="84"/>
                  </a:cubicBezTo>
                  <a:cubicBezTo>
                    <a:pt x="270" y="61"/>
                    <a:pt x="270" y="52"/>
                    <a:pt x="291" y="39"/>
                  </a:cubicBezTo>
                  <a:cubicBezTo>
                    <a:pt x="297" y="17"/>
                    <a:pt x="302" y="13"/>
                    <a:pt x="324" y="6"/>
                  </a:cubicBezTo>
                  <a:cubicBezTo>
                    <a:pt x="360" y="17"/>
                    <a:pt x="389" y="40"/>
                    <a:pt x="425" y="50"/>
                  </a:cubicBezTo>
                  <a:cubicBezTo>
                    <a:pt x="440" y="60"/>
                    <a:pt x="475" y="73"/>
                    <a:pt x="475" y="73"/>
                  </a:cubicBezTo>
                  <a:cubicBezTo>
                    <a:pt x="489" y="86"/>
                    <a:pt x="504" y="90"/>
                    <a:pt x="520" y="101"/>
                  </a:cubicBezTo>
                  <a:cubicBezTo>
                    <a:pt x="510" y="128"/>
                    <a:pt x="492" y="145"/>
                    <a:pt x="475" y="168"/>
                  </a:cubicBezTo>
                  <a:cubicBezTo>
                    <a:pt x="467" y="178"/>
                    <a:pt x="453" y="201"/>
                    <a:pt x="453" y="201"/>
                  </a:cubicBezTo>
                  <a:cubicBezTo>
                    <a:pt x="428" y="194"/>
                    <a:pt x="415" y="175"/>
                    <a:pt x="391" y="168"/>
                  </a:cubicBezTo>
                  <a:cubicBezTo>
                    <a:pt x="363" y="149"/>
                    <a:pt x="367" y="164"/>
                    <a:pt x="358" y="190"/>
                  </a:cubicBezTo>
                  <a:cubicBezTo>
                    <a:pt x="364" y="241"/>
                    <a:pt x="379" y="297"/>
                    <a:pt x="364" y="347"/>
                  </a:cubicBezTo>
                  <a:cubicBezTo>
                    <a:pt x="374" y="378"/>
                    <a:pt x="376" y="366"/>
                    <a:pt x="319" y="369"/>
                  </a:cubicBezTo>
                  <a:cubicBezTo>
                    <a:pt x="142" y="379"/>
                    <a:pt x="214" y="360"/>
                    <a:pt x="145" y="380"/>
                  </a:cubicBez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516720" y="476280"/>
              <a:ext cx="98280" cy="272880"/>
            </a:xfrm>
            <a:custGeom>
              <a:avLst/>
              <a:gdLst/>
              <a:ahLst/>
              <a:rect l="l" t="t" r="r" b="b"/>
              <a:pathLst>
                <a:path w="57" h="117">
                  <a:moveTo>
                    <a:pt x="45" y="102"/>
                  </a:moveTo>
                  <a:cubicBezTo>
                    <a:pt x="22" y="117"/>
                    <a:pt x="15" y="113"/>
                    <a:pt x="0" y="91"/>
                  </a:cubicBezTo>
                  <a:cubicBezTo>
                    <a:pt x="7" y="72"/>
                    <a:pt x="8" y="60"/>
                    <a:pt x="23" y="46"/>
                  </a:cubicBezTo>
                  <a:cubicBezTo>
                    <a:pt x="36" y="0"/>
                    <a:pt x="21" y="4"/>
                    <a:pt x="56" y="12"/>
                  </a:cubicBezTo>
                  <a:cubicBezTo>
                    <a:pt x="54" y="21"/>
                    <a:pt x="51" y="31"/>
                    <a:pt x="51" y="40"/>
                  </a:cubicBezTo>
                  <a:cubicBezTo>
                    <a:pt x="51" y="55"/>
                    <a:pt x="57" y="70"/>
                    <a:pt x="56" y="85"/>
                  </a:cubicBezTo>
                  <a:cubicBezTo>
                    <a:pt x="55" y="92"/>
                    <a:pt x="45" y="102"/>
                    <a:pt x="45" y="102"/>
                  </a:cubicBez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Freeform 37"/>
          <p:cNvSpPr/>
          <p:nvPr/>
        </p:nvSpPr>
        <p:spPr>
          <a:xfrm>
            <a:off x="6767640" y="1484280"/>
            <a:ext cx="825480" cy="603360"/>
          </a:xfrm>
          <a:custGeom>
            <a:avLst/>
            <a:gdLst/>
            <a:ahLst/>
            <a:rect l="l" t="t" r="r" b="b"/>
            <a:pathLst>
              <a:path w="520" h="380">
                <a:moveTo>
                  <a:pt x="145" y="380"/>
                </a:moveTo>
                <a:cubicBezTo>
                  <a:pt x="138" y="356"/>
                  <a:pt x="127" y="333"/>
                  <a:pt x="123" y="308"/>
                </a:cubicBezTo>
                <a:cubicBezTo>
                  <a:pt x="118" y="283"/>
                  <a:pt x="160" y="167"/>
                  <a:pt x="151" y="140"/>
                </a:cubicBezTo>
                <a:cubicBezTo>
                  <a:pt x="149" y="134"/>
                  <a:pt x="140" y="143"/>
                  <a:pt x="134" y="145"/>
                </a:cubicBezTo>
                <a:cubicBezTo>
                  <a:pt x="114" y="167"/>
                  <a:pt x="68" y="186"/>
                  <a:pt x="39" y="196"/>
                </a:cubicBezTo>
                <a:cubicBezTo>
                  <a:pt x="19" y="166"/>
                  <a:pt x="12" y="129"/>
                  <a:pt x="0" y="95"/>
                </a:cubicBezTo>
                <a:cubicBezTo>
                  <a:pt x="8" y="72"/>
                  <a:pt x="33" y="64"/>
                  <a:pt x="56" y="56"/>
                </a:cubicBezTo>
                <a:cubicBezTo>
                  <a:pt x="99" y="42"/>
                  <a:pt x="46" y="60"/>
                  <a:pt x="89" y="39"/>
                </a:cubicBezTo>
                <a:cubicBezTo>
                  <a:pt x="110" y="29"/>
                  <a:pt x="135" y="24"/>
                  <a:pt x="157" y="17"/>
                </a:cubicBezTo>
                <a:cubicBezTo>
                  <a:pt x="182" y="0"/>
                  <a:pt x="194" y="0"/>
                  <a:pt x="224" y="6"/>
                </a:cubicBezTo>
                <a:cubicBezTo>
                  <a:pt x="244" y="35"/>
                  <a:pt x="251" y="51"/>
                  <a:pt x="263" y="84"/>
                </a:cubicBezTo>
                <a:cubicBezTo>
                  <a:pt x="270" y="61"/>
                  <a:pt x="270" y="52"/>
                  <a:pt x="291" y="39"/>
                </a:cubicBezTo>
                <a:cubicBezTo>
                  <a:pt x="297" y="17"/>
                  <a:pt x="302" y="13"/>
                  <a:pt x="324" y="6"/>
                </a:cubicBezTo>
                <a:cubicBezTo>
                  <a:pt x="360" y="17"/>
                  <a:pt x="389" y="40"/>
                  <a:pt x="425" y="50"/>
                </a:cubicBezTo>
                <a:cubicBezTo>
                  <a:pt x="440" y="60"/>
                  <a:pt x="475" y="73"/>
                  <a:pt x="475" y="73"/>
                </a:cubicBezTo>
                <a:cubicBezTo>
                  <a:pt x="489" y="86"/>
                  <a:pt x="504" y="90"/>
                  <a:pt x="520" y="101"/>
                </a:cubicBezTo>
                <a:cubicBezTo>
                  <a:pt x="510" y="128"/>
                  <a:pt x="492" y="145"/>
                  <a:pt x="475" y="168"/>
                </a:cubicBezTo>
                <a:cubicBezTo>
                  <a:pt x="467" y="178"/>
                  <a:pt x="453" y="201"/>
                  <a:pt x="453" y="201"/>
                </a:cubicBezTo>
                <a:cubicBezTo>
                  <a:pt x="428" y="194"/>
                  <a:pt x="415" y="175"/>
                  <a:pt x="391" y="168"/>
                </a:cubicBezTo>
                <a:cubicBezTo>
                  <a:pt x="363" y="149"/>
                  <a:pt x="367" y="164"/>
                  <a:pt x="358" y="190"/>
                </a:cubicBezTo>
                <a:cubicBezTo>
                  <a:pt x="364" y="241"/>
                  <a:pt x="379" y="297"/>
                  <a:pt x="364" y="347"/>
                </a:cubicBezTo>
                <a:cubicBezTo>
                  <a:pt x="374" y="378"/>
                  <a:pt x="376" y="366"/>
                  <a:pt x="319" y="369"/>
                </a:cubicBezTo>
                <a:cubicBezTo>
                  <a:pt x="142" y="379"/>
                  <a:pt x="214" y="360"/>
                  <a:pt x="145" y="380"/>
                </a:cubicBez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8"/>
          <p:cNvGrpSpPr/>
          <p:nvPr/>
        </p:nvGrpSpPr>
        <p:grpSpPr>
          <a:xfrm>
            <a:off x="7596360" y="189000"/>
            <a:ext cx="649080" cy="765000"/>
            <a:chOff x="7596360" y="189000"/>
            <a:chExt cx="649080" cy="765000"/>
          </a:xfrm>
        </p:grpSpPr>
        <p:sp>
          <p:nvSpPr>
            <p:cNvPr id="160" name="AutoShape 39"/>
            <p:cNvSpPr/>
            <p:nvPr/>
          </p:nvSpPr>
          <p:spPr>
            <a:xfrm>
              <a:off x="7596360" y="189000"/>
              <a:ext cx="649080" cy="765000"/>
            </a:xfrm>
            <a:prstGeom prst="cube">
              <a:avLst>
                <a:gd name="adj" fmla="val 15157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ff00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WordArt 40"/>
            <p:cNvSpPr txBox="1"/>
            <p:nvPr/>
          </p:nvSpPr>
          <p:spPr>
            <a:xfrm>
              <a:off x="7669080" y="260280"/>
              <a:ext cx="43308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Daz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62" name="AutoShape 41"/>
          <p:cNvSpPr/>
          <p:nvPr/>
        </p:nvSpPr>
        <p:spPr>
          <a:xfrm>
            <a:off x="7020000" y="476280"/>
            <a:ext cx="360360" cy="360360"/>
          </a:xfrm>
          <a:prstGeom prst="plus">
            <a:avLst>
              <a:gd name="adj" fmla="val 422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42"/>
          <p:cNvSpPr/>
          <p:nvPr/>
        </p:nvSpPr>
        <p:spPr>
          <a:xfrm rot="8260800">
            <a:off x="7524360" y="1125000"/>
            <a:ext cx="432000" cy="287640"/>
          </a:xfrm>
          <a:prstGeom prst="rightArrow">
            <a:avLst>
              <a:gd name="adj1" fmla="val 50000"/>
              <a:gd name="adj2" fmla="val 37547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7632720" y="1628640"/>
            <a:ext cx="360360" cy="360360"/>
          </a:xfrm>
          <a:prstGeom prst="plus">
            <a:avLst>
              <a:gd name="adj" fmla="val 42292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4"/>
          <p:cNvGrpSpPr/>
          <p:nvPr/>
        </p:nvGrpSpPr>
        <p:grpSpPr>
          <a:xfrm>
            <a:off x="6516360" y="3132000"/>
            <a:ext cx="1119240" cy="254880"/>
            <a:chOff x="6516360" y="3132000"/>
            <a:chExt cx="1119240" cy="254880"/>
          </a:xfrm>
        </p:grpSpPr>
        <p:sp>
          <p:nvSpPr>
            <p:cNvPr id="166" name="Freeform 45"/>
            <p:cNvSpPr/>
            <p:nvPr/>
          </p:nvSpPr>
          <p:spPr>
            <a:xfrm>
              <a:off x="6516720" y="3179880"/>
              <a:ext cx="1118880" cy="168120"/>
            </a:xfrm>
            <a:custGeom>
              <a:avLst/>
              <a:gdLst/>
              <a:ahLst/>
              <a:rect l="l" t="t" r="r" b="b"/>
              <a:pathLst>
                <a:path w="705" h="106">
                  <a:moveTo>
                    <a:pt x="0" y="89"/>
                  </a:moveTo>
                  <a:cubicBezTo>
                    <a:pt x="99" y="61"/>
                    <a:pt x="198" y="31"/>
                    <a:pt x="296" y="0"/>
                  </a:cubicBezTo>
                  <a:cubicBezTo>
                    <a:pt x="342" y="14"/>
                    <a:pt x="394" y="11"/>
                    <a:pt x="442" y="16"/>
                  </a:cubicBezTo>
                  <a:cubicBezTo>
                    <a:pt x="484" y="31"/>
                    <a:pt x="528" y="42"/>
                    <a:pt x="570" y="55"/>
                  </a:cubicBezTo>
                  <a:cubicBezTo>
                    <a:pt x="587" y="72"/>
                    <a:pt x="609" y="75"/>
                    <a:pt x="632" y="83"/>
                  </a:cubicBezTo>
                  <a:cubicBezTo>
                    <a:pt x="652" y="90"/>
                    <a:pt x="683" y="106"/>
                    <a:pt x="705" y="10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46"/>
            <p:cNvSpPr/>
            <p:nvPr/>
          </p:nvSpPr>
          <p:spPr>
            <a:xfrm rot="1133400">
              <a:off x="7210440" y="315288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47"/>
            <p:cNvSpPr/>
            <p:nvPr/>
          </p:nvSpPr>
          <p:spPr>
            <a:xfrm rot="20566200">
              <a:off x="6660720" y="317988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48"/>
            <p:cNvSpPr/>
            <p:nvPr/>
          </p:nvSpPr>
          <p:spPr>
            <a:xfrm>
              <a:off x="6864120" y="3141720"/>
              <a:ext cx="95400" cy="10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49"/>
            <p:cNvSpPr/>
            <p:nvPr/>
          </p:nvSpPr>
          <p:spPr>
            <a:xfrm>
              <a:off x="7380000" y="3216240"/>
              <a:ext cx="95400" cy="11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50"/>
            <p:cNvSpPr/>
            <p:nvPr/>
          </p:nvSpPr>
          <p:spPr>
            <a:xfrm rot="1065000">
              <a:off x="7030800" y="315612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51"/>
            <p:cNvSpPr/>
            <p:nvPr/>
          </p:nvSpPr>
          <p:spPr>
            <a:xfrm rot="20539200">
              <a:off x="6530400" y="326520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2"/>
            <p:cNvSpPr/>
            <p:nvPr/>
          </p:nvSpPr>
          <p:spPr>
            <a:xfrm rot="1083600">
              <a:off x="7524720" y="325116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53"/>
          <p:cNvGrpSpPr/>
          <p:nvPr/>
        </p:nvGrpSpPr>
        <p:grpSpPr>
          <a:xfrm>
            <a:off x="7884720" y="3058920"/>
            <a:ext cx="1119240" cy="254880"/>
            <a:chOff x="7884720" y="3058920"/>
            <a:chExt cx="1119240" cy="254880"/>
          </a:xfrm>
        </p:grpSpPr>
        <p:sp>
          <p:nvSpPr>
            <p:cNvPr id="175" name="Freeform 54"/>
            <p:cNvSpPr/>
            <p:nvPr/>
          </p:nvSpPr>
          <p:spPr>
            <a:xfrm>
              <a:off x="7885080" y="3106800"/>
              <a:ext cx="1118880" cy="168120"/>
            </a:xfrm>
            <a:custGeom>
              <a:avLst/>
              <a:gdLst/>
              <a:ahLst/>
              <a:rect l="l" t="t" r="r" b="b"/>
              <a:pathLst>
                <a:path w="705" h="106">
                  <a:moveTo>
                    <a:pt x="0" y="89"/>
                  </a:moveTo>
                  <a:cubicBezTo>
                    <a:pt x="99" y="61"/>
                    <a:pt x="198" y="31"/>
                    <a:pt x="296" y="0"/>
                  </a:cubicBezTo>
                  <a:cubicBezTo>
                    <a:pt x="342" y="14"/>
                    <a:pt x="394" y="11"/>
                    <a:pt x="442" y="16"/>
                  </a:cubicBezTo>
                  <a:cubicBezTo>
                    <a:pt x="484" y="31"/>
                    <a:pt x="528" y="42"/>
                    <a:pt x="570" y="55"/>
                  </a:cubicBezTo>
                  <a:cubicBezTo>
                    <a:pt x="587" y="72"/>
                    <a:pt x="609" y="75"/>
                    <a:pt x="632" y="83"/>
                  </a:cubicBezTo>
                  <a:cubicBezTo>
                    <a:pt x="652" y="90"/>
                    <a:pt x="683" y="106"/>
                    <a:pt x="705" y="10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55"/>
            <p:cNvSpPr/>
            <p:nvPr/>
          </p:nvSpPr>
          <p:spPr>
            <a:xfrm rot="1133400">
              <a:off x="8578800" y="307980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56"/>
            <p:cNvSpPr/>
            <p:nvPr/>
          </p:nvSpPr>
          <p:spPr>
            <a:xfrm rot="20566200">
              <a:off x="8029080" y="3106800"/>
              <a:ext cx="155520" cy="1540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" bIns="4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7"/>
            <p:cNvSpPr/>
            <p:nvPr/>
          </p:nvSpPr>
          <p:spPr>
            <a:xfrm>
              <a:off x="8232480" y="3068640"/>
              <a:ext cx="95400" cy="1094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58"/>
            <p:cNvSpPr/>
            <p:nvPr/>
          </p:nvSpPr>
          <p:spPr>
            <a:xfrm>
              <a:off x="8748360" y="3143160"/>
              <a:ext cx="95400" cy="1112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59"/>
            <p:cNvSpPr/>
            <p:nvPr/>
          </p:nvSpPr>
          <p:spPr>
            <a:xfrm rot="1065000">
              <a:off x="8399160" y="308304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60"/>
            <p:cNvSpPr/>
            <p:nvPr/>
          </p:nvSpPr>
          <p:spPr>
            <a:xfrm rot="20539200">
              <a:off x="7898760" y="3192120"/>
              <a:ext cx="95400" cy="109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61"/>
            <p:cNvSpPr/>
            <p:nvPr/>
          </p:nvSpPr>
          <p:spPr>
            <a:xfrm rot="1083600">
              <a:off x="8893080" y="3178080"/>
              <a:ext cx="95040" cy="1098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AutoShape 62"/>
          <p:cNvSpPr/>
          <p:nvPr/>
        </p:nvSpPr>
        <p:spPr>
          <a:xfrm rot="3517800">
            <a:off x="7416000" y="285336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3"/>
          <p:cNvGrpSpPr/>
          <p:nvPr/>
        </p:nvGrpSpPr>
        <p:grpSpPr>
          <a:xfrm>
            <a:off x="6099840" y="4303800"/>
            <a:ext cx="2747880" cy="279360"/>
            <a:chOff x="6099840" y="4303800"/>
            <a:chExt cx="2747880" cy="279360"/>
          </a:xfrm>
        </p:grpSpPr>
        <p:grpSp>
          <p:nvGrpSpPr>
            <p:cNvPr id="185" name="Group 64"/>
            <p:cNvGrpSpPr/>
            <p:nvPr/>
          </p:nvGrpSpPr>
          <p:grpSpPr>
            <a:xfrm>
              <a:off x="6099840" y="4303800"/>
              <a:ext cx="1234800" cy="279360"/>
              <a:chOff x="6099840" y="4303800"/>
              <a:chExt cx="1234800" cy="279360"/>
            </a:xfrm>
          </p:grpSpPr>
          <p:sp>
            <p:nvSpPr>
              <p:cNvPr id="186" name="AutoShape 65"/>
              <p:cNvSpPr/>
              <p:nvPr/>
            </p:nvSpPr>
            <p:spPr>
              <a:xfrm>
                <a:off x="6557760" y="432900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66"/>
              <p:cNvSpPr/>
              <p:nvPr/>
            </p:nvSpPr>
            <p:spPr>
              <a:xfrm rot="982200">
                <a:off x="6119640" y="434808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67"/>
              <p:cNvSpPr/>
              <p:nvPr/>
            </p:nvSpPr>
            <p:spPr>
              <a:xfrm rot="20937000">
                <a:off x="6976440" y="434772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68"/>
            <p:cNvGrpSpPr/>
            <p:nvPr/>
          </p:nvGrpSpPr>
          <p:grpSpPr>
            <a:xfrm>
              <a:off x="7612920" y="4303800"/>
              <a:ext cx="1234800" cy="279360"/>
              <a:chOff x="7612920" y="4303800"/>
              <a:chExt cx="1234800" cy="279360"/>
            </a:xfrm>
          </p:grpSpPr>
          <p:sp>
            <p:nvSpPr>
              <p:cNvPr id="190" name="AutoShape 69"/>
              <p:cNvSpPr/>
              <p:nvPr/>
            </p:nvSpPr>
            <p:spPr>
              <a:xfrm>
                <a:off x="8070840" y="432900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70"/>
              <p:cNvSpPr/>
              <p:nvPr/>
            </p:nvSpPr>
            <p:spPr>
              <a:xfrm rot="982200">
                <a:off x="7632720" y="434808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AutoShape 71"/>
              <p:cNvSpPr/>
              <p:nvPr/>
            </p:nvSpPr>
            <p:spPr>
              <a:xfrm rot="20937000">
                <a:off x="8489520" y="4347720"/>
                <a:ext cx="342720" cy="190440"/>
              </a:xfrm>
              <a:prstGeom prst="hexagon">
                <a:avLst>
                  <a:gd name="adj" fmla="val 44991"/>
                  <a:gd name="vf" fmla="val 115470"/>
                </a:avLst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3" name="AutoShape 72"/>
          <p:cNvSpPr/>
          <p:nvPr/>
        </p:nvSpPr>
        <p:spPr>
          <a:xfrm rot="3517800">
            <a:off x="7236360" y="40406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3"/>
          <p:cNvSpPr/>
          <p:nvPr/>
        </p:nvSpPr>
        <p:spPr>
          <a:xfrm>
            <a:off x="0" y="5265720"/>
            <a:ext cx="579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4)  Conversion of glucose into fructose – glucose and fructose are “isomers” (they have the same chemical formula), but fructose is swe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74"/>
          <p:cNvGraphicFramePr/>
          <p:nvPr/>
        </p:nvGraphicFramePr>
        <p:xfrm>
          <a:off x="6095880" y="4816440"/>
          <a:ext cx="1220760" cy="121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5880" y="4816440"/>
                    <a:ext cx="1220760" cy="12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AutoShape 75"/>
          <p:cNvSpPr/>
          <p:nvPr/>
        </p:nvSpPr>
        <p:spPr>
          <a:xfrm rot="2095200">
            <a:off x="7235640" y="5624640"/>
            <a:ext cx="358560" cy="28728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8T21:39:54Z</dcterms:created>
  <dc:creator>CIC1</dc:creator>
  <dc:description/>
  <dc:language>en-US</dc:language>
  <cp:lastModifiedBy>RomaK</cp:lastModifiedBy>
  <dcterms:modified xsi:type="dcterms:W3CDTF">2015-09-02T06:01:02Z</dcterms:modified>
  <cp:revision>6</cp:revision>
  <dc:subject/>
  <dc:title>Rates of Reactions and Enzymes</dc:title>
</cp:coreProperties>
</file>