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E5C-5F7B-4790-9FAF-E42993BA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55F-A8B7-4DD9-950A-BA4DC21A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9B1-0650-446D-9CAF-A9ED12CC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05E-F4B1-43F6-AE3D-EA4F401B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C8D-2A6C-4B8F-9200-A1998F66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A55-92FF-4445-94A3-77379CA8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6E5-666D-45EF-9366-C8C3C813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41B-30E3-4C5A-8841-83676D1E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7F4-6745-4CCC-975E-BE358CD1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845-772B-4C2A-8A01-BBE809B4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3C9-61B8-444D-A70B-FB91B7B1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AF6-D247-44B4-8F3D-5A84E1B6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2302-0612-40D9-9E24-65329B17D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228600"/>
            <a:ext cx="87631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aves &amp;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The nature of wav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 wave is a rhythmic disturbance that transfers energ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All waves are made by something that vibrat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2286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Diffraction depends on the size of the obstacle or opening compared to the wavelength of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7" name="Picture 3" descr="diffraction_objects"/>
          <p:cNvPicPr/>
          <p:nvPr/>
        </p:nvPicPr>
        <p:blipFill>
          <a:blip r:embed="rId1"/>
          <a:stretch/>
        </p:blipFill>
        <p:spPr>
          <a:xfrm>
            <a:off x="1066680" y="2819520"/>
            <a:ext cx="7048800" cy="2662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04920" y="5562720"/>
            <a:ext cx="40384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Less occurs if wavelength is small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800600" y="5562720"/>
            <a:ext cx="38862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More occurs if wavelength is larger than the object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radio"/>
          <p:cNvPicPr/>
          <p:nvPr/>
        </p:nvPicPr>
        <p:blipFill>
          <a:blip r:embed="rId1"/>
          <a:stretch/>
        </p:blipFill>
        <p:spPr>
          <a:xfrm>
            <a:off x="2209680" y="228600"/>
            <a:ext cx="455796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4920" y="358128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AM radio waves are longer and can diffract around large buildings and mountains; FM can’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Interfere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wo or more waves overlapping to form a new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85" name="Picture 8" descr="wave_interference"/>
          <p:cNvPicPr/>
          <p:nvPr/>
        </p:nvPicPr>
        <p:blipFill>
          <a:blip r:embed="rId1"/>
          <a:stretch/>
        </p:blipFill>
        <p:spPr>
          <a:xfrm>
            <a:off x="5257800" y="762120"/>
            <a:ext cx="388620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interference_con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3676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Constructive (in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constructively interfere are loud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304920" y="419112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Destructive (out of phas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Sound waves that destructively interfere are not as lou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1" name="Picture 4" descr="interference_destructive"/>
          <p:cNvPicPr/>
          <p:nvPr/>
        </p:nvPicPr>
        <p:blipFill>
          <a:blip r:embed="rId1"/>
          <a:stretch/>
        </p:blipFill>
        <p:spPr>
          <a:xfrm>
            <a:off x="609480" y="228600"/>
            <a:ext cx="7981920" cy="37051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.  </a:t>
            </a: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tanding wav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- a wave pattern that occurs when two waves equal in wavelength and frequency meet from opposite directions and continuously interfere with each 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94" name="Picture 3" descr="wave_standing"/>
          <p:cNvPicPr/>
          <p:nvPr/>
        </p:nvPicPr>
        <p:blipFill>
          <a:blip r:embed="rId1"/>
          <a:stretch/>
        </p:blipFill>
        <p:spPr>
          <a:xfrm>
            <a:off x="2133720" y="4495680"/>
            <a:ext cx="369576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0" y="4876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Line 5"/>
          <p:cNvSpPr/>
          <p:nvPr/>
        </p:nvSpPr>
        <p:spPr>
          <a:xfrm>
            <a:off x="1523880" y="5257800"/>
            <a:ext cx="2514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038480" y="5257800"/>
            <a:ext cx="0" cy="3808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705720" y="5029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ntinod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5028840" y="5257800"/>
            <a:ext cx="16002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5029200" y="5257800"/>
            <a:ext cx="0" cy="3049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f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sonance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ability of an object to vibrate by absorbing energy at its natural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3" name="Picture 3" descr="2-tuning-fork-resonator-boxes-sm"/>
          <p:cNvPicPr/>
          <p:nvPr/>
        </p:nvPicPr>
        <p:blipFill>
          <a:blip r:embed="rId1"/>
          <a:stretch/>
        </p:blipFill>
        <p:spPr>
          <a:xfrm>
            <a:off x="2209680" y="2514600"/>
            <a:ext cx="4791240" cy="351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22860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.  Energy is transferred from particle to particle through matt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How we hea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Outer ear collec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iddle ear amplifie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Inner ear converts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ar"/>
          <p:cNvPicPr/>
          <p:nvPr/>
        </p:nvPicPr>
        <p:blipFill>
          <a:blip r:embed="rId1"/>
          <a:stretch/>
        </p:blipFill>
        <p:spPr>
          <a:xfrm>
            <a:off x="485640" y="485640"/>
            <a:ext cx="8172720" cy="5886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5228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Properti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Intensity and loudnes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Intensity depends on the energy in a sound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oudness is human perception of intensit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oudness is measured on the decibel scal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2280" y="22860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.  Mechanical waves need a matter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medium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to travel throug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sound, water, seismic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.  Two basic types of wav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2280" y="43434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Compressional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longitudinal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" name="Picture 4" descr="wave_transverse"/>
          <p:cNvPicPr/>
          <p:nvPr/>
        </p:nvPicPr>
        <p:blipFill>
          <a:blip r:embed="rId1"/>
          <a:stretch/>
        </p:blipFill>
        <p:spPr>
          <a:xfrm>
            <a:off x="5400720" y="3276720"/>
            <a:ext cx="37432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wave_compressional"/>
          <p:cNvPicPr/>
          <p:nvPr/>
        </p:nvPicPr>
        <p:blipFill>
          <a:blip r:embed="rId2"/>
          <a:stretch/>
        </p:blipFill>
        <p:spPr>
          <a:xfrm>
            <a:off x="5467320" y="4867200"/>
            <a:ext cx="3676680" cy="199080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ecibel_scale"/>
          <p:cNvPicPr/>
          <p:nvPr/>
        </p:nvPicPr>
        <p:blipFill>
          <a:blip r:embed="rId1"/>
          <a:stretch/>
        </p:blipFill>
        <p:spPr>
          <a:xfrm>
            <a:off x="0" y="0"/>
            <a:ext cx="9144000" cy="435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Threshold of hearing (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Threshold of pain (120 db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and pitch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High frequency means more vibrations hitting the ea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Pitch is how high or how low a sound seems to b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Healthy humans can hear from 20 Hz to 20,000 Hz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We are most sensitive from 440 Hz to 7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67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Ultrasonic sound has a frequency greater than 20,000 Hz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)  Dogs (up to 35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)  Bats (over 100,000 Hz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)  Medical diagnosi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6)  Infrasonic sound has a frequency below 20 Hz; they are felt rather than hear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(earthquakes, heavy machinery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peed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332 m/s in air at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hanges by 0.6 m/s for every Celsius degree from 0 C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Subsonic – slowe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)  Supersonic – faster than sound (Mach 1 = speed of sound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)  Sonic boom (pressure cone)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9144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The Doppler effect – the change in pitch due to a moving wave sourc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Objects moving toward you cause a higher pitched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Objects moving away cause sound of lower pitch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Used in radar by police and meteorologists and in astronom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oppler"/>
          <p:cNvPicPr/>
          <p:nvPr/>
        </p:nvPicPr>
        <p:blipFill>
          <a:blip r:embed="rId1"/>
          <a:stretch/>
        </p:blipFill>
        <p:spPr>
          <a:xfrm>
            <a:off x="268200" y="343080"/>
            <a:ext cx="8607600" cy="61722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Musical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Noise has no pattern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Music has a pattern and deliberate pitch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Sound quality describes differences of sounds that have the same pitch and loudnes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Every instrument has its own set of over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)  Beats are pulsing variations of loudness caused by interference of sounds of slightly different frequenci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28" name="Picture 3" descr="beat"/>
          <p:cNvPicPr/>
          <p:nvPr/>
        </p:nvPicPr>
        <p:blipFill>
          <a:blip r:embed="rId1"/>
          <a:stretch/>
        </p:blipFill>
        <p:spPr>
          <a:xfrm>
            <a:off x="0" y="2446200"/>
            <a:ext cx="9029880" cy="44118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Uses of sound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Acoustics – the study of sound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Soft materials dampen sound; hard materials reflect it (echoes and reverberations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358128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SONAR – Sound Navigation and Ranging (echolocation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Ultrasound imaging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Kidney stones &amp; gallstone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2280" y="22860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4.  Wave properties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Wavelength - distance from a point on a wave to the same corresponding point on the next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Frequency - number of waves that pass a point in one second (expressed in Hz)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2280" y="228600"/>
            <a:ext cx="876312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Wavelength has an inverse relationship to wave frequency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d.  Wave velocity depends on the type of wave and medi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is faster in more dense media and in higher temp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s slower in more dense media, but faster in a vacuu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3" name="Picture 3" descr="wave_velocity_equation"/>
          <p:cNvPicPr/>
          <p:nvPr/>
        </p:nvPicPr>
        <p:blipFill>
          <a:blip r:embed="rId1"/>
          <a:stretch/>
        </p:blipFill>
        <p:spPr>
          <a:xfrm>
            <a:off x="2209680" y="152280"/>
            <a:ext cx="3372120" cy="8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1143000"/>
            <a:ext cx="86868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e.  Amplitude - size related to the energy carried by the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Transverse - how high above or how low below the nodal lin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Compressional - how dense the medium is at the compressions &amp; rarefaction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228600"/>
            <a:ext cx="8763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5.  Wave behavior: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a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le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ouncing back of a wave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Sound echoe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7" name="Picture 3" descr="law_of_reflection"/>
          <p:cNvPicPr/>
          <p:nvPr/>
        </p:nvPicPr>
        <p:blipFill>
          <a:blip r:embed="rId1"/>
          <a:stretch/>
        </p:blipFill>
        <p:spPr>
          <a:xfrm>
            <a:off x="6419880" y="3629160"/>
            <a:ext cx="272412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3718080"/>
            <a:ext cx="6095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Light images in mirror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3)  Law of reflection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   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i</a:t>
            </a:r>
            <a:r>
              <a:rPr b="0" lang="en-US" sz="4000" spc="-1" strike="noStrike">
                <a:solidFill>
                  <a:srgbClr val="cc0000"/>
                </a:solidFill>
                <a:latin typeface="Arial Rounded MT Bold"/>
              </a:rPr>
              <a:t>  =  </a:t>
            </a:r>
            <a:r>
              <a:rPr b="0" i="1" lang="en-US" sz="4000" spc="-1" strike="noStrike">
                <a:solidFill>
                  <a:srgbClr val="cc0000"/>
                </a:solidFill>
                <a:latin typeface="Arial Rounded MT Bold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00200" y="22860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b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Re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caused by a change in speed as the wave moves from one medium to another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" name="Picture 3" descr="refraction_pencil"/>
          <p:cNvPicPr/>
          <p:nvPr/>
        </p:nvPicPr>
        <p:blipFill>
          <a:blip r:embed="rId1"/>
          <a:stretch/>
        </p:blipFill>
        <p:spPr>
          <a:xfrm>
            <a:off x="152280" y="533520"/>
            <a:ext cx="134316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refraction_flashlight"/>
          <p:cNvPicPr/>
          <p:nvPr/>
        </p:nvPicPr>
        <p:blipFill>
          <a:blip r:embed="rId2"/>
          <a:stretch/>
        </p:blipFill>
        <p:spPr>
          <a:xfrm>
            <a:off x="457200" y="3505320"/>
            <a:ext cx="8229600" cy="310176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efraction_pool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426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52280" y="228600"/>
            <a:ext cx="3276720" cy="375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The girl sees the boy’s foot closer to the surface than it actually is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If the boy looks down at his feet, will they seem closer to him than they really are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280" y="4724280"/>
            <a:ext cx="8763120" cy="1922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o!  He is looking straight down and not at an angle.  There is no refraction for him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.  </a:t>
            </a:r>
            <a:r>
              <a:rPr b="0" lang="en-US" sz="4000" spc="-1" strike="noStrike">
                <a:solidFill>
                  <a:srgbClr val="3333cc"/>
                </a:solidFill>
                <a:latin typeface="Arial Rounded MT Bold"/>
              </a:rPr>
              <a:t>Diffraction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- the bending of a wave around the edge of an object.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70" name="Picture 5" descr="diffraction_islands"/>
          <p:cNvPicPr/>
          <p:nvPr/>
        </p:nvPicPr>
        <p:blipFill>
          <a:blip r:embed="rId1"/>
          <a:stretch/>
        </p:blipFill>
        <p:spPr>
          <a:xfrm>
            <a:off x="5791320" y="152280"/>
            <a:ext cx="321948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iffraction_water_opening"/>
          <p:cNvPicPr/>
          <p:nvPr/>
        </p:nvPicPr>
        <p:blipFill>
          <a:blip r:embed="rId2"/>
          <a:stretch/>
        </p:blipFill>
        <p:spPr>
          <a:xfrm>
            <a:off x="6095880" y="3429000"/>
            <a:ext cx="2495520" cy="2981160"/>
          </a:xfrm>
          <a:prstGeom prst="rect">
            <a:avLst/>
          </a:prstGeom>
          <a:ln w="0">
            <a:noFill/>
          </a:ln>
        </p:spPr>
      </p:pic>
      <p:sp>
        <p:nvSpPr>
          <p:cNvPr id="72" name="Line 7"/>
          <p:cNvSpPr/>
          <p:nvPr/>
        </p:nvSpPr>
        <p:spPr>
          <a:xfrm>
            <a:off x="7315200" y="2971800"/>
            <a:ext cx="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52280" y="2819520"/>
            <a:ext cx="541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1)  Water waves bending around islands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52280" y="48006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2)  Water waves passing through a slit and spreading ou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0:01:30Z</dcterms:created>
  <dc:creator>Michael Bennett</dc:creator>
  <dc:description/>
  <dc:language>en-US</dc:language>
  <cp:lastModifiedBy>Asus</cp:lastModifiedBy>
  <dcterms:modified xsi:type="dcterms:W3CDTF">2018-03-09T16:46:44Z</dcterms:modified>
  <cp:revision>26</cp:revision>
  <dc:subject/>
  <dc:title>No Slide Title</dc:title>
</cp:coreProperties>
</file>