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5FF-A971-45E4-95D8-97E986DA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FBF-A552-4986-B8BA-677BF0A1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ABE-3292-4A85-BF5A-18B44894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F1C-F0FB-4DA5-A197-16B2E603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F21-BFD1-4061-B4F5-82DA2EEC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E8F-7BE4-45C1-8910-939C5316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E2E-8897-4843-9845-5B79C96B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D7F-9B4B-4C52-8DB7-B630749D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8F1-30B4-40C3-AAC1-34F85257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7DD-7D27-4FC0-B688-8BE0710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E2AB-76E7-4453-9ED5-32288D04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F7A-81E5-4283-9266-0676CDBE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F0BB-99F1-40B8-9480-2A8CCE97B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22860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aves &amp;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The nature of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 wave is a rhythmic disturbance that transfers energ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All waves are made by something that vibrat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Diffraction depends on the size of the obstacle or opening compared to the wavelength of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Picture 3" descr="diffraction_objects"/>
          <p:cNvPicPr/>
          <p:nvPr/>
        </p:nvPicPr>
        <p:blipFill>
          <a:blip r:embed="rId1"/>
          <a:stretch/>
        </p:blipFill>
        <p:spPr>
          <a:xfrm>
            <a:off x="1066680" y="2819520"/>
            <a:ext cx="7048800" cy="26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5562720"/>
            <a:ext cx="40384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Less occurs if wavelength is small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800600" y="5562720"/>
            <a:ext cx="38862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re occurs if wavelength is larg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adio"/>
          <p:cNvPicPr/>
          <p:nvPr/>
        </p:nvPicPr>
        <p:blipFill>
          <a:blip r:embed="rId1"/>
          <a:stretch/>
        </p:blipFill>
        <p:spPr>
          <a:xfrm>
            <a:off x="2209680" y="228600"/>
            <a:ext cx="455796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35812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AM radio waves are longer and can diffract around large buildings and mountains; FM can’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Interfere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wo or more waves overlapping to form a new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" name="Picture 8" descr="wave_interference"/>
          <p:cNvPicPr/>
          <p:nvPr/>
        </p:nvPicPr>
        <p:blipFill>
          <a:blip r:embed="rId1"/>
          <a:stretch/>
        </p:blipFill>
        <p:spPr>
          <a:xfrm>
            <a:off x="5257800" y="762120"/>
            <a:ext cx="388620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nterference_con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Constructive (in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constructively interfere are lou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Destructive (out of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destructively interfere are not as lou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1" name="Picture 4" descr="interference_de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8192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.  </a:t>
            </a: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tanding wav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- a wave pattern that occurs when two waves equal in wavelength and frequency meet from opposite directions and continuously interfere with each 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Picture 3" descr="wave_standing"/>
          <p:cNvPicPr/>
          <p:nvPr/>
        </p:nvPicPr>
        <p:blipFill>
          <a:blip r:embed="rId1"/>
          <a:stretch/>
        </p:blipFill>
        <p:spPr>
          <a:xfrm>
            <a:off x="2133720" y="4495680"/>
            <a:ext cx="369576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4876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523880" y="5257800"/>
            <a:ext cx="2514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705720" y="5029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nti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028840" y="5257800"/>
            <a:ext cx="1600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sona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ability of an object to vibrate by absorbing energy at its natural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3" name="Picture 3" descr="2-tuning-fork-resonator-boxes-sm"/>
          <p:cNvPicPr/>
          <p:nvPr/>
        </p:nvPicPr>
        <p:blipFill>
          <a:blip r:embed="rId1"/>
          <a:stretch/>
        </p:blipFill>
        <p:spPr>
          <a:xfrm>
            <a:off x="2209680" y="2514600"/>
            <a:ext cx="4791240" cy="351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22860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Energy is transferred from particle to particle through matt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How we hea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Outer ear collec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iddle ear amplifie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Inner ear conver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ar"/>
          <p:cNvPicPr/>
          <p:nvPr/>
        </p:nvPicPr>
        <p:blipFill>
          <a:blip r:embed="rId1"/>
          <a:stretch/>
        </p:blipFill>
        <p:spPr>
          <a:xfrm>
            <a:off x="485640" y="485640"/>
            <a:ext cx="8172720" cy="5886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5228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Properti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Intensity and loudn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Intensity depends on the energy in a sound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oudness is human perception of intensit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oudness is measured on the decibel scal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Mechanical waves need a matter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mediu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o travel throug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sound, water, seismic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Two basic types of wav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280" y="43434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Compressional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longitudinal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" name="Picture 4" descr="wave_transverse"/>
          <p:cNvPicPr/>
          <p:nvPr/>
        </p:nvPicPr>
        <p:blipFill>
          <a:blip r:embed="rId1"/>
          <a:stretch/>
        </p:blipFill>
        <p:spPr>
          <a:xfrm>
            <a:off x="5400720" y="3276720"/>
            <a:ext cx="37432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wave_compressional"/>
          <p:cNvPicPr/>
          <p:nvPr/>
        </p:nvPicPr>
        <p:blipFill>
          <a:blip r:embed="rId2"/>
          <a:stretch/>
        </p:blipFill>
        <p:spPr>
          <a:xfrm>
            <a:off x="5467320" y="4867200"/>
            <a:ext cx="3676680" cy="19908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cibel_scale"/>
          <p:cNvPicPr/>
          <p:nvPr/>
        </p:nvPicPr>
        <p:blipFill>
          <a:blip r:embed="rId1"/>
          <a:stretch/>
        </p:blipFill>
        <p:spPr>
          <a:xfrm>
            <a:off x="0" y="0"/>
            <a:ext cx="9144000" cy="435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Threshold of hearing (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Threshold of pain (12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and pitc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High frequency means more vibrations hitting the ea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Pitch is how high or how low a sound seems to b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Healthy humans can hear from 20 Hz to 20,000 Hz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We are most sensitive from 440 Hz to 7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Ultrasonic sound has a frequency greater than 20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Dogs (up to 35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Bats (over 100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)  Medical diagnosi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6)  Infrasonic sound has a frequency below 20 Hz; they are felt rather than hear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earthquakes, heavy machinery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peed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332 m/s in air at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hanges by 0.6 m/s for every Celsius degree from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Subsonic – slow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Supersonic – faster than sound (Mach 1 = speed of sound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Sonic boom (pressure con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The Doppler effect – the change in pitch due to a moving wave sourc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Objects moving toward you cause a higher pitched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Objects moving away cause sound of lower pitc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Used in radar by police and meteorologists and in astronom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oppler"/>
          <p:cNvPicPr/>
          <p:nvPr/>
        </p:nvPicPr>
        <p:blipFill>
          <a:blip r:embed="rId1"/>
          <a:stretch/>
        </p:blipFill>
        <p:spPr>
          <a:xfrm>
            <a:off x="268200" y="343080"/>
            <a:ext cx="86076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Musical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Noise has no pattern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usic has a pattern and deliberate pitch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ound quality describes differences of sounds that have the same pitch and loudnes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Every instrument has its own set of over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)  Beats are pulsing variations of loudness caused by interference of sounds of slightly different frequenci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8" name="Picture 3" descr="beat"/>
          <p:cNvPicPr/>
          <p:nvPr/>
        </p:nvPicPr>
        <p:blipFill>
          <a:blip r:embed="rId1"/>
          <a:stretch/>
        </p:blipFill>
        <p:spPr>
          <a:xfrm>
            <a:off x="0" y="2446200"/>
            <a:ext cx="9029880" cy="44118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Us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coustics – the study of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oft materials dampen sound; hard materials reflect it (echoes and reverberations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3581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NAR – Sound Navigation and Ranging (echolocation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Ultrasound imag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Kidney stones &amp; galls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Wave properti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length - distance from a point on a wave to the same corresponding point on the next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- number of waves that pass a point in one second (expressed in Hz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228600"/>
            <a:ext cx="876312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Wavelength has an inverse relationship to wave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Wave velocity depends on the type of wave and medi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is faster in more dense media and in higher temp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s slower in more dense media, but faster in a vacu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3" name="Picture 3" descr="wave_velocity_equation"/>
          <p:cNvPicPr/>
          <p:nvPr/>
        </p:nvPicPr>
        <p:blipFill>
          <a:blip r:embed="rId1"/>
          <a:stretch/>
        </p:blipFill>
        <p:spPr>
          <a:xfrm>
            <a:off x="2209680" y="152280"/>
            <a:ext cx="337212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143000"/>
            <a:ext cx="86868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.  Amplitude - size related to the energy carried by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Transverse - how high above or how low below the nodal lin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ompressional - how dense the medium is at the compressions &amp; rarefaction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228600"/>
            <a:ext cx="8763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Wave behavior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le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ouncing back of a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echo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7" name="Picture 3" descr="law_of_reflection"/>
          <p:cNvPicPr/>
          <p:nvPr/>
        </p:nvPicPr>
        <p:blipFill>
          <a:blip r:embed="rId1"/>
          <a:stretch/>
        </p:blipFill>
        <p:spPr>
          <a:xfrm>
            <a:off x="6419880" y="3629160"/>
            <a:ext cx="272412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3718080"/>
            <a:ext cx="6095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mages in mirr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aw of r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i</a:t>
            </a:r>
            <a:r>
              <a:rPr b="0" lang="en-US" sz="4000" spc="-1" strike="noStrike">
                <a:solidFill>
                  <a:srgbClr val="cc0000"/>
                </a:solidFill>
                <a:latin typeface="Arial Rounded MT Bold"/>
              </a:rPr>
              <a:t>  =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00200" y="22860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caused by a change in speed as the wave moves from one medium to an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Picture 3" descr="refraction_pencil"/>
          <p:cNvPicPr/>
          <p:nvPr/>
        </p:nvPicPr>
        <p:blipFill>
          <a:blip r:embed="rId1"/>
          <a:stretch/>
        </p:blipFill>
        <p:spPr>
          <a:xfrm>
            <a:off x="152280" y="533520"/>
            <a:ext cx="134316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refraction_flashlight"/>
          <p:cNvPicPr/>
          <p:nvPr/>
        </p:nvPicPr>
        <p:blipFill>
          <a:blip r:embed="rId2"/>
          <a:stretch/>
        </p:blipFill>
        <p:spPr>
          <a:xfrm>
            <a:off x="457200" y="3505320"/>
            <a:ext cx="822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efraction_pool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228600"/>
            <a:ext cx="3276720" cy="375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e girl sees the boy’s foot closer to the surface than it actually i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If the boy looks down at his feet, will they seem closer to him than they really ar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o!  He is looking straight down and not at an angle.  There is no refraction for hi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Dif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around the edge of an objec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Picture 5" descr="diffraction_islands"/>
          <p:cNvPicPr/>
          <p:nvPr/>
        </p:nvPicPr>
        <p:blipFill>
          <a:blip r:embed="rId1"/>
          <a:stretch/>
        </p:blipFill>
        <p:spPr>
          <a:xfrm>
            <a:off x="5791320" y="152280"/>
            <a:ext cx="321948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iffraction_water_opening"/>
          <p:cNvPicPr/>
          <p:nvPr/>
        </p:nvPicPr>
        <p:blipFill>
          <a:blip r:embed="rId2"/>
          <a:stretch/>
        </p:blipFill>
        <p:spPr>
          <a:xfrm>
            <a:off x="6095880" y="3429000"/>
            <a:ext cx="2495520" cy="2981160"/>
          </a:xfrm>
          <a:prstGeom prst="rect">
            <a:avLst/>
          </a:prstGeom>
          <a:ln w="0">
            <a:noFill/>
          </a:ln>
        </p:spPr>
      </p:pic>
      <p:sp>
        <p:nvSpPr>
          <p:cNvPr id="72" name="Line 7"/>
          <p:cNvSpPr/>
          <p:nvPr/>
        </p:nvSpPr>
        <p:spPr>
          <a:xfrm>
            <a:off x="7315200" y="29718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280" y="281952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Water waves bending around islan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52280" y="4800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Water waves passing through a slit and spreading ou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01:30Z</dcterms:created>
  <dc:creator>Michael Bennett</dc:creator>
  <dc:description/>
  <dc:language>en-US</dc:language>
  <cp:lastModifiedBy>Asus</cp:lastModifiedBy>
  <dcterms:modified xsi:type="dcterms:W3CDTF">2018-03-09T16:46:44Z</dcterms:modified>
  <cp:revision>26</cp:revision>
  <dc:subject/>
  <dc:title>No Slide Title</dc:title>
</cp:coreProperties>
</file>