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7.png" ContentType="image/png"/>
  <Override PartName="/ppt/media/image50.png" ContentType="image/png"/>
  <Override PartName="/ppt/media/image33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7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media/image4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DF19-C5F6-419C-8AB3-576ABAF1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AAA7-4C57-4D7A-90E2-8E4D1A6B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F954-952A-4396-BB19-5E3E32250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E6F-1761-4629-B4CB-B6BC54D54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C926-F490-4D8C-AA37-6ABDA2222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9EC8-48E1-4E17-A8A9-AC53CC3B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F3A3-EF59-4F29-89B4-AB7B309F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5987-9CA2-4AF3-9169-68C43337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42E0-1FE4-473C-B8C8-866EF684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BBA-C3C9-4570-A0EC-77A58311D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700B-762B-4DB1-8F17-5AA7EC8AF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331E-9E10-4207-B429-60F2B4A6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2F81-3C97-45A8-8A57-AB098C46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7207-747E-492E-B959-C3A252CFE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204F-D394-4390-B56E-D838387BC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A7A8-8F1F-4E69-88AF-6E09D97D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7D2F-0B40-4666-9431-EE9903A4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78C6-64F9-42A6-94B2-08301E003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05AC-DD22-498D-8589-9D2D4BEB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BC00-3BC6-4DB6-89B2-022E3FCF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04B3-53E5-4873-BD8C-149D9D932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1965-3743-4D13-A71A-5EA6D4BC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14F2-C36F-415A-AEC1-EE002C2CE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07A6-9F5C-431F-89B9-F960F698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7B43-D145-4BC6-AB1D-0FAC526D1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C9E9-49C1-459D-85D4-935932B11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D0FB-5027-4690-B54D-949FD116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B954-66EE-4F2B-B3F1-8AD12B35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1B58-625B-4721-975C-82C4F705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6F3F-A474-4A39-B9D6-E8E1659E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83BB-F757-4BE2-B40D-BDA2E913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6323-B784-4EA2-A1E8-CEE941D2F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5602-00CE-4F94-8BC8-485B29097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D871-853D-4E5B-A0CF-989FA8A7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1E5E-6417-40DA-8818-CE780560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88F0-97D9-4124-8DE9-9D8F109F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74C5-3337-41AE-9A0A-159CF42E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152F-2E43-4E48-B6E7-2A4E9203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643-B772-4479-83CA-4ED82BDAA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C7F9-618D-44A4-83AE-62C48107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D4E6-703D-4E92-9731-9B3876F4B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D9CA-7CB9-4059-8F1F-548EDF04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BB9C-888C-4FC9-9324-EE5C40EC2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055A-26E9-4B66-AE83-0AF5B765F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B09D-C6AA-4CE1-A2AF-7E2C41917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FAC-50F3-44AD-ADFB-6EF48165F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518B-BE98-49CE-ADFC-84B778F16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9364-6F2D-4598-B830-987DAA2E5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2924-C6C7-4150-BA97-5CEC19E40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1FA1-CF03-4896-917D-FCC7D669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C8DF-9921-49C1-A197-27DC55E0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248-F707-46D7-B65B-C06B1456B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5D85-069E-41EA-BCD3-50A7EED0E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588-A43C-4CCB-BE57-3EEB1C56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DD1-45E2-4ABE-BA48-91FFD0BD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F97-7BF8-427D-9E9C-3A214A3A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FFF-D45C-4F94-8E6D-AEE88524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A93-7E83-4CD7-AC00-584D7277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A48-0BB8-488B-9011-4A67736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0DF-C8E4-49AE-B02B-9636DB77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22B-1DAF-4D78-8F44-DB26CDD8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DBD-F438-4AEA-8503-1F29DC72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E74-CDC2-4AB4-892D-146C7BB7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4E0-C6EB-496C-BBBC-DB91165E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EC1-E60E-4B9D-8169-F64F0CC4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F37B-F9EC-4037-991A-D791BE533C78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3E25-49F6-44D9-82B6-8B7355E64931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physics.umd.edu/lecdem/services/demos/demosd1/d1-81.mpg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ursday, Sept. 13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nd Dance,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Motions without Turns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 and the Art of 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Laws, Pages 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draft of first oral presentation or writte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esday, Sept. 18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 at the N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The Mechanics of Movement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Way Thing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Macaulay, Pages 8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tion is governed by Newton’s three laws of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of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&amp;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these laws apply to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435720" y="2390760"/>
            <a:ext cx="2530440" cy="2658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370280" y="5041800"/>
            <a:ext cx="153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Isaac New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43 – 17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39348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wton’s First Law of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901800" y="153972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object moves with constant, uniform motion until acted on by a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1143000" y="3429000"/>
            <a:ext cx="571680" cy="571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32130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2704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7"/>
          <p:cNvSpPr/>
          <p:nvPr/>
        </p:nvSpPr>
        <p:spPr>
          <a:xfrm>
            <a:off x="7302600" y="3441600"/>
            <a:ext cx="57132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>
            <a:off x="1434960" y="3720960"/>
            <a:ext cx="6832800" cy="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8"/>
          <p:cNvSpPr/>
          <p:nvPr/>
        </p:nvSpPr>
        <p:spPr>
          <a:xfrm>
            <a:off x="3213000" y="3695760"/>
            <a:ext cx="571680" cy="571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9"/>
          <p:cNvSpPr/>
          <p:nvPr/>
        </p:nvSpPr>
        <p:spPr>
          <a:xfrm>
            <a:off x="5257800" y="4356000"/>
            <a:ext cx="57168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0"/>
          <p:cNvSpPr/>
          <p:nvPr/>
        </p:nvSpPr>
        <p:spPr>
          <a:xfrm>
            <a:off x="7302600" y="5499000"/>
            <a:ext cx="57132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"/>
          <p:cNvSpPr/>
          <p:nvPr/>
        </p:nvSpPr>
        <p:spPr>
          <a:xfrm rot="5400000">
            <a:off x="3542760" y="5003640"/>
            <a:ext cx="1727280" cy="609480"/>
          </a:xfrm>
          <a:prstGeom prst="rightArrow">
            <a:avLst>
              <a:gd name="adj1" fmla="val 50000"/>
              <a:gd name="adj2" fmla="val 70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5"/>
          <p:cNvSpPr/>
          <p:nvPr/>
        </p:nvSpPr>
        <p:spPr>
          <a:xfrm>
            <a:off x="1460520" y="3706920"/>
            <a:ext cx="6858000" cy="26431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4320" h="1665">
                <a:moveTo>
                  <a:pt x="0" y="9"/>
                </a:moveTo>
                <a:cubicBezTo>
                  <a:pt x="236" y="4"/>
                  <a:pt x="473" y="0"/>
                  <a:pt x="688" y="25"/>
                </a:cubicBezTo>
                <a:cubicBezTo>
                  <a:pt x="903" y="50"/>
                  <a:pt x="1063" y="105"/>
                  <a:pt x="1288" y="161"/>
                </a:cubicBezTo>
                <a:cubicBezTo>
                  <a:pt x="1513" y="217"/>
                  <a:pt x="1823" y="290"/>
                  <a:pt x="2040" y="361"/>
                </a:cubicBezTo>
                <a:cubicBezTo>
                  <a:pt x="2257" y="432"/>
                  <a:pt x="2421" y="512"/>
                  <a:pt x="2592" y="585"/>
                </a:cubicBezTo>
                <a:cubicBezTo>
                  <a:pt x="2763" y="658"/>
                  <a:pt x="2927" y="732"/>
                  <a:pt x="3064" y="801"/>
                </a:cubicBezTo>
                <a:cubicBezTo>
                  <a:pt x="3201" y="870"/>
                  <a:pt x="3279" y="916"/>
                  <a:pt x="3416" y="1001"/>
                </a:cubicBezTo>
                <a:cubicBezTo>
                  <a:pt x="3553" y="1086"/>
                  <a:pt x="3737" y="1202"/>
                  <a:pt x="3888" y="1313"/>
                </a:cubicBezTo>
                <a:cubicBezTo>
                  <a:pt x="4039" y="1424"/>
                  <a:pt x="4179" y="1544"/>
                  <a:pt x="4320" y="1665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6099840" y="3005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First Law (Full Version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at rest remains at res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in motion re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uniform motion*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ing in a straight line with constant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92000" y="586728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 Law is also known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inciple of inerti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Tablecloth Pu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39960" y="4267080"/>
            <a:ext cx="622296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934320" y="4114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285520" y="3809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able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47680" y="2247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086600" y="35053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ank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013280" y="1981080"/>
            <a:ext cx="355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660240" y="4267080"/>
            <a:ext cx="7061400" cy="355680"/>
          </a:xfrm>
          <a:prstGeom prst="cube">
            <a:avLst>
              <a:gd name="adj" fmla="val 714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822840" y="2552760"/>
            <a:ext cx="749160" cy="1866960"/>
          </a:xfrm>
          <a:prstGeom prst="can">
            <a:avLst>
              <a:gd name="adj" fmla="val 12074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340080" y="2171880"/>
            <a:ext cx="1041480" cy="6984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2953800">
            <a:off x="3674880" y="1947240"/>
            <a:ext cx="1041480" cy="69840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20326200">
            <a:off x="4056120" y="2201400"/>
            <a:ext cx="1041480" cy="6987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6880" y="5587920"/>
            <a:ext cx="81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vase’s inertia it remains at rest since almost no force acts on the vase if one pulls quickly &amp; stra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Riding Light Rai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3" descr="nycbaby-28691_640x480"/>
          <p:cNvPicPr/>
          <p:nvPr/>
        </p:nvPicPr>
        <p:blipFill>
          <a:blip r:embed="rId1"/>
          <a:srcRect l="0" t="0" r="0" b="-268"/>
          <a:stretch/>
        </p:blipFill>
        <p:spPr>
          <a:xfrm>
            <a:off x="3708360" y="1447920"/>
            <a:ext cx="4508640" cy="458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30280" y="1471680"/>
            <a:ext cx="29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oving train stops, you continue moving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opped train starts moving again, you remain stationary and are thrown back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it’s due to your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omic Sans MS"/>
              </a:rPr>
              <a:t>Follow-through &amp; Inert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440" y="1917720"/>
            <a:ext cx="5335560" cy="464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68280" y="1760400"/>
            <a:ext cx="323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through is a good example of the principle of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on’t move until a force acts on it so long hair trails behind as head 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en remains in motion even after the head stops 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22840" y="433080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6120" y="523080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tric unit of force (about 1/5 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veral forces act on an object, the forces ad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forc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tal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63640" y="464832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82960" y="401328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1536840" y="416556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295280" y="44578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06600" y="378144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0120" y="40989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829480" y="459756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048440" y="3962520"/>
            <a:ext cx="118116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5549760" y="4292640"/>
            <a:ext cx="1486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49760" y="3908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uilibrium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22840" y="406404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at rest then the net force must be zero. Similarly if in uniform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438156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3880" y="3746520"/>
            <a:ext cx="1181160" cy="622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90720" y="402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63520" y="36036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793960" y="36417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5829480" y="433080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66040" y="369576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095880" y="2968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717640" y="4025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96880" y="506556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is happens we say that forces “bal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ppor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surfaces exert a force, called a support force, on objects pressed agains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63640" y="4648320"/>
            <a:ext cx="6591240" cy="353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82960" y="3632040"/>
            <a:ext cx="2641320" cy="1003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ld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3384720" y="4680000"/>
            <a:ext cx="0" cy="109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5064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8200" y="3071880"/>
            <a:ext cx="31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force (weight) balanced by upward force (sup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635800" y="5433840"/>
            <a:ext cx="32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uch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ce on the b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iction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369280" cy="87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friction is molecular interaction between solid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04-03Figure_FIG.jpg"/>
          <p:cNvPicPr/>
          <p:nvPr/>
        </p:nvPicPr>
        <p:blipFill>
          <a:blip r:embed="rId1"/>
          <a:stretch/>
        </p:blipFill>
        <p:spPr>
          <a:xfrm>
            <a:off x="4183200" y="2362320"/>
            <a:ext cx="4232160" cy="330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39840" y="2576520"/>
            <a:ext cx="36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depends on support force and on properties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properties of friction first established by Leonardo da Vinc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Deadl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13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raft of your first term paper or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2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t of Or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erm paper (if not giv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First Law of Motion states that a stationary object (not moving) remains stationary i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ce on i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osition of an object’s weight distribution is call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gravity (C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of gravity acts on an object as if pulling straight down at the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8-25Figure_FIG.jpg"/>
          <p:cNvPicPr/>
          <p:nvPr/>
        </p:nvPicPr>
        <p:blipFill>
          <a:blip r:embed="rId1"/>
          <a:stretch/>
        </p:blipFill>
        <p:spPr>
          <a:xfrm>
            <a:off x="4735440" y="2336760"/>
            <a:ext cx="3851280" cy="3102120"/>
          </a:xfrm>
          <a:prstGeom prst="rect">
            <a:avLst/>
          </a:prstGeom>
          <a:ln w="0">
            <a:noFill/>
          </a:ln>
        </p:spPr>
      </p:pic>
      <p:sp>
        <p:nvSpPr>
          <p:cNvPr id="189" name="Oval 5"/>
          <p:cNvSpPr/>
          <p:nvPr/>
        </p:nvSpPr>
        <p:spPr>
          <a:xfrm>
            <a:off x="6651720" y="3606840"/>
            <a:ext cx="1270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6803640" y="2577960"/>
            <a:ext cx="787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367040" y="194472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bility &amp; Bal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is stable if CG is above th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00280" y="5295960"/>
            <a:ext cx="7810200" cy="8506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9000" y="2959200"/>
            <a:ext cx="1739880" cy="26668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017960" y="3002040"/>
            <a:ext cx="3403440" cy="2666880"/>
          </a:xfrm>
          <a:prstGeom prst="parallelogram">
            <a:avLst>
              <a:gd name="adj" fmla="val 7634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2165400" y="422928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5656320" y="427212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222640" y="4381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719680" y="4462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1"/>
          <p:cNvSpPr/>
          <p:nvPr/>
        </p:nvSpPr>
        <p:spPr>
          <a:xfrm>
            <a:off x="5194440" y="5270400"/>
            <a:ext cx="520560" cy="520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865160" y="3884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628960" y="3940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1558080" y="459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5042520" y="462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371600" y="561348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2563920" y="5541840"/>
            <a:ext cx="12672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611720" y="5649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734200" y="541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04240" y="573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4056120" y="568152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11800" y="5584680"/>
            <a:ext cx="12708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296240" y="566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186360" y="2881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658560" y="4219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2222640" y="48895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5283360" y="49021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 rot="16200000">
            <a:off x="1956600" y="496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585320" y="5024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Find your Cen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G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8-31Figure_FIG.jpg"/>
          <p:cNvPicPr/>
          <p:nvPr/>
        </p:nvPicPr>
        <p:blipFill>
          <a:blip r:embed="rId1"/>
          <a:stretch/>
        </p:blipFill>
        <p:spPr>
          <a:xfrm>
            <a:off x="3568680" y="2443320"/>
            <a:ext cx="5102280" cy="2903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54200" y="3414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000560" y="3457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011840" y="5281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140960" y="518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alanced Bi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ird’s center of gra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MG_6736"/>
          <p:cNvPicPr/>
          <p:nvPr/>
        </p:nvPicPr>
        <p:blipFill>
          <a:blip r:embed="rId1"/>
          <a:stretch/>
        </p:blipFill>
        <p:spPr>
          <a:xfrm>
            <a:off x="677880" y="260496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6740"/>
          <p:cNvPicPr/>
          <p:nvPr/>
        </p:nvPicPr>
        <p:blipFill>
          <a:blip r:embed="rId2"/>
          <a:stretch/>
        </p:blipFill>
        <p:spPr>
          <a:xfrm>
            <a:off x="4653000" y="2563920"/>
            <a:ext cx="3851280" cy="28875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746280" y="3640320"/>
            <a:ext cx="7638840" cy="2487240"/>
            <a:chOff x="746280" y="3640320"/>
            <a:chExt cx="7638840" cy="2487240"/>
          </a:xfrm>
        </p:grpSpPr>
        <p:sp>
          <p:nvSpPr>
            <p:cNvPr id="235" name="AutoShape 7"/>
            <p:cNvSpPr/>
            <p:nvPr/>
          </p:nvSpPr>
          <p:spPr>
            <a:xfrm rot="2433600">
              <a:off x="2323800" y="4013280"/>
              <a:ext cx="29196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rot="2433600">
              <a:off x="6811560" y="3700080"/>
              <a:ext cx="29232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746280" y="5484960"/>
              <a:ext cx="76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int of support is the tip of the beak. Center of gravity must be directly above or below that point. Wings are weighted so CG is below the be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ance &amp; 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66760" y="3738600"/>
          <a:ext cx="4451400" cy="27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738600"/>
                    <a:ext cx="44514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4" descr="biwiles1ms"/>
          <p:cNvPicPr/>
          <p:nvPr/>
        </p:nvPicPr>
        <p:blipFill>
          <a:blip r:embed="rId3"/>
          <a:stretch/>
        </p:blipFill>
        <p:spPr>
          <a:xfrm>
            <a:off x="4753080" y="1697040"/>
            <a:ext cx="383544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Line 5"/>
          <p:cNvSpPr/>
          <p:nvPr/>
        </p:nvSpPr>
        <p:spPr>
          <a:xfrm flipV="1">
            <a:off x="6286680" y="2552400"/>
            <a:ext cx="0" cy="36702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438960" y="182736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enter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cated abo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ancer’s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78000" y="1344600"/>
            <a:ext cx="42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gravity and the support force of the floor can balance only when a dancer’s center of gravity is located above the base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e of Support with a Partn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Picture 4" descr="BalletPose"/>
          <p:cNvPicPr/>
          <p:nvPr/>
        </p:nvPicPr>
        <p:blipFill>
          <a:blip r:embed="rId1"/>
          <a:stretch/>
        </p:blipFill>
        <p:spPr>
          <a:xfrm>
            <a:off x="4305240" y="1617840"/>
            <a:ext cx="4172040" cy="3154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alletBaseSupport"/>
          <p:cNvPicPr/>
          <p:nvPr/>
        </p:nvPicPr>
        <p:blipFill>
          <a:blip r:embed="rId2"/>
          <a:stretch/>
        </p:blipFill>
        <p:spPr>
          <a:xfrm>
            <a:off x="3016080" y="4756320"/>
            <a:ext cx="6127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5198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45560" y="265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69400" y="36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5334120" y="2958840"/>
            <a:ext cx="799920" cy="5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4698720" y="4317840"/>
            <a:ext cx="266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3200" y="1916280"/>
            <a:ext cx="344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ncers, together, can form a larger base of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is roughly located in between the two dancer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if he shifts his front foo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he shifts his back foot for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let Bar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735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et barre also extends the base of support, with the hand acting as a “third fo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Ballet_Barre"/>
          <p:cNvPicPr/>
          <p:nvPr/>
        </p:nvPicPr>
        <p:blipFill>
          <a:blip r:embed="rId1"/>
          <a:stretch/>
        </p:blipFill>
        <p:spPr>
          <a:xfrm>
            <a:off x="5248440" y="1577880"/>
            <a:ext cx="3646440" cy="471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380880" y="4152960"/>
            <a:ext cx="46609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2925720" y="5384880"/>
            <a:ext cx="587520" cy="871560"/>
          </a:xfrm>
          <a:custGeom>
            <a:avLst/>
            <a:gdLst>
              <a:gd name="textAreaLeft" fmla="*/ 0 w 587520"/>
              <a:gd name="textAreaRight" fmla="*/ 587880 w 5875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370" h="549">
                <a:moveTo>
                  <a:pt x="13" y="80"/>
                </a:moveTo>
                <a:cubicBezTo>
                  <a:pt x="23" y="28"/>
                  <a:pt x="13" y="24"/>
                  <a:pt x="61" y="0"/>
                </a:cubicBezTo>
                <a:cubicBezTo>
                  <a:pt x="104" y="3"/>
                  <a:pt x="146" y="4"/>
                  <a:pt x="189" y="8"/>
                </a:cubicBezTo>
                <a:cubicBezTo>
                  <a:pt x="197" y="9"/>
                  <a:pt x="208" y="9"/>
                  <a:pt x="213" y="16"/>
                </a:cubicBezTo>
                <a:cubicBezTo>
                  <a:pt x="230" y="40"/>
                  <a:pt x="237" y="90"/>
                  <a:pt x="245" y="120"/>
                </a:cubicBezTo>
                <a:cubicBezTo>
                  <a:pt x="258" y="167"/>
                  <a:pt x="246" y="121"/>
                  <a:pt x="269" y="168"/>
                </a:cubicBezTo>
                <a:cubicBezTo>
                  <a:pt x="286" y="202"/>
                  <a:pt x="289" y="243"/>
                  <a:pt x="301" y="280"/>
                </a:cubicBezTo>
                <a:cubicBezTo>
                  <a:pt x="313" y="361"/>
                  <a:pt x="370" y="513"/>
                  <a:pt x="277" y="544"/>
                </a:cubicBezTo>
                <a:cubicBezTo>
                  <a:pt x="198" y="538"/>
                  <a:pt x="172" y="549"/>
                  <a:pt x="117" y="512"/>
                </a:cubicBezTo>
                <a:cubicBezTo>
                  <a:pt x="97" y="482"/>
                  <a:pt x="88" y="450"/>
                  <a:pt x="77" y="416"/>
                </a:cubicBezTo>
                <a:cubicBezTo>
                  <a:pt x="69" y="392"/>
                  <a:pt x="47" y="367"/>
                  <a:pt x="37" y="344"/>
                </a:cubicBezTo>
                <a:cubicBezTo>
                  <a:pt x="30" y="329"/>
                  <a:pt x="26" y="312"/>
                  <a:pt x="21" y="296"/>
                </a:cubicBezTo>
                <a:cubicBezTo>
                  <a:pt x="18" y="288"/>
                  <a:pt x="13" y="272"/>
                  <a:pt x="13" y="272"/>
                </a:cubicBezTo>
                <a:cubicBezTo>
                  <a:pt x="4" y="123"/>
                  <a:pt x="0" y="186"/>
                  <a:pt x="13" y="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800280" y="5105520"/>
            <a:ext cx="203040" cy="1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 rot="21376200">
            <a:off x="3770280" y="4061880"/>
            <a:ext cx="777960" cy="390600"/>
          </a:xfrm>
          <a:custGeom>
            <a:avLst/>
            <a:gdLst>
              <a:gd name="textAreaLeft" fmla="*/ 0 w 777960"/>
              <a:gd name="textAreaRight" fmla="*/ 778320 w 7779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90" h="246">
                <a:moveTo>
                  <a:pt x="33" y="57"/>
                </a:moveTo>
                <a:cubicBezTo>
                  <a:pt x="120" y="35"/>
                  <a:pt x="75" y="43"/>
                  <a:pt x="169" y="33"/>
                </a:cubicBezTo>
                <a:cubicBezTo>
                  <a:pt x="268" y="0"/>
                  <a:pt x="200" y="16"/>
                  <a:pt x="377" y="25"/>
                </a:cubicBezTo>
                <a:cubicBezTo>
                  <a:pt x="438" y="45"/>
                  <a:pt x="408" y="38"/>
                  <a:pt x="465" y="49"/>
                </a:cubicBezTo>
                <a:cubicBezTo>
                  <a:pt x="468" y="57"/>
                  <a:pt x="473" y="65"/>
                  <a:pt x="473" y="73"/>
                </a:cubicBezTo>
                <a:cubicBezTo>
                  <a:pt x="473" y="246"/>
                  <a:pt x="490" y="192"/>
                  <a:pt x="305" y="201"/>
                </a:cubicBezTo>
                <a:cubicBezTo>
                  <a:pt x="254" y="188"/>
                  <a:pt x="282" y="199"/>
                  <a:pt x="225" y="161"/>
                </a:cubicBezTo>
                <a:cubicBezTo>
                  <a:pt x="209" y="156"/>
                  <a:pt x="177" y="145"/>
                  <a:pt x="177" y="145"/>
                </a:cubicBezTo>
                <a:cubicBezTo>
                  <a:pt x="143" y="149"/>
                  <a:pt x="74" y="163"/>
                  <a:pt x="41" y="145"/>
                </a:cubicBezTo>
                <a:cubicBezTo>
                  <a:pt x="24" y="136"/>
                  <a:pt x="20" y="113"/>
                  <a:pt x="9" y="97"/>
                </a:cubicBezTo>
                <a:cubicBezTo>
                  <a:pt x="0" y="84"/>
                  <a:pt x="25" y="70"/>
                  <a:pt x="33" y="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838080" y="4177800"/>
            <a:ext cx="29592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812880" y="5257800"/>
            <a:ext cx="23241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429000" y="4330800"/>
            <a:ext cx="1079640" cy="18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1346040" y="50036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 flipV="1">
            <a:off x="1523880" y="4876920"/>
            <a:ext cx="4194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752480" y="477504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2577960" y="56768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2273400" y="523224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 flipV="1">
            <a:off x="2298600" y="457200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31400" y="4646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3517920" y="511812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3365280" y="439416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3898440" y="453384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880720" y="5675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518760" y="52941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897000" y="40622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29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Motion &amp; Center of Grav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0"/>
          <p:cNvGrpSpPr/>
          <p:nvPr/>
        </p:nvGrpSpPr>
        <p:grpSpPr>
          <a:xfrm>
            <a:off x="8342280" y="3327480"/>
            <a:ext cx="228600" cy="228600"/>
            <a:chOff x="8342280" y="3327480"/>
            <a:chExt cx="228600" cy="228600"/>
          </a:xfrm>
        </p:grpSpPr>
        <p:sp>
          <p:nvSpPr>
            <p:cNvPr id="283" name="Oval 41"/>
            <p:cNvSpPr/>
            <p:nvPr/>
          </p:nvSpPr>
          <p:spPr>
            <a:xfrm>
              <a:off x="8342280" y="3327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2"/>
            <p:cNvSpPr/>
            <p:nvPr/>
          </p:nvSpPr>
          <p:spPr>
            <a:xfrm>
              <a:off x="8431200" y="3416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8342280" y="1954080"/>
            <a:ext cx="228600" cy="228600"/>
            <a:chOff x="8342280" y="1954080"/>
            <a:chExt cx="228600" cy="228600"/>
          </a:xfrm>
        </p:grpSpPr>
        <p:sp>
          <p:nvSpPr>
            <p:cNvPr id="286" name="Oval 44"/>
            <p:cNvSpPr/>
            <p:nvPr/>
          </p:nvSpPr>
          <p:spPr>
            <a:xfrm>
              <a:off x="8342280" y="1954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5"/>
            <p:cNvSpPr/>
            <p:nvPr/>
          </p:nvSpPr>
          <p:spPr>
            <a:xfrm>
              <a:off x="8431200" y="2043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245412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3368520" y="191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5146560" y="135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1304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13040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130400" y="3429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130400" y="5943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833760" y="45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4"/>
          <p:cNvGrpSpPr/>
          <p:nvPr/>
        </p:nvGrpSpPr>
        <p:grpSpPr>
          <a:xfrm>
            <a:off x="8342280" y="1484280"/>
            <a:ext cx="228600" cy="228600"/>
            <a:chOff x="8342280" y="1484280"/>
            <a:chExt cx="228600" cy="228600"/>
          </a:xfrm>
        </p:grpSpPr>
        <p:sp>
          <p:nvSpPr>
            <p:cNvPr id="297" name="Oval 55"/>
            <p:cNvSpPr/>
            <p:nvPr/>
          </p:nvSpPr>
          <p:spPr>
            <a:xfrm>
              <a:off x="8342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>
              <a:off x="8431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7"/>
          <p:cNvGrpSpPr/>
          <p:nvPr/>
        </p:nvGrpSpPr>
        <p:grpSpPr>
          <a:xfrm>
            <a:off x="6056280" y="1486080"/>
            <a:ext cx="228600" cy="228600"/>
            <a:chOff x="6056280" y="1486080"/>
            <a:chExt cx="228600" cy="228600"/>
          </a:xfrm>
        </p:grpSpPr>
        <p:sp>
          <p:nvSpPr>
            <p:cNvPr id="300" name="Oval 58"/>
            <p:cNvSpPr/>
            <p:nvPr/>
          </p:nvSpPr>
          <p:spPr>
            <a:xfrm>
              <a:off x="6056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9"/>
            <p:cNvSpPr/>
            <p:nvPr/>
          </p:nvSpPr>
          <p:spPr>
            <a:xfrm>
              <a:off x="6145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199280" y="1486080"/>
            <a:ext cx="228600" cy="228600"/>
            <a:chOff x="7199280" y="1486080"/>
            <a:chExt cx="228600" cy="228600"/>
          </a:xfrm>
        </p:grpSpPr>
        <p:sp>
          <p:nvSpPr>
            <p:cNvPr id="303" name="Oval 61"/>
            <p:cNvSpPr/>
            <p:nvPr/>
          </p:nvSpPr>
          <p:spPr>
            <a:xfrm>
              <a:off x="7199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2"/>
            <p:cNvSpPr/>
            <p:nvPr/>
          </p:nvSpPr>
          <p:spPr>
            <a:xfrm>
              <a:off x="7288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1484280" y="1486080"/>
            <a:ext cx="228600" cy="228600"/>
            <a:chOff x="1484280" y="1486080"/>
            <a:chExt cx="228600" cy="228600"/>
          </a:xfrm>
        </p:grpSpPr>
        <p:sp>
          <p:nvSpPr>
            <p:cNvPr id="306" name="Oval 64"/>
            <p:cNvSpPr/>
            <p:nvPr/>
          </p:nvSpPr>
          <p:spPr>
            <a:xfrm>
              <a:off x="1484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5"/>
            <p:cNvSpPr/>
            <p:nvPr/>
          </p:nvSpPr>
          <p:spPr>
            <a:xfrm>
              <a:off x="1573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2627280" y="1484280"/>
            <a:ext cx="228600" cy="228600"/>
            <a:chOff x="2627280" y="1484280"/>
            <a:chExt cx="228600" cy="228600"/>
          </a:xfrm>
        </p:grpSpPr>
        <p:sp>
          <p:nvSpPr>
            <p:cNvPr id="309" name="Oval 67"/>
            <p:cNvSpPr/>
            <p:nvPr/>
          </p:nvSpPr>
          <p:spPr>
            <a:xfrm>
              <a:off x="2627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2716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3770280" y="1486080"/>
            <a:ext cx="228600" cy="228600"/>
            <a:chOff x="3770280" y="1486080"/>
            <a:chExt cx="228600" cy="228600"/>
          </a:xfrm>
        </p:grpSpPr>
        <p:sp>
          <p:nvSpPr>
            <p:cNvPr id="312" name="Oval 70"/>
            <p:cNvSpPr/>
            <p:nvPr/>
          </p:nvSpPr>
          <p:spPr>
            <a:xfrm>
              <a:off x="3770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1"/>
            <p:cNvSpPr/>
            <p:nvPr/>
          </p:nvSpPr>
          <p:spPr>
            <a:xfrm>
              <a:off x="3859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2"/>
          <p:cNvSpPr/>
          <p:nvPr/>
        </p:nvSpPr>
        <p:spPr>
          <a:xfrm>
            <a:off x="783000" y="612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808560" y="246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4"/>
          <p:cNvSpPr/>
          <p:nvPr/>
        </p:nvSpPr>
        <p:spPr>
          <a:xfrm>
            <a:off x="795600" y="168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6416280" y="182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1247400" y="5675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735624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8"/>
          <p:cNvSpPr/>
          <p:nvPr/>
        </p:nvSpPr>
        <p:spPr>
          <a:xfrm>
            <a:off x="8473680" y="559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9"/>
          <p:cNvGrpSpPr/>
          <p:nvPr/>
        </p:nvGrpSpPr>
        <p:grpSpPr>
          <a:xfrm>
            <a:off x="1484280" y="1941480"/>
            <a:ext cx="228600" cy="228600"/>
            <a:chOff x="1484280" y="1941480"/>
            <a:chExt cx="228600" cy="228600"/>
          </a:xfrm>
        </p:grpSpPr>
        <p:sp>
          <p:nvSpPr>
            <p:cNvPr id="322" name="Oval 80"/>
            <p:cNvSpPr/>
            <p:nvPr/>
          </p:nvSpPr>
          <p:spPr>
            <a:xfrm>
              <a:off x="1484280" y="194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1"/>
            <p:cNvSpPr/>
            <p:nvPr/>
          </p:nvSpPr>
          <p:spPr>
            <a:xfrm>
              <a:off x="1573200" y="2030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1484280" y="3314880"/>
            <a:ext cx="228600" cy="228600"/>
            <a:chOff x="1484280" y="3314880"/>
            <a:chExt cx="228600" cy="228600"/>
          </a:xfrm>
        </p:grpSpPr>
        <p:sp>
          <p:nvSpPr>
            <p:cNvPr id="325" name="Oval 83"/>
            <p:cNvSpPr/>
            <p:nvPr/>
          </p:nvSpPr>
          <p:spPr>
            <a:xfrm>
              <a:off x="14842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4"/>
            <p:cNvSpPr/>
            <p:nvPr/>
          </p:nvSpPr>
          <p:spPr>
            <a:xfrm>
              <a:off x="15732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85"/>
          <p:cNvSpPr/>
          <p:nvPr/>
        </p:nvSpPr>
        <p:spPr>
          <a:xfrm>
            <a:off x="3375000" y="2967120"/>
            <a:ext cx="3516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inning object turns about its center of gravity as it flies through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follows a parabolic trajectory which is the same for al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6"/>
          <p:cNvGrpSpPr/>
          <p:nvPr/>
        </p:nvGrpSpPr>
        <p:grpSpPr>
          <a:xfrm>
            <a:off x="977760" y="5778360"/>
            <a:ext cx="927000" cy="317520"/>
            <a:chOff x="977760" y="5778360"/>
            <a:chExt cx="927000" cy="317520"/>
          </a:xfrm>
        </p:grpSpPr>
        <p:sp>
          <p:nvSpPr>
            <p:cNvPr id="329" name="Rectangle 87"/>
            <p:cNvSpPr/>
            <p:nvPr/>
          </p:nvSpPr>
          <p:spPr>
            <a:xfrm>
              <a:off x="977760" y="5892840"/>
              <a:ext cx="762120" cy="10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1574640" y="57783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1560600" y="59180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0"/>
          <p:cNvGrpSpPr/>
          <p:nvPr/>
        </p:nvGrpSpPr>
        <p:grpSpPr>
          <a:xfrm>
            <a:off x="2577960" y="2819520"/>
            <a:ext cx="317520" cy="927000"/>
            <a:chOff x="2577960" y="2819520"/>
            <a:chExt cx="317520" cy="927000"/>
          </a:xfrm>
        </p:grpSpPr>
        <p:sp>
          <p:nvSpPr>
            <p:cNvPr id="333" name="Rectangle 91"/>
            <p:cNvSpPr/>
            <p:nvPr/>
          </p:nvSpPr>
          <p:spPr>
            <a:xfrm rot="5400000">
              <a:off x="2349000" y="3149640"/>
              <a:ext cx="762120" cy="101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2"/>
            <p:cNvSpPr/>
            <p:nvPr/>
          </p:nvSpPr>
          <p:spPr>
            <a:xfrm rot="5400000">
              <a:off x="257148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3"/>
            <p:cNvSpPr/>
            <p:nvPr/>
          </p:nvSpPr>
          <p:spPr>
            <a:xfrm rot="5400000">
              <a:off x="270504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1471680" y="5829480"/>
            <a:ext cx="228600" cy="228600"/>
            <a:chOff x="1471680" y="5829480"/>
            <a:chExt cx="228600" cy="228600"/>
          </a:xfrm>
        </p:grpSpPr>
        <p:sp>
          <p:nvSpPr>
            <p:cNvPr id="337" name="Oval 95"/>
            <p:cNvSpPr/>
            <p:nvPr/>
          </p:nvSpPr>
          <p:spPr>
            <a:xfrm>
              <a:off x="14716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6"/>
            <p:cNvSpPr/>
            <p:nvPr/>
          </p:nvSpPr>
          <p:spPr>
            <a:xfrm>
              <a:off x="15606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3568320" y="1905120"/>
            <a:ext cx="927000" cy="317520"/>
            <a:chOff x="3568320" y="1905120"/>
            <a:chExt cx="927000" cy="317520"/>
          </a:xfrm>
        </p:grpSpPr>
        <p:sp>
          <p:nvSpPr>
            <p:cNvPr id="340" name="Rectangle 98"/>
            <p:cNvSpPr/>
            <p:nvPr/>
          </p:nvSpPr>
          <p:spPr>
            <a:xfrm rot="10800000">
              <a:off x="3733200" y="2006640"/>
              <a:ext cx="762120" cy="10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9"/>
            <p:cNvSpPr/>
            <p:nvPr/>
          </p:nvSpPr>
          <p:spPr>
            <a:xfrm rot="10800000">
              <a:off x="3568320" y="19051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0"/>
            <p:cNvSpPr/>
            <p:nvPr/>
          </p:nvSpPr>
          <p:spPr>
            <a:xfrm rot="10800000">
              <a:off x="3861720" y="20322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1"/>
          <p:cNvGrpSpPr/>
          <p:nvPr/>
        </p:nvGrpSpPr>
        <p:grpSpPr>
          <a:xfrm>
            <a:off x="4851360" y="1282320"/>
            <a:ext cx="317520" cy="927000"/>
            <a:chOff x="4851360" y="1282320"/>
            <a:chExt cx="317520" cy="927000"/>
          </a:xfrm>
        </p:grpSpPr>
        <p:sp>
          <p:nvSpPr>
            <p:cNvPr id="344" name="Rectangle 102"/>
            <p:cNvSpPr/>
            <p:nvPr/>
          </p:nvSpPr>
          <p:spPr>
            <a:xfrm rot="16200000">
              <a:off x="4635360" y="1777320"/>
              <a:ext cx="762120" cy="101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3"/>
            <p:cNvSpPr/>
            <p:nvPr/>
          </p:nvSpPr>
          <p:spPr>
            <a:xfrm rot="16200000">
              <a:off x="4844880" y="128844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4"/>
            <p:cNvSpPr/>
            <p:nvPr/>
          </p:nvSpPr>
          <p:spPr>
            <a:xfrm rot="16200000">
              <a:off x="4991040" y="15757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5"/>
          <p:cNvGrpSpPr/>
          <p:nvPr/>
        </p:nvGrpSpPr>
        <p:grpSpPr>
          <a:xfrm>
            <a:off x="5562720" y="1892160"/>
            <a:ext cx="927000" cy="317520"/>
            <a:chOff x="5562720" y="1892160"/>
            <a:chExt cx="927000" cy="317520"/>
          </a:xfrm>
        </p:grpSpPr>
        <p:sp>
          <p:nvSpPr>
            <p:cNvPr id="348" name="Rectangle 106"/>
            <p:cNvSpPr/>
            <p:nvPr/>
          </p:nvSpPr>
          <p:spPr>
            <a:xfrm>
              <a:off x="5562720" y="2006640"/>
              <a:ext cx="762120" cy="101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7"/>
            <p:cNvSpPr/>
            <p:nvPr/>
          </p:nvSpPr>
          <p:spPr>
            <a:xfrm>
              <a:off x="6159600" y="18921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8"/>
            <p:cNvSpPr/>
            <p:nvPr/>
          </p:nvSpPr>
          <p:spPr>
            <a:xfrm>
              <a:off x="6145560" y="20318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9"/>
          <p:cNvGrpSpPr/>
          <p:nvPr/>
        </p:nvGrpSpPr>
        <p:grpSpPr>
          <a:xfrm>
            <a:off x="7175520" y="2819520"/>
            <a:ext cx="317520" cy="927000"/>
            <a:chOff x="7175520" y="2819520"/>
            <a:chExt cx="317520" cy="927000"/>
          </a:xfrm>
        </p:grpSpPr>
        <p:sp>
          <p:nvSpPr>
            <p:cNvPr id="352" name="Rectangle 110"/>
            <p:cNvSpPr/>
            <p:nvPr/>
          </p:nvSpPr>
          <p:spPr>
            <a:xfrm rot="5400000">
              <a:off x="6946560" y="3149640"/>
              <a:ext cx="762120" cy="101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1"/>
            <p:cNvSpPr/>
            <p:nvPr/>
          </p:nvSpPr>
          <p:spPr>
            <a:xfrm rot="5400000">
              <a:off x="716904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2"/>
            <p:cNvSpPr/>
            <p:nvPr/>
          </p:nvSpPr>
          <p:spPr>
            <a:xfrm rot="5400000">
              <a:off x="730260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3"/>
          <p:cNvGrpSpPr/>
          <p:nvPr/>
        </p:nvGrpSpPr>
        <p:grpSpPr>
          <a:xfrm>
            <a:off x="8140320" y="5791320"/>
            <a:ext cx="927000" cy="317520"/>
            <a:chOff x="8140320" y="5791320"/>
            <a:chExt cx="927000" cy="317520"/>
          </a:xfrm>
        </p:grpSpPr>
        <p:sp>
          <p:nvSpPr>
            <p:cNvPr id="356" name="Rectangle 114"/>
            <p:cNvSpPr/>
            <p:nvPr/>
          </p:nvSpPr>
          <p:spPr>
            <a:xfrm rot="10800000">
              <a:off x="8305200" y="5892840"/>
              <a:ext cx="762120" cy="101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5"/>
            <p:cNvSpPr/>
            <p:nvPr/>
          </p:nvSpPr>
          <p:spPr>
            <a:xfrm rot="10800000">
              <a:off x="8140320" y="57913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16"/>
            <p:cNvSpPr/>
            <p:nvPr/>
          </p:nvSpPr>
          <p:spPr>
            <a:xfrm rot="10800000">
              <a:off x="8433720" y="591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7"/>
          <p:cNvGrpSpPr/>
          <p:nvPr/>
        </p:nvGrpSpPr>
        <p:grpSpPr>
          <a:xfrm>
            <a:off x="2614680" y="3314880"/>
            <a:ext cx="228600" cy="228600"/>
            <a:chOff x="2614680" y="3314880"/>
            <a:chExt cx="228600" cy="228600"/>
          </a:xfrm>
        </p:grpSpPr>
        <p:sp>
          <p:nvSpPr>
            <p:cNvPr id="360" name="Oval 118"/>
            <p:cNvSpPr/>
            <p:nvPr/>
          </p:nvSpPr>
          <p:spPr>
            <a:xfrm>
              <a:off x="26146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9"/>
            <p:cNvSpPr/>
            <p:nvPr/>
          </p:nvSpPr>
          <p:spPr>
            <a:xfrm>
              <a:off x="27036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20"/>
          <p:cNvGrpSpPr/>
          <p:nvPr/>
        </p:nvGrpSpPr>
        <p:grpSpPr>
          <a:xfrm>
            <a:off x="3770280" y="1943280"/>
            <a:ext cx="228600" cy="228600"/>
            <a:chOff x="3770280" y="1943280"/>
            <a:chExt cx="228600" cy="228600"/>
          </a:xfrm>
        </p:grpSpPr>
        <p:sp>
          <p:nvSpPr>
            <p:cNvPr id="363" name="Oval 121"/>
            <p:cNvSpPr/>
            <p:nvPr/>
          </p:nvSpPr>
          <p:spPr>
            <a:xfrm>
              <a:off x="3770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2"/>
            <p:cNvSpPr/>
            <p:nvPr/>
          </p:nvSpPr>
          <p:spPr>
            <a:xfrm>
              <a:off x="3859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23"/>
          <p:cNvGrpSpPr/>
          <p:nvPr/>
        </p:nvGrpSpPr>
        <p:grpSpPr>
          <a:xfrm>
            <a:off x="4900680" y="1486080"/>
            <a:ext cx="228600" cy="228600"/>
            <a:chOff x="4900680" y="1486080"/>
            <a:chExt cx="228600" cy="228600"/>
          </a:xfrm>
        </p:grpSpPr>
        <p:sp>
          <p:nvSpPr>
            <p:cNvPr id="366" name="Oval 124"/>
            <p:cNvSpPr/>
            <p:nvPr/>
          </p:nvSpPr>
          <p:spPr>
            <a:xfrm>
              <a:off x="49006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5"/>
            <p:cNvSpPr/>
            <p:nvPr/>
          </p:nvSpPr>
          <p:spPr>
            <a:xfrm>
              <a:off x="49896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6"/>
          <p:cNvGrpSpPr/>
          <p:nvPr/>
        </p:nvGrpSpPr>
        <p:grpSpPr>
          <a:xfrm>
            <a:off x="6056280" y="1943280"/>
            <a:ext cx="228600" cy="228600"/>
            <a:chOff x="6056280" y="1943280"/>
            <a:chExt cx="228600" cy="228600"/>
          </a:xfrm>
        </p:grpSpPr>
        <p:sp>
          <p:nvSpPr>
            <p:cNvPr id="369" name="Oval 127"/>
            <p:cNvSpPr/>
            <p:nvPr/>
          </p:nvSpPr>
          <p:spPr>
            <a:xfrm>
              <a:off x="6056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28"/>
            <p:cNvSpPr/>
            <p:nvPr/>
          </p:nvSpPr>
          <p:spPr>
            <a:xfrm>
              <a:off x="6145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9"/>
          <p:cNvGrpSpPr/>
          <p:nvPr/>
        </p:nvGrpSpPr>
        <p:grpSpPr>
          <a:xfrm>
            <a:off x="7211880" y="3314880"/>
            <a:ext cx="228600" cy="228600"/>
            <a:chOff x="7211880" y="3314880"/>
            <a:chExt cx="228600" cy="228600"/>
          </a:xfrm>
        </p:grpSpPr>
        <p:sp>
          <p:nvSpPr>
            <p:cNvPr id="372" name="Oval 130"/>
            <p:cNvSpPr/>
            <p:nvPr/>
          </p:nvSpPr>
          <p:spPr>
            <a:xfrm>
              <a:off x="72118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1"/>
            <p:cNvSpPr/>
            <p:nvPr/>
          </p:nvSpPr>
          <p:spPr>
            <a:xfrm>
              <a:off x="73008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32"/>
          <p:cNvGrpSpPr/>
          <p:nvPr/>
        </p:nvGrpSpPr>
        <p:grpSpPr>
          <a:xfrm>
            <a:off x="8342280" y="5829480"/>
            <a:ext cx="228600" cy="228600"/>
            <a:chOff x="8342280" y="5829480"/>
            <a:chExt cx="228600" cy="228600"/>
          </a:xfrm>
        </p:grpSpPr>
        <p:sp>
          <p:nvSpPr>
            <p:cNvPr id="375" name="Oval 133"/>
            <p:cNvSpPr/>
            <p:nvPr/>
          </p:nvSpPr>
          <p:spPr>
            <a:xfrm>
              <a:off x="83422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4"/>
            <p:cNvSpPr/>
            <p:nvPr/>
          </p:nvSpPr>
          <p:spPr>
            <a:xfrm>
              <a:off x="84312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35"/>
          <p:cNvSpPr/>
          <p:nvPr/>
        </p:nvSpPr>
        <p:spPr>
          <a:xfrm>
            <a:off x="2901960" y="6146640"/>
            <a:ext cx="440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If axe is about 10” long then 4 frames between k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6"/>
          <p:cNvSpPr/>
          <p:nvPr/>
        </p:nvSpPr>
        <p:spPr>
          <a:xfrm>
            <a:off x="2714760" y="5362560"/>
            <a:ext cx="46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umbling motion (e.g., throw a chair) is very complica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7"/>
          <p:cNvSpPr/>
          <p:nvPr/>
        </p:nvSpPr>
        <p:spPr>
          <a:xfrm>
            <a:off x="1562040" y="1409760"/>
            <a:ext cx="1181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8"/>
          <p:cNvSpPr/>
          <p:nvPr/>
        </p:nvSpPr>
        <p:spPr>
          <a:xfrm>
            <a:off x="1688040" y="1068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10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3" name="grandjete.wmv" descr=""/>
          <p:cNvPicPr/>
          <p:nvPr/>
        </p:nvPicPr>
        <p:blipFill>
          <a:blip r:embed="rId1"/>
          <a:stretch/>
        </p:blipFill>
        <p:spPr>
          <a:xfrm>
            <a:off x="1486080" y="152568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al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ersons will give oral presentations on Thursday, September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res, 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d, H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, E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iatkowski, Da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bedeff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ton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one else, your first term paper is due on tha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4"/>
          <p:cNvGraphicFramePr/>
          <p:nvPr/>
        </p:nvGraphicFramePr>
        <p:xfrm>
          <a:off x="2046240" y="2833560"/>
          <a:ext cx="69217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2833560"/>
                    <a:ext cx="69217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657360" y="1382760"/>
            <a:ext cx="72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dancer is in the air (not in contact with the floor) the only force on the dancer is gravity and the trajectory of the center of gravity is a parabolic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4280" y="2830680"/>
            <a:ext cx="22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ing a two foot vertical jump a dancer is in the air for slightly less than ¾ of a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the dancer’s horizontal speed is 10 feet per second then the CG travels about 7.1 feet during the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351240" y="46083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148520" y="431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s &amp;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933720" y="2805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f the dancer jumps a lesser height then the time in the ai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ifting the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1030320" y="2768760"/>
          <a:ext cx="71373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768760"/>
                    <a:ext cx="71373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 Box 6"/>
          <p:cNvSpPr/>
          <p:nvPr/>
        </p:nvSpPr>
        <p:spPr>
          <a:xfrm>
            <a:off x="695160" y="1496880"/>
            <a:ext cx="77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aising their arms and legs, dancers can raise the location of their center of gravity (C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46400" y="39607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92920" y="39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171520" y="4697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6578280" y="3846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055520" y="2257560"/>
          <a:ext cx="689148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257560"/>
                    <a:ext cx="68914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7"/>
          <p:cNvSpPr/>
          <p:nvPr/>
        </p:nvSpPr>
        <p:spPr>
          <a:xfrm>
            <a:off x="682560" y="13446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the CG upward, the distance the dancer’s head rises is reduced, giving illusion of floating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25840" y="5345280"/>
            <a:ext cx="3244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the air is 25% longer than a similar leap where the CG rises only 1.3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003320" y="2308320"/>
          <a:ext cx="7048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308320"/>
                    <a:ext cx="7048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7"/>
          <p:cNvSpPr/>
          <p:nvPr/>
        </p:nvSpPr>
        <p:spPr>
          <a:xfrm>
            <a:off x="609480" y="338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17680" y="1370160"/>
            <a:ext cx="79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 of floating is enhance by the fact that during the peak of the jump the vertical motion is the s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2040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ccurs when an object’s velocity changes, such as speeding up or slow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depends on Force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lways in the direction of the net Force acting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609920" y="42116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Acceleration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392000" y="38307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848480" y="44910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444920" y="4508640"/>
            <a:ext cx="1968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Newton’s Second Law (Part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force on acting on an object, the greater the acceleration of that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268280" y="2600280"/>
            <a:ext cx="6504120" cy="39402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mass of an object, the less it accelerates when acted on by the sam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165320" y="2671920"/>
            <a:ext cx="661032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06080" y="444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wton’s Second Law (Part 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p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5504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on string wrapped around a spool. Force is to the right. In what direction does the spool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5829480"/>
            <a:ext cx="7658280" cy="15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1574640" y="4559400"/>
            <a:ext cx="1270080" cy="1270080"/>
            <a:chOff x="1574640" y="4559400"/>
            <a:chExt cx="1270080" cy="1270080"/>
          </a:xfrm>
        </p:grpSpPr>
        <p:sp>
          <p:nvSpPr>
            <p:cNvPr id="433" name="Oval 6"/>
            <p:cNvSpPr/>
            <p:nvPr/>
          </p:nvSpPr>
          <p:spPr>
            <a:xfrm>
              <a:off x="1574640" y="455940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"/>
            <p:cNvSpPr/>
            <p:nvPr/>
          </p:nvSpPr>
          <p:spPr>
            <a:xfrm>
              <a:off x="1974960" y="495936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8"/>
          <p:cNvSpPr/>
          <p:nvPr/>
        </p:nvSpPr>
        <p:spPr>
          <a:xfrm>
            <a:off x="222264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"/>
          <p:cNvGrpSpPr/>
          <p:nvPr/>
        </p:nvGrpSpPr>
        <p:grpSpPr>
          <a:xfrm>
            <a:off x="5262480" y="4564080"/>
            <a:ext cx="1270080" cy="1270080"/>
            <a:chOff x="5262480" y="4564080"/>
            <a:chExt cx="1270080" cy="1270080"/>
          </a:xfrm>
        </p:grpSpPr>
        <p:sp>
          <p:nvSpPr>
            <p:cNvPr id="437" name="Oval 10"/>
            <p:cNvSpPr/>
            <p:nvPr/>
          </p:nvSpPr>
          <p:spPr>
            <a:xfrm>
              <a:off x="5262480" y="456408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5662800" y="496404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Line 12"/>
          <p:cNvSpPr/>
          <p:nvPr/>
        </p:nvSpPr>
        <p:spPr>
          <a:xfrm>
            <a:off x="5897520" y="5440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1371600" y="3975120"/>
            <a:ext cx="1625400" cy="433440"/>
            <a:chOff x="1371600" y="3975120"/>
            <a:chExt cx="1625400" cy="433440"/>
          </a:xfrm>
        </p:grpSpPr>
        <p:sp>
          <p:nvSpPr>
            <p:cNvPr id="441" name="Line 14"/>
            <p:cNvSpPr/>
            <p:nvPr/>
          </p:nvSpPr>
          <p:spPr>
            <a:xfrm>
              <a:off x="1536840" y="440856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5"/>
            <p:cNvSpPr/>
            <p:nvPr/>
          </p:nvSpPr>
          <p:spPr>
            <a:xfrm>
              <a:off x="1371600" y="397512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5085000" y="3976560"/>
            <a:ext cx="1625400" cy="433440"/>
            <a:chOff x="5085000" y="3976560"/>
            <a:chExt cx="1625400" cy="433440"/>
          </a:xfrm>
        </p:grpSpPr>
        <p:sp>
          <p:nvSpPr>
            <p:cNvPr id="444" name="Line 17"/>
            <p:cNvSpPr/>
            <p:nvPr/>
          </p:nvSpPr>
          <p:spPr>
            <a:xfrm>
              <a:off x="5249880" y="441000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5085000" y="39765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3504600" y="5027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7192080" y="5019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04-03UnFigure_FIG.jpg"/>
          <p:cNvPicPr/>
          <p:nvPr/>
        </p:nvPicPr>
        <p:blipFill>
          <a:blip r:embed="rId1"/>
          <a:stretch/>
        </p:blipFill>
        <p:spPr>
          <a:xfrm>
            <a:off x="5892840" y="1965240"/>
            <a:ext cx="2857320" cy="1400400"/>
          </a:xfrm>
          <a:prstGeom prst="rect">
            <a:avLst/>
          </a:prstGeom>
          <a:ln w="0">
            <a:noFill/>
          </a:ln>
        </p:spPr>
      </p:pic>
      <p:sp>
        <p:nvSpPr>
          <p:cNvPr id="449" name="Нижний колонтитул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ricy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5620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on tricycle pedal with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direction does the tricycle m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d1-81a"/>
          <p:cNvPicPr/>
          <p:nvPr/>
        </p:nvPicPr>
        <p:blipFill>
          <a:blip r:embed="rId1"/>
          <a:stretch/>
        </p:blipFill>
        <p:spPr>
          <a:xfrm>
            <a:off x="4732200" y="308628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1-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137040"/>
            <a:ext cx="40766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6"/>
          <p:cNvGrpSpPr/>
          <p:nvPr/>
        </p:nvGrpSpPr>
        <p:grpSpPr>
          <a:xfrm>
            <a:off x="2679120" y="4013280"/>
            <a:ext cx="1486800" cy="433440"/>
            <a:chOff x="2679120" y="4013280"/>
            <a:chExt cx="1486800" cy="433440"/>
          </a:xfrm>
        </p:grpSpPr>
        <p:sp>
          <p:nvSpPr>
            <p:cNvPr id="455" name="Line 7"/>
            <p:cNvSpPr/>
            <p:nvPr/>
          </p:nvSpPr>
          <p:spPr>
            <a:xfrm>
              <a:off x="2845080" y="444672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2679120" y="401328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7065360" y="3967200"/>
            <a:ext cx="1486800" cy="433440"/>
            <a:chOff x="7065360" y="3967200"/>
            <a:chExt cx="1486800" cy="433440"/>
          </a:xfrm>
        </p:grpSpPr>
        <p:sp>
          <p:nvSpPr>
            <p:cNvPr id="458" name="Line 10"/>
            <p:cNvSpPr/>
            <p:nvPr/>
          </p:nvSpPr>
          <p:spPr>
            <a:xfrm>
              <a:off x="7231320" y="440064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065360" y="3967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2"/>
          <p:cNvSpPr/>
          <p:nvPr/>
        </p:nvSpPr>
        <p:spPr>
          <a:xfrm>
            <a:off x="659520" y="496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830120" y="5261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4240" y="31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top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80800" y="31273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botto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Thir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6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ever an object exerts a force on a second object, the second object exerts a force of equal magnitude in the opposite direction on the first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05-04Figure_FIG.jpg"/>
          <p:cNvPicPr/>
          <p:nvPr/>
        </p:nvPicPr>
        <p:blipFill>
          <a:blip r:embed="rId1"/>
          <a:stretch/>
        </p:blipFill>
        <p:spPr>
          <a:xfrm>
            <a:off x="6170760" y="1430280"/>
            <a:ext cx="2725560" cy="29718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6305040" y="1792440"/>
            <a:ext cx="145188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988960" y="3124080"/>
            <a:ext cx="178236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co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fistwall"/>
          <p:cNvPicPr/>
          <p:nvPr/>
        </p:nvPicPr>
        <p:blipFill>
          <a:blip r:embed="rId2"/>
          <a:stretch/>
        </p:blipFill>
        <p:spPr>
          <a:xfrm>
            <a:off x="6194520" y="4289400"/>
            <a:ext cx="2759040" cy="231768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16" descr=""/>
          <p:cNvPicPr/>
          <p:nvPr/>
        </p:nvPicPr>
        <p:blipFill>
          <a:blip r:embed="rId1"/>
          <a:stretch/>
        </p:blipFill>
        <p:spPr>
          <a:xfrm>
            <a:off x="309600" y="3467160"/>
            <a:ext cx="37926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F Museum of A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an Francisco Museum of Modern Art and see Abstract Expressionist pain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 ($7 for students). Worth one homework assignment; deadline is Oct.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4"/>
          <p:cNvSpPr/>
          <p:nvPr/>
        </p:nvSpPr>
        <p:spPr>
          <a:xfrm>
            <a:off x="5401080" y="6365880"/>
            <a:ext cx="34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dians of the Sec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ackson Pollock, 1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73560" y="3429000"/>
            <a:ext cx="460368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on and Re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xpression of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every action there’s an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an “action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orce exerted by one object on second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reaction be “equal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opposit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pulls, Mr. B 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holds, Mr. B pu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&amp; Mr. B both 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m21"/>
          <p:cNvPicPr/>
          <p:nvPr/>
        </p:nvPicPr>
        <p:blipFill>
          <a:blip r:embed="rId1"/>
          <a:stretch/>
        </p:blipFill>
        <p:spPr>
          <a:xfrm>
            <a:off x="1298520" y="3873600"/>
            <a:ext cx="6110280" cy="23907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6549480" y="4197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898280" y="4249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235560" y="286704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Mr. A pulls on Mr. B then Mr. B accele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force of equal magnitude so Mr. A also m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oves faster? Mr. A, Mr. B, or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85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743360" y="3508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330720" y="3516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02320" y="56959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r. A goes faster (greater acceleration) since his mass is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7137360" y="392112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oth guys pull then there are two action forces and two reaction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ull with same force, how much greater is the acceleration than when only one pu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743360" y="3522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87880" y="3486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1031040" y="5665680"/>
            <a:ext cx="73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ice the force so twice the acceleration (by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557960" y="42642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252960" y="41860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3243240" y="4199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4711320" y="421812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Repul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demonstration is to have Mr. A and Mr. B push away instead of pu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; if Mr. A pushes and Mr. B holds then both move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ReactionCart"/>
          <p:cNvPicPr/>
          <p:nvPr/>
        </p:nvPicPr>
        <p:blipFill>
          <a:blip r:embed="rId1"/>
          <a:stretch/>
        </p:blipFill>
        <p:spPr>
          <a:xfrm>
            <a:off x="5342040" y="1752480"/>
            <a:ext cx="3506760" cy="3919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5819400" y="52182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on ska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7313760" y="3152880"/>
            <a:ext cx="885600" cy="0"/>
          </a:xfrm>
          <a:prstGeom prst="line">
            <a:avLst/>
          </a:prstGeom>
          <a:ln w="316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133680" y="31622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 flipH="1">
            <a:off x="7238160" y="3164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28040" y="3209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062040" y="2333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7795800" y="2081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60640" y="2073240"/>
            <a:ext cx="7354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force &amp; reaction force NEVER balance each other because they act on different obj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151720" y="541656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eat this to yourself over and ov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, Running &amp; 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s accelerate us into motion when we walk, run, or ju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fa_rociera2v"/>
          <p:cNvPicPr/>
          <p:nvPr/>
        </p:nvPicPr>
        <p:blipFill>
          <a:blip r:embed="rId1"/>
          <a:stretch/>
        </p:blipFill>
        <p:spPr>
          <a:xfrm>
            <a:off x="382680" y="2643120"/>
            <a:ext cx="2671560" cy="3273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ance of praise"/>
          <p:cNvPicPr/>
          <p:nvPr/>
        </p:nvPicPr>
        <p:blipFill>
          <a:blip r:embed="rId2"/>
          <a:stretch/>
        </p:blipFill>
        <p:spPr>
          <a:xfrm>
            <a:off x="5562720" y="269892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boy_runner"/>
          <p:cNvPicPr/>
          <p:nvPr/>
        </p:nvPicPr>
        <p:blipFill>
          <a:blip r:embed="rId3"/>
          <a:stretch/>
        </p:blipFill>
        <p:spPr>
          <a:xfrm>
            <a:off x="3116160" y="2660760"/>
            <a:ext cx="2230560" cy="33271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se forces can accelerate the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y is constant but the force exerted by the floor can increase in reaction to the dancer exerting a force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B35AB42"/>
          <p:cNvPicPr/>
          <p:nvPr/>
        </p:nvPicPr>
        <p:blipFill>
          <a:blip r:embed="rId1"/>
          <a:stretch/>
        </p:blipFill>
        <p:spPr>
          <a:xfrm>
            <a:off x="436680" y="3195720"/>
            <a:ext cx="4529160" cy="361152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2921040" y="6172200"/>
            <a:ext cx="55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3339720" y="613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018160" y="629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 Forw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ight is on back foot it acts by pushing back on the floor. Reaction is the friction of the floor, which pushes your bod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94832CA0"/>
          <p:cNvPicPr/>
          <p:nvPr/>
        </p:nvPicPr>
        <p:blipFill>
          <a:blip r:embed="rId2"/>
          <a:stretch/>
        </p:blipFill>
        <p:spPr>
          <a:xfrm>
            <a:off x="5216400" y="3121200"/>
            <a:ext cx="3394080" cy="341784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 flipH="1">
            <a:off x="2298240" y="6273720"/>
            <a:ext cx="55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6194520" y="5392800"/>
            <a:ext cx="231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re were no friction then dancer would fall straight down and could not walk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6207480" y="4392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X (C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13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ing is done by pushing downward on the ground (action) so the ground pushes upward on you (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igh you jump depends on the force and on the distance over which you apply tha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noequip59"/>
          <p:cNvPicPr/>
          <p:nvPr/>
        </p:nvPicPr>
        <p:blipFill>
          <a:blip r:embed="rId1"/>
          <a:stretch/>
        </p:blipFill>
        <p:spPr>
          <a:xfrm>
            <a:off x="5886360" y="192240"/>
            <a:ext cx="2857680" cy="530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5"/>
          <p:cNvSpPr/>
          <p:nvPr/>
        </p:nvSpPr>
        <p:spPr>
          <a:xfrm>
            <a:off x="5581800" y="557064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only push while in contact with the ground so squatting helps by increasing d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an Jose Ball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performance of San Jose Ballet in San Jose Center for Performing Arts (Nov.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. Worth one homework assignment or three quiz/participation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4"/>
          <p:cNvSpPr/>
          <p:nvPr/>
        </p:nvSpPr>
        <p:spPr>
          <a:xfrm>
            <a:off x="5718240" y="631512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oreno in CARMINA BU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40320" y="3325680"/>
            <a:ext cx="4209840" cy="29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35080" y="3413160"/>
            <a:ext cx="419724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winging Arms and Jump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457200" y="6858000"/>
            <a:ext cx="8534520" cy="0"/>
          </a:xfrm>
          <a:prstGeom prst="line">
            <a:avLst/>
          </a:prstGeom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2"/>
          <p:cNvSpPr/>
          <p:nvPr/>
        </p:nvSpPr>
        <p:spPr>
          <a:xfrm>
            <a:off x="415800" y="1317600"/>
            <a:ext cx="844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wing your arms upward as you jump to increase the force pushing down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262080" y="2408400"/>
            <a:ext cx="8624880" cy="2773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2"/>
          <p:cNvSpPr/>
          <p:nvPr/>
        </p:nvSpPr>
        <p:spPr>
          <a:xfrm>
            <a:off x="352440" y="53053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jumping and swinging your arms upward after you leave the ground; you won’t jump as hi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done on an object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 done) = (Net Force) x (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work done, the greater the change in the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ing Off on a Ju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orientation of the foot on the ground, which is pushing off on a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51BB5BAE"/>
          <p:cNvPicPr/>
          <p:nvPr/>
        </p:nvPicPr>
        <p:blipFill>
          <a:blip r:embed="rId1"/>
          <a:stretch/>
        </p:blipFill>
        <p:spPr>
          <a:xfrm>
            <a:off x="4622760" y="2806560"/>
            <a:ext cx="4203720" cy="368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51BB5BAE"/>
          <p:cNvPicPr/>
          <p:nvPr/>
        </p:nvPicPr>
        <p:blipFill>
          <a:blip r:embed="rId2"/>
          <a:stretch/>
        </p:blipFill>
        <p:spPr>
          <a:xfrm>
            <a:off x="330120" y="2792520"/>
            <a:ext cx="4203720" cy="37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51BB5BAE"/>
          <p:cNvPicPr/>
          <p:nvPr/>
        </p:nvPicPr>
        <p:blipFill>
          <a:blip r:embed="rId3"/>
          <a:stretch/>
        </p:blipFill>
        <p:spPr>
          <a:xfrm>
            <a:off x="2679840" y="4983120"/>
            <a:ext cx="1701720" cy="16876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563" name="Picture 8" descr="51BB5BAE"/>
          <p:cNvPicPr/>
          <p:nvPr/>
        </p:nvPicPr>
        <p:blipFill>
          <a:blip r:embed="rId4"/>
          <a:stretch/>
        </p:blipFill>
        <p:spPr>
          <a:xfrm>
            <a:off x="4305240" y="4940280"/>
            <a:ext cx="1589040" cy="17067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56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small so the distance over which the foot exerts a force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not be very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2A110421"/>
          <p:cNvPicPr/>
          <p:nvPr/>
        </p:nvPicPr>
        <p:blipFill>
          <a:blip r:embed="rId1"/>
          <a:stretch/>
        </p:blipFill>
        <p:spPr>
          <a:xfrm>
            <a:off x="5854680" y="1150920"/>
            <a:ext cx="2882880" cy="5656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2A110421"/>
          <p:cNvPicPr/>
          <p:nvPr/>
        </p:nvPicPr>
        <p:blipFill>
          <a:blip r:embed="rId2"/>
          <a:stretch/>
        </p:blipFill>
        <p:spPr>
          <a:xfrm>
            <a:off x="2425680" y="5062680"/>
            <a:ext cx="3529080" cy="1706400"/>
          </a:xfrm>
          <a:prstGeom prst="rect">
            <a:avLst/>
          </a:prstGeom>
          <a:ln w="0">
            <a:noFill/>
          </a:ln>
        </p:spPr>
      </p:pic>
      <p:sp>
        <p:nvSpPr>
          <p:cNvPr id="569" name="Line 10"/>
          <p:cNvSpPr/>
          <p:nvPr/>
        </p:nvSpPr>
        <p:spPr>
          <a:xfrm>
            <a:off x="4737240" y="6172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 flipH="1">
            <a:off x="4965480" y="6197760"/>
            <a:ext cx="39348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51BB5BAE"/>
          <p:cNvPicPr/>
          <p:nvPr/>
        </p:nvPicPr>
        <p:blipFill>
          <a:blip r:embed="rId3"/>
          <a:stretch/>
        </p:blipFill>
        <p:spPr>
          <a:xfrm>
            <a:off x="330120" y="4413240"/>
            <a:ext cx="2362320" cy="2079720"/>
          </a:xfrm>
          <a:prstGeom prst="rect">
            <a:avLst/>
          </a:prstGeom>
          <a:ln w="0">
            <a:noFill/>
          </a:ln>
        </p:spPr>
      </p:pic>
      <p:sp>
        <p:nvSpPr>
          <p:cNvPr id="572" name="Line 12"/>
          <p:cNvSpPr/>
          <p:nvPr/>
        </p:nvSpPr>
        <p:spPr>
          <a:xfrm>
            <a:off x="5524560" y="6172200"/>
            <a:ext cx="0" cy="330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511740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out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larger so the distance over which the foot exerts a force is lar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be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51BB5BAE"/>
          <p:cNvPicPr/>
          <p:nvPr/>
        </p:nvPicPr>
        <p:blipFill>
          <a:blip r:embed="rId1"/>
          <a:stretch/>
        </p:blipFill>
        <p:spPr>
          <a:xfrm>
            <a:off x="393840" y="4292640"/>
            <a:ext cx="261144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2A110421"/>
          <p:cNvPicPr/>
          <p:nvPr/>
        </p:nvPicPr>
        <p:blipFill>
          <a:blip r:embed="rId2"/>
          <a:stretch/>
        </p:blipFill>
        <p:spPr>
          <a:xfrm>
            <a:off x="6261120" y="1214280"/>
            <a:ext cx="2679840" cy="564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2A110421"/>
          <p:cNvPicPr/>
          <p:nvPr/>
        </p:nvPicPr>
        <p:blipFill>
          <a:blip r:embed="rId3"/>
          <a:stretch/>
        </p:blipFill>
        <p:spPr>
          <a:xfrm>
            <a:off x="3187800" y="4681440"/>
            <a:ext cx="3003480" cy="2138400"/>
          </a:xfrm>
          <a:prstGeom prst="rect">
            <a:avLst/>
          </a:prstGeom>
          <a:ln w="0">
            <a:noFill/>
          </a:ln>
        </p:spPr>
      </p:pic>
      <p:sp>
        <p:nvSpPr>
          <p:cNvPr id="580" name="Line 10"/>
          <p:cNvSpPr/>
          <p:nvPr/>
        </p:nvSpPr>
        <p:spPr>
          <a:xfrm>
            <a:off x="4254480" y="61596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4241880" y="6146640"/>
            <a:ext cx="190440" cy="5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87720" y="6121440"/>
            <a:ext cx="0" cy="50796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32920" y="6170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577880"/>
            <a:ext cx="817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Next Lecture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Motion &amp; Dance (II)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d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draft or outline of term paper or or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Cypress Quart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Celebrates 150th with Cypress String Quartet Event Fusing Precision Playing with World-Clas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Music Concert Hall, 7 p.m. Thur., Sept.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3520" y="43689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13200" y="3246480"/>
            <a:ext cx="47354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304920" y="31622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hand out tickets at the door from 6:30 to 6:50pm; don’t be late to the performance! Worth two quiz/participation extra cr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867280" y="4876920"/>
            <a:ext cx="584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your name on a sheet of paper and answer the following questions from today’s reading assign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Floating” Illu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5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otion &amp; Dance (I)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44520" y="2387160"/>
            <a:ext cx="267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ance and Motion without Tu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Flamenca"/>
          <p:cNvPicPr/>
          <p:nvPr/>
        </p:nvPicPr>
        <p:blipFill>
          <a:blip r:embed="rId1"/>
          <a:stretch/>
        </p:blipFill>
        <p:spPr>
          <a:xfrm>
            <a:off x="4273560" y="1968480"/>
            <a:ext cx="325260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 is artistic motion of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ar0-014"/>
          <p:cNvPicPr/>
          <p:nvPr/>
        </p:nvPicPr>
        <p:blipFill>
          <a:blip r:embed="rId1"/>
          <a:stretch/>
        </p:blipFill>
        <p:spPr>
          <a:xfrm>
            <a:off x="571680" y="2362320"/>
            <a:ext cx="380988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irque_soleil3"/>
          <p:cNvPicPr/>
          <p:nvPr/>
        </p:nvPicPr>
        <p:blipFill>
          <a:blip r:embed="rId2"/>
          <a:stretch/>
        </p:blipFill>
        <p:spPr>
          <a:xfrm>
            <a:off x="892080" y="4498920"/>
            <a:ext cx="3221280" cy="219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reakdancing"/>
          <p:cNvPicPr/>
          <p:nvPr/>
        </p:nvPicPr>
        <p:blipFill>
          <a:blip r:embed="rId3"/>
          <a:stretch/>
        </p:blipFill>
        <p:spPr>
          <a:xfrm>
            <a:off x="4000680" y="371808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TommieSmith_JohnCarlos-Olympic-1968"/>
          <p:cNvPicPr/>
          <p:nvPr/>
        </p:nvPicPr>
        <p:blipFill>
          <a:blip r:embed="rId4"/>
          <a:stretch/>
        </p:blipFill>
        <p:spPr>
          <a:xfrm>
            <a:off x="6438960" y="2301840"/>
            <a:ext cx="2519280" cy="3629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148920" y="239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62000" y="5065560"/>
            <a:ext cx="1403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cro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Cirque du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62440" y="377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91960" y="2309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Athl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50200" y="6020280"/>
            <a:ext cx="264456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mie Smith &amp; John 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 City 1968 Olym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Asus</cp:lastModifiedBy>
  <dcterms:modified xsi:type="dcterms:W3CDTF">2018-03-09T16:45:58Z</dcterms:modified>
  <cp:revision>291</cp:revision>
  <dc:subject/>
  <dc:title>Slide 1</dc:title>
</cp:coreProperties>
</file>