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4490-8BFC-4DC7-8A79-F727F4A22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4084-4341-4DF6-8DAB-A051D77E7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E9E7-B684-4B01-B6D4-B527E678E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D835-F35F-421D-B521-06F0A1DE4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1FF0-91F5-423A-BE43-0834DEDB7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5EDD-0C96-4ABE-AA6A-F24AA77D7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A81C-B97D-4C95-807F-24004FED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F97C-80DE-4EA0-969A-C66848491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E670-89AE-4D11-B06B-A2B582E0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8A2-A9FC-4A2A-B644-5E8941D66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995A-CD2E-4744-B995-44D4EF72F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5114-B26C-4D7F-8733-E95CD1B1F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6008-B56C-4FE5-9B62-5961A40B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0D25-A55F-4013-B5E4-50A4BC898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053F-4030-4004-A1A8-637822E7B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664C-3569-4691-A300-416C28D94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1D75-CEA3-406C-8390-77E3F1FDB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C809-E1B4-4CCD-A009-FD406AD17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2F63-50E4-4AF9-B231-705B08502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0D7F-946A-40FA-8B25-38F3CD8D1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C4E0-8B89-4475-A0B9-37FBD5330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CE8D-0314-4E4C-9A2C-F604C3508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DDCB-B71D-48E5-BE64-3E22DDDCC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A65C-C445-4F40-870F-9BD774ECD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27D8-44DC-49B8-A8B2-4CA73D63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9043-CCC0-4611-9042-F2D2FCD00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772C-03AD-4456-AA4B-76A55DF7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6481-4153-4B8B-A555-06AFD2CDA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48A4-5247-44F0-881F-3B674DB6B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6EC9-DF38-4A31-B59E-6E29BB73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80B9-2802-443B-9014-76E475E62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A018-A750-42F4-93B4-166F3E13C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CBD6-2AD4-4681-8797-7872D2781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54EE-92A3-42E6-B1BA-254F36CC7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6EEA-7F73-47B5-8AEC-F94055C4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C41E-3815-4425-8674-8B51A85F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F764-1257-4181-8BCE-A77E3C437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49BB-FFDB-4C38-A818-DC3AAEB1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3F7F-C0A1-49A3-874C-D3B8A5D8A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1804-C5F4-4FF2-A5B5-173B779AF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93A0-B80B-4C4B-BC74-F2D6C26CE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418-D055-48B7-9DD4-77773D6F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A0B-B778-41C4-AB7B-D6D1A2DC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352-215D-434B-ACD2-4EF0B489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9A7-69A8-4B01-8204-C6E60A6A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04F-68E1-4E6A-9181-F2D9FB0A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6EF-7889-463B-B93E-1CE7DCEE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2AF-7AF1-41C1-83D1-CF2ABBAC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475-43D5-406B-9A67-908E58BD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37C-24C0-4C9E-86AE-8CB49E2D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BDC-0809-4D67-9D81-F92E610D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672-0C31-49BC-8531-1C9C7F15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9AC-5B82-4FF5-9864-6AF6D59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F533-7265-42D4-98E3-02B7F1062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4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4800600"/>
            <a:ext cx="8458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nation: Although loudness varies with amplitude, and pitch varies with frequency, speed is not influenced by amplitude nor frequency. A listener in the back row at a concert would find music confusing if sound of different frequencies reached the ear at different ti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50292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Sound, like any wave, can undergo all of these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7200" y="510552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Hence the low tone of fog horn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The sound may be enhanced, but it is the surface of the guitar that undergoes forced vibration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Resonance, rather than amplitude enhancement, is the better answer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14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14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934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3934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The beat frequency is the difference between the two, 10 Hz (which is more than 8 Hz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396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114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5:04:42Z</dcterms:created>
  <dc:creator>dking</dc:creator>
  <dc:description/>
  <dc:language>en-US</dc:language>
  <cp:lastModifiedBy>Asus</cp:lastModifiedBy>
  <dcterms:modified xsi:type="dcterms:W3CDTF">2018-03-09T16:37:52Z</dcterms:modified>
  <cp:revision>88</cp:revision>
  <dc:subject/>
  <dc:title>Chapter 10</dc:title>
</cp:coreProperties>
</file>