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119-9EA6-4602-AABB-42F9B887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2EB-AE6A-4EC8-9CD1-6657F7FF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76A-80E1-4CD4-A605-2BFAD7CC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E84-4CC3-4DF8-B98E-94D51D7C1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8B0-7B26-434A-B4E6-D9ACF362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83D-3A58-4B80-88F7-52BCB001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C917-D092-4925-B5DA-E47624B8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375-4336-442D-8B80-95D0CCB4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C54A-B2CD-45A6-A77F-63838483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0A5-82CD-4F86-BEDE-28041174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153-F100-4B9E-8A3E-D8BE4958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9425-1CE9-4B07-8F61-7BBE2F75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7503-79F2-40A8-B8B9-1E03B9951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500-5527-4782-9E0E-9DF00BBB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461C-7EF1-4A59-A27E-FE336C37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1226-BF1C-4346-B654-4A3649E1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7C9-1FCD-4ED2-B7A3-FFBEC30B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9213-97CB-4545-9529-E7F82099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E2C-A9AA-4A44-9A9C-881203F5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73E-D6A1-4CFF-8DA2-7FFC0846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EB40-D785-46D9-A4CA-6A3D2FD3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0169-9439-478B-BAFD-DE4E675A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393B-D656-4A96-B73C-BAE76116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9015-6212-4266-81C7-15A3E233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050-9391-4D0B-8F3D-A207FD1E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8E9-D3BF-45AA-A2FF-DB1774AC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78B-9BAD-4138-88C0-30476C3E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3475-8A72-4AC5-BDAC-6E9FFF94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3C6-6B78-45F5-AE33-0CAD9314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C45-697A-4B23-B85A-77363B07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E01-5F42-4E2E-97FF-2966DF81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BED-0174-4EAC-A067-E65D3956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D96-A33A-4911-96A9-9D8075582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43B0-F774-4086-B490-E1E06BFC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A34-560A-4E0F-BD21-B82F37ED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A15-F035-41CC-A764-4743BA84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B0E-D0F0-4C37-9AD5-08EC2989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3014-EB1D-4743-B712-1C969B1B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329-A146-41CF-867D-16CD69C6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B4B-BDC0-4DF4-952F-51DC3FC7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F439-CB85-44F7-A7B9-7E9215A2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B36-88A4-4B66-B0A8-D7B4F4E5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E26-B614-4C45-AFDA-5970FB0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9C1-E8D2-4595-B566-C49542C4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105-C565-4170-B932-C9AFAE95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1AC-31D0-4265-8A6D-5326062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417-BBD7-47B6-BCB3-35597B1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858-CF01-4013-BB80-2BF439A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22A-83EE-4608-A4A8-67A7476E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419-2A50-47AB-9BD2-50AD1AD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AC7-C5DB-45BB-8CBC-2EF3401B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DD7-FFF7-4B2B-9E03-C48F608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2EF-57BF-424D-8189-361A4F6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55F-6636-4B59-A384-7749B2C3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4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eed of sound varies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4800600"/>
            <a:ext cx="8458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nation: Although loudness varies with amplitude, and pitch varies with frequency, speed is not influenced by amplitude nor frequency. A listener in the back row at a concert would find music confusing if sound of different frequencies reached the ear at different ti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udness of a sound is most closely related to 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made to undergo reverberation is sound tha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ally vib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in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y 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ound undergoes refraction, it undergoes a chang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und waves that most humans cannot hear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s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 above, for young people can hea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can NO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ed by 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50292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Sound, like any wave, can undergo all of these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ng an invisible object by way of ultrasound is used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normally travels farther in air when the soun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7200" y="510552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Hence the low tone of fog horns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ctory floor vibrates, and as a result you vibrate when standing on the floor. This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ap various objects, they produce characteristic sounds that are relat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114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surface of a guitar is made to vibrate, we say it underg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The sound may be enhanced, but it is the surface of the guitar that undergoes forced vibration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598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n object is set vibrating by a wave having a frequency that matches the natural frequency of the object, what occur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2720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tude enhan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: Resonance, rather than amplitude enhancement, is the better answer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e-canceling devices such as jackhammer earphones make use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14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henomenon of beats is the result of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934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3934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134-Hz tuning fork and a 144-Hz tuning fork are struck, the beat frequenc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than 8 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5029200"/>
            <a:ext cx="8077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nation: The beat frequency is the difference between the two, 10 Hz (which is more than 8 Hz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396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air by a seri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f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radio set is tuned to an incoming radio signal, what occ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ibrations set up in a radio loudspeaker have the same frequencies as the vib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lectric signal feeding the loud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roduce the sound you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300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152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travel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of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114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which of these materials does sound travel fast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ame at the sam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32"/>
          <p:cNvPicPr/>
          <p:nvPr/>
        </p:nvPicPr>
        <p:blipFill>
          <a:blip r:embed="rId1"/>
          <a:stretch/>
        </p:blipFill>
        <p:spPr>
          <a:xfrm>
            <a:off x="8534520" y="1652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4:42Z</dcterms:created>
  <dc:creator>dking</dc:creator>
  <dc:description/>
  <dc:language>en-US</dc:language>
  <cp:lastModifiedBy>Asus</cp:lastModifiedBy>
  <dcterms:modified xsi:type="dcterms:W3CDTF">2018-03-09T16:37:52Z</dcterms:modified>
  <cp:revision>88</cp:revision>
  <dc:subject/>
  <dc:title>Chapter 10</dc:title>
</cp:coreProperties>
</file>