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2AA2-37F8-4622-824A-7978B570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978B-1E8F-431E-8A7B-CD8D4EE1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C32D-BCC1-4A9F-9E42-1B2AB63B2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6C79-5F65-4E0E-83C8-4C80A377B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5AEC-EA7C-459B-93E0-E6D74D52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7053-2264-46EA-9303-8E7C5AB1B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ABF0-74DB-472D-A1A8-989E7B7CA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3779-3F02-47BC-9977-CF252EA9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CF6B-292F-47FA-9E8E-491B4B61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78A4-6CBE-4237-BEA7-EE3DC32DB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A6C7-4EA3-404D-B87E-722708CE9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12A1-7B5F-4727-B7C1-3486B94C0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FC1-D658-4BF3-940D-014646E3B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49E8-8883-408D-940F-ACC8931F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5F02-7EA5-44C2-9FB5-A98CA553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4758-0C20-4C0D-B9FE-85DA5F3C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B693-D9F8-4555-BC9A-2DB6BA18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66A7-216F-424E-8735-AE654D4A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291C-49E2-4EE3-84CE-E511C474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38F6-9A6A-4368-B2E4-DB720DB11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821C-6D1E-4848-95C1-2C5EEB92F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7694-2388-4540-AB49-7141FBD85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CC47-D361-4749-A92A-C97E1939D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6EDF-54FA-4B37-AC9B-FAF43D40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91EA-B687-4EEE-A8B1-235AEB5F0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4E22-EE45-4057-8174-DFA4DB2E7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A8E4-B7AC-4E39-B8EE-F0A57474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AF2B-7758-486C-AEEE-B06BCE537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5A83-CB63-4CAB-AE77-D27536AA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F4D8-1CE4-4EAE-92AE-B3E2B252F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5DA-5081-47A5-8926-FF3FFA0C2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3442-FF12-4B54-B098-EC3475F63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89B4-028B-494F-B8FD-BCF566D8C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A608-8B8A-452A-8A2E-E678195BE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2134-72FB-4270-9E6C-86FFE70FE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EF4-0F60-41A4-8E9F-CC6309DB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DC24-14C4-450F-900C-AD6C172A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3C84-5BB3-481C-AE5C-386A93BE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64CA-596E-489E-B480-1165B0015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D580-D3B6-4EB8-B953-FDD2E30D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584B-C957-450D-9C0A-D97A3501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332-A06E-4512-9518-4E36D540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C9E-5C9A-4143-AFF0-C77E64D9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8A5-A3A0-454F-98DA-A1B33839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298-E65C-45C2-B352-E87E0685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7E4-176C-488E-830B-69F4ACEA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683-23AE-4239-82C2-B04C9586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501-C364-47F7-9C30-086C12A1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643-750F-45C3-8E6F-E358D07A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FC5-7AAA-43D5-864F-7E2A4E4D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269-0E06-4C1B-9429-54DE566C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223-E7F0-4EE1-9F32-AA2FB306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339-915E-41CA-B402-899A2D27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998A-B15D-455E-8642-A14F83BE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4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48006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nation: Although loudness varies with amplitude, and pitch varies with frequency, speed is not influenced by amplitude nor frequency. A listener in the back row at a concert would find music confusing if sound of different frequencies reached the ear at different ti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50292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Sound, like any wave, can undergo all of these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510552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Hence the low tone of fog horn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The sound may be enhanced, but it is the surface of the guitar that undergoes forced vibration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Resonance, rather than amplitude enhancement, is the better answ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14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93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3934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The beat frequency is the difference between the two, 10 Hz (which is more than 8 Hz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396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4:42Z</dcterms:created>
  <dc:creator>dking</dc:creator>
  <dc:description/>
  <dc:language>en-US</dc:language>
  <cp:lastModifiedBy>Asus</cp:lastModifiedBy>
  <dcterms:modified xsi:type="dcterms:W3CDTF">2018-03-09T16:37:52Z</dcterms:modified>
  <cp:revision>88</cp:revision>
  <dc:subject/>
  <dc:title>Chapter 10</dc:title>
</cp:coreProperties>
</file>