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C1BD-25F1-488A-A7FF-819F1DCF5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B198-7188-4460-A702-070144358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6FB0-DC6F-4557-A3E1-BCDA79CD6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6FF4-100E-4A5F-B58C-941BCD9FE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FD9E-4113-4599-883E-214CDF727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0F84-CF5D-48E9-956F-DC5280095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CF6C-073A-4E54-8467-19E77C643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2599-F8D6-4E11-B38D-1239C9633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060F-1540-4704-95A7-628D8C1AD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376C-B4BE-4B8D-A53D-97AADD857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01EF-AC00-4158-9C37-B15F1DA33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6266-8ED1-4E95-8974-9B3595654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BF89-003D-4AD3-B62A-CE4BEFD98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E2B0-6253-4F49-9858-015F779B5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6B62-1433-493E-B76B-97A68D8D9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0CF5-CAAC-414F-8EDC-A42D4614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BB3-CAD2-495C-8E16-9B08B55F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957A-7F33-4EB0-85C1-21AE8D09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2885-5CA1-4D62-845E-88E8C6C0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F8F-787B-42E4-99F0-3E2C550C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9EED-1666-4451-A357-5C5508C9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0D90-52E6-4A43-A039-A887EF17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ECE1-9D16-49C7-A25E-6C26632D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947-ABCF-42C4-BB5E-EA24F8FC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73BE-5313-4D6C-96BD-F4833AD5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1B13-ED6D-4F01-A3EB-8A5DB0D1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AB6E-4AA0-4EC5-8472-51A99786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5D2D-977D-41B1-BDA5-A408B62F6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_x001a_freefloating_sts64_big.jpg                                     0003951C_x000c_Macintosh HD                   B746699A:"/>
          <p:cNvPicPr/>
          <p:nvPr/>
        </p:nvPicPr>
        <p:blipFill>
          <a:blip r:embed="rId1"/>
          <a:stretch/>
        </p:blipFill>
        <p:spPr>
          <a:xfrm>
            <a:off x="147600" y="77760"/>
            <a:ext cx="6551640" cy="655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_x0016_spacewalk_gem4_big.jpg                                         0003951C_x000c_Macintosh HD                   B746699A:"/>
          <p:cNvPicPr/>
          <p:nvPr/>
        </p:nvPicPr>
        <p:blipFill>
          <a:blip r:embed="rId2"/>
          <a:stretch/>
        </p:blipFill>
        <p:spPr>
          <a:xfrm>
            <a:off x="5024520" y="3760920"/>
            <a:ext cx="3992400" cy="299376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973160" y="3038400"/>
            <a:ext cx="1327320" cy="161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69360" y="946080"/>
            <a:ext cx="768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lessness” - No such thing; would imply no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- A consequence of all object in free f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at same accel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2427120" y="3333960"/>
            <a:ext cx="356040" cy="690840"/>
            <a:chOff x="2427120" y="3333960"/>
            <a:chExt cx="356040" cy="690840"/>
          </a:xfrm>
        </p:grpSpPr>
        <p:sp>
          <p:nvSpPr>
            <p:cNvPr id="216" name="Line 8"/>
            <p:cNvSpPr/>
            <p:nvPr/>
          </p:nvSpPr>
          <p:spPr>
            <a:xfrm flipH="1">
              <a:off x="2475360" y="3694680"/>
              <a:ext cx="13104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>
              <a:off x="2625840" y="372888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H="1" flipV="1">
              <a:off x="2599200" y="346320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2619720" y="3549600"/>
              <a:ext cx="163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2427120" y="3532320"/>
              <a:ext cx="19188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Oval 13"/>
            <p:cNvSpPr/>
            <p:nvPr/>
          </p:nvSpPr>
          <p:spPr>
            <a:xfrm rot="21480000">
              <a:off x="2544480" y="3336120"/>
              <a:ext cx="14220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Oval 14"/>
          <p:cNvSpPr/>
          <p:nvPr/>
        </p:nvSpPr>
        <p:spPr>
          <a:xfrm>
            <a:off x="2790720" y="357192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2278080" y="4025880"/>
            <a:ext cx="69228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17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l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8"/>
          <p:cNvSpPr/>
          <p:nvPr/>
        </p:nvSpPr>
        <p:spPr>
          <a:xfrm>
            <a:off x="2608200" y="417348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9"/>
          <p:cNvSpPr/>
          <p:nvPr/>
        </p:nvSpPr>
        <p:spPr>
          <a:xfrm>
            <a:off x="2249640" y="464328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20"/>
          <p:cNvSpPr/>
          <p:nvPr/>
        </p:nvSpPr>
        <p:spPr>
          <a:xfrm>
            <a:off x="2851200" y="37242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21"/>
          <p:cNvSpPr/>
          <p:nvPr/>
        </p:nvSpPr>
        <p:spPr>
          <a:xfrm>
            <a:off x="2516040" y="390996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Group 22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231" name="Rectangle 23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" name="Group 26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235" name="Rectangle 27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Rectangle 28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Rectangle 29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Group 30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239" name="Rectangle 31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Rectangle 32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33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Group 34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243" name="Rectangle 35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36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37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247" name="Rectangle 39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40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Rectangle 41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Нижний колонтитул 4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Group 26"/>
          <p:cNvGrpSpPr/>
          <p:nvPr/>
        </p:nvGrpSpPr>
        <p:grpSpPr>
          <a:xfrm>
            <a:off x="1204920" y="1471680"/>
            <a:ext cx="6905520" cy="5180040"/>
            <a:chOff x="1204920" y="1471680"/>
            <a:chExt cx="6905520" cy="5180040"/>
          </a:xfrm>
        </p:grpSpPr>
        <p:pic>
          <p:nvPicPr>
            <p:cNvPr id="254" name="Picture 22" descr="&#9;05-04.jpg                                                      00033F65_x000c_Macintosh HD                   B746699A:"/>
            <p:cNvPicPr/>
            <p:nvPr/>
          </p:nvPicPr>
          <p:blipFill>
            <a:blip r:embed="rId1"/>
            <a:stretch/>
          </p:blipFill>
          <p:spPr>
            <a:xfrm>
              <a:off x="1204920" y="1471680"/>
              <a:ext cx="6905520" cy="51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Rectangle 25"/>
            <p:cNvSpPr/>
            <p:nvPr/>
          </p:nvSpPr>
          <p:spPr>
            <a:xfrm>
              <a:off x="1270080" y="6418440"/>
              <a:ext cx="247176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cannonball_mass_vs_orbit.swf" descr="Macintosh HD:Users:mathieu:Desktop:Astro 104:BDSV Applets:chapter05:cannonball_mass_vs_orbit.swf"/>
          <p:cNvPicPr/>
          <p:nvPr/>
        </p:nvPicPr>
        <p:blipFill>
          <a:blip r:embed="rId1"/>
          <a:stretch/>
        </p:blipFill>
        <p:spPr>
          <a:xfrm>
            <a:off x="1677960" y="696960"/>
            <a:ext cx="5877000" cy="6038640"/>
          </a:xfrm>
          <a:prstGeom prst="rect">
            <a:avLst/>
          </a:prstGeom>
          <a:ln w="0">
            <a:noFill/>
          </a:ln>
        </p:spPr>
      </p:pic>
      <p:sp>
        <p:nvSpPr>
          <p:cNvPr id="2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303120" y="2016000"/>
            <a:ext cx="86216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e simulation will let me change the mass of the cannonball. Suppose we fire a 1 kg cannonball at 1 m/sec. Then we fire a 10 kg cannonball at 1 m/sec. What will happen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The 10 kg cannonball will not travel as far as the 1 kg b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The 10 kg cannonball will travel the same dist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The 10 kg cannonball will travel further than the 1 kg b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cannonball_mass_vs_orbit.swf" descr="Macintosh HD:Users:mathieu:Desktop:Astro 104:BDSV Applets:chapter05:cannonball_mass_vs_orbit.swf"/>
          <p:cNvPicPr/>
          <p:nvPr/>
        </p:nvPicPr>
        <p:blipFill>
          <a:blip r:embed="rId1"/>
          <a:stretch/>
        </p:blipFill>
        <p:spPr>
          <a:xfrm>
            <a:off x="1563840" y="100080"/>
            <a:ext cx="6445080" cy="6622920"/>
          </a:xfrm>
          <a:prstGeom prst="rect">
            <a:avLst/>
          </a:prstGeom>
          <a:ln w="0">
            <a:noFill/>
          </a:ln>
        </p:spPr>
      </p:pic>
      <p:sp>
        <p:nvSpPr>
          <p:cNvPr id="2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90800" y="698400"/>
            <a:ext cx="860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 - Moon is constantly in free fall, as are all orbiting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- “Always falling to earth, but never getting closer!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54080" y="2063880"/>
            <a:ext cx="881064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6"/>
          <p:cNvSpPr/>
          <p:nvPr/>
        </p:nvSpPr>
        <p:spPr>
          <a:xfrm>
            <a:off x="4113000" y="2806560"/>
            <a:ext cx="1329120" cy="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5163840" y="2876760"/>
            <a:ext cx="190800" cy="23004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13"/>
          <p:cNvSpPr/>
          <p:nvPr/>
        </p:nvSpPr>
        <p:spPr>
          <a:xfrm>
            <a:off x="5167440" y="3215160"/>
            <a:ext cx="731520" cy="60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5576760" y="4007880"/>
            <a:ext cx="333360" cy="72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15"/>
          <p:cNvSpPr/>
          <p:nvPr/>
        </p:nvSpPr>
        <p:spPr>
          <a:xfrm flipH="1">
            <a:off x="5591520" y="3795840"/>
            <a:ext cx="219240" cy="10584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16"/>
          <p:cNvSpPr/>
          <p:nvPr/>
        </p:nvSpPr>
        <p:spPr>
          <a:xfrm flipH="1" flipV="1">
            <a:off x="5623200" y="4650480"/>
            <a:ext cx="235080" cy="6300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Oval 17"/>
          <p:cNvSpPr/>
          <p:nvPr/>
        </p:nvSpPr>
        <p:spPr>
          <a:xfrm>
            <a:off x="2575080" y="2765520"/>
            <a:ext cx="3004920" cy="3095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Group 18"/>
          <p:cNvGrpSpPr/>
          <p:nvPr/>
        </p:nvGrpSpPr>
        <p:grpSpPr>
          <a:xfrm>
            <a:off x="4070520" y="2835360"/>
            <a:ext cx="0" cy="1520640"/>
            <a:chOff x="4070520" y="2835360"/>
            <a:chExt cx="0" cy="1520640"/>
          </a:xfrm>
        </p:grpSpPr>
        <p:sp>
          <p:nvSpPr>
            <p:cNvPr id="279" name="Line 19"/>
            <p:cNvSpPr/>
            <p:nvPr/>
          </p:nvSpPr>
          <p:spPr>
            <a:xfrm>
              <a:off x="4070520" y="2835360"/>
              <a:ext cx="0" cy="15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Line 20"/>
            <p:cNvSpPr/>
            <p:nvPr/>
          </p:nvSpPr>
          <p:spPr>
            <a:xfrm>
              <a:off x="4070520" y="36291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Group 21"/>
          <p:cNvGrpSpPr/>
          <p:nvPr/>
        </p:nvGrpSpPr>
        <p:grpSpPr>
          <a:xfrm>
            <a:off x="4116240" y="3171600"/>
            <a:ext cx="965520" cy="1175040"/>
            <a:chOff x="4116240" y="3171600"/>
            <a:chExt cx="965520" cy="1175040"/>
          </a:xfrm>
        </p:grpSpPr>
        <p:sp>
          <p:nvSpPr>
            <p:cNvPr id="282" name="Line 22"/>
            <p:cNvSpPr/>
            <p:nvPr/>
          </p:nvSpPr>
          <p:spPr>
            <a:xfrm flipH="1">
              <a:off x="4116240" y="3171600"/>
              <a:ext cx="96552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23"/>
            <p:cNvSpPr/>
            <p:nvPr/>
          </p:nvSpPr>
          <p:spPr>
            <a:xfrm flipH="1">
              <a:off x="4440960" y="3785040"/>
              <a:ext cx="136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Group 24"/>
          <p:cNvGrpSpPr/>
          <p:nvPr/>
        </p:nvGrpSpPr>
        <p:grpSpPr>
          <a:xfrm>
            <a:off x="4082760" y="3927960"/>
            <a:ext cx="1447920" cy="465840"/>
            <a:chOff x="4082760" y="3927960"/>
            <a:chExt cx="1447920" cy="465840"/>
          </a:xfrm>
        </p:grpSpPr>
        <p:sp>
          <p:nvSpPr>
            <p:cNvPr id="285" name="Line 25"/>
            <p:cNvSpPr/>
            <p:nvPr/>
          </p:nvSpPr>
          <p:spPr>
            <a:xfrm flipH="1">
              <a:off x="4082760" y="3927960"/>
              <a:ext cx="1447920" cy="46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26"/>
            <p:cNvSpPr/>
            <p:nvPr/>
          </p:nvSpPr>
          <p:spPr>
            <a:xfrm flipH="1">
              <a:off x="4569480" y="4170960"/>
              <a:ext cx="205200" cy="6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Group 27"/>
          <p:cNvGrpSpPr/>
          <p:nvPr/>
        </p:nvGrpSpPr>
        <p:grpSpPr>
          <a:xfrm>
            <a:off x="4092480" y="4410360"/>
            <a:ext cx="1501920" cy="237600"/>
            <a:chOff x="4092480" y="4410360"/>
            <a:chExt cx="1501920" cy="237600"/>
          </a:xfrm>
        </p:grpSpPr>
        <p:sp>
          <p:nvSpPr>
            <p:cNvPr id="288" name="Line 28"/>
            <p:cNvSpPr/>
            <p:nvPr/>
          </p:nvSpPr>
          <p:spPr>
            <a:xfrm flipH="1" flipV="1">
              <a:off x="4092480" y="4410360"/>
              <a:ext cx="1501920" cy="23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29"/>
            <p:cNvSpPr/>
            <p:nvPr/>
          </p:nvSpPr>
          <p:spPr>
            <a:xfrm flipH="1" flipV="1">
              <a:off x="4597560" y="4490280"/>
              <a:ext cx="21276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Oval 8"/>
          <p:cNvSpPr/>
          <p:nvPr/>
        </p:nvSpPr>
        <p:spPr>
          <a:xfrm>
            <a:off x="3932280" y="4260960"/>
            <a:ext cx="274680" cy="2746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5505480" y="4586400"/>
            <a:ext cx="13644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5479920" y="3867120"/>
            <a:ext cx="13680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5043600" y="3083040"/>
            <a:ext cx="13644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4006800" y="2736720"/>
            <a:ext cx="136440" cy="13680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0"/>
          <p:cNvSpPr/>
          <p:nvPr/>
        </p:nvSpPr>
        <p:spPr>
          <a:xfrm>
            <a:off x="5276160" y="284760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14 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31"/>
          <p:cNvSpPr/>
          <p:nvPr/>
        </p:nvSpPr>
        <p:spPr>
          <a:xfrm>
            <a:off x="4425120" y="2364840"/>
            <a:ext cx="5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Нижний колонтитул 3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94760" y="106416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 - Astronauts are constantly in free fal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Picture 33" descr="_x0018_skylabweightlessness.jpg                                       0003951C_x000c_Macintosh HD                   B746699A:"/>
          <p:cNvPicPr/>
          <p:nvPr/>
        </p:nvPicPr>
        <p:blipFill>
          <a:blip r:embed="rId1"/>
          <a:stretch/>
        </p:blipFill>
        <p:spPr>
          <a:xfrm>
            <a:off x="1119240" y="2405160"/>
            <a:ext cx="3911400" cy="3593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4" descr="_x0019_skylabweightlessness2.jpg                                      0003951C_x000c_Macintosh HD                   B746699A:"/>
          <p:cNvPicPr/>
          <p:nvPr/>
        </p:nvPicPr>
        <p:blipFill>
          <a:blip r:embed="rId2"/>
          <a:stretch/>
        </p:blipFill>
        <p:spPr>
          <a:xfrm>
            <a:off x="6567480" y="1806480"/>
            <a:ext cx="1309680" cy="4797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2" descr="_x0018_earth-weightlessness.jpg                                       0003951C_x000c_Macintosh HD                   B746699A:"/>
          <p:cNvPicPr/>
          <p:nvPr/>
        </p:nvPicPr>
        <p:blipFill>
          <a:blip r:embed="rId3"/>
          <a:stretch/>
        </p:blipFill>
        <p:spPr>
          <a:xfrm>
            <a:off x="4659480" y="1973160"/>
            <a:ext cx="4222440" cy="4683240"/>
          </a:xfrm>
          <a:prstGeom prst="rect">
            <a:avLst/>
          </a:prstGeom>
          <a:ln w="0">
            <a:noFill/>
          </a:ln>
        </p:spPr>
      </p:pic>
      <p:sp>
        <p:nvSpPr>
          <p:cNvPr id="30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255600" y="1825560"/>
            <a:ext cx="86216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uppose a GPS satellite is 50 m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bove Madison, and at this moment it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t rest (i.e., its velocity is 0 km/sec). In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ext few minutes you would expect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atellit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rise further away from the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move in a circular orbit about the Eart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land in the center of Madi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) It depends on the mass of the satelli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581040" y="4786200"/>
            <a:ext cx="4438800" cy="378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Oval 5"/>
          <p:cNvSpPr/>
          <p:nvPr/>
        </p:nvSpPr>
        <p:spPr>
          <a:xfrm>
            <a:off x="6792840" y="5227560"/>
            <a:ext cx="1666800" cy="1630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7655040" y="2041560"/>
            <a:ext cx="249120" cy="216000"/>
          </a:xfrm>
          <a:prstGeom prst="hexagon">
            <a:avLst>
              <a:gd name="adj" fmla="val 28833"/>
              <a:gd name="vf" fmla="val 11547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7984800" y="1985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7507440" y="5056200"/>
            <a:ext cx="249120" cy="159840"/>
            <a:chOff x="7507440" y="5056200"/>
            <a:chExt cx="249120" cy="159840"/>
          </a:xfrm>
        </p:grpSpPr>
        <p:sp>
          <p:nvSpPr>
            <p:cNvPr id="311" name="Oval 10"/>
            <p:cNvSpPr/>
            <p:nvPr/>
          </p:nvSpPr>
          <p:spPr>
            <a:xfrm>
              <a:off x="7586640" y="5056200"/>
              <a:ext cx="101520" cy="14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7507440" y="5136840"/>
              <a:ext cx="249120" cy="7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54080" y="2063880"/>
            <a:ext cx="881064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Oval 5"/>
          <p:cNvSpPr/>
          <p:nvPr/>
        </p:nvSpPr>
        <p:spPr>
          <a:xfrm>
            <a:off x="6689880" y="299232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Oval 6"/>
          <p:cNvSpPr/>
          <p:nvPr/>
        </p:nvSpPr>
        <p:spPr>
          <a:xfrm>
            <a:off x="7323120" y="3594240"/>
            <a:ext cx="12528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7962840" y="3600360"/>
            <a:ext cx="125640" cy="136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8"/>
          <p:cNvSpPr/>
          <p:nvPr/>
        </p:nvSpPr>
        <p:spPr>
          <a:xfrm>
            <a:off x="7380360" y="366228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7543800" y="3407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7265520" y="3720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8071920" y="3550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336960" y="2290680"/>
            <a:ext cx="78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order for planet P to travel in a circle around the Su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Central Force = Gravitational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3"/>
              <p:cNvSpPr txBox="1"/>
              <p:nvPr/>
            </p:nvSpPr>
            <p:spPr>
              <a:xfrm>
                <a:off x="1336680" y="3637080"/>
                <a:ext cx="17384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4"/>
              <p:cNvSpPr txBox="1"/>
              <p:nvPr/>
            </p:nvSpPr>
            <p:spPr>
              <a:xfrm>
                <a:off x="1622520" y="4460760"/>
                <a:ext cx="11271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5"/>
              <p:cNvSpPr txBox="1"/>
              <p:nvPr/>
            </p:nvSpPr>
            <p:spPr>
              <a:xfrm>
                <a:off x="1663560" y="5408640"/>
                <a:ext cx="1079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Text Box 16"/>
          <p:cNvSpPr/>
          <p:nvPr/>
        </p:nvSpPr>
        <p:spPr>
          <a:xfrm>
            <a:off x="3897720" y="4754160"/>
            <a:ext cx="510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elocity depends only on distan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not on mass of pl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elocity decreases w. greater d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81240" y="5249880"/>
            <a:ext cx="1792080" cy="97632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8"/>
          <p:cNvSpPr/>
          <p:nvPr/>
        </p:nvSpPr>
        <p:spPr>
          <a:xfrm flipV="1">
            <a:off x="3367080" y="5125680"/>
            <a:ext cx="669960" cy="3510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9"/>
          <p:cNvSpPr/>
          <p:nvPr/>
        </p:nvSpPr>
        <p:spPr>
          <a:xfrm>
            <a:off x="3371760" y="5810400"/>
            <a:ext cx="601920" cy="2394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20"/>
          <p:cNvSpPr/>
          <p:nvPr/>
        </p:nvSpPr>
        <p:spPr>
          <a:xfrm flipH="1">
            <a:off x="1428480" y="3730680"/>
            <a:ext cx="23796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21"/>
          <p:cNvSpPr/>
          <p:nvPr/>
        </p:nvSpPr>
        <p:spPr>
          <a:xfrm flipH="1">
            <a:off x="2511000" y="4869000"/>
            <a:ext cx="79560" cy="10296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22"/>
          <p:cNvSpPr/>
          <p:nvPr/>
        </p:nvSpPr>
        <p:spPr>
          <a:xfrm flipH="1">
            <a:off x="1739880" y="4870440"/>
            <a:ext cx="23832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23"/>
          <p:cNvSpPr/>
          <p:nvPr/>
        </p:nvSpPr>
        <p:spPr>
          <a:xfrm flipH="1">
            <a:off x="2703240" y="3746520"/>
            <a:ext cx="23796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154080" y="1598760"/>
            <a:ext cx="8810640" cy="497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5"/>
              <p:cNvSpPr txBox="1"/>
              <p:nvPr/>
            </p:nvSpPr>
            <p:spPr>
              <a:xfrm>
                <a:off x="2197080" y="1949400"/>
                <a:ext cx="1079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Rectangle 6"/>
          <p:cNvSpPr/>
          <p:nvPr/>
        </p:nvSpPr>
        <p:spPr>
          <a:xfrm>
            <a:off x="1814400" y="1779480"/>
            <a:ext cx="167976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7"/>
              <p:cNvSpPr txBox="1"/>
              <p:nvPr/>
            </p:nvSpPr>
            <p:spPr>
              <a:xfrm>
                <a:off x="6454800" y="4708440"/>
                <a:ext cx="1946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A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8"/>
              <p:cNvSpPr txBox="1"/>
              <p:nvPr/>
            </p:nvSpPr>
            <p:spPr>
              <a:xfrm>
                <a:off x="2027160" y="2709720"/>
                <a:ext cx="14367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9"/>
              <p:cNvSpPr txBox="1"/>
              <p:nvPr/>
            </p:nvSpPr>
            <p:spPr>
              <a:xfrm>
                <a:off x="2025720" y="3349800"/>
                <a:ext cx="13795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0"/>
              <p:cNvSpPr txBox="1"/>
              <p:nvPr/>
            </p:nvSpPr>
            <p:spPr>
              <a:xfrm>
                <a:off x="2043000" y="4145040"/>
                <a:ext cx="15717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1"/>
              <p:cNvSpPr txBox="1"/>
              <p:nvPr/>
            </p:nvSpPr>
            <p:spPr>
              <a:xfrm>
                <a:off x="1922400" y="4584600"/>
                <a:ext cx="130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2"/>
              <p:cNvSpPr txBox="1"/>
              <p:nvPr/>
            </p:nvSpPr>
            <p:spPr>
              <a:xfrm>
                <a:off x="1841400" y="5621400"/>
                <a:ext cx="1592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8" name="Rectangle 13"/>
          <p:cNvSpPr/>
          <p:nvPr/>
        </p:nvSpPr>
        <p:spPr>
          <a:xfrm>
            <a:off x="1762200" y="5537160"/>
            <a:ext cx="174600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4"/>
          <p:cNvSpPr/>
          <p:nvPr/>
        </p:nvSpPr>
        <p:spPr>
          <a:xfrm flipH="1" flipV="1">
            <a:off x="3685680" y="3141360"/>
            <a:ext cx="2584440" cy="184788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Oval 15"/>
          <p:cNvSpPr/>
          <p:nvPr/>
        </p:nvSpPr>
        <p:spPr>
          <a:xfrm>
            <a:off x="6713640" y="286848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Oval 16"/>
          <p:cNvSpPr/>
          <p:nvPr/>
        </p:nvSpPr>
        <p:spPr>
          <a:xfrm>
            <a:off x="7346880" y="3470400"/>
            <a:ext cx="12564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Oval 17"/>
          <p:cNvSpPr/>
          <p:nvPr/>
        </p:nvSpPr>
        <p:spPr>
          <a:xfrm>
            <a:off x="7986600" y="3476520"/>
            <a:ext cx="125640" cy="136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18"/>
          <p:cNvSpPr/>
          <p:nvPr/>
        </p:nvSpPr>
        <p:spPr>
          <a:xfrm>
            <a:off x="7404120" y="353844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9"/>
          <p:cNvSpPr/>
          <p:nvPr/>
        </p:nvSpPr>
        <p:spPr>
          <a:xfrm>
            <a:off x="7567560" y="328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7279920" y="3596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1"/>
          <p:cNvSpPr/>
          <p:nvPr/>
        </p:nvSpPr>
        <p:spPr>
          <a:xfrm>
            <a:off x="8095680" y="3426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f12"/>
                </a:solidFill>
                <a:latin typeface="Times New Roman"/>
              </a:rPr>
              <a:t>Bit of Administration 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71160"/>
            <a:ext cx="9144000" cy="541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f1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f12"/>
                </a:solidFill>
                <a:latin typeface="Times New Roman"/>
              </a:rPr>
              <a:t>6-Week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Monday, March 1, 7:15-8:30, 3425 Ste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130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30b"/>
                </a:solidFill>
                <a:latin typeface="Times New Roman"/>
              </a:rPr>
              <a:t>56</a:t>
            </a: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 multiple cho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f12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f12"/>
                </a:solidFill>
                <a:latin typeface="Times New Roman"/>
              </a:rPr>
              <a:t>2/3 conceptual use of the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f12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f12"/>
                </a:solidFill>
                <a:latin typeface="Times New Roman"/>
              </a:rPr>
              <a:t>1/3 re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All material in lecture, discussion, home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through today; readings on that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f1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f12"/>
                </a:solidFill>
                <a:latin typeface="Times New Roman"/>
              </a:rPr>
              <a:t>Review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Sunday, February 29, 6:30-7:30, 3425 Ste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Will answer questions, no new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41120" y="1565280"/>
            <a:ext cx="8810640" cy="497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758880" y="5691240"/>
            <a:ext cx="1836720" cy="669960"/>
          </a:xfrm>
          <a:prstGeom prst="horizontalScroll">
            <a:avLst>
              <a:gd name="adj" fmla="val 12500"/>
            </a:avLst>
          </a:prstGeom>
          <a:solidFill>
            <a:srgbClr val="f9ff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6"/>
              <p:cNvSpPr txBox="1"/>
              <p:nvPr/>
            </p:nvSpPr>
            <p:spPr>
              <a:xfrm>
                <a:off x="888840" y="1925640"/>
                <a:ext cx="15908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3" name="Rectangle 7"/>
          <p:cNvSpPr/>
          <p:nvPr/>
        </p:nvSpPr>
        <p:spPr>
          <a:xfrm>
            <a:off x="809640" y="1841400"/>
            <a:ext cx="174636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3072600" y="195300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general,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in units of cm, sec, g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9"/>
              <p:cNvSpPr txBox="1"/>
              <p:nvPr/>
            </p:nvSpPr>
            <p:spPr>
              <a:xfrm>
                <a:off x="525600" y="3065400"/>
                <a:ext cx="22618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y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AU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6" name="Text Box 10"/>
          <p:cNvSpPr/>
          <p:nvPr/>
        </p:nvSpPr>
        <p:spPr>
          <a:xfrm>
            <a:off x="3169440" y="32058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or the 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1"/>
              <p:cNvSpPr txBox="1"/>
              <p:nvPr/>
            </p:nvSpPr>
            <p:spPr>
              <a:xfrm>
                <a:off x="1058760" y="4672080"/>
                <a:ext cx="11494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8" name="Text Box 12"/>
          <p:cNvSpPr/>
          <p:nvPr/>
        </p:nvSpPr>
        <p:spPr>
          <a:xfrm>
            <a:off x="2806560" y="4736160"/>
            <a:ext cx="61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general,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in units of AU, years, solar m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3"/>
              <p:cNvSpPr txBox="1"/>
              <p:nvPr/>
            </p:nvSpPr>
            <p:spPr>
              <a:xfrm>
                <a:off x="1276200" y="5878440"/>
                <a:ext cx="76680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0" name="Text Box 14"/>
          <p:cNvSpPr/>
          <p:nvPr/>
        </p:nvSpPr>
        <p:spPr>
          <a:xfrm>
            <a:off x="2892600" y="5704560"/>
            <a:ext cx="541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or objects orbiting the Sun (M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= 1 M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Oval 15"/>
          <p:cNvSpPr/>
          <p:nvPr/>
        </p:nvSpPr>
        <p:spPr>
          <a:xfrm>
            <a:off x="6713640" y="286848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Oval 16"/>
          <p:cNvSpPr/>
          <p:nvPr/>
        </p:nvSpPr>
        <p:spPr>
          <a:xfrm>
            <a:off x="7346880" y="3470400"/>
            <a:ext cx="12564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Oval 17"/>
          <p:cNvSpPr/>
          <p:nvPr/>
        </p:nvSpPr>
        <p:spPr>
          <a:xfrm>
            <a:off x="7986600" y="3476520"/>
            <a:ext cx="125640" cy="136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18"/>
          <p:cNvSpPr/>
          <p:nvPr/>
        </p:nvSpPr>
        <p:spPr>
          <a:xfrm>
            <a:off x="7404120" y="353844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7567560" y="328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7279920" y="3596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8095680" y="3426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2"/>
          <p:cNvSpPr/>
          <p:nvPr/>
        </p:nvSpPr>
        <p:spPr>
          <a:xfrm>
            <a:off x="2176560" y="3753000"/>
            <a:ext cx="250560" cy="1713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23"/>
          <p:cNvSpPr/>
          <p:nvPr/>
        </p:nvSpPr>
        <p:spPr>
          <a:xfrm>
            <a:off x="2537640" y="37854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1 Solar M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4"/>
          <p:cNvSpPr/>
          <p:nvPr/>
        </p:nvSpPr>
        <p:spPr>
          <a:xfrm>
            <a:off x="1440000" y="225360"/>
            <a:ext cx="6089400" cy="6396120"/>
          </a:xfrm>
          <a:prstGeom prst="verticalScroll">
            <a:avLst>
              <a:gd name="adj" fmla="val 12500"/>
            </a:avLst>
          </a:prstGeom>
          <a:solidFill>
            <a:srgbClr val="fff9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Nature and nature’s la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Lay hid in the n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God said, “Let Newton be!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And all was ligh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ff130b"/>
                </a:solidFill>
                <a:latin typeface="Times New Roman"/>
              </a:rPr>
              <a:t>Alexander Po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14200" y="1120680"/>
            <a:ext cx="8709120" cy="553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Oval 31"/>
          <p:cNvSpPr/>
          <p:nvPr/>
        </p:nvSpPr>
        <p:spPr>
          <a:xfrm>
            <a:off x="3583080" y="2779560"/>
            <a:ext cx="2098440" cy="1292400"/>
          </a:xfrm>
          <a:prstGeom prst="ellipse">
            <a:avLst/>
          </a:prstGeom>
          <a:solidFill>
            <a:srgbClr val="ffd6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2192400" y="1825560"/>
            <a:ext cx="646200" cy="623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15"/>
          <p:cNvSpPr/>
          <p:nvPr/>
        </p:nvSpPr>
        <p:spPr>
          <a:xfrm>
            <a:off x="6089760" y="1784520"/>
            <a:ext cx="645840" cy="623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2840040" y="2143080"/>
            <a:ext cx="58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17"/>
          <p:cNvSpPr/>
          <p:nvPr/>
        </p:nvSpPr>
        <p:spPr>
          <a:xfrm flipH="1">
            <a:off x="5499000" y="2087280"/>
            <a:ext cx="588960" cy="1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669640" y="2196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2883600" y="2223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5000" y="4431240"/>
            <a:ext cx="33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ss of object 1 (gr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89040" y="4901040"/>
            <a:ext cx="33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ss of object 2 (gr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783000" y="539352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Distance between objects (c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805680" y="5818680"/>
            <a:ext cx="29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 = 6.67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s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Group 29"/>
          <p:cNvGrpSpPr/>
          <p:nvPr/>
        </p:nvGrpSpPr>
        <p:grpSpPr>
          <a:xfrm>
            <a:off x="2498760" y="1269000"/>
            <a:ext cx="3917880" cy="398880"/>
            <a:chOff x="2498760" y="1269000"/>
            <a:chExt cx="3917880" cy="398880"/>
          </a:xfrm>
        </p:grpSpPr>
        <p:sp>
          <p:nvSpPr>
            <p:cNvPr id="68" name="Line 24"/>
            <p:cNvSpPr/>
            <p:nvPr/>
          </p:nvSpPr>
          <p:spPr>
            <a:xfrm>
              <a:off x="2498760" y="12812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Line 25"/>
            <p:cNvSpPr/>
            <p:nvPr/>
          </p:nvSpPr>
          <p:spPr>
            <a:xfrm>
              <a:off x="6416640" y="127476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26"/>
            <p:cNvSpPr/>
            <p:nvPr/>
          </p:nvSpPr>
          <p:spPr>
            <a:xfrm>
              <a:off x="2498760" y="1440000"/>
              <a:ext cx="15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27"/>
            <p:cNvSpPr/>
            <p:nvPr/>
          </p:nvSpPr>
          <p:spPr>
            <a:xfrm>
              <a:off x="4873680" y="1444680"/>
              <a:ext cx="15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Text Box 28"/>
            <p:cNvSpPr/>
            <p:nvPr/>
          </p:nvSpPr>
          <p:spPr>
            <a:xfrm>
              <a:off x="4270320" y="1269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" name="Object 30"/>
              <p:cNvSpPr txBox="1"/>
              <p:nvPr/>
            </p:nvSpPr>
            <p:spPr>
              <a:xfrm>
                <a:off x="3828960" y="3033720"/>
                <a:ext cx="1675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30760" y="81504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Galileo’s Experi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54080" y="1508040"/>
            <a:ext cx="8810640" cy="506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Oval 31"/>
          <p:cNvSpPr/>
          <p:nvPr/>
        </p:nvSpPr>
        <p:spPr>
          <a:xfrm>
            <a:off x="5987880" y="2482920"/>
            <a:ext cx="827280" cy="828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33"/>
          <p:cNvSpPr/>
          <p:nvPr/>
        </p:nvSpPr>
        <p:spPr>
          <a:xfrm>
            <a:off x="7115040" y="2465280"/>
            <a:ext cx="827280" cy="82872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34"/>
          <p:cNvSpPr/>
          <p:nvPr/>
        </p:nvSpPr>
        <p:spPr>
          <a:xfrm>
            <a:off x="6396120" y="3311640"/>
            <a:ext cx="11160" cy="15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7535880" y="3294000"/>
            <a:ext cx="0" cy="66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6"/>
              <p:cNvSpPr txBox="1"/>
              <p:nvPr/>
            </p:nvSpPr>
            <p:spPr>
              <a:xfrm>
                <a:off x="1079640" y="1795320"/>
                <a:ext cx="20286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e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37"/>
              <p:cNvSpPr txBox="1"/>
              <p:nvPr/>
            </p:nvSpPr>
            <p:spPr>
              <a:xfrm>
                <a:off x="1028880" y="2514600"/>
                <a:ext cx="21445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oo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8"/>
              <p:cNvSpPr txBox="1"/>
              <p:nvPr/>
            </p:nvSpPr>
            <p:spPr>
              <a:xfrm>
                <a:off x="765000" y="3733920"/>
                <a:ext cx="43466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ead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39"/>
              <p:cNvSpPr txBox="1"/>
              <p:nvPr/>
            </p:nvSpPr>
            <p:spPr>
              <a:xfrm>
                <a:off x="722160" y="4525920"/>
                <a:ext cx="45975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oo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od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AutoShape 41"/>
          <p:cNvSpPr/>
          <p:nvPr/>
        </p:nvSpPr>
        <p:spPr>
          <a:xfrm rot="5435400">
            <a:off x="5939280" y="3653640"/>
            <a:ext cx="1247760" cy="516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44"/>
          <p:cNvSpPr/>
          <p:nvPr/>
        </p:nvSpPr>
        <p:spPr>
          <a:xfrm>
            <a:off x="6144120" y="5633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6522480" y="3816720"/>
            <a:ext cx="68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,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6"/>
          <p:cNvSpPr/>
          <p:nvPr/>
        </p:nvSpPr>
        <p:spPr>
          <a:xfrm>
            <a:off x="7629840" y="3391200"/>
            <a:ext cx="76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,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48"/>
          <p:cNvSpPr/>
          <p:nvPr/>
        </p:nvSpPr>
        <p:spPr>
          <a:xfrm>
            <a:off x="6400800" y="3314880"/>
            <a:ext cx="0" cy="668160"/>
          </a:xfrm>
          <a:prstGeom prst="line">
            <a:avLst/>
          </a:prstGeom>
          <a:ln w="19080">
            <a:solidFill>
              <a:srgbClr val="5dc1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49"/>
          <p:cNvSpPr/>
          <p:nvPr/>
        </p:nvSpPr>
        <p:spPr>
          <a:xfrm>
            <a:off x="7539120" y="3297240"/>
            <a:ext cx="0" cy="668160"/>
          </a:xfrm>
          <a:prstGeom prst="line">
            <a:avLst/>
          </a:prstGeom>
          <a:ln w="19080">
            <a:solidFill>
              <a:srgbClr val="5dc1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0"/>
          <p:cNvSpPr/>
          <p:nvPr/>
        </p:nvSpPr>
        <p:spPr>
          <a:xfrm>
            <a:off x="6540120" y="3424680"/>
            <a:ext cx="54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c1d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5dc1d6"/>
                </a:solidFill>
                <a:latin typeface="Times New Roman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7715880" y="3373920"/>
            <a:ext cx="6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c1d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5dc1d6"/>
                </a:solidFill>
                <a:latin typeface="Times New Roman"/>
              </a:rPr>
              <a:t>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52"/>
          <p:cNvSpPr/>
          <p:nvPr/>
        </p:nvSpPr>
        <p:spPr>
          <a:xfrm flipH="1">
            <a:off x="2947680" y="370836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53"/>
          <p:cNvSpPr/>
          <p:nvPr/>
        </p:nvSpPr>
        <p:spPr>
          <a:xfrm flipH="1">
            <a:off x="3757320" y="398628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54"/>
          <p:cNvSpPr/>
          <p:nvPr/>
        </p:nvSpPr>
        <p:spPr>
          <a:xfrm flipH="1">
            <a:off x="3082680" y="453564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55"/>
          <p:cNvSpPr/>
          <p:nvPr/>
        </p:nvSpPr>
        <p:spPr>
          <a:xfrm flipH="1">
            <a:off x="3814920" y="4800600"/>
            <a:ext cx="47592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Нижний колонтитул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367560" y="914400"/>
            <a:ext cx="422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Mass    = Amount of Ma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 = Force Due to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58"/>
          <p:cNvGrpSpPr/>
          <p:nvPr/>
        </p:nvGrpSpPr>
        <p:grpSpPr>
          <a:xfrm>
            <a:off x="2828880" y="2979360"/>
            <a:ext cx="3317760" cy="1851480"/>
            <a:chOff x="2828880" y="2979360"/>
            <a:chExt cx="3317760" cy="1851480"/>
          </a:xfrm>
        </p:grpSpPr>
        <p:sp>
          <p:nvSpPr>
            <p:cNvPr id="103" name="Line 23"/>
            <p:cNvSpPr/>
            <p:nvPr/>
          </p:nvSpPr>
          <p:spPr>
            <a:xfrm>
              <a:off x="4468680" y="2982960"/>
              <a:ext cx="0" cy="18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24"/>
            <p:cNvSpPr/>
            <p:nvPr/>
          </p:nvSpPr>
          <p:spPr>
            <a:xfrm flipH="1">
              <a:off x="3833640" y="2982960"/>
              <a:ext cx="635040" cy="9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25"/>
            <p:cNvSpPr/>
            <p:nvPr/>
          </p:nvSpPr>
          <p:spPr>
            <a:xfrm>
              <a:off x="4468680" y="2979360"/>
              <a:ext cx="648000" cy="92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>
              <a:off x="5137200" y="3924360"/>
              <a:ext cx="100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Line 27"/>
            <p:cNvSpPr/>
            <p:nvPr/>
          </p:nvSpPr>
          <p:spPr>
            <a:xfrm>
              <a:off x="2828880" y="3884760"/>
              <a:ext cx="100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>
              <a:off x="5251320" y="3470400"/>
              <a:ext cx="828720" cy="430200"/>
            </a:xfrm>
            <a:prstGeom prst="rect">
              <a:avLst/>
            </a:prstGeom>
            <a:solidFill>
              <a:srgbClr val="337bb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0 k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" name="Group 30"/>
            <p:cNvGrpSpPr/>
            <p:nvPr/>
          </p:nvGrpSpPr>
          <p:grpSpPr>
            <a:xfrm>
              <a:off x="3173040" y="3186360"/>
              <a:ext cx="355680" cy="690840"/>
              <a:chOff x="3173040" y="3186360"/>
              <a:chExt cx="355680" cy="690840"/>
            </a:xfrm>
          </p:grpSpPr>
          <p:sp>
            <p:nvSpPr>
              <p:cNvPr id="110" name="Line 31"/>
              <p:cNvSpPr/>
              <p:nvPr/>
            </p:nvSpPr>
            <p:spPr>
              <a:xfrm flipH="1">
                <a:off x="3222000" y="3547080"/>
                <a:ext cx="130680" cy="32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Line 32"/>
              <p:cNvSpPr/>
              <p:nvPr/>
            </p:nvSpPr>
            <p:spPr>
              <a:xfrm>
                <a:off x="3371760" y="3581280"/>
                <a:ext cx="135000" cy="29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Line 33"/>
              <p:cNvSpPr/>
              <p:nvPr/>
            </p:nvSpPr>
            <p:spPr>
              <a:xfrm flipH="1" flipV="1">
                <a:off x="3345120" y="3315600"/>
                <a:ext cx="9000" cy="266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Line 34"/>
              <p:cNvSpPr/>
              <p:nvPr/>
            </p:nvSpPr>
            <p:spPr>
              <a:xfrm>
                <a:off x="3365640" y="3402000"/>
                <a:ext cx="16308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Line 35"/>
              <p:cNvSpPr/>
              <p:nvPr/>
            </p:nvSpPr>
            <p:spPr>
              <a:xfrm flipH="1">
                <a:off x="3173040" y="3385080"/>
                <a:ext cx="191520" cy="15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Oval 36"/>
              <p:cNvSpPr/>
              <p:nvPr/>
            </p:nvSpPr>
            <p:spPr>
              <a:xfrm rot="21480000">
                <a:off x="3290760" y="3188880"/>
                <a:ext cx="141840" cy="14400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Line 39"/>
          <p:cNvSpPr/>
          <p:nvPr/>
        </p:nvSpPr>
        <p:spPr>
          <a:xfrm>
            <a:off x="3367080" y="39798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40"/>
          <p:cNvSpPr/>
          <p:nvPr/>
        </p:nvSpPr>
        <p:spPr>
          <a:xfrm>
            <a:off x="5638680" y="404172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Group 46"/>
          <p:cNvGrpSpPr/>
          <p:nvPr/>
        </p:nvGrpSpPr>
        <p:grpSpPr>
          <a:xfrm>
            <a:off x="1939680" y="4483440"/>
            <a:ext cx="5173560" cy="1627920"/>
            <a:chOff x="1939680" y="4483440"/>
            <a:chExt cx="5173560" cy="1627920"/>
          </a:xfrm>
        </p:grpSpPr>
        <p:sp>
          <p:nvSpPr>
            <p:cNvPr id="119" name="AutoShape 38"/>
            <p:cNvSpPr/>
            <p:nvPr/>
          </p:nvSpPr>
          <p:spPr>
            <a:xfrm rot="5435400">
              <a:off x="3902400" y="2880360"/>
              <a:ext cx="1247760" cy="516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41"/>
            <p:cNvSpPr/>
            <p:nvPr/>
          </p:nvSpPr>
          <p:spPr>
            <a:xfrm>
              <a:off x="2927880" y="448344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42"/>
            <p:cNvSpPr/>
            <p:nvPr/>
          </p:nvSpPr>
          <p:spPr>
            <a:xfrm>
              <a:off x="5144040" y="451188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44"/>
            <p:cNvSpPr/>
            <p:nvPr/>
          </p:nvSpPr>
          <p:spPr>
            <a:xfrm>
              <a:off x="4107240" y="524700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r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Group 55"/>
          <p:cNvGrpSpPr/>
          <p:nvPr/>
        </p:nvGrpSpPr>
        <p:grpSpPr>
          <a:xfrm>
            <a:off x="1955520" y="4471200"/>
            <a:ext cx="5173560" cy="1643400"/>
            <a:chOff x="1955520" y="4471200"/>
            <a:chExt cx="5173560" cy="1643400"/>
          </a:xfrm>
        </p:grpSpPr>
        <p:sp>
          <p:nvSpPr>
            <p:cNvPr id="124" name="AutoShape 48"/>
            <p:cNvSpPr/>
            <p:nvPr/>
          </p:nvSpPr>
          <p:spPr>
            <a:xfrm rot="5435400">
              <a:off x="3918240" y="2883600"/>
              <a:ext cx="1247760" cy="516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cff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Text Box 49"/>
            <p:cNvSpPr/>
            <p:nvPr/>
          </p:nvSpPr>
          <p:spPr>
            <a:xfrm>
              <a:off x="3007800" y="4487040"/>
              <a:ext cx="798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50"/>
            <p:cNvSpPr/>
            <p:nvPr/>
          </p:nvSpPr>
          <p:spPr>
            <a:xfrm>
              <a:off x="5223960" y="4471200"/>
              <a:ext cx="798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Text Box 51"/>
            <p:cNvSpPr/>
            <p:nvPr/>
          </p:nvSpPr>
          <p:spPr>
            <a:xfrm>
              <a:off x="4094280" y="5250600"/>
              <a:ext cx="790200" cy="398880"/>
            </a:xfrm>
            <a:prstGeom prst="rect">
              <a:avLst/>
            </a:prstGeom>
            <a:solidFill>
              <a:srgbClr val="fc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Group 57"/>
          <p:cNvGrpSpPr/>
          <p:nvPr/>
        </p:nvGrpSpPr>
        <p:grpSpPr>
          <a:xfrm>
            <a:off x="3065400" y="4440960"/>
            <a:ext cx="2874960" cy="405000"/>
            <a:chOff x="3065400" y="4440960"/>
            <a:chExt cx="2874960" cy="405000"/>
          </a:xfrm>
        </p:grpSpPr>
        <p:sp>
          <p:nvSpPr>
            <p:cNvPr id="129" name="Text Box 54"/>
            <p:cNvSpPr/>
            <p:nvPr/>
          </p:nvSpPr>
          <p:spPr>
            <a:xfrm>
              <a:off x="3065400" y="4447080"/>
              <a:ext cx="669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Text Box 56"/>
            <p:cNvSpPr/>
            <p:nvPr/>
          </p:nvSpPr>
          <p:spPr>
            <a:xfrm>
              <a:off x="5270400" y="4440960"/>
              <a:ext cx="669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35080" y="1654200"/>
            <a:ext cx="862164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On much of the European continent, the heft of people is called their mass and measured in kilograms. Like in the United States, they measure themselves by stepping on a bathroom floor sca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rue or False: Strictly speaking, when they step on the scale they are not measuring their mass but instead are measuring their weigh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Tr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Its deba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70080" y="109764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lessnes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Group 35"/>
          <p:cNvGrpSpPr/>
          <p:nvPr/>
        </p:nvGrpSpPr>
        <p:grpSpPr>
          <a:xfrm>
            <a:off x="929880" y="2597400"/>
            <a:ext cx="355680" cy="690840"/>
            <a:chOff x="929880" y="2597400"/>
            <a:chExt cx="355680" cy="690840"/>
          </a:xfrm>
        </p:grpSpPr>
        <p:sp>
          <p:nvSpPr>
            <p:cNvPr id="140" name="Line 36"/>
            <p:cNvSpPr/>
            <p:nvPr/>
          </p:nvSpPr>
          <p:spPr>
            <a:xfrm flipH="1">
              <a:off x="978840" y="2958120"/>
              <a:ext cx="13068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37"/>
            <p:cNvSpPr/>
            <p:nvPr/>
          </p:nvSpPr>
          <p:spPr>
            <a:xfrm>
              <a:off x="1128600" y="299232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38"/>
            <p:cNvSpPr/>
            <p:nvPr/>
          </p:nvSpPr>
          <p:spPr>
            <a:xfrm flipH="1" flipV="1">
              <a:off x="1101960" y="272664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39"/>
            <p:cNvSpPr/>
            <p:nvPr/>
          </p:nvSpPr>
          <p:spPr>
            <a:xfrm>
              <a:off x="1122480" y="2813040"/>
              <a:ext cx="16308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40"/>
            <p:cNvSpPr/>
            <p:nvPr/>
          </p:nvSpPr>
          <p:spPr>
            <a:xfrm flipH="1">
              <a:off x="929880" y="2796120"/>
              <a:ext cx="191520" cy="15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Oval 41"/>
            <p:cNvSpPr/>
            <p:nvPr/>
          </p:nvSpPr>
          <p:spPr>
            <a:xfrm rot="21480000">
              <a:off x="1047600" y="2599920"/>
              <a:ext cx="14184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Oval 42"/>
          <p:cNvSpPr/>
          <p:nvPr/>
        </p:nvSpPr>
        <p:spPr>
          <a:xfrm>
            <a:off x="1293840" y="283536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3"/>
          <p:cNvSpPr/>
          <p:nvPr/>
        </p:nvSpPr>
        <p:spPr>
          <a:xfrm>
            <a:off x="770040" y="3265560"/>
            <a:ext cx="69192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4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5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 l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50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151" name="Rectangle 47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Group 51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155" name="Rectangle 52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53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54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Group 55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159" name="Rectangle 56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7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8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Group 59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163" name="Rectangle 60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Rectangle 61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Rectangle 62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Group 63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167" name="Rectangle 64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65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66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Нижний колонтитул 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2427120" y="3333960"/>
            <a:ext cx="356040" cy="690840"/>
            <a:chOff x="2427120" y="3333960"/>
            <a:chExt cx="356040" cy="690840"/>
          </a:xfrm>
        </p:grpSpPr>
        <p:sp>
          <p:nvSpPr>
            <p:cNvPr id="175" name="Line 7"/>
            <p:cNvSpPr/>
            <p:nvPr/>
          </p:nvSpPr>
          <p:spPr>
            <a:xfrm flipH="1">
              <a:off x="2475360" y="3694680"/>
              <a:ext cx="13104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2625840" y="372888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 flipH="1" flipV="1">
              <a:off x="2599200" y="346320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>
              <a:off x="2619720" y="3549600"/>
              <a:ext cx="163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 flipH="1">
              <a:off x="2427120" y="3532320"/>
              <a:ext cx="19188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Oval 12"/>
            <p:cNvSpPr/>
            <p:nvPr/>
          </p:nvSpPr>
          <p:spPr>
            <a:xfrm rot="21480000">
              <a:off x="2544480" y="3336120"/>
              <a:ext cx="14220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Oval 13"/>
          <p:cNvSpPr/>
          <p:nvPr/>
        </p:nvSpPr>
        <p:spPr>
          <a:xfrm>
            <a:off x="2790720" y="357192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2278080" y="4025880"/>
            <a:ext cx="69228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22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184" name="Rectangle 23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Rectangle 24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26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188" name="Rectangle 27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Rectangle 28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29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Group 30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192" name="Rectangle 31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Rectangle 32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33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Group 34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196" name="Rectangle 35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36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Rectangle 37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Group 38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200" name="Rectangle 39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Rectangle 40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41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Rectangle 43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Нижний колонтитул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03120" y="2016000"/>
            <a:ext cx="8621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fter jumping off the building (and before landing!), what weight will the scale read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2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20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) 30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23800" y="3538440"/>
            <a:ext cx="2035080" cy="378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21:50:03Z</dcterms:created>
  <dc:creator>Robert Mathieu</dc:creator>
  <dc:description/>
  <dc:language>en-US</dc:language>
  <cp:lastModifiedBy>Asus</cp:lastModifiedBy>
  <dcterms:modified xsi:type="dcterms:W3CDTF">2018-03-09T16:22:48Z</dcterms:modified>
  <cp:revision>253</cp:revision>
  <dc:subject/>
  <dc:title>PowerPoint Presentation</dc:title>
</cp:coreProperties>
</file>