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20DB-2859-4C96-885A-BBD042B64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80CF-0BDA-45D6-899C-9C0DA4060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FF29-F7B8-4689-BF4B-87D6FFCDA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11A9-DBA3-4770-A893-D8C23B3AA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4EE8-E8DE-4EA9-9414-5B0B6FBD4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6653-1C16-419C-BE57-E93FD8AD1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BBE2-8A96-4B9B-9171-CE8CA4DAC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ABF4-9CD5-4337-9078-7E18A9F9D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8456-8634-44E7-8D24-63A530F6D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820C-3208-438F-8AA6-3822F501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223B-0CC8-4AD0-84F0-7B9B9F236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012D-DF2E-4103-BE8B-1CC30BE48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D8A-ED72-46AA-8BA6-10452CD71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BF06-01BD-4071-989F-67B155AC9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8DBE-AA49-4DDB-8183-F3E7FDAC5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4F6-8B9B-44F1-B58E-971E9232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54A-8CC5-4C05-9262-B3590BA4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AFD-8D8A-434B-8DA5-1C0ACBA5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8DE-0491-4547-8645-E2FD4B5E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B1C-AF13-442F-8E30-EB08B6B0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B79-4A5A-4719-8C7F-EC31F545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7CB-AC5B-4207-BBFC-8CA8CF26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AD8-ADC5-4870-91D2-97450F5C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0B9-E078-49FC-94BB-763B134C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071-EE08-4838-AF2A-2E247C9C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E0E-3FDF-4F90-AB00-4D823F0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948-6D37-430F-83F8-0E8116A1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A8E5-E9DA-44CB-807A-F647E96F6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_x001a_freefloating_sts64_big.jpg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47600" y="77760"/>
            <a:ext cx="6551640" cy="655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_x0016_spacewalk_gem4_big.jpg   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5024520" y="3760920"/>
            <a:ext cx="3992400" cy="2993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973160" y="3038400"/>
            <a:ext cx="1327320" cy="161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69360" y="946080"/>
            <a:ext cx="76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 - No such thing; would imply n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A consequence of all object in free 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at same 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216" name="Line 8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Oval 14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608200" y="41734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2249640" y="46432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2851200" y="37242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2516040" y="390996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231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235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239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243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47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1204920" y="1471680"/>
            <a:ext cx="6905520" cy="5180040"/>
            <a:chOff x="1204920" y="1471680"/>
            <a:chExt cx="6905520" cy="5180040"/>
          </a:xfrm>
        </p:grpSpPr>
        <p:pic>
          <p:nvPicPr>
            <p:cNvPr id="254" name="Picture 22" descr="&#9;05-04.jpg                                                      00033F65_x000c_Macintosh HD                   B746699A:"/>
            <p:cNvPicPr/>
            <p:nvPr/>
          </p:nvPicPr>
          <p:blipFill>
            <a:blip r:embed="rId1"/>
            <a:stretch/>
          </p:blipFill>
          <p:spPr>
            <a:xfrm>
              <a:off x="1204920" y="1471680"/>
              <a:ext cx="6905520" cy="51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5"/>
            <p:cNvSpPr/>
            <p:nvPr/>
          </p:nvSpPr>
          <p:spPr>
            <a:xfrm>
              <a:off x="1270080" y="6418440"/>
              <a:ext cx="24717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677960" y="696960"/>
            <a:ext cx="5877000" cy="6038640"/>
          </a:xfrm>
          <a:prstGeom prst="rect">
            <a:avLst/>
          </a:prstGeom>
          <a:ln w="0">
            <a:noFill/>
          </a:ln>
        </p:spPr>
      </p:pic>
      <p:sp>
        <p:nvSpPr>
          <p:cNvPr id="2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03120" y="2016000"/>
            <a:ext cx="8621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simulation will let me change the mass of the cannonball. Suppose we fire a 1 kg cannonball at 1 m/sec. Then we fire a 10 kg cannonball at 1 m/sec. What will happe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he 10 kg cannonball will not travel as far as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The 10 kg cannonball will travel the same d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The 10 kg cannonball will travel further than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563840" y="100080"/>
            <a:ext cx="6445080" cy="662292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90800" y="698400"/>
            <a:ext cx="86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Moon is constantly in free fall, as are all orbiting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“Always falling to earth, but never getting closer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4113000" y="2806560"/>
            <a:ext cx="1329120" cy="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5163840" y="2876760"/>
            <a:ext cx="190800" cy="2300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167440" y="3215160"/>
            <a:ext cx="731520" cy="60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5576760" y="4007880"/>
            <a:ext cx="333360" cy="72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 flipH="1">
            <a:off x="5591520" y="3795840"/>
            <a:ext cx="219240" cy="1058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 flipH="1" flipV="1">
            <a:off x="5623200" y="4650480"/>
            <a:ext cx="235080" cy="6300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575080" y="2765520"/>
            <a:ext cx="3004920" cy="309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4070520" y="2835360"/>
            <a:ext cx="0" cy="1520640"/>
            <a:chOff x="4070520" y="2835360"/>
            <a:chExt cx="0" cy="1520640"/>
          </a:xfrm>
        </p:grpSpPr>
        <p:sp>
          <p:nvSpPr>
            <p:cNvPr id="279" name="Line 19"/>
            <p:cNvSpPr/>
            <p:nvPr/>
          </p:nvSpPr>
          <p:spPr>
            <a:xfrm>
              <a:off x="4070520" y="2835360"/>
              <a:ext cx="0" cy="15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4070520" y="3629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21"/>
          <p:cNvGrpSpPr/>
          <p:nvPr/>
        </p:nvGrpSpPr>
        <p:grpSpPr>
          <a:xfrm>
            <a:off x="4116240" y="3171600"/>
            <a:ext cx="965520" cy="1175040"/>
            <a:chOff x="4116240" y="3171600"/>
            <a:chExt cx="965520" cy="1175040"/>
          </a:xfrm>
        </p:grpSpPr>
        <p:sp>
          <p:nvSpPr>
            <p:cNvPr id="282" name="Line 22"/>
            <p:cNvSpPr/>
            <p:nvPr/>
          </p:nvSpPr>
          <p:spPr>
            <a:xfrm flipH="1">
              <a:off x="4116240" y="3171600"/>
              <a:ext cx="96552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23"/>
            <p:cNvSpPr/>
            <p:nvPr/>
          </p:nvSpPr>
          <p:spPr>
            <a:xfrm flipH="1">
              <a:off x="4440960" y="3785040"/>
              <a:ext cx="136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24"/>
          <p:cNvGrpSpPr/>
          <p:nvPr/>
        </p:nvGrpSpPr>
        <p:grpSpPr>
          <a:xfrm>
            <a:off x="4082760" y="3927960"/>
            <a:ext cx="1447920" cy="465840"/>
            <a:chOff x="4082760" y="3927960"/>
            <a:chExt cx="1447920" cy="465840"/>
          </a:xfrm>
        </p:grpSpPr>
        <p:sp>
          <p:nvSpPr>
            <p:cNvPr id="285" name="Line 25"/>
            <p:cNvSpPr/>
            <p:nvPr/>
          </p:nvSpPr>
          <p:spPr>
            <a:xfrm flipH="1">
              <a:off x="4082760" y="3927960"/>
              <a:ext cx="144792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 flipH="1">
              <a:off x="4569480" y="4170960"/>
              <a:ext cx="205200" cy="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27"/>
          <p:cNvGrpSpPr/>
          <p:nvPr/>
        </p:nvGrpSpPr>
        <p:grpSpPr>
          <a:xfrm>
            <a:off x="4092480" y="4410360"/>
            <a:ext cx="1501920" cy="237600"/>
            <a:chOff x="4092480" y="4410360"/>
            <a:chExt cx="1501920" cy="237600"/>
          </a:xfrm>
        </p:grpSpPr>
        <p:sp>
          <p:nvSpPr>
            <p:cNvPr id="288" name="Line 28"/>
            <p:cNvSpPr/>
            <p:nvPr/>
          </p:nvSpPr>
          <p:spPr>
            <a:xfrm flipH="1" flipV="1">
              <a:off x="4092480" y="4410360"/>
              <a:ext cx="150192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 flipV="1">
              <a:off x="4597560" y="4490280"/>
              <a:ext cx="21276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Oval 8"/>
          <p:cNvSpPr/>
          <p:nvPr/>
        </p:nvSpPr>
        <p:spPr>
          <a:xfrm>
            <a:off x="3932280" y="4260960"/>
            <a:ext cx="274680" cy="274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5505480" y="458640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5479920" y="3867120"/>
            <a:ext cx="13680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5043600" y="308304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4006800" y="2736720"/>
            <a:ext cx="136440" cy="13680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5276160" y="2847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4 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4425120" y="236484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Нижний колонтитул 3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94760" y="106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Astronauts are constantly in free fa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33" descr="_x0018_skylabweightlessness.jpg  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119240" y="2405160"/>
            <a:ext cx="3911400" cy="3593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_x0019_skylabweightlessness2.jpg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6567480" y="1806480"/>
            <a:ext cx="1309680" cy="4797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2" descr="_x0018_earth-weightlessness.jpg                                       0003951C_x000c_Macintosh HD                   B746699A:"/>
          <p:cNvPicPr/>
          <p:nvPr/>
        </p:nvPicPr>
        <p:blipFill>
          <a:blip r:embed="rId3"/>
          <a:stretch/>
        </p:blipFill>
        <p:spPr>
          <a:xfrm>
            <a:off x="4659480" y="1973160"/>
            <a:ext cx="4222440" cy="468324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55600" y="1825560"/>
            <a:ext cx="86216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ppose a GPS satellite is 50 m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bove Madison, and at this moment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t rest (i.e., its velocity is 0 km/sec). I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ext few minutes you would expect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atellit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rise further away from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move in a circular orbit about the Eart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land in the center of Mad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It depends on the mass of the satell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81040" y="4786200"/>
            <a:ext cx="443880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6792840" y="5227560"/>
            <a:ext cx="1666800" cy="1630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7655040" y="2041560"/>
            <a:ext cx="249120" cy="216000"/>
          </a:xfrm>
          <a:prstGeom prst="hexagon">
            <a:avLst>
              <a:gd name="adj" fmla="val 28833"/>
              <a:gd name="vf" fmla="val 11547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984800" y="1985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7507440" y="5056200"/>
            <a:ext cx="249120" cy="159840"/>
            <a:chOff x="7507440" y="5056200"/>
            <a:chExt cx="249120" cy="159840"/>
          </a:xfrm>
        </p:grpSpPr>
        <p:sp>
          <p:nvSpPr>
            <p:cNvPr id="311" name="Oval 10"/>
            <p:cNvSpPr/>
            <p:nvPr/>
          </p:nvSpPr>
          <p:spPr>
            <a:xfrm>
              <a:off x="7586640" y="5056200"/>
              <a:ext cx="1015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7507440" y="5136840"/>
              <a:ext cx="249120" cy="7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6689880" y="299232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Oval 6"/>
          <p:cNvSpPr/>
          <p:nvPr/>
        </p:nvSpPr>
        <p:spPr>
          <a:xfrm>
            <a:off x="7323120" y="3594240"/>
            <a:ext cx="12528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7962840" y="3600360"/>
            <a:ext cx="125640" cy="136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7380360" y="366228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7543800" y="3407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7265520" y="3720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8071920" y="355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36960" y="229068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order for planet P to travel in a circle around the Su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entral Force = Gravitational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3"/>
              <p:cNvSpPr txBox="1"/>
              <p:nvPr/>
            </p:nvSpPr>
            <p:spPr>
              <a:xfrm>
                <a:off x="1336680" y="3637080"/>
                <a:ext cx="17384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4"/>
              <p:cNvSpPr txBox="1"/>
              <p:nvPr/>
            </p:nvSpPr>
            <p:spPr>
              <a:xfrm>
                <a:off x="1622520" y="4460760"/>
                <a:ext cx="1127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5"/>
              <p:cNvSpPr txBox="1"/>
              <p:nvPr/>
            </p:nvSpPr>
            <p:spPr>
              <a:xfrm>
                <a:off x="1663560" y="540864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6"/>
          <p:cNvSpPr/>
          <p:nvPr/>
        </p:nvSpPr>
        <p:spPr>
          <a:xfrm>
            <a:off x="3897720" y="4754160"/>
            <a:ext cx="510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pends only on distan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not on mass of pl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creases w. greater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81240" y="5249880"/>
            <a:ext cx="1792080" cy="97632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3367080" y="5125680"/>
            <a:ext cx="669960" cy="3510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3371760" y="5810400"/>
            <a:ext cx="601920" cy="2394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0"/>
          <p:cNvSpPr/>
          <p:nvPr/>
        </p:nvSpPr>
        <p:spPr>
          <a:xfrm flipH="1">
            <a:off x="1428480" y="373068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1"/>
          <p:cNvSpPr/>
          <p:nvPr/>
        </p:nvSpPr>
        <p:spPr>
          <a:xfrm flipH="1">
            <a:off x="2511000" y="4869000"/>
            <a:ext cx="79560" cy="10296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22"/>
          <p:cNvSpPr/>
          <p:nvPr/>
        </p:nvSpPr>
        <p:spPr>
          <a:xfrm flipH="1">
            <a:off x="1739880" y="4870440"/>
            <a:ext cx="23832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2703240" y="374652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54080" y="159876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"/>
              <p:cNvSpPr txBox="1"/>
              <p:nvPr/>
            </p:nvSpPr>
            <p:spPr>
              <a:xfrm>
                <a:off x="2197080" y="194940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Rectangle 6"/>
          <p:cNvSpPr/>
          <p:nvPr/>
        </p:nvSpPr>
        <p:spPr>
          <a:xfrm>
            <a:off x="1814400" y="1779480"/>
            <a:ext cx="16797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6454800" y="4708440"/>
                <a:ext cx="194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A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2027160" y="2709720"/>
                <a:ext cx="1436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2025720" y="3349800"/>
                <a:ext cx="1379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2043000" y="4145040"/>
                <a:ext cx="1571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1"/>
              <p:cNvSpPr txBox="1"/>
              <p:nvPr/>
            </p:nvSpPr>
            <p:spPr>
              <a:xfrm>
                <a:off x="1922400" y="4584600"/>
                <a:ext cx="130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1841400" y="5621400"/>
                <a:ext cx="1592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8" name="Rectangle 13"/>
          <p:cNvSpPr/>
          <p:nvPr/>
        </p:nvSpPr>
        <p:spPr>
          <a:xfrm>
            <a:off x="1762200" y="5537160"/>
            <a:ext cx="174600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4"/>
          <p:cNvSpPr/>
          <p:nvPr/>
        </p:nvSpPr>
        <p:spPr>
          <a:xfrm flipH="1" flipV="1">
            <a:off x="3685680" y="3141360"/>
            <a:ext cx="2584440" cy="18478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f12"/>
                </a:solidFill>
                <a:latin typeface="Times New Roman"/>
              </a:rPr>
              <a:t>Bit of Administratio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71160"/>
            <a:ext cx="914400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6-Week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Monday, March 1, 7:15-8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130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30b"/>
                </a:solidFill>
                <a:latin typeface="Times New Roman"/>
              </a:rPr>
              <a:t>56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multiple cho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2/3 conceptual use of th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1/3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All material in lecture, discussion, ho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through today; readings on that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Review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Sunday, February 29, 6:30-7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Will answer questions, no new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41120" y="156528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58880" y="5691240"/>
            <a:ext cx="1836720" cy="669960"/>
          </a:xfrm>
          <a:prstGeom prst="horizontalScroll">
            <a:avLst>
              <a:gd name="adj" fmla="val 12500"/>
            </a:avLst>
          </a:prstGeom>
          <a:solidFill>
            <a:srgbClr val="f9ff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888840" y="1925640"/>
                <a:ext cx="1590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7"/>
          <p:cNvSpPr/>
          <p:nvPr/>
        </p:nvSpPr>
        <p:spPr>
          <a:xfrm>
            <a:off x="809640" y="1841400"/>
            <a:ext cx="17463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072600" y="195300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cm, sec, g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525600" y="3065400"/>
                <a:ext cx="2261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y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Text Box 10"/>
          <p:cNvSpPr/>
          <p:nvPr/>
        </p:nvSpPr>
        <p:spPr>
          <a:xfrm>
            <a:off x="3169440" y="32058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the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1058760" y="4672080"/>
                <a:ext cx="1149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Text Box 12"/>
          <p:cNvSpPr/>
          <p:nvPr/>
        </p:nvSpPr>
        <p:spPr>
          <a:xfrm>
            <a:off x="2806560" y="473616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AU, years, solar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1276200" y="5878440"/>
                <a:ext cx="7668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0" name="Text Box 14"/>
          <p:cNvSpPr/>
          <p:nvPr/>
        </p:nvSpPr>
        <p:spPr>
          <a:xfrm>
            <a:off x="2892600" y="5704560"/>
            <a:ext cx="54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objects orbiting the Sun (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= 1 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2176560" y="3753000"/>
            <a:ext cx="250560" cy="171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2537640" y="3785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 Solar M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4"/>
          <p:cNvSpPr/>
          <p:nvPr/>
        </p:nvSpPr>
        <p:spPr>
          <a:xfrm>
            <a:off x="1440000" y="225360"/>
            <a:ext cx="6089400" cy="6396120"/>
          </a:xfrm>
          <a:prstGeom prst="verticalScroll">
            <a:avLst>
              <a:gd name="adj" fmla="val 12500"/>
            </a:avLst>
          </a:prstGeom>
          <a:solidFill>
            <a:srgbClr val="fff9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Nature and nature’s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Lay hid in the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God said, “Let Newton be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And all was ligh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130b"/>
                </a:solidFill>
                <a:latin typeface="Times New Roman"/>
              </a:rPr>
              <a:t>Alexander P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120680"/>
            <a:ext cx="8709120" cy="55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Oval 31"/>
          <p:cNvSpPr/>
          <p:nvPr/>
        </p:nvSpPr>
        <p:spPr>
          <a:xfrm>
            <a:off x="3583080" y="2779560"/>
            <a:ext cx="2098440" cy="1292400"/>
          </a:xfrm>
          <a:prstGeom prst="ellipse">
            <a:avLst/>
          </a:prstGeom>
          <a:solidFill>
            <a:srgbClr val="ffd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192400" y="1825560"/>
            <a:ext cx="64620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6089760" y="1784520"/>
            <a:ext cx="64584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2840040" y="2143080"/>
            <a:ext cx="58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7"/>
          <p:cNvSpPr/>
          <p:nvPr/>
        </p:nvSpPr>
        <p:spPr>
          <a:xfrm flipH="1">
            <a:off x="5499000" y="2087280"/>
            <a:ext cx="588960" cy="1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669640" y="2196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2883600" y="2223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5000" y="44312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1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89040" y="49010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2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83000" y="539352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Distance between objects (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05680" y="5818680"/>
            <a:ext cx="29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= 6.67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2498760" y="1269000"/>
            <a:ext cx="3917880" cy="398880"/>
            <a:chOff x="2498760" y="1269000"/>
            <a:chExt cx="3917880" cy="398880"/>
          </a:xfrm>
        </p:grpSpPr>
        <p:sp>
          <p:nvSpPr>
            <p:cNvPr id="68" name="Line 24"/>
            <p:cNvSpPr/>
            <p:nvPr/>
          </p:nvSpPr>
          <p:spPr>
            <a:xfrm>
              <a:off x="2498760" y="12812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6416640" y="12747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2498760" y="144000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4873680" y="144468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4270320" y="126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Object 30"/>
              <p:cNvSpPr txBox="1"/>
              <p:nvPr/>
            </p:nvSpPr>
            <p:spPr>
              <a:xfrm>
                <a:off x="3828960" y="3033720"/>
                <a:ext cx="1675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0760" y="81504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Galileo’s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54080" y="1508040"/>
            <a:ext cx="8810640" cy="506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987880" y="2482920"/>
            <a:ext cx="827280" cy="82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33"/>
          <p:cNvSpPr/>
          <p:nvPr/>
        </p:nvSpPr>
        <p:spPr>
          <a:xfrm>
            <a:off x="7115040" y="2465280"/>
            <a:ext cx="827280" cy="82872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6396120" y="3311640"/>
            <a:ext cx="1116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7535880" y="329400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6"/>
              <p:cNvSpPr txBox="1"/>
              <p:nvPr/>
            </p:nvSpPr>
            <p:spPr>
              <a:xfrm>
                <a:off x="1079640" y="1795320"/>
                <a:ext cx="2028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7"/>
              <p:cNvSpPr txBox="1"/>
              <p:nvPr/>
            </p:nvSpPr>
            <p:spPr>
              <a:xfrm>
                <a:off x="1028880" y="2514600"/>
                <a:ext cx="2144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8"/>
              <p:cNvSpPr txBox="1"/>
              <p:nvPr/>
            </p:nvSpPr>
            <p:spPr>
              <a:xfrm>
                <a:off x="765000" y="3733920"/>
                <a:ext cx="4346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ea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722160" y="4525920"/>
                <a:ext cx="4597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o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AutoShape 41"/>
          <p:cNvSpPr/>
          <p:nvPr/>
        </p:nvSpPr>
        <p:spPr>
          <a:xfrm rot="5435400">
            <a:off x="5939280" y="3653640"/>
            <a:ext cx="1247760" cy="516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6144120" y="5633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6522480" y="3816720"/>
            <a:ext cx="68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629840" y="3391200"/>
            <a:ext cx="76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6400800" y="331488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49"/>
          <p:cNvSpPr/>
          <p:nvPr/>
        </p:nvSpPr>
        <p:spPr>
          <a:xfrm>
            <a:off x="7539120" y="329724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6540120" y="3424680"/>
            <a:ext cx="5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7715880" y="3373920"/>
            <a:ext cx="6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52"/>
          <p:cNvSpPr/>
          <p:nvPr/>
        </p:nvSpPr>
        <p:spPr>
          <a:xfrm flipH="1">
            <a:off x="2947680" y="370836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53"/>
          <p:cNvSpPr/>
          <p:nvPr/>
        </p:nvSpPr>
        <p:spPr>
          <a:xfrm flipH="1">
            <a:off x="3757320" y="398628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54"/>
          <p:cNvSpPr/>
          <p:nvPr/>
        </p:nvSpPr>
        <p:spPr>
          <a:xfrm flipH="1">
            <a:off x="3082680" y="453564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55"/>
          <p:cNvSpPr/>
          <p:nvPr/>
        </p:nvSpPr>
        <p:spPr>
          <a:xfrm flipH="1">
            <a:off x="3814920" y="4800600"/>
            <a:ext cx="47592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67560" y="91440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Mass    = Amount of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 = Force Due t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8"/>
          <p:cNvGrpSpPr/>
          <p:nvPr/>
        </p:nvGrpSpPr>
        <p:grpSpPr>
          <a:xfrm>
            <a:off x="2828880" y="2979360"/>
            <a:ext cx="3317760" cy="1851480"/>
            <a:chOff x="2828880" y="2979360"/>
            <a:chExt cx="3317760" cy="1851480"/>
          </a:xfrm>
        </p:grpSpPr>
        <p:sp>
          <p:nvSpPr>
            <p:cNvPr id="103" name="Line 23"/>
            <p:cNvSpPr/>
            <p:nvPr/>
          </p:nvSpPr>
          <p:spPr>
            <a:xfrm>
              <a:off x="4468680" y="2982960"/>
              <a:ext cx="0" cy="18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 flipH="1">
              <a:off x="3833640" y="2982960"/>
              <a:ext cx="635040" cy="9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4468680" y="2979360"/>
              <a:ext cx="648000" cy="92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5137200" y="39243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>
              <a:off x="2828880" y="3884760"/>
              <a:ext cx="100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5251320" y="3470400"/>
              <a:ext cx="828720" cy="430200"/>
            </a:xfrm>
            <a:prstGeom prst="rect">
              <a:avLst/>
            </a:prstGeom>
            <a:solidFill>
              <a:srgbClr val="337bb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0 k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Group 30"/>
            <p:cNvGrpSpPr/>
            <p:nvPr/>
          </p:nvGrpSpPr>
          <p:grpSpPr>
            <a:xfrm>
              <a:off x="3173040" y="3186360"/>
              <a:ext cx="355680" cy="690840"/>
              <a:chOff x="3173040" y="3186360"/>
              <a:chExt cx="355680" cy="690840"/>
            </a:xfrm>
          </p:grpSpPr>
          <p:sp>
            <p:nvSpPr>
              <p:cNvPr id="110" name="Line 31"/>
              <p:cNvSpPr/>
              <p:nvPr/>
            </p:nvSpPr>
            <p:spPr>
              <a:xfrm flipH="1">
                <a:off x="3222000" y="3547080"/>
                <a:ext cx="130680" cy="32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2"/>
              <p:cNvSpPr/>
              <p:nvPr/>
            </p:nvSpPr>
            <p:spPr>
              <a:xfrm>
                <a:off x="3371760" y="3581280"/>
                <a:ext cx="135000" cy="29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3"/>
              <p:cNvSpPr/>
              <p:nvPr/>
            </p:nvSpPr>
            <p:spPr>
              <a:xfrm flipH="1" flipV="1">
                <a:off x="3345120" y="3315600"/>
                <a:ext cx="9000" cy="26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34"/>
              <p:cNvSpPr/>
              <p:nvPr/>
            </p:nvSpPr>
            <p:spPr>
              <a:xfrm>
                <a:off x="3365640" y="3402000"/>
                <a:ext cx="16308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35"/>
              <p:cNvSpPr/>
              <p:nvPr/>
            </p:nvSpPr>
            <p:spPr>
              <a:xfrm flipH="1">
                <a:off x="3173040" y="3385080"/>
                <a:ext cx="19152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Oval 36"/>
              <p:cNvSpPr/>
              <p:nvPr/>
            </p:nvSpPr>
            <p:spPr>
              <a:xfrm rot="21480000">
                <a:off x="3290760" y="3188880"/>
                <a:ext cx="141840" cy="1440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Line 39"/>
          <p:cNvSpPr/>
          <p:nvPr/>
        </p:nvSpPr>
        <p:spPr>
          <a:xfrm>
            <a:off x="3367080" y="3979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0"/>
          <p:cNvSpPr/>
          <p:nvPr/>
        </p:nvSpPr>
        <p:spPr>
          <a:xfrm>
            <a:off x="5638680" y="404172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1939680" y="4483440"/>
            <a:ext cx="5173560" cy="1627920"/>
            <a:chOff x="1939680" y="4483440"/>
            <a:chExt cx="5173560" cy="1627920"/>
          </a:xfrm>
        </p:grpSpPr>
        <p:sp>
          <p:nvSpPr>
            <p:cNvPr id="119" name="AutoShape 38"/>
            <p:cNvSpPr/>
            <p:nvPr/>
          </p:nvSpPr>
          <p:spPr>
            <a:xfrm rot="5435400">
              <a:off x="3902400" y="288036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2927880" y="44834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5144040" y="45118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107240" y="52470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r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55"/>
          <p:cNvGrpSpPr/>
          <p:nvPr/>
        </p:nvGrpSpPr>
        <p:grpSpPr>
          <a:xfrm>
            <a:off x="1955520" y="4471200"/>
            <a:ext cx="5173560" cy="1643400"/>
            <a:chOff x="1955520" y="4471200"/>
            <a:chExt cx="5173560" cy="1643400"/>
          </a:xfrm>
        </p:grpSpPr>
        <p:sp>
          <p:nvSpPr>
            <p:cNvPr id="124" name="AutoShape 48"/>
            <p:cNvSpPr/>
            <p:nvPr/>
          </p:nvSpPr>
          <p:spPr>
            <a:xfrm rot="5435400">
              <a:off x="3918240" y="288360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cff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49"/>
            <p:cNvSpPr/>
            <p:nvPr/>
          </p:nvSpPr>
          <p:spPr>
            <a:xfrm>
              <a:off x="3007800" y="448704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50"/>
            <p:cNvSpPr/>
            <p:nvPr/>
          </p:nvSpPr>
          <p:spPr>
            <a:xfrm>
              <a:off x="5223960" y="447120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4094280" y="5250600"/>
              <a:ext cx="790200" cy="398880"/>
            </a:xfrm>
            <a:prstGeom prst="rect">
              <a:avLst/>
            </a:prstGeom>
            <a:solidFill>
              <a:srgbClr val="fc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57"/>
          <p:cNvGrpSpPr/>
          <p:nvPr/>
        </p:nvGrpSpPr>
        <p:grpSpPr>
          <a:xfrm>
            <a:off x="3065400" y="4440960"/>
            <a:ext cx="2874960" cy="405000"/>
            <a:chOff x="3065400" y="4440960"/>
            <a:chExt cx="2874960" cy="405000"/>
          </a:xfrm>
        </p:grpSpPr>
        <p:sp>
          <p:nvSpPr>
            <p:cNvPr id="129" name="Text Box 54"/>
            <p:cNvSpPr/>
            <p:nvPr/>
          </p:nvSpPr>
          <p:spPr>
            <a:xfrm>
              <a:off x="3065400" y="444708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56"/>
            <p:cNvSpPr/>
            <p:nvPr/>
          </p:nvSpPr>
          <p:spPr>
            <a:xfrm>
              <a:off x="5270400" y="444096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35080" y="1654200"/>
            <a:ext cx="86216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n much of the European continent, the heft of people is called their mass and measured in kilograms. Like in the United States, they measure themselves by stepping on a bathroom floor sc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ue or False: Strictly speaking, when they step on the scale they are not measuring their mass but instead are measuring their weigh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Its deba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0080" y="10976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35"/>
          <p:cNvGrpSpPr/>
          <p:nvPr/>
        </p:nvGrpSpPr>
        <p:grpSpPr>
          <a:xfrm>
            <a:off x="929880" y="2597400"/>
            <a:ext cx="355680" cy="690840"/>
            <a:chOff x="929880" y="2597400"/>
            <a:chExt cx="355680" cy="690840"/>
          </a:xfrm>
        </p:grpSpPr>
        <p:sp>
          <p:nvSpPr>
            <p:cNvPr id="140" name="Line 36"/>
            <p:cNvSpPr/>
            <p:nvPr/>
          </p:nvSpPr>
          <p:spPr>
            <a:xfrm flipH="1">
              <a:off x="978840" y="2958120"/>
              <a:ext cx="13068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1128600" y="299232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 flipH="1" flipV="1">
              <a:off x="1101960" y="272664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>
              <a:off x="1122480" y="2813040"/>
              <a:ext cx="16308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40"/>
            <p:cNvSpPr/>
            <p:nvPr/>
          </p:nvSpPr>
          <p:spPr>
            <a:xfrm flipH="1">
              <a:off x="929880" y="2796120"/>
              <a:ext cx="19152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Oval 41"/>
            <p:cNvSpPr/>
            <p:nvPr/>
          </p:nvSpPr>
          <p:spPr>
            <a:xfrm rot="21480000">
              <a:off x="1047600" y="2599920"/>
              <a:ext cx="14184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Oval 42"/>
          <p:cNvSpPr/>
          <p:nvPr/>
        </p:nvSpPr>
        <p:spPr>
          <a:xfrm>
            <a:off x="1293840" y="283536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70040" y="3265560"/>
            <a:ext cx="69192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51" name="Rectangle 47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55" name="Rectangle 52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54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Group 55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59" name="Rectangle 56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8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Group 59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63" name="Rectangle 60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1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62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63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167" name="Rectangle 64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65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66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Нижний колонтитул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175" name="Line 7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12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Oval 13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84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88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92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96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00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43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3120" y="2016000"/>
            <a:ext cx="8621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fter jumping off the building (and before landing!), what weight will the scale read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2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2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3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23800" y="3538440"/>
            <a:ext cx="203508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21:50:03Z</dcterms:created>
  <dc:creator>Robert Mathieu</dc:creator>
  <dc:description/>
  <dc:language>en-US</dc:language>
  <cp:lastModifiedBy>Asus</cp:lastModifiedBy>
  <dcterms:modified xsi:type="dcterms:W3CDTF">2018-03-09T16:22:48Z</dcterms:modified>
  <cp:revision>253</cp:revision>
  <dc:subject/>
  <dc:title>PowerPoint Presentation</dc:title>
</cp:coreProperties>
</file>