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6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13.png" ContentType="image/png"/>
  <Override PartName="/ppt/media/image8.wmf" ContentType="image/x-wmf"/>
  <Override PartName="/ppt/media/image40.png" ContentType="image/png"/>
  <Override PartName="/ppt/media/image38.png" ContentType="image/png"/>
  <Override PartName="/ppt/media/image41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39.png" ContentType="image/png"/>
  <Override PartName="/ppt/media/image9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0.png" ContentType="image/png"/>
  <Override PartName="/ppt/media/image28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C922-67BA-400D-8333-D21534999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4A5E-9B7B-46FF-8BA1-E6D78F54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88D7-81DF-42FC-BA9E-7B3725A56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06DD-BD55-43F4-A074-7F50F6E58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92CD-CF9F-4802-9B4C-0A5042A17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BFF2-A715-460F-A1D0-F82E99A9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E0053-9773-40E5-B5FD-D52F1126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94E3-B059-4DE1-AF41-79A8A5DA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DD9F4-6DF3-4231-B21D-D51F22D0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4AB9-B58D-48BB-B197-F35922B3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943D-CE53-4EF6-8E15-F8CC0362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94FE-5B26-4B43-ADA1-47BCAB7B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1A3D6-B1DA-4B1D-95BC-F832529E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109A-8E45-4572-9E4B-C340384C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CD4C-80A1-4E6F-AFB2-6017AD24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C7ED-9319-4806-8DE6-8F0BEB816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B0DC1-6652-4395-8167-4316DFE91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5E4BA-0B85-4494-94F0-A8BEE42F0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3C321-5B35-46B8-A39D-0A54C0EB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3EBD6-715E-41D0-B90F-E626A717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AF461-C26B-4880-8856-D75BF319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41192-B171-4C3B-AE38-7FF21849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2375-B717-4F00-B3B7-F8CA93D5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EF55A-CA89-4BA4-8964-D075F4F6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C5444-9AED-477A-9A48-7408FA63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3832B-62CB-4C15-A7B8-9CD45516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9484F-140F-48F5-9661-3F302266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4BCC8-FEA0-4853-9ADA-E323CE5F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CB89B-7C15-450A-AA8F-4D802D70A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844F0-14C8-42B1-A83A-67323648A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1D0DC-1986-434A-8132-58C76797E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BB83B-22BD-444F-9AFA-3F4FD921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D0F9D-07B0-4280-9810-FAD54FDE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54F8-84A6-4D9D-B2D1-84B4D194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E1B78-7DA0-45F7-9742-99304B03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43A57-0B40-4475-9DF6-7B1E9D06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55F4B-908C-44EC-8358-D544A4BA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0F80C-EC89-4059-A4E3-55B14BD0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4B55D-9608-497B-807B-7222ECC2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C5CA7-58A8-4FC5-9B22-79C4E2AE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16832-8A06-442A-86D1-658A19B8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1DA8D-C10E-4D3C-8933-32836B3A2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0B06A-C68B-4BA4-9623-1258EC7FA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3E025-6E4D-4D69-94F6-3B5C10E60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8926-C712-432E-96E7-FDB1F022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E9F98-8155-4D48-81D3-41E586C9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F33D5-F3D1-4F70-A30F-7D208899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705E0-3852-4DA6-AAF4-BB5D3ED9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9CB13-683B-436B-B9A4-273A3DA8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04D84-8AAE-43C8-B380-1E80A242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81E90-D0DA-4AF9-8777-E6B3E002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EDAEC-3709-4900-9CCA-35F379EC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6B8A5-1E64-4C5F-8340-6D9E961A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54815-F51B-4B38-ADFA-8894A69E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AA919-9DBA-4AC1-8674-45C8F6D9B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0C33-8751-4F98-9AB9-AC004B8E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D5F7F-007F-45F1-B036-937523FED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BDB4D-CA6B-47EA-A540-04957C7DF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BC113-A9B8-47D7-88AA-7CB5593A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64527-A254-42B0-AB33-ABC3FE56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3EBAE-EBCC-4779-AA62-ECCCD0B0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373D0-9169-498C-999F-5408E628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FE249-0512-4B24-AC63-E23C44DD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D78A8-DE0F-40E2-8EF6-11D34D1B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C4B78-C214-43BB-89F3-2C85A92D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65ABA-BF19-46CF-A8D6-5A6355C1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E00F-C607-4A5C-BE57-09E7A0D0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06F55-4A94-4211-9D3B-F6D4C55D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B7294-8121-4A78-88CE-AA22AB30A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16632-2FA3-4D99-81B9-E906C528E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8EC3E-A80A-4BA5-BCAA-4221A1A6C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328E4-9579-4E6B-8C35-BD92B7CE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0E73A-9502-4D3A-9444-2541F217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7B1DC-EF8F-4C20-B1EB-6F7885D7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9774F-FA22-4770-8E7D-E8520700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FB052-5015-4C7C-843D-29D2D692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C68FB-6268-4244-AF80-02F39943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879B-ED36-48A0-B282-94AC55FC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E2968-8C4C-4A17-BB37-31C43405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357EB-44E2-4DC1-B119-8DDBA7AF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BC490-A14A-4BD7-8691-03F8A139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463F1-B13F-4DBB-9F20-458F90514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6C6B0-E535-4DCA-9EEA-74FFCBD8A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64EF1-5BCB-47C6-B147-AED88B1A9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D1E16-719B-4B34-9095-3057AE47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E131F-C827-4730-8B19-9F2E51B94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F3BBA-1759-4E99-B76F-69F15CB7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5E038-12DE-4CE1-A1D2-34EDA91F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A620-515A-47F2-896F-057C7A60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4E266-8A71-45DF-9758-D7DEF7C2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BC327-DBA1-4C68-823C-92B9351B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78C9B-DEB5-4256-9A91-51365457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AD98C-5E84-42C9-9744-633D324B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4FD35-0321-4F26-816B-4A7F3EFB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8EEDE-3D54-4854-BA82-F73983FA0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9C25A-BF36-461F-8E48-9DC88935F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2D73-6CCD-4A31-9E85-7CD4DD9553B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C3A3-FA6A-473E-BF35-52CDB187BBB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7606-8A9E-4575-BBAA-E38B0BE7CC90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352A-EBA1-4CDB-992A-79FB98F75CE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5E0C-273A-429E-BC31-C57F2E266F61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B4EE-B5A1-4077-847E-C0BDF84B5F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6851-5825-42CF-8C8B-1B86D1E3D233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3FA9-C774-4BF9-AE5B-0A915EC89B0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CFE4-D562-4416-8BC1-A21542D6D37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6209-8204-4B2F-9529-D119E74266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3CF2-88A0-4117-9DE8-9BB855D64796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D558-4BF6-4B5D-9CD6-40BB09385C2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5CA5-E355-49A3-A584-FDFC8700416C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0CE9-A718-4737-8A89-4B09A992292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7DCD-AFBF-4709-9A49-A777F487EA9D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B7AA-9E20-4B2E-AC8D-C7093BD1C68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../Desktop/Newton_s_First_Law_of_Motion.asf" TargetMode="External"/><Relationship Id="rId2" Type="http://schemas.openxmlformats.org/officeDocument/2006/relationships/image" Target="../media/image21.pn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pn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slide" Target="slide21.xml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1.pn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19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slide" Target="slide23.xml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1.png"/><Relationship Id="rId3" Type="http://schemas.openxmlformats.org/officeDocument/2006/relationships/slide" Target="slide25.xm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7.xml"/><Relationship Id="rId3" Type="http://schemas.openxmlformats.org/officeDocument/2006/relationships/slide" Target="slide27.xml"/><Relationship Id="rId4" Type="http://schemas.openxmlformats.org/officeDocument/2006/relationships/slide" Target="slide27.xml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1.png"/><Relationship Id="rId3" Type="http://schemas.openxmlformats.org/officeDocument/2006/relationships/slide" Target="slide28.xm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25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jpe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know that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“motion”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s any object that is mov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know that we describe motion in 3 way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HOW it mov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DIRECTION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it mov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SPEED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it mov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C:\Program Files\Microsoft Office\MEDIA\CAGCAT10\j0212957.wmf"/>
          <p:cNvPicPr/>
          <p:nvPr/>
        </p:nvPicPr>
        <p:blipFill>
          <a:blip r:embed="rId2"/>
          <a:stretch/>
        </p:blipFill>
        <p:spPr>
          <a:xfrm>
            <a:off x="1447920" y="4114800"/>
            <a:ext cx="4039920" cy="1758960"/>
          </a:xfrm>
          <a:prstGeom prst="rect">
            <a:avLst/>
          </a:prstGeom>
          <a:ln w="0">
            <a:noFill/>
          </a:ln>
        </p:spPr>
      </p:pic>
      <p:sp>
        <p:nvSpPr>
          <p:cNvPr id="373" name="Action Button: Forward or Next 4">
            <a:hlinkClick r:id="" action="ppaction://hlinkshowjump?jump=nextslide"/>
            <a:hlinkClick r:id="rId3"/>
          </p:cNvPr>
          <p:cNvSpPr/>
          <p:nvPr/>
        </p:nvSpPr>
        <p:spPr>
          <a:xfrm>
            <a:off x="784872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have a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ockey puc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not moving, it is at re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get the puck to move, you have to do something to the puck lik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it i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 This is the forc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ithout the force, it will stay in the same spot and be at res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tch this to learn more! 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..\Desktop\Newton_s_First_Law_of_Motion.asf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3" name="Title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4" name="Action Button: Forward or Next 3">
            <a:hlinkClick r:id="" action="ppaction://hlinkshowjump?jump=nextslide"/>
            <a:hlinkClick r:id="rId3"/>
          </p:cNvPr>
          <p:cNvSpPr/>
          <p:nvPr/>
        </p:nvSpPr>
        <p:spPr>
          <a:xfrm>
            <a:off x="77724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000"/>
                            </p:stCondLst>
                            <p:childTnLst>
                              <p:par>
                                <p:cTn id="30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8000"/>
                            </p:stCondLst>
                            <p:childTnLst>
                              <p:par>
                                <p:cTn id="31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An object at rest remains at rest unless acted on by another force.”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object will stay at rest or “look still” until you do something to make it move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toy car stays at the starting lin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(at rest)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til you push it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(apply a force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hockey puck sits on the ic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(at rest)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til you push it with the stick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(apply a force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sp>
        <p:nvSpPr>
          <p:cNvPr id="418" name="Action Button: Forward or Next 3">
            <a:hlinkClick r:id="" action="ppaction://hlinkshowjump?jump=nextslide"/>
            <a:hlinkClick r:id="rId2"/>
          </p:cNvPr>
          <p:cNvSpPr/>
          <p:nvPr/>
        </p:nvSpPr>
        <p:spPr>
          <a:xfrm>
            <a:off x="7924680" y="5791320"/>
            <a:ext cx="914400" cy="73800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000"/>
              <a:gd name="textAreaBottom" fmla="*/ 690480 h 738000"/>
            </a:gdLst>
            <a:ahLst/>
            <a:rect l="textAreaLeft" t="textAreaTop" r="textAreaRight" b="textAreaBottom"/>
            <a:pathLst>
              <a:path w="26760" h="21600">
                <a:moveTo>
                  <a:pt x="0" y="0"/>
                </a:moveTo>
                <a:lnTo>
                  <a:pt x="26760" y="0"/>
                </a:lnTo>
                <a:lnTo>
                  <a:pt x="26760" y="21600"/>
                </a:lnTo>
                <a:lnTo>
                  <a:pt x="0" y="21600"/>
                </a:lnTo>
                <a:close/>
              </a:path>
              <a:path fill="lightenLess" w="26760" h="21600">
                <a:moveTo>
                  <a:pt x="0" y="0"/>
                </a:moveTo>
                <a:lnTo>
                  <a:pt x="26760" y="0"/>
                </a:lnTo>
                <a:lnTo>
                  <a:pt x="25360" y="1400"/>
                </a:lnTo>
                <a:lnTo>
                  <a:pt x="1400" y="1400"/>
                </a:lnTo>
                <a:close/>
              </a:path>
              <a:path fill="darken" w="26760" h="21600">
                <a:moveTo>
                  <a:pt x="26760" y="0"/>
                </a:moveTo>
                <a:lnTo>
                  <a:pt x="26760" y="21600"/>
                </a:lnTo>
                <a:lnTo>
                  <a:pt x="25360" y="20200"/>
                </a:lnTo>
                <a:lnTo>
                  <a:pt x="25360" y="1400"/>
                </a:lnTo>
                <a:close/>
              </a:path>
              <a:path fill="darkenLess" w="26760" h="21600">
                <a:moveTo>
                  <a:pt x="26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60" y="20200"/>
                </a:lnTo>
                <a:close/>
              </a:path>
              <a:path fill="lighten" w="26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760" h="21600">
                <a:moveTo>
                  <a:pt x="6374" y="3794"/>
                </a:moveTo>
                <a:lnTo>
                  <a:pt x="20387" y="10800"/>
                </a:lnTo>
                <a:lnTo>
                  <a:pt x="637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6000"/>
                            </p:stCondLst>
                            <p:childTnLst>
                              <p:par>
                                <p:cTn id="35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nk of a train-that train drives down a straight track and stays going in a straight direc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6" descr="oct611es5.gif"/>
          <p:cNvPicPr/>
          <p:nvPr/>
        </p:nvPicPr>
        <p:blipFill>
          <a:blip r:embed="rId2"/>
          <a:stretch/>
        </p:blipFill>
        <p:spPr>
          <a:xfrm>
            <a:off x="2133720" y="3200400"/>
            <a:ext cx="4329000" cy="3057480"/>
          </a:xfrm>
          <a:prstGeom prst="rect">
            <a:avLst/>
          </a:prstGeom>
          <a:ln w="0">
            <a:noFill/>
          </a:ln>
        </p:spPr>
      </p:pic>
      <p:sp>
        <p:nvSpPr>
          <p:cNvPr id="423" name="Action Button: Forward or Next 7">
            <a:hlinkClick r:id="" action="ppaction://hlinkshowjump?jump=nextslide"/>
            <a:hlinkClick r:id="rId3"/>
          </p:cNvPr>
          <p:cNvSpPr/>
          <p:nvPr/>
        </p:nvSpPr>
        <p:spPr>
          <a:xfrm>
            <a:off x="7620120" y="5486400"/>
            <a:ext cx="1218960" cy="1143000"/>
          </a:xfrm>
          <a:custGeom>
            <a:avLst/>
            <a:gdLst>
              <a:gd name="textAreaLeft" fmla="*/ 73800 w 1218960"/>
              <a:gd name="textAreaRight" fmla="*/ 1145160 w 12189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35" h="21600">
                <a:moveTo>
                  <a:pt x="0" y="0"/>
                </a:moveTo>
                <a:lnTo>
                  <a:pt x="23035" y="0"/>
                </a:lnTo>
                <a:lnTo>
                  <a:pt x="23035" y="21600"/>
                </a:lnTo>
                <a:lnTo>
                  <a:pt x="0" y="21600"/>
                </a:lnTo>
                <a:close/>
              </a:path>
              <a:path fill="lightenLess" w="23035" h="21600">
                <a:moveTo>
                  <a:pt x="0" y="0"/>
                </a:moveTo>
                <a:lnTo>
                  <a:pt x="23035" y="0"/>
                </a:lnTo>
                <a:lnTo>
                  <a:pt x="21635" y="1400"/>
                </a:lnTo>
                <a:lnTo>
                  <a:pt x="1400" y="1400"/>
                </a:lnTo>
                <a:close/>
              </a:path>
              <a:path fill="darken" w="23035" h="21600">
                <a:moveTo>
                  <a:pt x="23035" y="0"/>
                </a:moveTo>
                <a:lnTo>
                  <a:pt x="23035" y="21600"/>
                </a:lnTo>
                <a:lnTo>
                  <a:pt x="21635" y="20200"/>
                </a:lnTo>
                <a:lnTo>
                  <a:pt x="21635" y="1400"/>
                </a:lnTo>
                <a:close/>
              </a:path>
              <a:path fill="darkenLess" w="23035" h="21600">
                <a:moveTo>
                  <a:pt x="23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35" y="20200"/>
                </a:lnTo>
                <a:close/>
              </a:path>
              <a:path fill="lighten" w="23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35" h="21600">
                <a:moveTo>
                  <a:pt x="4511" y="3794"/>
                </a:moveTo>
                <a:lnTo>
                  <a:pt x="18524" y="10800"/>
                </a:lnTo>
                <a:lnTo>
                  <a:pt x="4511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happens when the track curves left or right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train turns and goes left or righ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Content Placeholder 3" descr="Xmas 2008 065.jpg"/>
          <p:cNvPicPr/>
          <p:nvPr/>
        </p:nvPicPr>
        <p:blipFill>
          <a:blip r:embed="rId2"/>
          <a:stretch/>
        </p:blipFill>
        <p:spPr>
          <a:xfrm>
            <a:off x="1828800" y="2971800"/>
            <a:ext cx="4044960" cy="3352680"/>
          </a:xfrm>
          <a:prstGeom prst="rect">
            <a:avLst/>
          </a:prstGeom>
          <a:ln w="0">
            <a:noFill/>
          </a:ln>
        </p:spPr>
      </p:pic>
      <p:sp>
        <p:nvSpPr>
          <p:cNvPr id="428" name="Action Button: Forward or Next 7">
            <a:hlinkClick r:id="" action="ppaction://hlinkshowjump?jump=nextslide"/>
            <a:hlinkClick r:id="rId3"/>
          </p:cNvPr>
          <p:cNvSpPr/>
          <p:nvPr/>
        </p:nvSpPr>
        <p:spPr>
          <a:xfrm>
            <a:off x="75438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Нижний колонтитул 8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4000"/>
                            </p:stCondLst>
                            <p:childTnLst>
                              <p:par>
                                <p:cTn id="3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An object in motion in a straight line tends to say in motion in a straight line unless acted upon by another force.”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object will go straight until a force makes it go another direc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r paper airplane flies straight until gravity pushes it d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omas drives straight until the driver makes it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“turn”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ith the track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1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sp>
        <p:nvSpPr>
          <p:cNvPr id="432" name="Action Button: Forward or Next 3">
            <a:hlinkClick r:id="" action="ppaction://hlinkshowjump?jump=nextslide"/>
            <a:hlinkClick r:id="rId2"/>
          </p:cNvPr>
          <p:cNvSpPr/>
          <p:nvPr/>
        </p:nvSpPr>
        <p:spPr>
          <a:xfrm>
            <a:off x="762012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4000"/>
                            </p:stCondLst>
                            <p:childTnLst>
                              <p:par>
                                <p:cTn id="42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6000"/>
                            </p:stCondLst>
                            <p:childTnLst>
                              <p:par>
                                <p:cTn id="42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t’s see what we’ve learned so far about motion!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ive this quiz a try and test your motion knowledge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4" descr="C:\Program Files\Microsoft Office\MEDIA\CAGCAT10\j0299125.wmf"/>
          <p:cNvPicPr/>
          <p:nvPr/>
        </p:nvPicPr>
        <p:blipFill>
          <a:blip r:embed="rId2"/>
          <a:stretch/>
        </p:blipFill>
        <p:spPr>
          <a:xfrm>
            <a:off x="3352680" y="3429000"/>
            <a:ext cx="1812960" cy="2209680"/>
          </a:xfrm>
          <a:prstGeom prst="rect">
            <a:avLst/>
          </a:prstGeom>
          <a:ln w="0">
            <a:noFill/>
          </a:ln>
        </p:spPr>
      </p:pic>
      <p:sp>
        <p:nvSpPr>
          <p:cNvPr id="437" name="Action Button: Forward or Next 4">
            <a:hlinkClick r:id="" action="ppaction://hlinkshowjump?jump=nextslide"/>
            <a:hlinkClick r:id="rId3"/>
          </p:cNvPr>
          <p:cNvSpPr/>
          <p:nvPr/>
        </p:nvSpPr>
        <p:spPr>
          <a:xfrm>
            <a:off x="6858000" y="54100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Any object that is mov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Any object that fl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Any object that drives on the roa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Any object this is sitting stil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0" name="Title 1" descr=""/>
          <p:cNvPicPr/>
          <p:nvPr/>
        </p:nvPicPr>
        <p:blipFill>
          <a:blip r:embed="rId5"/>
          <a:stretch/>
        </p:blipFill>
        <p:spPr>
          <a:xfrm>
            <a:off x="353880" y="268200"/>
            <a:ext cx="8339400" cy="1158840"/>
          </a:xfrm>
          <a:prstGeom prst="rect">
            <a:avLst/>
          </a:prstGeom>
          <a:ln w="0">
            <a:noFill/>
          </a:ln>
        </p:spPr>
      </p:pic>
      <p:sp>
        <p:nvSpPr>
          <p:cNvPr id="441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ou’re right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otion is described as any object that is moving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44" name="j0214098.wav" descr=""/>
          <p:cNvPicPr/>
          <p:nvPr/>
        </p:nvPicPr>
        <p:blipFill>
          <a:blip r:embed="rId2"/>
          <a:stretch/>
        </p:blipFill>
        <p:spPr>
          <a:xfrm>
            <a:off x="380880" y="5257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5" name="Action Button: Forward or Next 4">
            <a:hlinkClick r:id="rId3" action="ppaction://hlinksldjump"/>
          </p:cNvPr>
          <p:cNvSpPr/>
          <p:nvPr/>
        </p:nvSpPr>
        <p:spPr>
          <a:xfrm>
            <a:off x="4114800" y="49528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0" dur="4745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ything that is moving is in mo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can say motion is any object that is mov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y the question again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8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49" name="Action Button: Back or Previous 3">
            <a:hlinkClick r:id="rId2" action="ppaction://hlinksldjump"/>
          </p:cNvPr>
          <p:cNvSpPr/>
          <p:nvPr/>
        </p:nvSpPr>
        <p:spPr>
          <a:xfrm>
            <a:off x="4191120" y="47242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Tit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717040" cy="134136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A pul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Turning the ke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Throwing i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5" action="ppaction://hlinksldjump"/>
              </a:rPr>
              <a:t>A pus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move something, a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“force”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s to happ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ORC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s a push or a pul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get a toy car to move, th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orce of pushing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s applied as we push it across the floo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16M6CAHI18S4CA3BI0J4CAUQTTBNCANJR63ICAV45870CAP41RV2CAHUIXAXCATE6W1DCARDO1D5CA8S200HCA4ATM2FCABGSRLBCAFSFFMDCADCZTS4CA8W8BMGCA0F4LYNCAS1E5GFCAO7M3YJCAE9Z80D.jpg"/>
          <p:cNvPicPr/>
          <p:nvPr/>
        </p:nvPicPr>
        <p:blipFill>
          <a:blip r:embed="rId2"/>
          <a:stretch/>
        </p:blipFill>
        <p:spPr>
          <a:xfrm>
            <a:off x="2590920" y="3505320"/>
            <a:ext cx="3214440" cy="2057400"/>
          </a:xfrm>
          <a:prstGeom prst="rect">
            <a:avLst/>
          </a:prstGeom>
          <a:ln w="0">
            <a:noFill/>
          </a:ln>
        </p:spPr>
      </p:pic>
      <p:sp>
        <p:nvSpPr>
          <p:cNvPr id="378" name="Action Button: Forward or Next 5">
            <a:hlinkClick r:id="" action="ppaction://hlinkshowjump?jump=nextslide"/>
            <a:hlinkClick r:id="rId3"/>
          </p:cNvPr>
          <p:cNvSpPr/>
          <p:nvPr/>
        </p:nvSpPr>
        <p:spPr>
          <a:xfrm>
            <a:off x="75438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Нижний колонтитул 6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e have to “push” the toy car to put it into motion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ou’ve really been paying attention!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5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56" name="j0214098.wav" descr=""/>
          <p:cNvPicPr/>
          <p:nvPr/>
        </p:nvPicPr>
        <p:blipFill>
          <a:blip r:embed="rId2"/>
          <a:stretch/>
        </p:blipFill>
        <p:spPr>
          <a:xfrm>
            <a:off x="304920" y="52578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57" name="Action Button: Forward or Next 4">
            <a:hlinkClick r:id="rId3" action="ppaction://hlinksldjump"/>
          </p:cNvPr>
          <p:cNvSpPr/>
          <p:nvPr/>
        </p:nvSpPr>
        <p:spPr>
          <a:xfrm>
            <a:off x="4114800" y="47242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6" dur="4745" fill="hold"/>
                                        <p:tgtEl>
                                          <p:spTgt spid="4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nk about what we have to do to get that toy car mov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won’t move by itself, we have to do something to get it to mov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ur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orces are push and pul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which one will make the car move forward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o back and try it again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0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61" name="Action Button: Back or Previous 3">
            <a:hlinkClick r:id="rId2" action="ppaction://hlinksldjump"/>
          </p:cNvPr>
          <p:cNvSpPr/>
          <p:nvPr/>
        </p:nvSpPr>
        <p:spPr>
          <a:xfrm>
            <a:off x="45720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Speed, how fast, and how f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Speed or how fast or slow an object mov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At rest or not at rest and the dire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Speed, direction, and how it is mov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4" name="Title 2" descr=""/>
          <p:cNvPicPr/>
          <p:nvPr/>
        </p:nvPicPr>
        <p:blipFill>
          <a:blip r:embed="rId5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sp>
        <p:nvSpPr>
          <p:cNvPr id="465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e describe an object’s motion by saying how fast or slow it goes, the direction it goes in, and by saying “how” it is moving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ry another question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7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68" name="j0214098.wav" descr=""/>
          <p:cNvPicPr/>
          <p:nvPr/>
        </p:nvPicPr>
        <p:blipFill>
          <a:blip r:embed="rId2"/>
          <a:stretch/>
        </p:blipFill>
        <p:spPr>
          <a:xfrm>
            <a:off x="380880" y="5334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69" name="Action Button: Forward or Next 9">
            <a:hlinkClick r:id="rId3" action="ppaction://hlinksldjump"/>
          </p:cNvPr>
          <p:cNvSpPr/>
          <p:nvPr/>
        </p:nvSpPr>
        <p:spPr>
          <a:xfrm>
            <a:off x="4038480" y="5257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2" dur="4745" fill="hold"/>
                                        <p:tgtEl>
                                          <p:spTgt spid="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n an object is moving, we describe “how” it is moving, how fast or slow it is going, and the direction is it mov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y the question agai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2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73" name="Action Button: Back or Previous 3">
            <a:hlinkClick r:id="rId2" action="ppaction://hlinksldjump"/>
          </p:cNvPr>
          <p:cNvSpPr/>
          <p:nvPr/>
        </p:nvSpPr>
        <p:spPr>
          <a:xfrm>
            <a:off x="4267080" y="4648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When 2 objects rub together causing it to slow down or stop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A type of gen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A force that makes things mo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A story you would wri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6" name="Title 2" descr=""/>
          <p:cNvPicPr/>
          <p:nvPr/>
        </p:nvPicPr>
        <p:blipFill>
          <a:blip r:embed="rId5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77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riction is when 2 things rub together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riction is one reason why things stop or slow down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ay to go!!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9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80" name="j0214098.wav" descr=""/>
          <p:cNvPicPr/>
          <p:nvPr/>
        </p:nvPicPr>
        <p:blipFill>
          <a:blip r:embed="rId2"/>
          <a:stretch/>
        </p:blipFill>
        <p:spPr>
          <a:xfrm>
            <a:off x="152280" y="5410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1" name="Action Button: Forward or Next 4">
            <a:hlinkClick r:id="rId3" action="ppaction://hlinksldjump"/>
          </p:cNvPr>
          <p:cNvSpPr/>
          <p:nvPr/>
        </p:nvSpPr>
        <p:spPr>
          <a:xfrm>
            <a:off x="4038480" y="54100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8" dur="4745" fill="hold"/>
                                        <p:tgtEl>
                                          <p:spTgt spid="4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iction is why you slide on your sock feet in the dance studio or slide on ic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iction is why the marbles would spin in space, but not on the carpe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iction is 2 things rubbing togeth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y it agai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4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85" name="Action Button: Back or Previous 3">
            <a:hlinkClick r:id="rId2" action="ppaction://hlinksldjump"/>
          </p:cNvPr>
          <p:cNvSpPr/>
          <p:nvPr/>
        </p:nvSpPr>
        <p:spPr>
          <a:xfrm>
            <a:off x="4038480" y="5257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main at rest until a force acts on it or something makes it mo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rt moving by itself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ush or pull itself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 out of energ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89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ou’re Right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An object at rest will stay that way until a force acts on it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our hockey puck stays still until you hit it with the stick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Let’s do another one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1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92" name="j0214098.wav" descr=""/>
          <p:cNvPicPr/>
          <p:nvPr/>
        </p:nvPicPr>
        <p:blipFill>
          <a:blip r:embed="rId2"/>
          <a:stretch/>
        </p:blipFill>
        <p:spPr>
          <a:xfrm>
            <a:off x="380880" y="5410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93" name="Action Button: Forward or Next 4"/>
          <p:cNvSpPr/>
          <p:nvPr/>
        </p:nvSpPr>
        <p:spPr>
          <a:xfrm>
            <a:off x="4495680" y="54864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4" dur="4745" fill="hold"/>
                                        <p:tgtEl>
                                          <p:spTgt spid="4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can get it to move, but now how do we get it to stop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object will stop when it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loses speed or “momentum.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object will stop when a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“force” acts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d stops i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ur toy car stops when it runs into the wal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else makes something stop…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2" name="Action Button: Forward or Next 3">
            <a:hlinkClick r:id="" action="ppaction://hlinkshowjump?jump=nextslide"/>
            <a:hlinkClick r:id="rId2"/>
          </p:cNvPr>
          <p:cNvSpPr/>
          <p:nvPr/>
        </p:nvSpPr>
        <p:spPr>
          <a:xfrm>
            <a:off x="75438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1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nk of your hockey puc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n it is sitting on the ice, is it moving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es it move by itself or do you have to hit it with your stick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o back and try the question agai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6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97" name="Action Button: Back or Previous 3"/>
          <p:cNvSpPr/>
          <p:nvPr/>
        </p:nvSpPr>
        <p:spPr>
          <a:xfrm>
            <a:off x="4114800" y="48769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v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i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 wi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or desig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0" name="Title 2" descr=""/>
          <p:cNvPicPr/>
          <p:nvPr/>
        </p:nvPicPr>
        <p:blipFill>
          <a:blip r:embed="rId1"/>
          <a:stretch/>
        </p:blipFill>
        <p:spPr>
          <a:xfrm>
            <a:off x="244440" y="122400"/>
            <a:ext cx="8661600" cy="1341360"/>
          </a:xfrm>
          <a:prstGeom prst="rect">
            <a:avLst/>
          </a:prstGeom>
          <a:ln w="0">
            <a:noFill/>
          </a:ln>
        </p:spPr>
      </p:pic>
      <p:sp>
        <p:nvSpPr>
          <p:cNvPr id="501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ES!  The airplane lands because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gravity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is pushing it down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Keep at it!  You’re doing a great job!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04" name="j0214098.wav" descr=""/>
          <p:cNvPicPr/>
          <p:nvPr/>
        </p:nvPicPr>
        <p:blipFill>
          <a:blip r:embed="rId2"/>
          <a:stretch/>
        </p:blipFill>
        <p:spPr>
          <a:xfrm>
            <a:off x="228600" y="5334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05" name="Action Button: Forward or Next 4"/>
          <p:cNvSpPr/>
          <p:nvPr/>
        </p:nvSpPr>
        <p:spPr>
          <a:xfrm>
            <a:off x="4191120" y="5181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0" dur="4745" fill="hold"/>
                                        <p:tgtEl>
                                          <p:spTgt spid="5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vity is the force that pulls everything down to Earth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vity will act on the paper airplane and push it d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y the question agai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8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09" name="Action Button: Back or Previous 3"/>
          <p:cNvSpPr/>
          <p:nvPr/>
        </p:nvSpPr>
        <p:spPr>
          <a:xfrm>
            <a:off x="4191120" y="5105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fal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stops mov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other force acts on the object and changes the direc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2" name="Title 2" descr=""/>
          <p:cNvPicPr/>
          <p:nvPr/>
        </p:nvPicPr>
        <p:blipFill>
          <a:blip r:embed="rId1"/>
          <a:stretch/>
        </p:blipFill>
        <p:spPr>
          <a:xfrm>
            <a:off x="444600" y="23760"/>
            <a:ext cx="8400960" cy="1433520"/>
          </a:xfrm>
          <a:prstGeom prst="rect">
            <a:avLst/>
          </a:prstGeom>
          <a:ln w="0">
            <a:noFill/>
          </a:ln>
        </p:spPr>
      </p:pic>
      <p:sp>
        <p:nvSpPr>
          <p:cNvPr id="513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ou’ve really got it!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omas stays straight until the driver turns him (force would be pushing) to curve with the track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5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16" name="j0214098.wav" descr=""/>
          <p:cNvPicPr/>
          <p:nvPr/>
        </p:nvPicPr>
        <p:blipFill>
          <a:blip r:embed="rId2"/>
          <a:stretch/>
        </p:blipFill>
        <p:spPr>
          <a:xfrm>
            <a:off x="228600" y="5410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17" name="Action Button: Forward or Next 4"/>
          <p:cNvSpPr/>
          <p:nvPr/>
        </p:nvSpPr>
        <p:spPr>
          <a:xfrm>
            <a:off x="4191120" y="49528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6" dur="4745" fill="hold"/>
                                        <p:tgtEl>
                                          <p:spTgt spid="5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omas the Train moves down the straight railroad track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 doesn’t turn to match the track on his 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force is applied (the driver turning him) and makes him curve with the track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o back and try it agai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0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21" name="Action Button: Back or Previous 3"/>
          <p:cNvSpPr/>
          <p:nvPr/>
        </p:nvSpPr>
        <p:spPr>
          <a:xfrm>
            <a:off x="4114800" y="54100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DID IT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really know your stuff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made it through with flying colors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 doubt you’ll do great on your paper assessment too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4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25" name="MSj04379040000[1].wav" descr=""/>
          <p:cNvPicPr/>
          <p:nvPr/>
        </p:nvPicPr>
        <p:blipFill>
          <a:blip r:embed="rId2"/>
          <a:stretch/>
        </p:blipFill>
        <p:spPr>
          <a:xfrm>
            <a:off x="304920" y="5410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26" name="Action Button: Forward or Next 4">
            <a:hlinkClick r:id="" action="ppaction://hlinkshowjump?jump=nextslide"/>
          </p:cNvPr>
          <p:cNvSpPr/>
          <p:nvPr/>
        </p:nvSpPr>
        <p:spPr>
          <a:xfrm>
            <a:off x="3962520" y="54100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2" dur="17270" fill="hold"/>
                                        <p:tgtEl>
                                          <p:spTgt spid="5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e know that friction can help objects stop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Friction is when 2 objects rub together. 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6" name="Action Button: Forward or Next 3">
            <a:hlinkClick r:id="" action="ppaction://hlinkshowjump?jump=nextslide"/>
            <a:hlinkClick r:id="rId2"/>
          </p:cNvPr>
          <p:cNvSpPr/>
          <p:nvPr/>
        </p:nvSpPr>
        <p:spPr>
          <a:xfrm>
            <a:off x="7467480" y="54864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iction can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help you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tennis shoes on the gym floor so you have grip and won’t fall d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untitledwwsk4.bmp"/>
          <p:cNvPicPr/>
          <p:nvPr/>
        </p:nvPicPr>
        <p:blipFill>
          <a:blip r:embed="rId2"/>
          <a:stretch/>
        </p:blipFill>
        <p:spPr>
          <a:xfrm>
            <a:off x="3581280" y="2819520"/>
            <a:ext cx="2286000" cy="2563560"/>
          </a:xfrm>
          <a:prstGeom prst="rect">
            <a:avLst/>
          </a:prstGeom>
          <a:ln w="0">
            <a:noFill/>
          </a:ln>
        </p:spPr>
      </p:pic>
      <p:sp>
        <p:nvSpPr>
          <p:cNvPr id="391" name="Action Button: Forward or Next 4">
            <a:hlinkClick r:id="" action="ppaction://hlinkshowjump?jump=nextslide"/>
            <a:hlinkClick r:id="rId3"/>
          </p:cNvPr>
          <p:cNvSpPr/>
          <p:nvPr/>
        </p:nvSpPr>
        <p:spPr>
          <a:xfrm>
            <a:off x="7696080" y="54864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iction can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hurt you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sock feet on the dance floor and you slide into a wal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friction from the carpet and wheels on the toy car help it lose speed, slow down, and stop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friction_uses-bear.jpg"/>
          <p:cNvPicPr/>
          <p:nvPr/>
        </p:nvPicPr>
        <p:blipFill>
          <a:blip r:embed="rId2"/>
          <a:stretch/>
        </p:blipFill>
        <p:spPr>
          <a:xfrm>
            <a:off x="2590920" y="2438280"/>
            <a:ext cx="3886200" cy="2194200"/>
          </a:xfrm>
          <a:prstGeom prst="rect">
            <a:avLst/>
          </a:prstGeom>
          <a:ln w="0">
            <a:noFill/>
          </a:ln>
        </p:spPr>
      </p:pic>
      <p:sp>
        <p:nvSpPr>
          <p:cNvPr id="396" name="Action Button: Forward or Next 4">
            <a:hlinkClick r:id="" action="ppaction://hlinkshowjump?jump=nextslide"/>
            <a:hlinkClick r:id="rId3"/>
          </p:cNvPr>
          <p:cNvSpPr/>
          <p:nvPr/>
        </p:nvSpPr>
        <p:spPr>
          <a:xfrm>
            <a:off x="76201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object is at rest when it is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stil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force is still acting on the object to keep it still and keep it in plac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sp>
        <p:nvSpPr>
          <p:cNvPr id="400" name="Action Button: Forward or Next 4">
            <a:hlinkClick r:id="" action="ppaction://hlinkshowjump?jump=nextslide"/>
            <a:hlinkClick r:id="rId2"/>
          </p:cNvPr>
          <p:cNvSpPr/>
          <p:nvPr/>
        </p:nvSpPr>
        <p:spPr>
          <a:xfrm>
            <a:off x="7543800" y="54100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5" descr="Xmas 2008 001.jpg"/>
          <p:cNvPicPr/>
          <p:nvPr/>
        </p:nvPicPr>
        <p:blipFill>
          <a:blip r:embed="rId3"/>
          <a:stretch/>
        </p:blipFill>
        <p:spPr>
          <a:xfrm>
            <a:off x="2133720" y="3124080"/>
            <a:ext cx="4190760" cy="3143520"/>
          </a:xfrm>
          <a:prstGeom prst="rect">
            <a:avLst/>
          </a:prstGeom>
          <a:ln w="0">
            <a:noFill/>
          </a:ln>
        </p:spPr>
      </p:pic>
      <p:sp>
        <p:nvSpPr>
          <p:cNvPr id="402" name="Нижний колонтитул 6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GRAVIT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vity pulls objects D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vity is what keeps you in your seat, brings your ball back down, and you back down after you jump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" descr="C:\Program Files\Microsoft Office\MEDIA\CAGCAT10\j0301480.wmf"/>
          <p:cNvPicPr/>
          <p:nvPr/>
        </p:nvPicPr>
        <p:blipFill>
          <a:blip r:embed="rId2"/>
          <a:stretch/>
        </p:blipFill>
        <p:spPr>
          <a:xfrm>
            <a:off x="2743200" y="4038480"/>
            <a:ext cx="2819520" cy="1338480"/>
          </a:xfrm>
          <a:prstGeom prst="rect">
            <a:avLst/>
          </a:prstGeom>
          <a:ln w="0">
            <a:noFill/>
          </a:ln>
        </p:spPr>
      </p:pic>
      <p:sp>
        <p:nvSpPr>
          <p:cNvPr id="406" name="Action Button: Forward or Next 4">
            <a:hlinkClick r:id="" action="ppaction://hlinkshowjump?jump=nextslide"/>
            <a:hlinkClick r:id="rId3"/>
          </p:cNvPr>
          <p:cNvSpPr/>
          <p:nvPr/>
        </p:nvSpPr>
        <p:spPr>
          <a:xfrm>
            <a:off x="762012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0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know how something moves and how something stop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know that a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force is a push or pull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at makes things mov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know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friction is 2 objects rubbing togeth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know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gravity pulls/pushes everything back d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re’s more to motion-Let’s find out…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0" name="Action Button: Forward or Next 3">
            <a:hlinkClick r:id="" action="ppaction://hlinkshowjump?jump=nextslide"/>
            <a:hlinkClick r:id="rId2"/>
          </p:cNvPr>
          <p:cNvSpPr/>
          <p:nvPr/>
        </p:nvSpPr>
        <p:spPr>
          <a:xfrm>
            <a:off x="77724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000"/>
                            </p:stCondLst>
                            <p:childTnLst>
                              <p:par>
                                <p:cTn id="26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8000"/>
                            </p:stCondLst>
                            <p:childTnLst>
                              <p:par>
                                <p:cTn id="27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7:35:21Z</dcterms:created>
  <dc:creator>User</dc:creator>
  <dc:description/>
  <dc:language>en-US</dc:language>
  <cp:lastModifiedBy>Asus</cp:lastModifiedBy>
  <dcterms:modified xsi:type="dcterms:W3CDTF">2018-03-09T16:22:00Z</dcterms:modified>
  <cp:revision>34</cp:revision>
  <dc:subject/>
  <dc:title>MOTION</dc:title>
</cp:coreProperties>
</file>