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B913-FD98-4415-AB69-09608B5E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D51-214A-471D-B5EA-FA236BA0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20F-CAA9-4F38-B44A-EE29B2AC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E2B-05F4-4125-9147-171991D1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460C-7559-4151-90BF-A95EB65F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4276-3BE4-419D-9E36-8B41335D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739C-529D-4250-9C8F-F897AABB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26AD-0D9E-4B99-841B-269D492E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21E6-05A4-4116-993C-25DECE4A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E05F-4449-4950-BFB5-2C3A190B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F344-8B95-474E-AFB7-3D2E9AB3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14D-DACA-4FF9-8672-1B0F5E04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5D04-3602-4E44-9E10-5AA00943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7243-89D0-4F5D-A98B-BE752B7F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A6A2-E3E7-48C8-B849-9DE06DD1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38D7-2DA8-46FA-91D7-2139728A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2ECC-36BD-4610-B888-AF7E3D51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B7AA-FF58-401A-97E6-2057F5A7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BCAC-8385-4FB9-B29A-AE90F963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6E36-F58F-4415-A55F-6B06F50F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D489-F840-400A-8033-D66616BC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6758E-DADD-4BBD-AC45-ADDA8E17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B66-2616-400C-BDFF-E010B5C1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25694-9AA1-4CED-98FF-849FF03D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AD85-9A9D-4039-833D-E32E9112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D1592-3F14-4A37-8335-D2DAABBA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7ED6-15A9-45BD-BD98-339E9E2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DFA38-A1D6-4D1F-AA57-3D327CEA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060F-BD0C-40C2-888F-6A9F545D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48E8-B8BF-4EED-9DFE-C0E33346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7967A-8BC5-4345-BC9B-4A62CCD8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E463-7DD0-4F59-806D-1ADF4C40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059FC-F9A3-494C-B87C-D45A17D3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5CC8-08ED-4A71-A6E1-E888D7AC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5167-2413-499E-92DE-4F03100D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304B4-E8ED-469F-91FA-49EE7EF6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F37F8-27B3-4A2A-9519-B8C90D53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F2A3-6521-428E-B008-9395B2B4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17706-81DD-4EEC-9D57-54E72C60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E4D2E-B311-4CA2-BD41-BF582776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C3DB1-058C-4FDC-8AAA-74469713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E8D1C-2A2D-4743-A2D5-2F602B8A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4C5E1-439A-4B3B-B6D8-DAC1FA16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BF12-A2F4-45BF-B480-D5F9D3B0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D0D-9590-4092-854D-75C509221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E6906-0EE1-4027-8191-49422E5C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CF604-87FE-46F6-84D2-E7A363B9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BA6FD-6543-4A3A-9302-AF17DEB8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8F42B-AA40-4EC8-8F42-734C0EF2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5B860-20EC-4420-8958-2AFD18BD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7AF0A-355A-449E-91C9-F51F6475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1BAF3-0B45-4C7E-BE7B-B36914F2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EA233-CC2C-437A-960E-C4A2F267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CA658-B377-4E75-9388-F40FA96C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80FB-EFF9-429A-A0F6-06B49438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345-04E8-45B0-8B5C-EC0398EA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2A131-3E77-4BCB-93CF-6C3C2FC5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3EA89-0CBA-4070-80CE-5645621D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1BF83-1A2B-48C9-9A30-4C04C20C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C2368-5572-4AC8-8CE7-A9FE97D3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0F047-1EBE-4540-ABA8-E7AFE4BE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769CE-C593-41C7-A94B-4FA6A1D3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E7BB2-A8D8-477C-AC1C-EBA33EF1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63125-4A7F-42FB-A14B-3DA12351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52DDE-AB0B-48C6-A270-C6040243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E0C84-3A80-4879-933E-45965A7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04D-ED8B-41D2-9AAE-B628EDF2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277F6-D782-47B3-AA8F-036A5683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CD520-8894-4C97-8EC2-85E1D423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B1DF3-E55D-4AFA-B642-B28EAD8D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B3925-B672-4C5F-AB60-F7A706C7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1927E-9A90-43FA-ABB8-0F01E68F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DE459-3452-4F57-9993-E494214B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3D849-103D-41D1-935B-87E06CC3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94F56-E533-4FB5-8E84-53FB90B4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DE5CA-7C58-42D2-AE0A-BC5B2315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6A0A8-1D38-4DD5-B010-C03ED828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846-1659-4AB3-9D45-EA8B5C7F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51CC1-FB17-4DE2-8AC9-08DFDC97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D4CAD-FE99-420D-8C64-85BDC766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7818A-9E6B-4F1D-B229-8E1CAAB3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5BEF6-DFAF-4D7E-AA64-B2C82D5C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C5E80-4EEF-4B5E-8AD9-C534E7FA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2F99D-216A-471D-BE83-1A6DECA4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BE83E-2F5C-4302-B5A5-1836EA8F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85564-8D3A-4161-8F7B-69AB762C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5E52E-6CEA-454D-B3C8-2FC51D20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F2494-4AAB-4AFB-9AA5-8778E5D2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35D-56F3-43A3-881A-4FA8F680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E6D7B-22BB-4FAF-996F-50768522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CB6A7-5752-44D5-9470-89DD3CA1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8D141-D40A-4A36-B45D-9BDECB2B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9178D-19FB-4814-BF16-BE5C2474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55AD6-DB7C-4735-8615-9FBF1A07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9FBF4-5079-47A5-94B3-478CAC8E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C9D48-B33F-4D86-8905-070B6BD9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6251-73D0-40E1-A941-D479E06198B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9C72-DA64-4FAA-A890-FFE07C8B50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64DC-8841-428B-9D49-B6C95C86269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FDD9-DBEB-4427-8910-2718434A87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8A06-0510-42DA-B1E6-681D49A98BC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731F-D606-46ED-B355-EFCBD5B6DA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8FD5-C7E4-4E88-9167-F4D7ECC904A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34BD-9FF6-4013-8715-3CD25EA19C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D2FF-E311-4E3A-B129-B95B9116B47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5F63-782D-43BA-B5D9-E5E9D44612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1F3E-4329-4387-83A8-7EF2C814363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460E-DB40-4428-BD5E-BD9AFF6772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ED2D-4031-4958-9834-2F5FA38CF99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B58B-2873-46F6-B19D-E3494B5AA3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115B-5319-4D07-9E5E-BD04AD72C39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107B-0246-400E-A4E7-C63DDD31A18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Desktop/Newton_s_First_Law_of_Motion.asf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motio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we describe motion in 3 w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HOW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PEE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447920" y="4114800"/>
            <a:ext cx="4039920" cy="1758960"/>
          </a:xfrm>
          <a:prstGeom prst="rect">
            <a:avLst/>
          </a:prstGeom>
          <a:ln w="0">
            <a:noFill/>
          </a:ln>
        </p:spPr>
      </p:pic>
      <p:sp>
        <p:nvSpPr>
          <p:cNvPr id="373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have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moving, it is at 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the puck to move, you have to do something to the puck lik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t 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This is the 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out the force, it will stay in the same spot and be at 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ch this to learn more!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..\Desktop\Newton_s_First_Law_of_Motion.as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Action Button: Forward or Next 3">
            <a:hlinkClick r:id="" action="ppaction://hlinkshowjump?jump=nextslide"/>
            <a:hlinkClick r:id="rId3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at rest remains at rest unless acted 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ay at rest or “look still” until you do something to make it mov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y car stays at the starting li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ckey puck sits on the ic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with the st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8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60" h="21600">
                <a:moveTo>
                  <a:pt x="6374" y="3794"/>
                </a:moveTo>
                <a:lnTo>
                  <a:pt x="20387" y="10800"/>
                </a:lnTo>
                <a:lnTo>
                  <a:pt x="637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a train-that train drives down a straight track and stays going in a straight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oct611es5.gif"/>
          <p:cNvPicPr/>
          <p:nvPr/>
        </p:nvPicPr>
        <p:blipFill>
          <a:blip r:embed="rId2"/>
          <a:stretch/>
        </p:blipFill>
        <p:spPr>
          <a:xfrm>
            <a:off x="2133720" y="3200400"/>
            <a:ext cx="4329000" cy="3057480"/>
          </a:xfrm>
          <a:prstGeom prst="rect">
            <a:avLst/>
          </a:prstGeom>
          <a:ln w="0">
            <a:noFill/>
          </a:ln>
        </p:spPr>
      </p:pic>
      <p:sp>
        <p:nvSpPr>
          <p:cNvPr id="423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4864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happens when the track curves left or righ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n turns and goes left or 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Content Placeholder 3" descr="Xmas 2008 065.jpg"/>
          <p:cNvPicPr/>
          <p:nvPr/>
        </p:nvPicPr>
        <p:blipFill>
          <a:blip r:embed="rId2"/>
          <a:stretch/>
        </p:blipFill>
        <p:spPr>
          <a:xfrm>
            <a:off x="1828800" y="2971800"/>
            <a:ext cx="404496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ижний колонтитул 8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in motion in a straight line tends to say in motion in a straight line unless acted up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go straight until a force makes it go another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paper airplane flies straight until gravity pushes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drives straight until the driver makes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tur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see what we’ve learned so far about motion!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 this quiz a try and test your motion knowledg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3352680" y="3429000"/>
            <a:ext cx="1812960" cy="2209680"/>
          </a:xfrm>
          <a:prstGeom prst="rect">
            <a:avLst/>
          </a:prstGeom>
          <a:ln w="0">
            <a:noFill/>
          </a:ln>
        </p:spPr>
      </p:pic>
      <p:sp>
        <p:nvSpPr>
          <p:cNvPr id="437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ny object that f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ny object that drives on the r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ny object this is sitting sti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5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tion is described as any object that is moving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j0214098.wav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Action Button: Forward or Next 4">
            <a:hlinkClick r:id="rId3" action="ppaction://hlinksldjump"/>
          </p:cNvPr>
          <p:cNvSpPr/>
          <p:nvPr/>
        </p:nvSpPr>
        <p:spPr>
          <a:xfrm>
            <a:off x="41148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thing that is moving is in mo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say motion 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Action Button: Back or Previous 3">
            <a:hlinkClick r:id="rId2" action="ppaction://hlinksldjump"/>
          </p:cNvPr>
          <p:cNvSpPr/>
          <p:nvPr/>
        </p:nvSpPr>
        <p:spPr>
          <a:xfrm>
            <a:off x="41911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Turning the k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Throw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A pu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ove something,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“force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o hap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push or 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 toy car to move,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 of push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pplied as we push it across the fl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16M6CAHI18S4CA3BI0J4CAUQTTBNCANJR63ICAV45870CAP41RV2CAHUIXAXCATE6W1DCARDO1D5CA8S200HCA4ATM2FCABGSRLBCAFSFFMDCADCZTS4CA8W8BMGCA0F4LYNCAS1E5GFCAO7M3YJCAE9Z80D.jpg"/>
          <p:cNvPicPr/>
          <p:nvPr/>
        </p:nvPicPr>
        <p:blipFill>
          <a:blip r:embed="rId2"/>
          <a:stretch/>
        </p:blipFill>
        <p:spPr>
          <a:xfrm>
            <a:off x="2590920" y="3505320"/>
            <a:ext cx="3214440" cy="2057400"/>
          </a:xfrm>
          <a:prstGeom prst="rect">
            <a:avLst/>
          </a:prstGeom>
          <a:ln w="0">
            <a:noFill/>
          </a:ln>
        </p:spPr>
      </p:pic>
      <p:sp>
        <p:nvSpPr>
          <p:cNvPr id="378" name="Action Button: Forward or Next 5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have to “push” the toy car to put it into mo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been paying attention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6" name="j0214098.wav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Action Button: Forward or Next 4">
            <a:hlinkClick r:id="rId3" action="ppaction://hlinksldjump"/>
          </p:cNvPr>
          <p:cNvSpPr/>
          <p:nvPr/>
        </p:nvSpPr>
        <p:spPr>
          <a:xfrm>
            <a:off x="41148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about what we have to do to get that toy car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on’t move by itself, we have to do something to get it to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s are push and pu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hich one will make the car move forwar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Action Button: Back or Previous 3">
            <a:hlinkClick r:id="rId2" action="ppaction://hlinksldjump"/>
          </p:cNvPr>
          <p:cNvSpPr/>
          <p:nvPr/>
        </p:nvSpPr>
        <p:spPr>
          <a:xfrm>
            <a:off x="45720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Speed, how fast, and how f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Speed or how fast or slow an object mo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t rest or not at rest and the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Speed, direction, and how it i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5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describe an object’s motion by saying how fast or slow it goes, the direction it goes in, and by saying “how” it is mov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ry another ques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8" name="j0214098.wav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Action Button: Forward or Next 9">
            <a:hlinkClick r:id="rId3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an object is moving, we describe “how” it is moving, how fast or slow it is going, and the direction is it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Action Button: Back or Previous 3">
            <a:hlinkClick r:id="rId2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When 2 objects rub together causing it to slow down or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type of gen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 force that makes things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 story you would wr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when 2 things rub togeth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one reason why things stop or slow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y to go!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j0214098.wav" descr=""/>
          <p:cNvPicPr/>
          <p:nvPr/>
        </p:nvPicPr>
        <p:blipFill>
          <a:blip r:embed="rId2"/>
          <a:stretch/>
        </p:blipFill>
        <p:spPr>
          <a:xfrm>
            <a:off x="152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Action Button: Forward or Next 4">
            <a:hlinkClick r:id="rId3" action="ppaction://hlinksldjump"/>
          </p:cNvPr>
          <p:cNvSpPr/>
          <p:nvPr/>
        </p:nvSpPr>
        <p:spPr>
          <a:xfrm>
            <a:off x="4038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you slide on your sock feet in the dance studio or slide on 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the marbles would spin in space, but not on the carp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2 thing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5" name="Action Button: Back or Previous 3">
            <a:hlinkClick r:id="rId2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 at rest until a force acts on it or something makes it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 moving by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sh or pull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 out of ener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object at rest will stay that way until a force acts on i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r hockey puck stays still until you hit it with the sti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et’s do another one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2" name="j0214098.wav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3" name="Action Button: Forward or Next 4"/>
          <p:cNvSpPr/>
          <p:nvPr/>
        </p:nvSpPr>
        <p:spPr>
          <a:xfrm>
            <a:off x="4495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745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get it to move, but now how do we get it to sto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i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loses speed or “momentu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a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force” ac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stops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toy car stops when it runs into the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lse makes something stop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your 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it is sitting on the ice, is it mov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it move by itself or do you have to hit it with your stic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7" name="Action Button: Back or Previous 3"/>
          <p:cNvSpPr/>
          <p:nvPr/>
        </p:nvSpPr>
        <p:spPr>
          <a:xfrm>
            <a:off x="41148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661600" cy="1341360"/>
          </a:xfrm>
          <a:prstGeom prst="rect">
            <a:avLst/>
          </a:prstGeom>
          <a:ln w="0">
            <a:noFill/>
          </a:ln>
        </p:spPr>
      </p:pic>
      <p:sp>
        <p:nvSpPr>
          <p:cNvPr id="50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ES!  The airplane lands becaus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pushing it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Keep at it!  You’re doing a great job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j0214098.wav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5" name="Action Button: Forward or Next 4"/>
          <p:cNvSpPr/>
          <p:nvPr/>
        </p:nvSpPr>
        <p:spPr>
          <a:xfrm>
            <a:off x="4191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the force that pulls everything down to Eart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will act on the paper airplane and push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9" name="Action Button: Back or Previous 3"/>
          <p:cNvSpPr/>
          <p:nvPr/>
        </p:nvSpPr>
        <p:spPr>
          <a:xfrm>
            <a:off x="4191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fa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top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force acts on the object and changes the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Title 2" descr=""/>
          <p:cNvPicPr/>
          <p:nvPr/>
        </p:nvPicPr>
        <p:blipFill>
          <a:blip r:embed="rId1"/>
          <a:stretch/>
        </p:blipFill>
        <p:spPr>
          <a:xfrm>
            <a:off x="444600" y="23760"/>
            <a:ext cx="8400960" cy="143352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got it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omas stays straight until the driver turns him (force would be pushing) to curve with the tra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6" name="j0214098.wav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Action Button: Forward or Next 4"/>
          <p:cNvSpPr/>
          <p:nvPr/>
        </p:nvSpPr>
        <p:spPr>
          <a:xfrm>
            <a:off x="4191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4745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the Train moves down the straight railroad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doesn’t turn to match the track on his 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applied (the driver turning him) and makes him curve 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Action Button: Back or Previous 3"/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DID IT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really know your stuff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ade it through with flying colo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oubt you’ll do great on your paper assessment too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MSj04379040000[1].wav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Action Button: Forward or Next 4">
            <a:hlinkClick r:id="" action="ppaction://hlinkshowjump?jump=nextslide"/>
          </p:cNvPr>
          <p:cNvSpPr/>
          <p:nvPr/>
        </p:nvSpPr>
        <p:spPr>
          <a:xfrm>
            <a:off x="39625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7270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know that friction can help objects sto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riction is when 2 objects rub together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4674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lp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ennis shoes on the gym floor so you have grip and won’t fall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untitledwwsk4.bmp"/>
          <p:cNvPicPr/>
          <p:nvPr/>
        </p:nvPicPr>
        <p:blipFill>
          <a:blip r:embed="rId2"/>
          <a:stretch/>
        </p:blipFill>
        <p:spPr>
          <a:xfrm>
            <a:off x="3581280" y="2819520"/>
            <a:ext cx="2286000" cy="2563560"/>
          </a:xfrm>
          <a:prstGeom prst="rect">
            <a:avLst/>
          </a:prstGeom>
          <a:ln w="0">
            <a:noFill/>
          </a:ln>
        </p:spPr>
      </p:pic>
      <p:sp>
        <p:nvSpPr>
          <p:cNvPr id="391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urt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ock feet on the dance floor and you slide into a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riction from the carpet and wheels on the toy car help it lose speed, slow down, and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riction_uses-bear.jpg"/>
          <p:cNvPicPr/>
          <p:nvPr/>
        </p:nvPicPr>
        <p:blipFill>
          <a:blip r:embed="rId2"/>
          <a:stretch/>
        </p:blipFill>
        <p:spPr>
          <a:xfrm>
            <a:off x="2590920" y="2438280"/>
            <a:ext cx="3886200" cy="2194200"/>
          </a:xfrm>
          <a:prstGeom prst="rect">
            <a:avLst/>
          </a:prstGeom>
          <a:ln w="0">
            <a:noFill/>
          </a:ln>
        </p:spPr>
      </p:pic>
      <p:sp>
        <p:nvSpPr>
          <p:cNvPr id="39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is at rest when it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still acting on the object to keep it still and keep it in pla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0" name="Action Button: Forward or Next 4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Xmas 2008 001.jpg"/>
          <p:cNvPicPr/>
          <p:nvPr/>
        </p:nvPicPr>
        <p:blipFill>
          <a:blip r:embed="rId3"/>
          <a:stretch/>
        </p:blipFill>
        <p:spPr>
          <a:xfrm>
            <a:off x="2133720" y="31240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02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pulls objects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what keeps you in your seat, brings your ball back down, and you back down after you jum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Program Files\Microsoft Office\MEDIA\CAGCAT10\j0301480.wmf"/>
          <p:cNvPicPr/>
          <p:nvPr/>
        </p:nvPicPr>
        <p:blipFill>
          <a:blip r:embed="rId2"/>
          <a:stretch/>
        </p:blipFill>
        <p:spPr>
          <a:xfrm>
            <a:off x="2743200" y="4038480"/>
            <a:ext cx="2819520" cy="1338480"/>
          </a:xfrm>
          <a:prstGeom prst="rect">
            <a:avLst/>
          </a:prstGeom>
          <a:ln w="0">
            <a:noFill/>
          </a:ln>
        </p:spPr>
      </p:pic>
      <p:sp>
        <p:nvSpPr>
          <p:cNvPr id="40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how something moves and how something st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orce is a push or pul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makes things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riction is 2 object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gravity pulls/pushes everything back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’s more to motion-Let’s find out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35:21Z</dcterms:created>
  <dc:creator>User</dc:creator>
  <dc:description/>
  <dc:language>en-US</dc:language>
  <cp:lastModifiedBy>Asus</cp:lastModifiedBy>
  <dcterms:modified xsi:type="dcterms:W3CDTF">2018-03-09T16:22:00Z</dcterms:modified>
  <cp:revision>34</cp:revision>
  <dc:subject/>
  <dc:title>MOTION</dc:title>
</cp:coreProperties>
</file>