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01B-0ED0-4037-8E40-4541E1EE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181-F16B-46CD-9857-73936769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D21-6B3A-40DE-9630-DF25E23E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410-0FBB-4E80-AC20-8CAB5DCB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B349-4D06-4768-A23A-935CFE3E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B1DC-F665-4DF6-A555-542B363D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C80B-BB27-4A93-BFB3-45D3548E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EA68-C86E-4933-A6A4-0670020E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75BC-A235-4BC0-9462-54F52A31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FD9C-CB4B-4782-B358-B561F8F9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824A-F77F-4E15-9607-9220D73A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A63-026C-423B-96C6-2CF882D9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BE3F-1361-4DB2-A062-86B50A84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ADC9-F6E9-4662-982B-ACF841C6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8005-EB40-4082-B259-147905B8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C267-AFF4-491B-A9FE-29F02C3E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B6A8-0214-4E61-AC10-87AE249E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384E-0884-424D-9E14-B2ECCF1B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4882-ABBA-4A4A-8466-0BFAA407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552DF-B392-4080-9624-AA6746FE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A794-1FEB-4AED-9535-4F920E75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6E86-4B0D-4CA5-AF9A-E341DC7E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706-8457-45C1-85EE-F9FC7B19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CC648-65F7-4256-BA5B-C23B4FE9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7D06A-EC39-477B-A1E3-87F574BC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5C677-0FE7-4062-9A68-ADF53536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667F7-FC86-45EB-823C-2374C3BB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6319-B7DF-4B41-80AA-2FE556D3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A630-2AEB-45FE-B899-F32C3F70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8171-061B-4FB2-B049-D40E25E4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A2CDE-85ED-4AD0-8F63-B089D37F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25EE-B642-4C0A-B76A-D93F2D6E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30E6F-F3E7-465D-8DF7-063F4532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F9D-86FF-41FA-9F66-4E34094B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58A7-F3E1-41A8-8300-6DA6AB9A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5BF9E-EF1F-4F4C-8B91-2ECF1C06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F28A6-7DB1-4830-8EA4-BEDAD3FC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C9171-66CB-4004-89A0-51EBEE39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090FE-66AC-4E86-B1F4-4B48FCD6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EA810-4919-41C1-A423-99E416A5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46E9A-D601-49E3-A0A7-F6A3BCB4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D0FA-D9C9-4D03-9318-73283A6F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73306-E9B1-4A16-A225-98A2F5E6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B9380-71D0-4E77-B744-1D512C23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F40-4CC9-4F59-8E48-5B2BE268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D242F-B769-4B9B-916B-F8F38BE7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FECC9-D122-4B10-A85B-7E9A1687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F2326-8E17-4120-8FA4-4C32622F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D503B-B08F-4435-9485-1EB036E0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33CB0-6EA5-494C-BFBA-16C38D19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9B807-A362-4BF0-8EA0-C67877A2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69F9D-29DA-4271-B1D0-9B569DF3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6C4AE-D327-42A4-9642-79C77A1B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2EA69-2326-46AE-8002-0A609531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D40E8-4416-4159-9CF6-C83B590B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79B-8459-465C-AAF8-332A9D16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BB5D1-FB19-4AAA-B45C-247B4F37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D62CD-5EED-411C-8F7A-5345155E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C27D-FE70-4DCA-BC19-4CA7F0B6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31779-B862-4E60-BAAD-876AC87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3942B-DF59-45E4-8844-82EFB35E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960E7-2B98-4B52-8360-B6A818CE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F99A9-434F-420B-A009-00922C23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79743-11F2-4904-967B-D23771B6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12CCC-2424-4B4C-BF57-9FC3D15A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C9437-CCC5-41D4-A332-04CE2CB6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C6F-FF9A-43E7-B8FF-970DEBEA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3A849-2976-4623-9076-8B8A495D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F5EE6-56A1-4906-BE8C-91B2AECB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CAAFE-A764-408D-B5C0-93AC7D26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43478-3558-407D-8A7E-0A274F42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AD84C-97CE-403B-A82E-ED4D664D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905CD-EB8D-4FA4-BAA2-508FB517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B0F24-E350-4DEF-BAE1-B6C7961F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30C34-4F80-4C2B-BF93-0E2558AD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3DC11-1102-4A21-94AD-C03643E7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E0ADD-F396-4B55-BAF6-5CEEF07E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A51-1344-4BDB-BB1C-33BCB823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DBEB0-053B-4F89-BA04-E67214B1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71E94-7B6F-4554-A171-D9730195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0126C-0A23-4B6A-8764-328CC9BA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7A8D8-898C-491D-B1F9-84BAB758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EE7EF-88CD-439A-9411-AF6D664B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E94F1-975D-4B61-9BB4-A74E7F64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C694E-052A-4D28-BA3F-B98EB305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5C6A7-4912-4F5C-AC32-771D4C69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8D583-EEE4-4E55-BE9E-7769FF5D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B9B80-6892-4474-9B52-554357B3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AD4-614D-404E-AC6B-5B908A72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93B15-4727-4E15-A5A1-EF7454FD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726D9-1A3C-49D6-9D87-B4DDC6C9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AE7D8-DF8A-4A2C-8C07-0845C9C6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DFB87-F42F-4C6C-8044-5CE156AD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35BDF-100C-428A-BA23-1299F492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AB4D7-B0E0-48D2-9C7C-2B7990E7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48DEC-4CD9-435F-AD77-EA43234A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57CA-D983-472D-AC73-767D2189025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B5B6-8802-4AE3-8A1C-5D0006123F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783B-3D29-49AE-AD89-01574658B14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1EB0-4E70-4F45-8FE7-CAA93AA74D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3F52-FB9C-4F74-B1FB-BF115CD27DE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2211-DD0C-4121-A655-581BEB918B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0491-ADCD-4540-990B-5C425FD971D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7DCE-5203-45CF-8FE7-9FB9626541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616C-1B2A-4668-AA1F-E59450AB807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74A8-F5F5-4494-AEC0-B6EAF1B07D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700B-1D9C-40B3-84A2-419AE62B09A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1E92-B4BB-4B59-A2F7-C4DDDEE3F1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2BB6-397B-4C3D-9351-6FF47F0918F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9164-F5A9-44EA-902C-6A49A446F4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03A7-9E69-4E1B-BDD0-BBC14F5A00D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9E60-2BA4-4DA7-84BC-E4839DD5AD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Desktop/Newton_s_First_Law_of_Motion.asf" TargetMode="External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motio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we describe motion in 3 way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HOW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REC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PEE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1447920" y="4114800"/>
            <a:ext cx="4039920" cy="1758960"/>
          </a:xfrm>
          <a:prstGeom prst="rect">
            <a:avLst/>
          </a:prstGeom>
          <a:ln w="0">
            <a:noFill/>
          </a:ln>
        </p:spPr>
      </p:pic>
      <p:sp>
        <p:nvSpPr>
          <p:cNvPr id="373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have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moving, it is at r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the puck to move, you have to do something to the puck lik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t 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This is the for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out the force, it will stay in the same spot and be at r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ch this to learn more!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..\Desktop\Newton_s_First_Law_of_Motion.as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Action Button: Forward or Next 3">
            <a:hlinkClick r:id="" action="ppaction://hlinkshowjump?jump=nextslide"/>
            <a:hlinkClick r:id="rId3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at rest remains at rest unless acted 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ay at rest or “look still” until you do something to make it mov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y car stays at the starting lin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ckey puck sits on the ic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with the st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18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9246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60" h="21600">
                <a:moveTo>
                  <a:pt x="6374" y="3794"/>
                </a:moveTo>
                <a:lnTo>
                  <a:pt x="20387" y="10800"/>
                </a:lnTo>
                <a:lnTo>
                  <a:pt x="637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a train-that train drives down a straight track and stays going in a straight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oct611es5.gif"/>
          <p:cNvPicPr/>
          <p:nvPr/>
        </p:nvPicPr>
        <p:blipFill>
          <a:blip r:embed="rId2"/>
          <a:stretch/>
        </p:blipFill>
        <p:spPr>
          <a:xfrm>
            <a:off x="2133720" y="3200400"/>
            <a:ext cx="4329000" cy="3057480"/>
          </a:xfrm>
          <a:prstGeom prst="rect">
            <a:avLst/>
          </a:prstGeom>
          <a:ln w="0">
            <a:noFill/>
          </a:ln>
        </p:spPr>
      </p:pic>
      <p:sp>
        <p:nvSpPr>
          <p:cNvPr id="423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4864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happens when the track curves left or righ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n turns and goes left or 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Content Placeholder 3" descr="Xmas 2008 065.jpg"/>
          <p:cNvPicPr/>
          <p:nvPr/>
        </p:nvPicPr>
        <p:blipFill>
          <a:blip r:embed="rId2"/>
          <a:stretch/>
        </p:blipFill>
        <p:spPr>
          <a:xfrm>
            <a:off x="1828800" y="2971800"/>
            <a:ext cx="404496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ижний колонтитул 8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in motion in a straight line tends to say in motion in a straight line unless acted up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go straight until a force makes it go another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paper airplane flies straight until gravity pushes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drives straight until the driver makes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“tur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3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see what we’ve learned so far about motion!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 this quiz a try and test your motion knowledg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3352680" y="3429000"/>
            <a:ext cx="1812960" cy="2209680"/>
          </a:xfrm>
          <a:prstGeom prst="rect">
            <a:avLst/>
          </a:prstGeom>
          <a:ln w="0">
            <a:noFill/>
          </a:ln>
        </p:spPr>
      </p:pic>
      <p:sp>
        <p:nvSpPr>
          <p:cNvPr id="437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ny object that f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ny object that drives on the r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ny object this is sitting sti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5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tion is described as any object that is moving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j0214098.wav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Action Button: Forward or Next 4">
            <a:hlinkClick r:id="rId3" action="ppaction://hlinksldjump"/>
          </p:cNvPr>
          <p:cNvSpPr/>
          <p:nvPr/>
        </p:nvSpPr>
        <p:spPr>
          <a:xfrm>
            <a:off x="41148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thing that is moving is in mo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say motion 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Action Button: Back or Previous 3">
            <a:hlinkClick r:id="rId2" action="ppaction://hlinksldjump"/>
          </p:cNvPr>
          <p:cNvSpPr/>
          <p:nvPr/>
        </p:nvSpPr>
        <p:spPr>
          <a:xfrm>
            <a:off x="41911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17040" cy="1341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Turning the k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Throw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A pus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ove something,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“force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to hap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push or 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a toy car to move,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 of push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pplied as we push it across the fl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16M6CAHI18S4CA3BI0J4CAUQTTBNCANJR63ICAV45870CAP41RV2CAHUIXAXCATE6W1DCARDO1D5CA8S200HCA4ATM2FCABGSRLBCAFSFFMDCADCZTS4CA8W8BMGCA0F4LYNCAS1E5GFCAO7M3YJCAE9Z80D.jpg"/>
          <p:cNvPicPr/>
          <p:nvPr/>
        </p:nvPicPr>
        <p:blipFill>
          <a:blip r:embed="rId2"/>
          <a:stretch/>
        </p:blipFill>
        <p:spPr>
          <a:xfrm>
            <a:off x="2590920" y="3505320"/>
            <a:ext cx="3214440" cy="2057400"/>
          </a:xfrm>
          <a:prstGeom prst="rect">
            <a:avLst/>
          </a:prstGeom>
          <a:ln w="0">
            <a:noFill/>
          </a:ln>
        </p:spPr>
      </p:pic>
      <p:sp>
        <p:nvSpPr>
          <p:cNvPr id="378" name="Action Button: Forward or Next 5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have to “push” the toy car to put it into mo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been paying attention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6" name="j0214098.wav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Action Button: Forward or Next 4">
            <a:hlinkClick r:id="rId3" action="ppaction://hlinksldjump"/>
          </p:cNvPr>
          <p:cNvSpPr/>
          <p:nvPr/>
        </p:nvSpPr>
        <p:spPr>
          <a:xfrm>
            <a:off x="41148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about what we have to do to get that toy car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won’t move by itself, we have to do something to get it to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s are push and pu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which one will make the car move forwar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Action Button: Back or Previous 3">
            <a:hlinkClick r:id="rId2" action="ppaction://hlinksldjump"/>
          </p:cNvPr>
          <p:cNvSpPr/>
          <p:nvPr/>
        </p:nvSpPr>
        <p:spPr>
          <a:xfrm>
            <a:off x="45720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Speed, how fast, and how f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Speed or how fast or slow an object mo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t rest or not at rest and the dir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Speed, direction, and how it i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Title 2" descr=""/>
          <p:cNvPicPr/>
          <p:nvPr/>
        </p:nvPicPr>
        <p:blipFill>
          <a:blip r:embed="rId5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describe an object’s motion by saying how fast or slow it goes, the direction it goes in, and by saying “how” it is mov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ry another ques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8" name="j0214098.wav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Action Button: Forward or Next 9">
            <a:hlinkClick r:id="rId3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an object is moving, we describe “how” it is moving, how fast or slow it is going, and the direction is it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3" name="Action Button: Back or Previous 3">
            <a:hlinkClick r:id="rId2" action="ppaction://hlinksldjump"/>
          </p:cNvPr>
          <p:cNvSpPr/>
          <p:nvPr/>
        </p:nvSpPr>
        <p:spPr>
          <a:xfrm>
            <a:off x="4267080" y="4648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When 2 objects rub together causing it to slow down or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type of gen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 force that makes things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 story you would wr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7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when 2 things rub togeth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one reason why things stop or slow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ay to go!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0" name="j0214098.wav" descr=""/>
          <p:cNvPicPr/>
          <p:nvPr/>
        </p:nvPicPr>
        <p:blipFill>
          <a:blip r:embed="rId2"/>
          <a:stretch/>
        </p:blipFill>
        <p:spPr>
          <a:xfrm>
            <a:off x="152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Action Button: Forward or Next 4">
            <a:hlinkClick r:id="rId3" action="ppaction://hlinksldjump"/>
          </p:cNvPr>
          <p:cNvSpPr/>
          <p:nvPr/>
        </p:nvSpPr>
        <p:spPr>
          <a:xfrm>
            <a:off x="4038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4745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you slide on your sock feet in the dance studio or slide on 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the marbles would spin in space, but not on the carp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2 thing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5" name="Action Button: Back or Previous 3">
            <a:hlinkClick r:id="rId2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main at rest until a force acts on it or something makes it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 moving by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sh or pull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 out of ener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object at rest will stay that way until a force acts on i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r hockey puck stays still until you hit it with the sti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et’s do another one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2" name="j0214098.wav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3" name="Action Button: Forward or Next 4"/>
          <p:cNvSpPr/>
          <p:nvPr/>
        </p:nvSpPr>
        <p:spPr>
          <a:xfrm>
            <a:off x="4495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4745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get it to move, but now how do we get it to sto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it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loses speed or “momentum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a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force” act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stops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toy car stops when it runs into the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lse makes something stop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your 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it is sitting on the ice, is it mov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it move by itself or do you have to hit it with your stic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7" name="Action Button: Back or Previous 3"/>
          <p:cNvSpPr/>
          <p:nvPr/>
        </p:nvSpPr>
        <p:spPr>
          <a:xfrm>
            <a:off x="41148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wi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or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661600" cy="1341360"/>
          </a:xfrm>
          <a:prstGeom prst="rect">
            <a:avLst/>
          </a:prstGeom>
          <a:ln w="0">
            <a:noFill/>
          </a:ln>
        </p:spPr>
      </p:pic>
      <p:sp>
        <p:nvSpPr>
          <p:cNvPr id="50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ES!  The airplane lands becaus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pushing it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Keep at it!  You’re doing a great job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j0214098.wav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5" name="Action Button: Forward or Next 4"/>
          <p:cNvSpPr/>
          <p:nvPr/>
        </p:nvSpPr>
        <p:spPr>
          <a:xfrm>
            <a:off x="41911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the force that pulls everything down to Eart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will act on the paper airplane and push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9" name="Action Button: Back or Previous 3"/>
          <p:cNvSpPr/>
          <p:nvPr/>
        </p:nvSpPr>
        <p:spPr>
          <a:xfrm>
            <a:off x="41911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fa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stop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force acts on the object and changes the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Title 2" descr=""/>
          <p:cNvPicPr/>
          <p:nvPr/>
        </p:nvPicPr>
        <p:blipFill>
          <a:blip r:embed="rId1"/>
          <a:stretch/>
        </p:blipFill>
        <p:spPr>
          <a:xfrm>
            <a:off x="444600" y="23760"/>
            <a:ext cx="8400960" cy="143352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got it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omas stays straight until the driver turns him (force would be pushing) to curve with the tra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6" name="j0214098.wav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Action Button: Forward or Next 4"/>
          <p:cNvSpPr/>
          <p:nvPr/>
        </p:nvSpPr>
        <p:spPr>
          <a:xfrm>
            <a:off x="41911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4745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the Train moves down the straight railroad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doesn’t turn to match the track on his 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applied (the driver turning him) and makes him curve 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Action Button: Back or Previous 3"/>
          <p:cNvSpPr/>
          <p:nvPr/>
        </p:nvSpPr>
        <p:spPr>
          <a:xfrm>
            <a:off x="4114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DID IT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really know your stuff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ade it through with flying color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doubt you’ll do great on your paper assessment too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MSj04379040000[1].wav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6" name="Action Button: Forward or Next 4">
            <a:hlinkClick r:id="" action="ppaction://hlinkshowjump?jump=nextslide"/>
          </p:cNvPr>
          <p:cNvSpPr/>
          <p:nvPr/>
        </p:nvSpPr>
        <p:spPr>
          <a:xfrm>
            <a:off x="39625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17270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know that friction can help objects sto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riction is when 2 objects rub together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4674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lp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tennis shoes on the gym floor so you have grip and won’t fall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untitledwwsk4.bmp"/>
          <p:cNvPicPr/>
          <p:nvPr/>
        </p:nvPicPr>
        <p:blipFill>
          <a:blip r:embed="rId2"/>
          <a:stretch/>
        </p:blipFill>
        <p:spPr>
          <a:xfrm>
            <a:off x="3581280" y="2819520"/>
            <a:ext cx="2286000" cy="2563560"/>
          </a:xfrm>
          <a:prstGeom prst="rect">
            <a:avLst/>
          </a:prstGeom>
          <a:ln w="0">
            <a:noFill/>
          </a:ln>
        </p:spPr>
      </p:pic>
      <p:sp>
        <p:nvSpPr>
          <p:cNvPr id="391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urt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ock feet on the dance floor and you slide into a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riction from the carpet and wheels on the toy car help it lose speed, slow down, and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riction_uses-bear.jpg"/>
          <p:cNvPicPr/>
          <p:nvPr/>
        </p:nvPicPr>
        <p:blipFill>
          <a:blip r:embed="rId2"/>
          <a:stretch/>
        </p:blipFill>
        <p:spPr>
          <a:xfrm>
            <a:off x="2590920" y="2438280"/>
            <a:ext cx="3886200" cy="2194200"/>
          </a:xfrm>
          <a:prstGeom prst="rect">
            <a:avLst/>
          </a:prstGeom>
          <a:ln w="0">
            <a:noFill/>
          </a:ln>
        </p:spPr>
      </p:pic>
      <p:sp>
        <p:nvSpPr>
          <p:cNvPr id="39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is at rest when it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still acting on the object to keep it still and keep it in pla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00" name="Action Button: Forward or Next 4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Xmas 2008 001.jpg"/>
          <p:cNvPicPr/>
          <p:nvPr/>
        </p:nvPicPr>
        <p:blipFill>
          <a:blip r:embed="rId3"/>
          <a:stretch/>
        </p:blipFill>
        <p:spPr>
          <a:xfrm>
            <a:off x="2133720" y="31240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02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pulls objects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what keeps you in your seat, brings your ball back down, and you back down after you jum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Program Files\Microsoft Office\MEDIA\CAGCAT10\j0301480.wmf"/>
          <p:cNvPicPr/>
          <p:nvPr/>
        </p:nvPicPr>
        <p:blipFill>
          <a:blip r:embed="rId2"/>
          <a:stretch/>
        </p:blipFill>
        <p:spPr>
          <a:xfrm>
            <a:off x="2743200" y="4038480"/>
            <a:ext cx="2819520" cy="1338480"/>
          </a:xfrm>
          <a:prstGeom prst="rect">
            <a:avLst/>
          </a:prstGeom>
          <a:ln w="0">
            <a:noFill/>
          </a:ln>
        </p:spPr>
      </p:pic>
      <p:sp>
        <p:nvSpPr>
          <p:cNvPr id="40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how something moves and how something st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orce is a push or pul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t makes things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riction is 2 object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gravity pulls/pushes everything back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’s more to motion-Let’s find out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35:21Z</dcterms:created>
  <dc:creator>User</dc:creator>
  <dc:description/>
  <dc:language>en-US</dc:language>
  <cp:lastModifiedBy>Asus</cp:lastModifiedBy>
  <dcterms:modified xsi:type="dcterms:W3CDTF">2018-03-09T16:22:00Z</dcterms:modified>
  <cp:revision>34</cp:revision>
  <dc:subject/>
  <dc:title>MOTION</dc:title>
</cp:coreProperties>
</file>