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3.png" ContentType="image/png"/>
  <Override PartName="/ppt/media/image8.wmf" ContentType="image/x-wmf"/>
  <Override PartName="/ppt/media/image40.png" ContentType="image/png"/>
  <Override PartName="/ppt/media/image38.png" ContentType="image/png"/>
  <Override PartName="/ppt/media/image4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9.png" ContentType="image/png"/>
  <Override PartName="/ppt/media/image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B80-5D65-4874-8C43-6E098A5A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AAF1-9BA8-4147-891E-F2D3BC4A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59A-233E-46A8-9B98-E4E69D796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62B5-6453-4161-A14E-8D97ED8A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ABC9-27BA-4467-A548-03F995F3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BAF0-4E95-4F91-B6B7-B9F71F45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5213-7C7E-404E-878F-8476802D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9E0E-DCA0-46FA-ADCD-A1AFC1F4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267D-5258-4AF8-BB05-846B48CE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31E8-EDE7-4F61-A885-CD132834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61BD-1E50-4E9A-8497-BDB178C8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6EF-B0CF-4D32-8DCF-4C85713C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0A61-8ACD-439E-A660-DF5E9CDE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6ECB-8996-4481-8471-9CB0EAA3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3C91-D4D4-4A96-A7D9-7CF678C6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4B47-C588-4BA5-B0CC-CFDD5344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1D8D-A246-418E-8A22-0DFBF5C2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518EC-A8BA-4E8F-B8BB-8264AB3D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CCFDC-9326-4820-A6AF-5D64DE3C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3BC3B-14CD-440A-84A9-84FD4336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2D3C0-3E3D-47D8-A252-9CD26E9D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C0130-F000-416C-B87C-5EA5754A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165-449B-4952-93FF-1D95FEB1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A6986-61D2-46C4-9CF1-88E3324A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8D23B-4D63-42F0-8972-32E9941B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09B1E-F1DD-4194-B8F5-4A26081B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19422-C063-471B-9337-61DAB324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00014-D65D-4369-BEBB-B19A2509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88899-8F92-49B1-BC2F-B5B96071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B15A5-655E-40DC-BA9B-B8E32EFF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D0943-B2C6-4106-A7BA-57E6CED9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7454A-D040-41B0-87BB-A87124B1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5436E-F168-401D-B968-F26CF1CF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F43-E580-42E1-8EA1-99EAFC5A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88E56-F048-4C85-8618-2D8B2EF6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16286-8ECA-4E97-9FED-D50B82B4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0FC1A-291C-4F5B-9A29-587295CE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7597C-5E18-43C6-BEEB-D75B1A86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32C03-0BFB-4ADE-98EB-43DB060D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226CE-B816-42EA-A48E-9C1CD014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F7FA4-6555-4FAB-ACC0-20B1D5EC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00DE9-B681-4967-BF55-EE067479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644BF-CD39-4F80-8C16-EBB35412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39A91-7803-465C-8AD5-EC123EA0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6B64-77C1-41D8-9325-D65D7C2A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5891E-4A52-4353-8C88-775287DC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3C243-D520-48C7-852A-07986C7C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A610B-CF8D-44A3-A19B-90FB12EC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CFD4F-7D91-4C66-86AC-0E09908F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38955-CF61-4AB0-BE9E-001E582D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26655-AF32-40C7-837C-AF183D2A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4DE29-A16B-47D0-8D08-C81B644F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EBFFB-D06E-4F6D-8968-8DA6420A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8FD68-317E-4076-8ABA-F59FBB48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6E9EA-BA70-4734-ADEC-D5887F7D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860-4FF9-4EE4-A674-6F23B3C1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FF2D5-1D3D-4CD2-8545-19775CC8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D16E5-8977-49AC-8A44-71ED6A80D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4FF54-DEF0-49F6-9289-78A99F7A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C382D-656E-4785-AF42-6042BEDF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551E4-0BBF-4FAD-8B96-44F005B3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C1347-396F-40D1-9921-07A7EF6D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D2854-434B-47E6-8FD0-20122881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8BA66-C7D1-4187-8867-4F7A10A1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F1C99-87F6-4E02-B4E7-7B605E60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13125-F1A2-47E3-B066-3F45A815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E75-F3CC-4CB9-81D5-EEE4B0CC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71A61-840C-4734-994B-10DB836A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76546-EC54-484F-8D56-9C63D5CF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F7EC9-AC80-4849-8118-6D8C24D0B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5A0F5-A417-4A7A-BF07-E679C2B2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C1CFF-5E0D-4341-AA7E-F58132E2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B12CB-7A07-4C30-9B44-8FD87721D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EC574-7524-4E3F-A61B-5A600051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DE7F3-04A2-466B-A068-CE8E149D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53639-A99D-4F66-96A1-06FA572D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B3041-2AA3-4F5E-8A4B-B50473D8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A40-8A5C-44ED-B5F3-E1190E2F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58C6A-407F-4EED-98FF-CFB0A4B9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D6254-8744-478B-A96C-A2B3C9E4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DFF05-F129-4BB1-BC2B-DF14E1EC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7E2FA-06E6-47C7-A07D-D5D25246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C43CB-4A91-4E24-AA3D-2D82F3AE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C14F2-6AEB-489A-B7CD-752F427D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D427C-70D6-4ED8-9A32-43CC9185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14D56-09FD-4F0E-A872-493965FF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EDD93-C1D3-430C-A88E-49E8C944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8322C-0DB4-4B99-A740-904A7CD3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011-EE28-42BB-A147-38D41077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D7D72-1541-4CFC-9DE7-01194273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1C86C-55B3-4BD6-8F78-4D210E66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109B2-0516-4FCD-8B3E-41465B1A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90300-BF6F-4CA7-A71A-C29292B7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AA91C-6149-4F80-B768-16E9F9F2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2D63A-7BA9-4FE7-A118-7DA42124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C3DB6-1BA1-48D4-B8AD-1651FE1E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CA17-CFA5-400E-BFD6-3C932E52F6A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C012-9E8A-4C7A-BFB8-74C7F3B912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24F2-0295-4E5F-931F-747A61A0E06F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D55C-7E09-49F9-96D2-E9DB4E6C16F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6E01-02B8-4D8E-850D-417DE0B5D03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F184-BEA9-476B-8579-1DFF7B5B57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26A5-97E0-4A38-80B0-F9DB4072646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6211-5BD5-40D4-9084-3E3A4A169A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1AC4-8A61-41D7-A952-F4E7E949E00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9511-F8E2-493F-A484-832C0D2837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53E8-2EF2-4FDA-819C-DF65ACD66B7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2709-DEB1-4AF4-9F3C-2AB8732316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0E01-E559-442A-B541-B8270C1F3FE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9AC9-E202-428C-B8B8-1B2341C70C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57B7-C3D3-442E-9714-668B3A5F65A3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DED0-B0A3-4B6F-8864-D3C31FD6AB0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Desktop/Newton_s_First_Law_of_Motion.asf" TargetMode="External"/><Relationship Id="rId2" Type="http://schemas.openxmlformats.org/officeDocument/2006/relationships/image" Target="../media/image21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1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motio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we describe motion in 3 way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HOW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IRECTI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PEED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Program Files\Microsoft Office\MEDIA\CAGCAT10\j0212957.wmf"/>
          <p:cNvPicPr/>
          <p:nvPr/>
        </p:nvPicPr>
        <p:blipFill>
          <a:blip r:embed="rId2"/>
          <a:stretch/>
        </p:blipFill>
        <p:spPr>
          <a:xfrm>
            <a:off x="1447920" y="4114800"/>
            <a:ext cx="4039920" cy="1758960"/>
          </a:xfrm>
          <a:prstGeom prst="rect">
            <a:avLst/>
          </a:prstGeom>
          <a:ln w="0">
            <a:noFill/>
          </a:ln>
        </p:spPr>
      </p:pic>
      <p:sp>
        <p:nvSpPr>
          <p:cNvPr id="373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8487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have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ot moving, it is at re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the puck to move, you have to do something to the puck lik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it 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 This is the for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out the force, it will stay in the same spot and be at re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tch this to learn more!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..\Desktop\Newton_s_First_Law_of_Motion.as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Action Button: Forward or Next 3">
            <a:hlinkClick r:id="" action="ppaction://hlinkshowjump?jump=nextslide"/>
            <a:hlinkClick r:id="rId3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at rest remains at rest unless acted 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ay at rest or “look still” until you do something to make it move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oy car stays at the starting lin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ckey puck sits on the ic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with the stick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18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92468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60" h="21600">
                <a:moveTo>
                  <a:pt x="6374" y="3794"/>
                </a:moveTo>
                <a:lnTo>
                  <a:pt x="20387" y="10800"/>
                </a:lnTo>
                <a:lnTo>
                  <a:pt x="637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a train-that train drives down a straight track and stays going in a straight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oct611es5.gif"/>
          <p:cNvPicPr/>
          <p:nvPr/>
        </p:nvPicPr>
        <p:blipFill>
          <a:blip r:embed="rId2"/>
          <a:stretch/>
        </p:blipFill>
        <p:spPr>
          <a:xfrm>
            <a:off x="2133720" y="3200400"/>
            <a:ext cx="4329000" cy="3057480"/>
          </a:xfrm>
          <a:prstGeom prst="rect">
            <a:avLst/>
          </a:prstGeom>
          <a:ln w="0">
            <a:noFill/>
          </a:ln>
        </p:spPr>
      </p:pic>
      <p:sp>
        <p:nvSpPr>
          <p:cNvPr id="423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4864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4511" y="3794"/>
                </a:moveTo>
                <a:lnTo>
                  <a:pt x="18524" y="10800"/>
                </a:lnTo>
                <a:lnTo>
                  <a:pt x="4511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happens when the track curves left or righ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rain turns and goes left or rig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Content Placeholder 3" descr="Xmas 2008 065.jpg"/>
          <p:cNvPicPr/>
          <p:nvPr/>
        </p:nvPicPr>
        <p:blipFill>
          <a:blip r:embed="rId2"/>
          <a:stretch/>
        </p:blipFill>
        <p:spPr>
          <a:xfrm>
            <a:off x="1828800" y="2971800"/>
            <a:ext cx="4044960" cy="3352680"/>
          </a:xfrm>
          <a:prstGeom prst="rect">
            <a:avLst/>
          </a:prstGeom>
          <a:ln w="0">
            <a:noFill/>
          </a:ln>
        </p:spPr>
      </p:pic>
      <p:sp>
        <p:nvSpPr>
          <p:cNvPr id="428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ижний колонтитул 8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in motion in a straight line tends to say in motion in a straight line unless acted up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go straight until a force makes it go another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r paper airplane flies straight until gravity pushes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drives straight until the driver makes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“tur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3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’s see what we’ve learned so far about motion!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ve this quiz a try and test your motion knowledg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3352680" y="3429000"/>
            <a:ext cx="1812960" cy="2209680"/>
          </a:xfrm>
          <a:prstGeom prst="rect">
            <a:avLst/>
          </a:prstGeom>
          <a:ln w="0">
            <a:noFill/>
          </a:ln>
        </p:spPr>
      </p:pic>
      <p:sp>
        <p:nvSpPr>
          <p:cNvPr id="437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68580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ny object that f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ny object that drives on the ro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ny object this is sitting sti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1" descr=""/>
          <p:cNvPicPr/>
          <p:nvPr/>
        </p:nvPicPr>
        <p:blipFill>
          <a:blip r:embed="rId5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tion is described as any object that is moving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4" name="j0214098.wav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5" name="Action Button: Forward or Next 4">
            <a:hlinkClick r:id="rId3" action="ppaction://hlinksldjump"/>
          </p:cNvPr>
          <p:cNvSpPr/>
          <p:nvPr/>
        </p:nvSpPr>
        <p:spPr>
          <a:xfrm>
            <a:off x="41148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4745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ything that is moving is in mo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say motion 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Action Button: Back or Previous 3">
            <a:hlinkClick r:id="rId2" action="ppaction://hlinksldjump"/>
          </p:cNvPr>
          <p:cNvSpPr/>
          <p:nvPr/>
        </p:nvSpPr>
        <p:spPr>
          <a:xfrm>
            <a:off x="419112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717040" cy="13413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Turning the ke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Throwing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 action="ppaction://hlinksldjump"/>
              </a:rPr>
              <a:t>A pus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move something,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“force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s to hap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push or 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a toy car to move,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 of push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pplied as we push it across the flo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16M6CAHI18S4CA3BI0J4CAUQTTBNCANJR63ICAV45870CAP41RV2CAHUIXAXCATE6W1DCARDO1D5CA8S200HCA4ATM2FCABGSRLBCAFSFFMDCADCZTS4CA8W8BMGCA0F4LYNCAS1E5GFCAO7M3YJCAE9Z80D.jpg"/>
          <p:cNvPicPr/>
          <p:nvPr/>
        </p:nvPicPr>
        <p:blipFill>
          <a:blip r:embed="rId2"/>
          <a:stretch/>
        </p:blipFill>
        <p:spPr>
          <a:xfrm>
            <a:off x="2590920" y="3505320"/>
            <a:ext cx="3214440" cy="2057400"/>
          </a:xfrm>
          <a:prstGeom prst="rect">
            <a:avLst/>
          </a:prstGeom>
          <a:ln w="0">
            <a:noFill/>
          </a:ln>
        </p:spPr>
      </p:pic>
      <p:sp>
        <p:nvSpPr>
          <p:cNvPr id="378" name="Action Button: Forward or Next 5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have to “push” the toy car to put it into mo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been paying attention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6" name="j0214098.wav" descr=""/>
          <p:cNvPicPr/>
          <p:nvPr/>
        </p:nvPicPr>
        <p:blipFill>
          <a:blip r:embed="rId2"/>
          <a:stretch/>
        </p:blipFill>
        <p:spPr>
          <a:xfrm>
            <a:off x="3049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Action Button: Forward or Next 4">
            <a:hlinkClick r:id="rId3" action="ppaction://hlinksldjump"/>
          </p:cNvPr>
          <p:cNvSpPr/>
          <p:nvPr/>
        </p:nvSpPr>
        <p:spPr>
          <a:xfrm>
            <a:off x="411480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4745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about what we have to do to get that toy car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won’t move by itself, we have to do something to get it to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s are push and pu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which one will make the car move forward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1" name="Action Button: Back or Previous 3">
            <a:hlinkClick r:id="rId2" action="ppaction://hlinksldjump"/>
          </p:cNvPr>
          <p:cNvSpPr/>
          <p:nvPr/>
        </p:nvSpPr>
        <p:spPr>
          <a:xfrm>
            <a:off x="45720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Speed, how fast, and how f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Speed or how fast or slow an object mo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t rest or not at rest and the dir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Speed, direction, and how it i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Title 2" descr=""/>
          <p:cNvPicPr/>
          <p:nvPr/>
        </p:nvPicPr>
        <p:blipFill>
          <a:blip r:embed="rId5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65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describe an object’s motion by saying how fast or slow it goes, the direction it goes in, and by saying “how” it is mov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ry another ques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68" name="j0214098.wav" descr=""/>
          <p:cNvPicPr/>
          <p:nvPr/>
        </p:nvPicPr>
        <p:blipFill>
          <a:blip r:embed="rId2"/>
          <a:stretch/>
        </p:blipFill>
        <p:spPr>
          <a:xfrm>
            <a:off x="38088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Action Button: Forward or Next 9">
            <a:hlinkClick r:id="rId3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an object is moving, we describe “how” it is moving, how fast or slow it is going, and the direction is it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73" name="Action Button: Back or Previous 3">
            <a:hlinkClick r:id="rId2" action="ppaction://hlinksldjump"/>
          </p:cNvPr>
          <p:cNvSpPr/>
          <p:nvPr/>
        </p:nvSpPr>
        <p:spPr>
          <a:xfrm>
            <a:off x="4267080" y="4648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When 2 objects rub together causing it to slow down or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type of gen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 force that makes things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 story you would wri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7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when 2 things rub togethe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one reason why things stop or slow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ay to go!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0" name="j0214098.wav" descr=""/>
          <p:cNvPicPr/>
          <p:nvPr/>
        </p:nvPicPr>
        <p:blipFill>
          <a:blip r:embed="rId2"/>
          <a:stretch/>
        </p:blipFill>
        <p:spPr>
          <a:xfrm>
            <a:off x="1522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1" name="Action Button: Forward or Next 4">
            <a:hlinkClick r:id="rId3" action="ppaction://hlinksldjump"/>
          </p:cNvPr>
          <p:cNvSpPr/>
          <p:nvPr/>
        </p:nvSpPr>
        <p:spPr>
          <a:xfrm>
            <a:off x="40384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4745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you slide on your sock feet in the dance studio or slide on i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the marbles would spin in space, but not on the carp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2 thing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5" name="Action Button: Back or Previous 3">
            <a:hlinkClick r:id="rId2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main at rest until a force acts on it or something makes it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rt moving by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sh or pull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 out of ener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89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object at rest will stay that way until a force acts on i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r hockey puck stays still until you hit it with the sti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et’s do another one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92" name="j0214098.wav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3" name="Action Button: Forward or Next 4"/>
          <p:cNvSpPr/>
          <p:nvPr/>
        </p:nvSpPr>
        <p:spPr>
          <a:xfrm>
            <a:off x="44956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4745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get it to move, but now how do we get it to stop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it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loses speed or “momentum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a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force” act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stops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toy car stops when it runs into the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else makes something stop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your 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it is sitting on the ice, is it movi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it move by itself or do you have to hit it with your stick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7" name="Action Button: Back or Previous 3"/>
          <p:cNvSpPr/>
          <p:nvPr/>
        </p:nvSpPr>
        <p:spPr>
          <a:xfrm>
            <a:off x="411480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wi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or desig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2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661600" cy="1341360"/>
          </a:xfrm>
          <a:prstGeom prst="rect">
            <a:avLst/>
          </a:prstGeom>
          <a:ln w="0">
            <a:noFill/>
          </a:ln>
        </p:spPr>
      </p:pic>
      <p:sp>
        <p:nvSpPr>
          <p:cNvPr id="50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ES!  The airplane lands because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is pushing it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Keep at it!  You’re doing a great job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04" name="j0214098.wav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5" name="Action Button: Forward or Next 4"/>
          <p:cNvSpPr/>
          <p:nvPr/>
        </p:nvSpPr>
        <p:spPr>
          <a:xfrm>
            <a:off x="41911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4745" fill="hold"/>
                                        <p:tgtEl>
                                          <p:spTgt spid="5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the force that pulls everything down to Eart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will act on the paper airplane and push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9" name="Action Button: Back or Previous 3"/>
          <p:cNvSpPr/>
          <p:nvPr/>
        </p:nvSpPr>
        <p:spPr>
          <a:xfrm>
            <a:off x="41911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fa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stop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force acts on the object and changes the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2" name="Title 2" descr=""/>
          <p:cNvPicPr/>
          <p:nvPr/>
        </p:nvPicPr>
        <p:blipFill>
          <a:blip r:embed="rId1"/>
          <a:stretch/>
        </p:blipFill>
        <p:spPr>
          <a:xfrm>
            <a:off x="444600" y="23760"/>
            <a:ext cx="8400960" cy="1433520"/>
          </a:xfrm>
          <a:prstGeom prst="rect">
            <a:avLst/>
          </a:prstGeom>
          <a:ln w="0">
            <a:noFill/>
          </a:ln>
        </p:spPr>
      </p:pic>
      <p:sp>
        <p:nvSpPr>
          <p:cNvPr id="51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got it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omas stays straight until the driver turns him (force would be pushing) to curve with the tra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16" name="j0214098.wav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7" name="Action Button: Forward or Next 4"/>
          <p:cNvSpPr/>
          <p:nvPr/>
        </p:nvSpPr>
        <p:spPr>
          <a:xfrm>
            <a:off x="41911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4745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the Train moves down the straight railroad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doesn’t turn to match the track on his 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applied (the driver turning him) and makes him curve 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1" name="Action Button: Back or Previous 3"/>
          <p:cNvSpPr/>
          <p:nvPr/>
        </p:nvSpPr>
        <p:spPr>
          <a:xfrm>
            <a:off x="4114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DID IT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really know your stuff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made it through with flying colors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doubt you’ll do great on your paper assessment too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5" name="MSj04379040000[1].wav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6" name="Action Button: Forward or Next 4">
            <a:hlinkClick r:id="" action="ppaction://hlinkshowjump?jump=nextslide"/>
          </p:cNvPr>
          <p:cNvSpPr/>
          <p:nvPr/>
        </p:nvSpPr>
        <p:spPr>
          <a:xfrm>
            <a:off x="396252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17270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know that friction can help objects stop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Friction is when 2 objects rub together.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4674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elp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tennis shoes on the gym floor so you have grip and won’t fall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untitledwwsk4.bmp"/>
          <p:cNvPicPr/>
          <p:nvPr/>
        </p:nvPicPr>
        <p:blipFill>
          <a:blip r:embed="rId2"/>
          <a:stretch/>
        </p:blipFill>
        <p:spPr>
          <a:xfrm>
            <a:off x="3581280" y="2819520"/>
            <a:ext cx="2286000" cy="2563560"/>
          </a:xfrm>
          <a:prstGeom prst="rect">
            <a:avLst/>
          </a:prstGeom>
          <a:ln w="0">
            <a:noFill/>
          </a:ln>
        </p:spPr>
      </p:pic>
      <p:sp>
        <p:nvSpPr>
          <p:cNvPr id="391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urt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sock feet on the dance floor and you slide into a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riction from the carpet and wheels on the toy car help it lose speed, slow down, and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riction_uses-bear.jpg"/>
          <p:cNvPicPr/>
          <p:nvPr/>
        </p:nvPicPr>
        <p:blipFill>
          <a:blip r:embed="rId2"/>
          <a:stretch/>
        </p:blipFill>
        <p:spPr>
          <a:xfrm>
            <a:off x="2590920" y="2438280"/>
            <a:ext cx="3886200" cy="2194200"/>
          </a:xfrm>
          <a:prstGeom prst="rect">
            <a:avLst/>
          </a:prstGeom>
          <a:ln w="0">
            <a:noFill/>
          </a:ln>
        </p:spPr>
      </p:pic>
      <p:sp>
        <p:nvSpPr>
          <p:cNvPr id="39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is at rest when it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ti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still acting on the object to keep it still and keep it in pla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00" name="Action Button: Forward or Next 4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Xmas 2008 001.jpg"/>
          <p:cNvPicPr/>
          <p:nvPr/>
        </p:nvPicPr>
        <p:blipFill>
          <a:blip r:embed="rId3"/>
          <a:stretch/>
        </p:blipFill>
        <p:spPr>
          <a:xfrm>
            <a:off x="2133720" y="3124080"/>
            <a:ext cx="4190760" cy="3143520"/>
          </a:xfrm>
          <a:prstGeom prst="rect">
            <a:avLst/>
          </a:prstGeom>
          <a:ln w="0">
            <a:noFill/>
          </a:ln>
        </p:spPr>
      </p:pic>
      <p:sp>
        <p:nvSpPr>
          <p:cNvPr id="402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pulls objects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what keeps you in your seat, brings your ball back down, and you back down after you jum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C:\Program Files\Microsoft Office\MEDIA\CAGCAT10\j0301480.wmf"/>
          <p:cNvPicPr/>
          <p:nvPr/>
        </p:nvPicPr>
        <p:blipFill>
          <a:blip r:embed="rId2"/>
          <a:stretch/>
        </p:blipFill>
        <p:spPr>
          <a:xfrm>
            <a:off x="2743200" y="4038480"/>
            <a:ext cx="2819520" cy="1338480"/>
          </a:xfrm>
          <a:prstGeom prst="rect">
            <a:avLst/>
          </a:prstGeom>
          <a:ln w="0">
            <a:noFill/>
          </a:ln>
        </p:spPr>
      </p:pic>
      <p:sp>
        <p:nvSpPr>
          <p:cNvPr id="40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how something moves and how something sto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orce is a push or pul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at makes things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riction is 2 object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gravity pulls/pushes everything back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’s more to motion-Let’s find out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7:35:21Z</dcterms:created>
  <dc:creator>User</dc:creator>
  <dc:description/>
  <dc:language>en-US</dc:language>
  <cp:lastModifiedBy>Asus</cp:lastModifiedBy>
  <dcterms:modified xsi:type="dcterms:W3CDTF">2018-03-09T16:22:00Z</dcterms:modified>
  <cp:revision>34</cp:revision>
  <dc:subject/>
  <dc:title>MOTION</dc:title>
</cp:coreProperties>
</file>