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33.wmf" ContentType="image/x-wmf"/>
  <Override PartName="/ppt/media/image26.jpeg" ContentType="image/jpeg"/>
  <Override PartName="/ppt/media/image23.jpeg" ContentType="image/jpeg"/>
  <Override PartName="/ppt/media/image12.png" ContentType="image/png"/>
  <Override PartName="/ppt/media/image22.wmf" ContentType="image/x-wmf"/>
  <Override PartName="/ppt/media/image20.jpeg" ContentType="image/jpeg"/>
  <Override PartName="/ppt/media/image21.wmf" ContentType="image/x-wmf"/>
  <Override PartName="/ppt/media/image18.png" ContentType="image/png"/>
  <Override PartName="/ppt/media/image28.jpeg" ContentType="image/jpeg"/>
  <Override PartName="/ppt/media/image36.jpeg" ContentType="image/jpeg"/>
  <Override PartName="/ppt/media/image10.wmf" ContentType="image/x-wmf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7.png" ContentType="image/png"/>
  <Override PartName="/ppt/media/image34.jpeg" ContentType="image/jpeg"/>
  <Override PartName="/ppt/media/image39.jpeg" ContentType="image/jpeg"/>
  <Override PartName="/ppt/media/image8.png" ContentType="image/png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35.jpeg" ContentType="image/jpeg"/>
  <Override PartName="/ppt/media/image38.jpeg" ContentType="image/jpeg"/>
  <Override PartName="/ppt/media/image6.png" ContentType="image/png"/>
  <Override PartName="/ppt/media/image5.wmf" ContentType="image/x-wmf"/>
  <Override PartName="/ppt/media/image27.jpeg" ContentType="image/jpe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3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4145040" y="70956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684000" y="245880"/>
            <a:ext cx="2933640" cy="21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4145040" y="1420560"/>
            <a:ext cx="3170160" cy="4791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4145040" y="205056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9C4E74F-81C2-4784-A98F-46BD631E0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E7A965A-6831-4329-B81C-14507D8A4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CE0EB01-BF11-458E-B7BF-553A782EE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6E93C4A-DFB7-4D74-8477-80FED663A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975859E-8E62-443E-975B-86C40E613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569AD0E-2D8E-43AE-8961-31845507C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F773959-CA44-467A-AD12-4E38E5A85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9566025-402D-4322-85E8-33DDACEBF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AEC8FAB-3029-4AA9-AF87-C3420303A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2837A6D-6715-4A81-BBD8-CF9B720DB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856BF16-F18B-4F32-9639-DF9E4CCC3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511B506-A93C-42D7-AD31-A7433E229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FD2B8E1-50A8-448D-82AE-E952A71B8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42F9152-1993-433F-B79A-EE8DEB7AE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539E5CE-0F06-4AD3-9124-815745109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5A22453-F54D-42E8-8078-909E02A07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5841DE4-A589-4DD9-9E76-948CCB620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D79FA39-63A5-4DDD-B6FB-5545F5E4E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8C8AA6F-446B-4CF4-8C40-9D7EF997A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7F77AFF-1804-459F-A8C0-6A6446FB0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C695AB6-E387-4400-84FE-F4CDCB31B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5AA62A2-80DA-4B8C-B249-CCB9D776F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7E9C66D-36BA-43FF-A535-4D6F2FB90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1CD9868-70B9-47D4-9290-17F152159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CE12686-A313-4C0D-94BA-018613D7A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F913843-80E5-443D-8AB8-3FD6D5D0D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8E6F3D1-E15F-4921-981A-1F396A58D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F6E70E2-6C45-4149-8473-4BF4EADF2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7070F0E-A92E-4F67-8F8F-0CD31A766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8EF1079-DCAC-4BF8-9CF5-8CDB3E84F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A99E324-3B02-4985-8278-D1A949915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327358F-F2F7-4549-A1CE-7BFF1458B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478F016-ED54-4583-9C9B-8021392AB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Physics_at_NJIT"/>
          <p:cNvPicPr/>
          <p:nvPr/>
        </p:nvPicPr>
        <p:blipFill>
          <a:blip r:embed="rId2"/>
          <a:stretch/>
        </p:blipFill>
        <p:spPr>
          <a:xfrm>
            <a:off x="0" y="6095880"/>
            <a:ext cx="9186840" cy="804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4176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F408-D369-4014-A54E-F0CC34F9B944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4" name="Picture 10" descr="sun2"/>
          <p:cNvPicPr/>
          <p:nvPr/>
        </p:nvPicPr>
        <p:blipFill>
          <a:blip r:embed="rId3"/>
          <a:srcRect l="0" t="0" r="5900" b="0"/>
          <a:stretch/>
        </p:blipFill>
        <p:spPr>
          <a:xfrm>
            <a:off x="8491680" y="5578560"/>
            <a:ext cx="664920" cy="127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Physics_at_NJIT"/>
          <p:cNvPicPr/>
          <p:nvPr/>
        </p:nvPicPr>
        <p:blipFill>
          <a:blip r:embed="rId2"/>
          <a:stretch/>
        </p:blipFill>
        <p:spPr>
          <a:xfrm>
            <a:off x="0" y="6095880"/>
            <a:ext cx="9186840" cy="804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5" descr="sun2"/>
          <p:cNvPicPr/>
          <p:nvPr/>
        </p:nvPicPr>
        <p:blipFill>
          <a:blip r:embed="rId3"/>
          <a:srcRect l="0" t="0" r="5900" b="0"/>
          <a:stretch/>
        </p:blipFill>
        <p:spPr>
          <a:xfrm>
            <a:off x="6727680" y="2190600"/>
            <a:ext cx="2428920" cy="4667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961A-47B0-4A77-9AF1-BF37A349CF2E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Applications of Newton’s Law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11000" y="1599840"/>
            <a:ext cx="767052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first law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second law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third law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Frictional forc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Applications of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  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law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Circular Mo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4651200" y="4863960"/>
            <a:ext cx="44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Monotype Corsiva"/>
              </a:rPr>
              <a:t>Isaac Newton’s work represents one of the greatest contributions to science ever made by an individual.</a:t>
            </a:r>
            <a:endParaRPr b="1" lang="en-US" sz="18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92" name="Picture 6" descr="newton"/>
          <p:cNvPicPr/>
          <p:nvPr/>
        </p:nvPicPr>
        <p:blipFill>
          <a:blip r:embed="rId1"/>
          <a:stretch/>
        </p:blipFill>
        <p:spPr>
          <a:xfrm>
            <a:off x="5702400" y="1752480"/>
            <a:ext cx="2333520" cy="3122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4CF7-ABC7-45D5-8BFD-20DBC82D815C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Kinetic Fric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3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 force of kinetic friction acts when the object is in mo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lthough 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µ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can vary with speed, we shall neglect any such variation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ƒ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µ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ahoma"/>
              </a:rPr>
              <a:t>k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65" name="Picture 4" descr="0516b"/>
          <p:cNvPicPr/>
          <p:nvPr/>
        </p:nvPicPr>
        <p:blipFill>
          <a:blip r:embed="rId1"/>
          <a:stretch/>
        </p:blipFill>
        <p:spPr>
          <a:xfrm>
            <a:off x="5084640" y="1447920"/>
            <a:ext cx="316548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DDB8-0E6E-4381-BBC0-CA772DEBC0AC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plore Forces of Fric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Vary the applied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ote the value of the frictional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ompare the valu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ote what happens when the can starts to mov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69" name="Picture 4" descr="0516"/>
          <p:cNvPicPr/>
          <p:nvPr/>
        </p:nvPicPr>
        <p:blipFill>
          <a:blip r:embed="rId1"/>
          <a:stretch/>
        </p:blipFill>
        <p:spPr>
          <a:xfrm>
            <a:off x="5032440" y="1447920"/>
            <a:ext cx="326844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B652-0D7A-4235-9032-731663A2F49A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Hints for 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roblem-Solving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58720" y="1231920"/>
            <a:ext cx="8331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Read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the problem carefully at least onc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Draw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a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picture of the system, identify the object of primary interest, and  indicate forces with arrow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Label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each force in the picture in a way that will bring to mind what physical quantity the label stands for (e.g., T for tension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Draw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a free-body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diagram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of the object of interest, based on the labeled picture. If additional objects are involved, draw separate free-body diagram for them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Choose a convenient coordinate system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for each object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Apply Newton’s second law.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The x- and y-components of Newton second law should be taken from the vector equation and written individually. This often results in two equations and two unknown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Solve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for the desired unknown quantity, and substitute the number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2654280" y="5346720"/>
                <a:ext cx="16128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4838760" y="5343480"/>
                <a:ext cx="16765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83B3-3656-46AB-8F9E-FB2B8A0250CF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Objects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in Equilibrium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15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Objects that are either at rest or moving with constant velocity are said to be in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equilibrium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celeration of an object can be modeled as zero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:  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Mathematically, the net force acting on the object is zero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Equivalent to the set of component equations given by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9"/>
              <p:cNvSpPr txBox="1"/>
              <p:nvPr/>
            </p:nvSpPr>
            <p:spPr>
              <a:xfrm>
                <a:off x="3701880" y="3808440"/>
                <a:ext cx="1155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10"/>
              <p:cNvSpPr txBox="1"/>
              <p:nvPr/>
            </p:nvSpPr>
            <p:spPr>
              <a:xfrm>
                <a:off x="2133720" y="2851200"/>
                <a:ext cx="9396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5"/>
              <p:cNvSpPr txBox="1"/>
              <p:nvPr/>
            </p:nvSpPr>
            <p:spPr>
              <a:xfrm>
                <a:off x="2927520" y="5016600"/>
                <a:ext cx="12682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6"/>
              <p:cNvSpPr txBox="1"/>
              <p:nvPr/>
            </p:nvSpPr>
            <p:spPr>
              <a:xfrm>
                <a:off x="5119560" y="5013360"/>
                <a:ext cx="13176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6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D649-AECB-4612-B7F0-C76C0F293F0D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546120" y="1409760"/>
            <a:ext cx="8140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What is the smallest value of the force F such that the 2.0-kg block will not slide down the wall? The coefficient of static friction between the block and the wall is 0.2. ?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   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Equilibrium, Example 1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85" name="Group 9"/>
          <p:cNvGrpSpPr/>
          <p:nvPr/>
        </p:nvGrpSpPr>
        <p:grpSpPr>
          <a:xfrm>
            <a:off x="6127920" y="3292560"/>
            <a:ext cx="1949400" cy="2171520"/>
            <a:chOff x="6127920" y="3292560"/>
            <a:chExt cx="1949400" cy="2171520"/>
          </a:xfrm>
        </p:grpSpPr>
        <p:sp>
          <p:nvSpPr>
            <p:cNvPr id="186" name="Line 10"/>
            <p:cNvSpPr/>
            <p:nvPr/>
          </p:nvSpPr>
          <p:spPr>
            <a:xfrm>
              <a:off x="8077320" y="3292560"/>
              <a:ext cx="0" cy="217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187" name="Rectangle 11"/>
            <p:cNvSpPr/>
            <p:nvPr/>
          </p:nvSpPr>
          <p:spPr>
            <a:xfrm>
              <a:off x="7320240" y="3872880"/>
              <a:ext cx="724680" cy="1085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188" name="Line 12"/>
            <p:cNvSpPr/>
            <p:nvPr/>
          </p:nvSpPr>
          <p:spPr>
            <a:xfrm>
              <a:off x="6127920" y="4453200"/>
              <a:ext cx="1207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189" name="Text Box 13"/>
          <p:cNvSpPr/>
          <p:nvPr/>
        </p:nvSpPr>
        <p:spPr>
          <a:xfrm>
            <a:off x="6192720" y="3838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F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pSp>
        <p:nvGrpSpPr>
          <p:cNvPr id="190" name="Group 81"/>
          <p:cNvGrpSpPr/>
          <p:nvPr/>
        </p:nvGrpSpPr>
        <p:grpSpPr>
          <a:xfrm>
            <a:off x="1765440" y="3381480"/>
            <a:ext cx="2388600" cy="2244600"/>
            <a:chOff x="1765440" y="3381480"/>
            <a:chExt cx="2388600" cy="2244600"/>
          </a:xfrm>
        </p:grpSpPr>
        <p:grpSp>
          <p:nvGrpSpPr>
            <p:cNvPr id="191" name="Group 70"/>
            <p:cNvGrpSpPr/>
            <p:nvPr/>
          </p:nvGrpSpPr>
          <p:grpSpPr>
            <a:xfrm>
              <a:off x="1765440" y="3381480"/>
              <a:ext cx="2388600" cy="2237760"/>
              <a:chOff x="1765440" y="3381480"/>
              <a:chExt cx="2388600" cy="2237760"/>
            </a:xfrm>
          </p:grpSpPr>
          <p:sp>
            <p:nvSpPr>
              <p:cNvPr id="192" name="Line 71"/>
              <p:cNvSpPr/>
              <p:nvPr/>
            </p:nvSpPr>
            <p:spPr>
              <a:xfrm>
                <a:off x="3321000" y="3381480"/>
                <a:ext cx="0" cy="217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3" name="Rectangle 72"/>
              <p:cNvSpPr/>
              <p:nvPr/>
            </p:nvSpPr>
            <p:spPr>
              <a:xfrm>
                <a:off x="2563920" y="3962520"/>
                <a:ext cx="725040" cy="10857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4" name="Text Box 73"/>
              <p:cNvSpPr/>
              <p:nvPr/>
            </p:nvSpPr>
            <p:spPr>
              <a:xfrm>
                <a:off x="2290320" y="5159520"/>
                <a:ext cx="58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mg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5" name="Line 74"/>
              <p:cNvSpPr/>
              <p:nvPr/>
            </p:nvSpPr>
            <p:spPr>
              <a:xfrm>
                <a:off x="1765440" y="4503600"/>
                <a:ext cx="120780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6" name="Text Box 75"/>
              <p:cNvSpPr/>
              <p:nvPr/>
            </p:nvSpPr>
            <p:spPr>
              <a:xfrm>
                <a:off x="1787760" y="3914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N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7" name="Text Box 76"/>
              <p:cNvSpPr/>
              <p:nvPr/>
            </p:nvSpPr>
            <p:spPr>
              <a:xfrm>
                <a:off x="2468160" y="338148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f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8" name="Line 77"/>
              <p:cNvSpPr/>
              <p:nvPr/>
            </p:nvSpPr>
            <p:spPr>
              <a:xfrm>
                <a:off x="2978280" y="3390840"/>
                <a:ext cx="0" cy="11304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9" name="Line 78"/>
              <p:cNvSpPr/>
              <p:nvPr/>
            </p:nvSpPr>
            <p:spPr>
              <a:xfrm>
                <a:off x="2946240" y="4503600"/>
                <a:ext cx="120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200" name="Text Box 79"/>
              <p:cNvSpPr/>
              <p:nvPr/>
            </p:nvSpPr>
            <p:spPr>
              <a:xfrm>
                <a:off x="3633480" y="39276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F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Line 80"/>
            <p:cNvSpPr/>
            <p:nvPr/>
          </p:nvSpPr>
          <p:spPr>
            <a:xfrm>
              <a:off x="2978280" y="4495680"/>
              <a:ext cx="0" cy="113040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451B-B636-4226-81A3-F1603DE31332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Accelerating Objec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If an object that can be modeled as a particle experiences an acceleration, there must be a nonzero net force acting on i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Draw a free-body diagram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pply Newton’s Second Law in component form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3240000" y="3922560"/>
                <a:ext cx="191160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5"/>
              <p:cNvSpPr txBox="1"/>
              <p:nvPr/>
            </p:nvSpPr>
            <p:spPr>
              <a:xfrm>
                <a:off x="1585800" y="4876920"/>
                <a:ext cx="191952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6"/>
              <p:cNvSpPr txBox="1"/>
              <p:nvPr/>
            </p:nvSpPr>
            <p:spPr>
              <a:xfrm>
                <a:off x="4332240" y="4835520"/>
                <a:ext cx="20242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0C6E-2828-4B69-9BBA-2489A69F184B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Inclined Plan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19040" y="1486080"/>
            <a:ext cx="4091040" cy="41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Suppose a block with a mass of 2.50 kg is resting on a ramp. If the coefficient of static friction between the block and ramp is 0.350, what maximum angle can the ramp make with the horizontal before the block starts to slip down?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11" name="Picture 4" descr="0518"/>
          <p:cNvPicPr/>
          <p:nvPr/>
        </p:nvPicPr>
        <p:blipFill>
          <a:blip r:embed="rId1"/>
          <a:stretch/>
        </p:blipFill>
        <p:spPr>
          <a:xfrm>
            <a:off x="4794120" y="1474920"/>
            <a:ext cx="415944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472F-4ABB-406F-915C-6753733C64C0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Newton 2nd law: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Then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So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14" name="Picture 4" descr="0518"/>
          <p:cNvPicPr/>
          <p:nvPr/>
        </p:nvPicPr>
        <p:blipFill>
          <a:blip r:embed="rId1"/>
          <a:stretch/>
        </p:blipFill>
        <p:spPr>
          <a:xfrm>
            <a:off x="4678200" y="965160"/>
            <a:ext cx="4313520" cy="3444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816120" y="2055960"/>
                <a:ext cx="33717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7"/>
              <p:cNvSpPr txBox="1"/>
              <p:nvPr/>
            </p:nvSpPr>
            <p:spPr>
              <a:xfrm>
                <a:off x="1898640" y="3378240"/>
                <a:ext cx="1792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8"/>
              <p:cNvSpPr txBox="1"/>
              <p:nvPr/>
            </p:nvSpPr>
            <p:spPr>
              <a:xfrm>
                <a:off x="752400" y="3860640"/>
                <a:ext cx="40370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1565280" y="4570560"/>
                <a:ext cx="24084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0"/>
              <p:cNvSpPr txBox="1"/>
              <p:nvPr/>
            </p:nvSpPr>
            <p:spPr>
              <a:xfrm>
                <a:off x="1204920" y="5141880"/>
                <a:ext cx="31035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Inclined Plan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092F-C843-4A8E-A1B8-F0D8AA1DE824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Multiple Objec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79000" y="3603240"/>
            <a:ext cx="84582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A block of mass m1 on a rough, horizontal surface is connected to a ball of mass m2 by a lightweight cord over a lightweight, frictionless pulley as shown in figure. A force of magnitude F at an angle </a:t>
            </a:r>
            <a:r>
              <a:rPr b="0" i="1" lang="el-GR" sz="2400" spc="-1" strike="noStrike">
                <a:solidFill>
                  <a:srgbClr val="000066"/>
                </a:solidFill>
                <a:latin typeface="Tahoma"/>
                <a:ea typeface="Tahoma"/>
              </a:rPr>
              <a:t>θ</a:t>
            </a:r>
            <a:r>
              <a:rPr b="1" i="1" lang="en-US" sz="2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  <a:ea typeface="宋体"/>
              </a:rPr>
              <a:t>with the horizontal is applied to the block as shown and the block slides to the right. The coefficient of kinetic friction between the block and surface is </a:t>
            </a:r>
            <a:r>
              <a:rPr b="0" i="1" lang="el-GR" sz="2400" spc="-1" strike="noStrike">
                <a:solidFill>
                  <a:srgbClr val="000066"/>
                </a:solidFill>
                <a:latin typeface="Tahoma"/>
                <a:ea typeface="Tahoma"/>
              </a:rPr>
              <a:t>μ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ahoma"/>
                <a:ea typeface="宋体"/>
              </a:rPr>
              <a:t>k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  <a:ea typeface="宋体"/>
              </a:rPr>
              <a:t>. 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  <a:ea typeface="宋体"/>
              </a:rPr>
              <a:t>Find the magnitude of acceleration of the two object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4" name="Picture 4" descr="0520"/>
          <p:cNvPicPr/>
          <p:nvPr/>
        </p:nvPicPr>
        <p:blipFill>
          <a:blip r:embed="rId1"/>
          <a:stretch/>
        </p:blipFill>
        <p:spPr>
          <a:xfrm>
            <a:off x="1522440" y="1028880"/>
            <a:ext cx="5630760" cy="25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0EF1-1D1E-4B24-9A81-D6C5F6346473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Multiple Objec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7" name="Picture 4" descr="0520"/>
          <p:cNvPicPr/>
          <p:nvPr/>
        </p:nvPicPr>
        <p:blipFill>
          <a:blip r:embed="rId1"/>
          <a:stretch/>
        </p:blipFill>
        <p:spPr>
          <a:xfrm>
            <a:off x="5046840" y="1665360"/>
            <a:ext cx="3805200" cy="16588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18680" y="1345680"/>
            <a:ext cx="370836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m</a:t>
            </a:r>
            <a:r>
              <a:rPr b="0" lang="en-US" sz="2600" spc="-1" strike="noStrike" baseline="-25000">
                <a:solidFill>
                  <a:srgbClr val="000066"/>
                </a:solidFill>
                <a:latin typeface="Tahoma"/>
                <a:ea typeface="宋体"/>
              </a:rPr>
              <a:t>1</a:t>
            </a: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: 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m</a:t>
            </a:r>
            <a:r>
              <a:rPr b="0" lang="en-US" sz="2600" spc="-1" strike="noStrike" baseline="-25000">
                <a:solidFill>
                  <a:srgbClr val="000066"/>
                </a:solidFill>
                <a:latin typeface="Tahoma"/>
                <a:ea typeface="宋体"/>
              </a:rPr>
              <a:t>2</a:t>
            </a: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: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5"/>
              <p:cNvSpPr txBox="1"/>
              <p:nvPr/>
            </p:nvSpPr>
            <p:spPr>
              <a:xfrm>
                <a:off x="1517760" y="2573280"/>
                <a:ext cx="34448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7"/>
              <p:cNvSpPr txBox="1"/>
              <p:nvPr/>
            </p:nvSpPr>
            <p:spPr>
              <a:xfrm>
                <a:off x="1557360" y="1467000"/>
                <a:ext cx="40496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8"/>
              <p:cNvSpPr txBox="1"/>
              <p:nvPr/>
            </p:nvSpPr>
            <p:spPr>
              <a:xfrm>
                <a:off x="1644480" y="3624120"/>
                <a:ext cx="20480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9"/>
              <p:cNvSpPr txBox="1"/>
              <p:nvPr/>
            </p:nvSpPr>
            <p:spPr>
              <a:xfrm>
                <a:off x="1539720" y="4044960"/>
                <a:ext cx="33753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10"/>
              <p:cNvSpPr txBox="1"/>
              <p:nvPr/>
            </p:nvSpPr>
            <p:spPr>
              <a:xfrm>
                <a:off x="1238400" y="4680000"/>
                <a:ext cx="509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11"/>
              <p:cNvSpPr txBox="1"/>
              <p:nvPr/>
            </p:nvSpPr>
            <p:spPr>
              <a:xfrm>
                <a:off x="1446120" y="5207040"/>
                <a:ext cx="4375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12"/>
              <p:cNvSpPr txBox="1"/>
              <p:nvPr/>
            </p:nvSpPr>
            <p:spPr>
              <a:xfrm>
                <a:off x="1712880" y="3166920"/>
                <a:ext cx="1630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BC30-3241-4AA3-AB35-C5B0EB36D12A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7760" y="19807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Newton’s Law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852560" y="3124080"/>
            <a:ext cx="729144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If no n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ce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acts on a body, then the body’s velocity cannot chang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 n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ce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on a body is equal to the product of the body’s mass and acceleratio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When two bodies interact, th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ce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on the bodies from each other are always equal in magnitude and opposite in directio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96" name="Picture 4" descr="newton"/>
          <p:cNvPicPr/>
          <p:nvPr/>
        </p:nvPicPr>
        <p:blipFill>
          <a:blip r:embed="rId1"/>
          <a:stretch/>
        </p:blipFill>
        <p:spPr>
          <a:xfrm>
            <a:off x="0" y="0"/>
            <a:ext cx="2300400" cy="29955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3124080" y="0"/>
            <a:ext cx="5791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Force is a vector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Unit of force in S.I.:</a:t>
            </a: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3340080" y="1219320"/>
            <a:ext cx="2355840" cy="93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1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3965-8A13-4925-9B87-5916DB934803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237" name="Picture 2" descr="0602"/>
          <p:cNvPicPr/>
          <p:nvPr/>
        </p:nvPicPr>
        <p:blipFill>
          <a:blip r:embed="rId1"/>
          <a:stretch/>
        </p:blipFill>
        <p:spPr>
          <a:xfrm>
            <a:off x="5202360" y="1260360"/>
            <a:ext cx="2913120" cy="33465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"/>
          <p:cNvSpPr/>
          <p:nvPr/>
        </p:nvSpPr>
        <p:spPr>
          <a:xfrm>
            <a:off x="2194560" y="4038480"/>
            <a:ext cx="42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Uniform circular mot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-27360" y="4952880"/>
            <a:ext cx="46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Comic Sans MS"/>
              </a:rPr>
              <a:t>Constant speed, or,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Comic Sans MS"/>
              </a:rPr>
              <a:t>constant magnitude of velocity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0" name="Line 5"/>
          <p:cNvSpPr/>
          <p:nvPr/>
        </p:nvSpPr>
        <p:spPr>
          <a:xfrm>
            <a:off x="2233440" y="4572000"/>
            <a:ext cx="1524240" cy="0"/>
          </a:xfrm>
          <a:prstGeom prst="line">
            <a:avLst/>
          </a:prstGeom>
          <a:ln w="57240">
            <a:solidFill>
              <a:srgbClr val="dc0c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1" name="Line 6"/>
          <p:cNvSpPr/>
          <p:nvPr/>
        </p:nvSpPr>
        <p:spPr>
          <a:xfrm flipH="1">
            <a:off x="2462040" y="4572000"/>
            <a:ext cx="152640" cy="304920"/>
          </a:xfrm>
          <a:prstGeom prst="line">
            <a:avLst/>
          </a:prstGeom>
          <a:ln w="936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3859200" y="4572000"/>
            <a:ext cx="2514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5638680" y="457200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4717440" y="4952880"/>
            <a:ext cx="444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otion along a circle: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hanging direction of velocity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245" name="Picture 10" descr="0601"/>
          <p:cNvPicPr/>
          <p:nvPr/>
        </p:nvPicPr>
        <p:blipFill>
          <a:blip r:embed="rId2"/>
          <a:stretch/>
        </p:blipFill>
        <p:spPr>
          <a:xfrm>
            <a:off x="1122480" y="1244520"/>
            <a:ext cx="2859120" cy="287352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1"/>
          <p:cNvSpPr/>
          <p:nvPr/>
        </p:nvSpPr>
        <p:spPr>
          <a:xfrm>
            <a:off x="366840" y="96840"/>
            <a:ext cx="848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Uniform Circular Motion: Definition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7" name="Line 12"/>
          <p:cNvSpPr/>
          <p:nvPr/>
        </p:nvSpPr>
        <p:spPr>
          <a:xfrm flipV="1">
            <a:off x="6616800" y="1765440"/>
            <a:ext cx="1041480" cy="876240"/>
          </a:xfrm>
          <a:prstGeom prst="line">
            <a:avLst/>
          </a:prstGeom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8" name="Line 13"/>
          <p:cNvSpPr/>
          <p:nvPr/>
        </p:nvSpPr>
        <p:spPr>
          <a:xfrm>
            <a:off x="7658280" y="1765440"/>
            <a:ext cx="457200" cy="5331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DB54-0928-43E1-93EC-65189885219D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0" y="287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Uniform Circular Motion: Observation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249120" y="1387440"/>
            <a:ext cx="506124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Object moving along a curved path with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onstant speed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Magnitude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 of velocity: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same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Direction of velocity: changing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Velocity    : changing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Acceleration is NOT zero!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Net force acting on an object is NOT zero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Centripetal force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” 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252" name="Picture 4" descr="FG06_12"/>
          <p:cNvPicPr/>
          <p:nvPr/>
        </p:nvPicPr>
        <p:blipFill>
          <a:blip r:embed="rId1"/>
          <a:stretch/>
        </p:blipFill>
        <p:spPr>
          <a:xfrm>
            <a:off x="5410080" y="1544760"/>
            <a:ext cx="3508560" cy="3217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3" name="Object 5"/>
              <p:cNvSpPr txBox="1"/>
              <p:nvPr/>
            </p:nvSpPr>
            <p:spPr>
              <a:xfrm>
                <a:off x="5956200" y="5038560"/>
                <a:ext cx="219888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6"/>
              <p:cNvSpPr txBox="1"/>
              <p:nvPr/>
            </p:nvSpPr>
            <p:spPr>
              <a:xfrm>
                <a:off x="2197080" y="3568680"/>
                <a:ext cx="353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1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0D54-B0FE-47F7-8FD9-E718B8ACCA57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503280" y="1374840"/>
            <a:ext cx="478152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Direction: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entripetal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146160" y="133200"/>
            <a:ext cx="877860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  <a:ea typeface="宋体"/>
              </a:rPr>
              <a:t>Uniform 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Circular Motion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1023840" y="2649600"/>
                <a:ext cx="2897280" cy="22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v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Δ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so,   </m:t>
                        </m:r>
                        <m:r>
                          <m:t xml:space="preserve">Δ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Δ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Δv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Δr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Δv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9" name="Line 5"/>
          <p:cNvSpPr/>
          <p:nvPr/>
        </p:nvSpPr>
        <p:spPr>
          <a:xfrm>
            <a:off x="6388200" y="1785960"/>
            <a:ext cx="9360" cy="75420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 flipV="1">
            <a:off x="5373720" y="6219720"/>
            <a:ext cx="574560" cy="370080"/>
          </a:xfrm>
          <a:prstGeom prst="line">
            <a:avLst/>
          </a:prstGeom>
          <a:ln w="34920">
            <a:solidFill>
              <a:srgbClr val="ff0000"/>
            </a:solidFill>
            <a:miter/>
            <a:headEnd len="sm" type="oval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5386320" y="6602400"/>
            <a:ext cx="573120" cy="370080"/>
          </a:xfrm>
          <a:prstGeom prst="line">
            <a:avLst/>
          </a:prstGeom>
          <a:ln w="34920">
            <a:solidFill>
              <a:srgbClr val="ff0000"/>
            </a:solidFill>
            <a:miter/>
            <a:headEnd len="sm" type="oval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2" name="Oval 8"/>
          <p:cNvSpPr/>
          <p:nvPr/>
        </p:nvSpPr>
        <p:spPr>
          <a:xfrm>
            <a:off x="4853160" y="2957400"/>
            <a:ext cx="3078000" cy="2908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3" name="Line 9"/>
          <p:cNvSpPr/>
          <p:nvPr/>
        </p:nvSpPr>
        <p:spPr>
          <a:xfrm flipV="1">
            <a:off x="6399360" y="2655360"/>
            <a:ext cx="0" cy="341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4681440" y="4417920"/>
            <a:ext cx="375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5" name="Line 11"/>
          <p:cNvSpPr/>
          <p:nvPr/>
        </p:nvSpPr>
        <p:spPr>
          <a:xfrm flipV="1">
            <a:off x="5580000" y="2779560"/>
            <a:ext cx="574560" cy="37008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7211880" y="3147840"/>
            <a:ext cx="574920" cy="37008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6354720" y="4375080"/>
            <a:ext cx="574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8093160" y="4522680"/>
            <a:ext cx="5302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6399360" y="2455920"/>
            <a:ext cx="809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0" name="Text Box 16"/>
          <p:cNvSpPr/>
          <p:nvPr/>
        </p:nvSpPr>
        <p:spPr>
          <a:xfrm>
            <a:off x="5586480" y="3632040"/>
            <a:ext cx="471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6945480" y="3355920"/>
            <a:ext cx="471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2" name="Line 18"/>
          <p:cNvSpPr/>
          <p:nvPr/>
        </p:nvSpPr>
        <p:spPr>
          <a:xfrm flipH="1" flipV="1">
            <a:off x="5578560" y="3143160"/>
            <a:ext cx="822240" cy="127008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5145120" y="2662200"/>
            <a:ext cx="3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4" name="Text Box 20"/>
          <p:cNvSpPr/>
          <p:nvPr/>
        </p:nvSpPr>
        <p:spPr>
          <a:xfrm>
            <a:off x="7095960" y="2570040"/>
            <a:ext cx="4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5" name="Oval 21"/>
          <p:cNvSpPr/>
          <p:nvPr/>
        </p:nvSpPr>
        <p:spPr>
          <a:xfrm>
            <a:off x="5527800" y="3079800"/>
            <a:ext cx="128520" cy="131760"/>
          </a:xfrm>
          <a:prstGeom prst="ellipse">
            <a:avLst/>
          </a:prstGeom>
          <a:solidFill>
            <a:srgbClr val="0099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6" name="Oval 22"/>
          <p:cNvSpPr/>
          <p:nvPr/>
        </p:nvSpPr>
        <p:spPr>
          <a:xfrm>
            <a:off x="7118280" y="3079800"/>
            <a:ext cx="128520" cy="131760"/>
          </a:xfrm>
          <a:prstGeom prst="ellipse">
            <a:avLst/>
          </a:prstGeom>
          <a:solidFill>
            <a:srgbClr val="0099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7" name="Text Box 23"/>
          <p:cNvSpPr/>
          <p:nvPr/>
        </p:nvSpPr>
        <p:spPr>
          <a:xfrm>
            <a:off x="5472000" y="2400480"/>
            <a:ext cx="47160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8" name="Line 24"/>
          <p:cNvSpPr/>
          <p:nvPr/>
        </p:nvSpPr>
        <p:spPr>
          <a:xfrm flipV="1">
            <a:off x="6388200" y="3187800"/>
            <a:ext cx="787320" cy="121896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9" name="Text Box 25"/>
          <p:cNvSpPr/>
          <p:nvPr/>
        </p:nvSpPr>
        <p:spPr>
          <a:xfrm>
            <a:off x="6792840" y="3683160"/>
            <a:ext cx="47160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Times New Roman"/>
              </a:rPr>
              <a:t>f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0" name="Text Box 26"/>
          <p:cNvSpPr/>
          <p:nvPr/>
        </p:nvSpPr>
        <p:spPr>
          <a:xfrm>
            <a:off x="7377120" y="2781360"/>
            <a:ext cx="471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f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1" name="Line 27"/>
          <p:cNvSpPr/>
          <p:nvPr/>
        </p:nvSpPr>
        <p:spPr>
          <a:xfrm>
            <a:off x="5600880" y="3174840"/>
            <a:ext cx="1549080" cy="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2" name="Text Box 28"/>
          <p:cNvSpPr/>
          <p:nvPr/>
        </p:nvSpPr>
        <p:spPr>
          <a:xfrm>
            <a:off x="6132600" y="3187800"/>
            <a:ext cx="674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r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3" name="Text Box 29"/>
          <p:cNvSpPr/>
          <p:nvPr/>
        </p:nvSpPr>
        <p:spPr>
          <a:xfrm>
            <a:off x="5573880" y="1460520"/>
            <a:ext cx="471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4" name="Text Box 30"/>
          <p:cNvSpPr/>
          <p:nvPr/>
        </p:nvSpPr>
        <p:spPr>
          <a:xfrm>
            <a:off x="5624640" y="2197080"/>
            <a:ext cx="471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f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5" name="Text Box 31"/>
          <p:cNvSpPr/>
          <p:nvPr/>
        </p:nvSpPr>
        <p:spPr>
          <a:xfrm>
            <a:off x="6475320" y="1841400"/>
            <a:ext cx="1881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 = 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- 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32"/>
              <p:cNvSpPr txBox="1"/>
              <p:nvPr/>
            </p:nvSpPr>
            <p:spPr>
              <a:xfrm>
                <a:off x="2811600" y="1855800"/>
                <a:ext cx="18619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33"/>
              <p:cNvSpPr txBox="1"/>
              <p:nvPr/>
            </p:nvSpPr>
            <p:spPr>
              <a:xfrm>
                <a:off x="1031760" y="2089080"/>
                <a:ext cx="12556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2362 -0.15 E">
                                      <p:cBhvr>
                                        <p:cTn id="161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0.0037 L -0.15695 -0.14259 E">
                                      <p:cBhvr>
                                        <p:cTn id="165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A913-7257-4BFE-A610-9D82C46C1FEE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Uniform Circular Motion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9440" y="1206360"/>
            <a:ext cx="5295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Velocity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 constant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e direction of the velocity is tangent to the circ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cceleration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rected toward the center of the circle of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Period: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ime interval required for one complete revolution of the partic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4"/>
              <p:cNvSpPr txBox="1"/>
              <p:nvPr/>
            </p:nvSpPr>
            <p:spPr>
              <a:xfrm>
                <a:off x="6419880" y="2362320"/>
                <a:ext cx="495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92" name="Picture 5" descr="F04_18"/>
          <p:cNvPicPr/>
          <p:nvPr/>
        </p:nvPicPr>
        <p:blipFill>
          <a:blip r:embed="rId1"/>
          <a:stretch/>
        </p:blipFill>
        <p:spPr>
          <a:xfrm>
            <a:off x="5489640" y="1523880"/>
            <a:ext cx="3311640" cy="359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3" name="Object 6"/>
              <p:cNvSpPr txBox="1"/>
              <p:nvPr/>
            </p:nvSpPr>
            <p:spPr>
              <a:xfrm>
                <a:off x="3225960" y="2828880"/>
                <a:ext cx="10159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7"/>
              <p:cNvSpPr txBox="1"/>
              <p:nvPr/>
            </p:nvSpPr>
            <p:spPr>
              <a:xfrm>
                <a:off x="5370480" y="5229360"/>
                <a:ext cx="109548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r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8"/>
              <p:cNvSpPr txBox="1"/>
              <p:nvPr/>
            </p:nvSpPr>
            <p:spPr>
              <a:xfrm>
                <a:off x="6021360" y="1398600"/>
                <a:ext cx="10638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34B1-FC65-4271-8FA0-78BF1BA5872E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Centripetal Force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9440" y="1206000"/>
            <a:ext cx="5410440" cy="49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cceleration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rection: toward the center of the circle of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orce: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tart from Newton’s 2</a:t>
            </a:r>
            <a:r>
              <a:rPr b="0" lang="en-US" sz="2400" spc="-1" strike="noStrike" baseline="30000">
                <a:solidFill>
                  <a:srgbClr val="000066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Law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rection:  toward the center of the circle of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4"/>
              <p:cNvSpPr txBox="1"/>
              <p:nvPr/>
            </p:nvSpPr>
            <p:spPr>
              <a:xfrm>
                <a:off x="6419880" y="2362320"/>
                <a:ext cx="495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00" name="Picture 5" descr="F04_18"/>
          <p:cNvPicPr/>
          <p:nvPr/>
        </p:nvPicPr>
        <p:blipFill>
          <a:blip r:embed="rId1"/>
          <a:stretch/>
        </p:blipFill>
        <p:spPr>
          <a:xfrm>
            <a:off x="5489640" y="1523880"/>
            <a:ext cx="3311640" cy="359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1" name="Object 6"/>
              <p:cNvSpPr txBox="1"/>
              <p:nvPr/>
            </p:nvSpPr>
            <p:spPr>
              <a:xfrm>
                <a:off x="3314880" y="1228680"/>
                <a:ext cx="10159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7"/>
              <p:cNvSpPr txBox="1"/>
              <p:nvPr/>
            </p:nvSpPr>
            <p:spPr>
              <a:xfrm>
                <a:off x="3095640" y="3708360"/>
                <a:ext cx="12524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8"/>
              <p:cNvSpPr txBox="1"/>
              <p:nvPr/>
            </p:nvSpPr>
            <p:spPr>
              <a:xfrm>
                <a:off x="5881680" y="1398600"/>
                <a:ext cx="10638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9"/>
              <p:cNvSpPr txBox="1"/>
              <p:nvPr/>
            </p:nvSpPr>
            <p:spPr>
              <a:xfrm>
                <a:off x="2895480" y="4361040"/>
                <a:ext cx="2087640" cy="80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5" name="Line 10"/>
          <p:cNvSpPr/>
          <p:nvPr/>
        </p:nvSpPr>
        <p:spPr>
          <a:xfrm flipV="1">
            <a:off x="6858000" y="3565080"/>
            <a:ext cx="380880" cy="68580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aphicFrame>
        <p:nvGraphicFramePr>
          <p:cNvPr id="306" name="Object 11"/>
          <p:cNvGraphicFramePr/>
          <p:nvPr/>
        </p:nvGraphicFramePr>
        <p:xfrm>
          <a:off x="7086600" y="3718080"/>
          <a:ext cx="679320" cy="59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3718080"/>
                    <a:ext cx="67932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Line 12"/>
          <p:cNvSpPr/>
          <p:nvPr/>
        </p:nvSpPr>
        <p:spPr>
          <a:xfrm>
            <a:off x="6832440" y="2282760"/>
            <a:ext cx="381240" cy="68580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aphicFrame>
        <p:nvGraphicFramePr>
          <p:cNvPr id="309" name="Object 13"/>
          <p:cNvGraphicFramePr/>
          <p:nvPr/>
        </p:nvGraphicFramePr>
        <p:xfrm>
          <a:off x="6451560" y="2587680"/>
          <a:ext cx="679320" cy="592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0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51560" y="2587680"/>
                    <a:ext cx="6793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Line 14"/>
          <p:cNvSpPr/>
          <p:nvPr/>
        </p:nvSpPr>
        <p:spPr>
          <a:xfrm flipH="1">
            <a:off x="7709040" y="3286080"/>
            <a:ext cx="799920" cy="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aphicFrame>
        <p:nvGraphicFramePr>
          <p:cNvPr id="312" name="Object 15"/>
          <p:cNvGraphicFramePr/>
          <p:nvPr/>
        </p:nvGraphicFramePr>
        <p:xfrm>
          <a:off x="7632720" y="2600280"/>
          <a:ext cx="679320" cy="592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3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720" y="2600280"/>
                    <a:ext cx="6793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4" name="Object 16"/>
              <p:cNvSpPr txBox="1"/>
              <p:nvPr/>
            </p:nvSpPr>
            <p:spPr>
              <a:xfrm>
                <a:off x="7080120" y="1355760"/>
                <a:ext cx="12826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17"/>
              <p:cNvSpPr txBox="1"/>
              <p:nvPr/>
            </p:nvSpPr>
            <p:spPr>
              <a:xfrm>
                <a:off x="6397560" y="5126040"/>
                <a:ext cx="12510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7F51-8A48-426A-BA82-97E31C8CF67F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What provides Centripetal Force ?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9440" y="1270080"/>
            <a:ext cx="8178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entripetal force is not a new kind of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entripetal force refers to any force that keeps an object following a circular path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entripetal force is a combination of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Gravitational force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  downward to the ground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ormal forc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 perpendicular to the surfa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ension forc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 along the cord and away from objec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tatic friction force: 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imes New Roman"/>
              </a:rPr>
              <a:t>s</a:t>
            </a:r>
            <a:r>
              <a:rPr b="0" i="1" lang="en-US" sz="2400" spc="-1" strike="noStrike" baseline="30000">
                <a:solidFill>
                  <a:srgbClr val="000066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  <a:ea typeface="Tahoma"/>
              </a:rPr>
              <a:t>µ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imes New Roman"/>
                <a:ea typeface="Tahoma"/>
              </a:rPr>
              <a:t>s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4"/>
              <p:cNvSpPr txBox="1"/>
              <p:nvPr/>
            </p:nvSpPr>
            <p:spPr>
              <a:xfrm>
                <a:off x="6472080" y="2278080"/>
                <a:ext cx="19432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5FCC-CC24-4476-A3E5-C6215463C2EB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21" name="Text Box 2"/>
          <p:cNvSpPr/>
          <p:nvPr/>
        </p:nvSpPr>
        <p:spPr>
          <a:xfrm>
            <a:off x="6170760" y="4368960"/>
            <a:ext cx="3571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What provides Centripetal Force ?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4"/>
              <p:cNvSpPr txBox="1"/>
              <p:nvPr/>
            </p:nvSpPr>
            <p:spPr>
              <a:xfrm>
                <a:off x="1353960" y="4265640"/>
                <a:ext cx="189396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5"/>
              <p:cNvSpPr txBox="1"/>
              <p:nvPr/>
            </p:nvSpPr>
            <p:spPr>
              <a:xfrm>
                <a:off x="5045040" y="1647720"/>
                <a:ext cx="3003480" cy="15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25" name="Group 6"/>
          <p:cNvGrpSpPr/>
          <p:nvPr/>
        </p:nvGrpSpPr>
        <p:grpSpPr>
          <a:xfrm>
            <a:off x="5219280" y="2209320"/>
            <a:ext cx="2838600" cy="3189240"/>
            <a:chOff x="5219280" y="2209320"/>
            <a:chExt cx="2838600" cy="3189240"/>
          </a:xfrm>
        </p:grpSpPr>
        <p:sp>
          <p:nvSpPr>
            <p:cNvPr id="326" name="AutoShape 7"/>
            <p:cNvSpPr/>
            <p:nvPr/>
          </p:nvSpPr>
          <p:spPr>
            <a:xfrm rot="10800000">
              <a:off x="5219280" y="2209320"/>
              <a:ext cx="2838600" cy="3189240"/>
            </a:xfrm>
            <a:custGeom>
              <a:avLst/>
              <a:gdLst>
                <a:gd name="textAreaLeft" fmla="*/ 50760 w 2838600"/>
                <a:gd name="textAreaRight" fmla="*/ 2787840 w 2838600"/>
                <a:gd name="textAreaTop" fmla="*/ 0 h 3189240"/>
                <a:gd name="textAreaBottom" fmla="*/ 1954080 h 318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9" y="10620"/>
                  </a:moveTo>
                  <a:cubicBezTo>
                    <a:pt x="1727" y="5625"/>
                    <a:pt x="5804" y="1628"/>
                    <a:pt x="10800" y="1628"/>
                  </a:cubicBezTo>
                  <a:cubicBezTo>
                    <a:pt x="15795" y="1628"/>
                    <a:pt x="19872" y="5625"/>
                    <a:pt x="19970" y="10620"/>
                  </a:cubicBezTo>
                  <a:lnTo>
                    <a:pt x="21597" y="10588"/>
                  </a:lnTo>
                  <a:cubicBezTo>
                    <a:pt x="21482" y="4707"/>
                    <a:pt x="16682" y="0"/>
                    <a:pt x="10799" y="0"/>
                  </a:cubicBezTo>
                  <a:cubicBezTo>
                    <a:pt x="4917" y="0"/>
                    <a:pt x="117" y="4707"/>
                    <a:pt x="2" y="10588"/>
                  </a:cubicBezTo>
                  <a:lnTo>
                    <a:pt x="1629" y="1062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27" name="Oval 8"/>
            <p:cNvSpPr/>
            <p:nvPr/>
          </p:nvSpPr>
          <p:spPr>
            <a:xfrm>
              <a:off x="6553080" y="500364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328" name="Line 9"/>
          <p:cNvSpPr/>
          <p:nvPr/>
        </p:nvSpPr>
        <p:spPr>
          <a:xfrm>
            <a:off x="6629400" y="5092560"/>
            <a:ext cx="0" cy="7747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6780240" y="5435640"/>
            <a:ext cx="674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mg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0" name="Line 11"/>
          <p:cNvSpPr/>
          <p:nvPr/>
        </p:nvSpPr>
        <p:spPr>
          <a:xfrm flipV="1">
            <a:off x="6629400" y="4368960"/>
            <a:ext cx="12600" cy="72864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1" name="Text Box 12"/>
          <p:cNvSpPr/>
          <p:nvPr/>
        </p:nvSpPr>
        <p:spPr>
          <a:xfrm>
            <a:off x="6742080" y="3898800"/>
            <a:ext cx="4208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N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2" name="Line 13"/>
          <p:cNvSpPr/>
          <p:nvPr/>
        </p:nvSpPr>
        <p:spPr>
          <a:xfrm flipV="1">
            <a:off x="6502320" y="4280040"/>
            <a:ext cx="0" cy="6602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333" name="Picture 14" descr="0601"/>
          <p:cNvPicPr/>
          <p:nvPr/>
        </p:nvPicPr>
        <p:blipFill>
          <a:blip r:embed="rId1"/>
          <a:stretch/>
        </p:blipFill>
        <p:spPr>
          <a:xfrm>
            <a:off x="1065240" y="1434960"/>
            <a:ext cx="2530440" cy="254484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1"/>
          <p:cNvGrpSpPr/>
          <p:nvPr/>
        </p:nvGrpSpPr>
        <p:grpSpPr>
          <a:xfrm>
            <a:off x="6642000" y="4541760"/>
            <a:ext cx="533520" cy="530280"/>
            <a:chOff x="6642000" y="4541760"/>
            <a:chExt cx="533520" cy="530280"/>
          </a:xfrm>
        </p:grpSpPr>
        <p:sp>
          <p:nvSpPr>
            <p:cNvPr id="335" name="Line 11"/>
            <p:cNvSpPr/>
            <p:nvPr/>
          </p:nvSpPr>
          <p:spPr>
            <a:xfrm>
              <a:off x="6642000" y="5072040"/>
              <a:ext cx="533520" cy="0"/>
            </a:xfrm>
            <a:prstGeom prst="line">
              <a:avLst/>
            </a:prstGeom>
            <a:ln w="38160">
              <a:solidFill>
                <a:srgbClr val="5c5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36" name="Text Box 2"/>
            <p:cNvSpPr/>
            <p:nvPr/>
          </p:nvSpPr>
          <p:spPr>
            <a:xfrm>
              <a:off x="6766560" y="4541760"/>
              <a:ext cx="35748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Times New Roman"/>
                </a:rPr>
                <a:t>v</a:t>
              </a:r>
              <a:endParaRPr b="1" lang="en-US" sz="28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337" name="Line 11"/>
          <p:cNvSpPr/>
          <p:nvPr/>
        </p:nvSpPr>
        <p:spPr>
          <a:xfrm flipV="1">
            <a:off x="6629400" y="3898800"/>
            <a:ext cx="0" cy="118584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C344-BFCC-4AD8-9A44-15812EAFCEAA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17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roblem Solving Strategy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Draw a free body diagram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, showing and labeling all the forces acting on the object(s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hoose a coordinate system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that has one axis perpendicular to the circular path and the other axis tangent to the circular path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Find the net force toward the center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of the circular path (this is the force that causes the centripetal acceleration, F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Use Newton’s second law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he directions will be radial, normal, and tangentia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he acceleration in the radial direction will be the centripetal acceleratio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Solve for the unknown(s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9212-1FB8-438F-87DA-4A0872D0C3CB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342" name="Picture 2" descr="0603b"/>
          <p:cNvPicPr/>
          <p:nvPr/>
        </p:nvPicPr>
        <p:blipFill>
          <a:blip r:embed="rId1"/>
          <a:srcRect l="0" t="0" r="0" b="12947"/>
          <a:stretch/>
        </p:blipFill>
        <p:spPr>
          <a:xfrm>
            <a:off x="3505320" y="2922480"/>
            <a:ext cx="1666800" cy="313848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The Conical Pendulum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8344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 small ball of mass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5 kg is suspended from a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tring of length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5 m.  The ball revolves with constant speed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in a horizontal circle of radius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2 m. Find an expression for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and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a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345" name="Group 5"/>
          <p:cNvGrpSpPr/>
          <p:nvPr/>
        </p:nvGrpSpPr>
        <p:grpSpPr>
          <a:xfrm>
            <a:off x="851040" y="3581280"/>
            <a:ext cx="1752480" cy="1815840"/>
            <a:chOff x="851040" y="3581280"/>
            <a:chExt cx="1752480" cy="1815840"/>
          </a:xfrm>
        </p:grpSpPr>
        <p:sp>
          <p:nvSpPr>
            <p:cNvPr id="346" name="Oval 6"/>
            <p:cNvSpPr/>
            <p:nvPr/>
          </p:nvSpPr>
          <p:spPr>
            <a:xfrm>
              <a:off x="1028880" y="4749480"/>
              <a:ext cx="1574640" cy="64764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47" name="Rectangle 7"/>
            <p:cNvSpPr/>
            <p:nvPr/>
          </p:nvSpPr>
          <p:spPr>
            <a:xfrm>
              <a:off x="1257480" y="3581280"/>
              <a:ext cx="1130400" cy="2030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48" name="Oval 8"/>
            <p:cNvSpPr/>
            <p:nvPr/>
          </p:nvSpPr>
          <p:spPr>
            <a:xfrm>
              <a:off x="851040" y="4927320"/>
              <a:ext cx="330120" cy="330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49" name="Line 9"/>
            <p:cNvSpPr/>
            <p:nvPr/>
          </p:nvSpPr>
          <p:spPr>
            <a:xfrm flipH="1">
              <a:off x="1091880" y="3784320"/>
              <a:ext cx="736920" cy="1168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350" name="Line 10"/>
          <p:cNvSpPr/>
          <p:nvPr/>
        </p:nvSpPr>
        <p:spPr>
          <a:xfrm>
            <a:off x="1015920" y="5105520"/>
            <a:ext cx="0" cy="635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1" name="Line 11"/>
          <p:cNvSpPr/>
          <p:nvPr/>
        </p:nvSpPr>
        <p:spPr>
          <a:xfrm flipV="1">
            <a:off x="1015920" y="4470120"/>
            <a:ext cx="393840" cy="64764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765000" y="56037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1052640" y="4092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4" name="Line 14"/>
          <p:cNvSpPr/>
          <p:nvPr/>
        </p:nvSpPr>
        <p:spPr>
          <a:xfrm>
            <a:off x="1816200" y="3772080"/>
            <a:ext cx="0" cy="12952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1519560" y="400860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E6C8-2BA0-47E7-8718-2383456E055C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357" name="Picture 2" descr="0603b"/>
          <p:cNvPicPr/>
          <p:nvPr/>
        </p:nvPicPr>
        <p:blipFill>
          <a:blip r:embed="rId1"/>
          <a:stretch/>
        </p:blipFill>
        <p:spPr>
          <a:xfrm>
            <a:off x="457200" y="1969920"/>
            <a:ext cx="1666800" cy="36054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The Conical Pendulum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4"/>
              <p:cNvSpPr txBox="1"/>
              <p:nvPr/>
            </p:nvSpPr>
            <p:spPr>
              <a:xfrm>
                <a:off x="2382840" y="1905120"/>
                <a:ext cx="3009960" cy="33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5"/>
              <p:cNvSpPr txBox="1"/>
              <p:nvPr/>
            </p:nvSpPr>
            <p:spPr>
              <a:xfrm>
                <a:off x="5641920" y="1836720"/>
                <a:ext cx="3062520" cy="358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θ</m:t>
                            </m:r>
                          </m:e>
                        </m:ra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θ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m/s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1" name="Text Box 6"/>
          <p:cNvSpPr/>
          <p:nvPr/>
        </p:nvSpPr>
        <p:spPr>
          <a:xfrm>
            <a:off x="593640" y="1278000"/>
            <a:ext cx="31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nd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v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and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a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E30A-E7C9-44D1-A6F6-57D16B1CE878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537000" y="3200400"/>
            <a:ext cx="2057400" cy="12222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Forc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1280" y="1447920"/>
            <a:ext cx="466092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The measure of interaction between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two object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Vector quantity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: has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magnitude and directio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y be a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ontact force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or a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field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Particular forc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Gravitational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Friction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Tension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Normal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Spring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5823000" y="4165560"/>
            <a:ext cx="2933640" cy="1781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7715160" y="190440"/>
            <a:ext cx="1428840" cy="1943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bongi"/>
          <p:cNvPicPr/>
          <p:nvPr/>
        </p:nvPicPr>
        <p:blipFill>
          <a:blip r:embed="rId4"/>
          <a:stretch/>
        </p:blipFill>
        <p:spPr>
          <a:xfrm>
            <a:off x="6121440" y="2251080"/>
            <a:ext cx="2211480" cy="1735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TN00332_"/>
          <p:cNvPicPr/>
          <p:nvPr/>
        </p:nvPicPr>
        <p:blipFill>
          <a:blip r:embed="rId5"/>
          <a:stretch/>
        </p:blipFill>
        <p:spPr>
          <a:xfrm>
            <a:off x="76320" y="76320"/>
            <a:ext cx="2293920" cy="1139760"/>
          </a:xfrm>
          <a:prstGeom prst="rect">
            <a:avLst/>
          </a:prstGeom>
          <a:ln w="0">
            <a:noFill/>
          </a:ln>
        </p:spPr>
      </p:pic>
      <p:sp>
        <p:nvSpPr>
          <p:cNvPr id="107" name="Line 9"/>
          <p:cNvSpPr/>
          <p:nvPr/>
        </p:nvSpPr>
        <p:spPr>
          <a:xfrm>
            <a:off x="7448400" y="2832120"/>
            <a:ext cx="0" cy="762120"/>
          </a:xfrm>
          <a:prstGeom prst="line">
            <a:avLst/>
          </a:prstGeom>
          <a:ln w="158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622440" y="1117440"/>
            <a:ext cx="609480" cy="152640"/>
          </a:xfrm>
          <a:prstGeom prst="rightArrow">
            <a:avLst>
              <a:gd name="adj1" fmla="val 50000"/>
              <a:gd name="adj2" fmla="val 99823"/>
            </a:avLst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1536840" y="965160"/>
            <a:ext cx="976320" cy="304920"/>
          </a:xfrm>
          <a:prstGeom prst="leftArrow">
            <a:avLst>
              <a:gd name="adj1" fmla="val 50000"/>
              <a:gd name="adj2" fmla="val 80047"/>
            </a:avLst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10" name="Picture 12" descr=""/>
          <p:cNvPicPr/>
          <p:nvPr/>
        </p:nvPicPr>
        <p:blipFill>
          <a:blip r:embed="rId6"/>
          <a:stretch/>
        </p:blipFill>
        <p:spPr>
          <a:xfrm>
            <a:off x="3606840" y="4559400"/>
            <a:ext cx="188748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3F7F-5856-4FA2-8DCF-768AECB6C4AF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Level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5608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 1500 kg car moving on a flat, horizontal road negotiates a curve as shown. If the radius of the curve is 35.0 m and the coefficient of static friction between the tires and dry pavement is 0.523, find the maximum speed the car can have and still make the turn successfully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4"/>
              <p:cNvSpPr txBox="1"/>
              <p:nvPr/>
            </p:nvSpPr>
            <p:spPr>
              <a:xfrm>
                <a:off x="1676520" y="5562720"/>
                <a:ext cx="15238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366" name="Picture 5" descr=""/>
          <p:cNvPicPr/>
          <p:nvPr/>
        </p:nvPicPr>
        <p:blipFill>
          <a:blip r:embed="rId1"/>
          <a:stretch/>
        </p:blipFill>
        <p:spPr>
          <a:xfrm>
            <a:off x="6222960" y="3598920"/>
            <a:ext cx="2052720" cy="2484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0604a"/>
          <p:cNvPicPr/>
          <p:nvPr/>
        </p:nvPicPr>
        <p:blipFill>
          <a:blip r:embed="rId2"/>
          <a:stretch/>
        </p:blipFill>
        <p:spPr>
          <a:xfrm>
            <a:off x="5958000" y="1249200"/>
            <a:ext cx="2909880" cy="23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5826-4157-4AD5-BF48-676615DAA54B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Level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 force of static friction directed toward the center of the curve keeps the car moving in a circular path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4"/>
              <p:cNvSpPr txBox="1"/>
              <p:nvPr/>
            </p:nvSpPr>
            <p:spPr>
              <a:xfrm>
                <a:off x="1676520" y="5562720"/>
                <a:ext cx="15238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372" name="Picture 5" descr=""/>
          <p:cNvPicPr/>
          <p:nvPr/>
        </p:nvPicPr>
        <p:blipFill>
          <a:blip r:embed="rId1"/>
          <a:stretch/>
        </p:blipFill>
        <p:spPr>
          <a:xfrm>
            <a:off x="5969160" y="2989440"/>
            <a:ext cx="2278080" cy="2755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3" name="Object 6"/>
              <p:cNvSpPr txBox="1"/>
              <p:nvPr/>
            </p:nvSpPr>
            <p:spPr>
              <a:xfrm>
                <a:off x="965160" y="2884320"/>
                <a:ext cx="4584600" cy="30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ma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mgr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e>
                        </m:rad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3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F646-3EAD-4EEC-B3FD-42F043394C46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anked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257480"/>
            <a:ext cx="474516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A car moving at the designated speed can negotiate the curve. Such a ramp is usually banked, which means that the roadway is tilted toward the inside of the curve. Suppose the designated speed for the ramp is to be 13.4 m/s and the radius of the curve is 35.0 m. At what angle should the curve be banked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377" name="Picture 4" descr=""/>
          <p:cNvPicPr/>
          <p:nvPr/>
        </p:nvPicPr>
        <p:blipFill>
          <a:blip r:embed="rId1"/>
          <a:stretch/>
        </p:blipFill>
        <p:spPr>
          <a:xfrm>
            <a:off x="5140440" y="3263760"/>
            <a:ext cx="3762360" cy="2521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"/>
          <p:cNvPicPr/>
          <p:nvPr/>
        </p:nvPicPr>
        <p:blipFill>
          <a:blip r:embed="rId2"/>
          <a:stretch/>
        </p:blipFill>
        <p:spPr>
          <a:xfrm>
            <a:off x="5267160" y="1457280"/>
            <a:ext cx="327204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33C0-285F-4346-9140-86EA0584241F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anked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5140440" y="3263760"/>
            <a:ext cx="3762360" cy="2521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"/>
          <p:cNvPicPr/>
          <p:nvPr/>
        </p:nvPicPr>
        <p:blipFill>
          <a:blip r:embed="rId2"/>
          <a:stretch/>
        </p:blipFill>
        <p:spPr>
          <a:xfrm>
            <a:off x="5267160" y="1457280"/>
            <a:ext cx="3272040" cy="151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3" name="Object 5"/>
              <p:cNvSpPr txBox="1"/>
              <p:nvPr/>
            </p:nvSpPr>
            <p:spPr>
              <a:xfrm>
                <a:off x="716040" y="1822320"/>
                <a:ext cx="4216320" cy="37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m/s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den>
                        </m:f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m/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FE68-24F4-4AB7-B3CF-6623E27B9434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Gravitational Force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: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mg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646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Gravitational force is a vector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e magnitude of the gravitational force acting on an object of mass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ear the Earth’s surface is called the weight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of the objec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           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w = mg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Direction: vertically downward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333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bongi"/>
          <p:cNvPicPr/>
          <p:nvPr/>
        </p:nvPicPr>
        <p:blipFill>
          <a:blip r:embed="rId2"/>
          <a:stretch/>
        </p:blipFill>
        <p:spPr>
          <a:xfrm>
            <a:off x="5861160" y="3638520"/>
            <a:ext cx="2732040" cy="2143080"/>
          </a:xfrm>
          <a:prstGeom prst="rect">
            <a:avLst/>
          </a:prstGeom>
          <a:ln w="0">
            <a:noFill/>
          </a:ln>
        </p:spPr>
      </p:pic>
      <p:sp>
        <p:nvSpPr>
          <p:cNvPr id="116" name="Line 6"/>
          <p:cNvSpPr/>
          <p:nvPr/>
        </p:nvSpPr>
        <p:spPr>
          <a:xfrm>
            <a:off x="7518240" y="4368960"/>
            <a:ext cx="0" cy="12826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>
            <a:off x="1725480" y="4429080"/>
            <a:ext cx="1979640" cy="1614600"/>
          </a:xfrm>
          <a:prstGeom prst="rect">
            <a:avLst/>
          </a:prstGeom>
          <a:ln w="0">
            <a:noFill/>
          </a:ln>
        </p:spPr>
      </p:pic>
      <p:sp>
        <p:nvSpPr>
          <p:cNvPr id="118" name="Line 8"/>
          <p:cNvSpPr/>
          <p:nvPr/>
        </p:nvSpPr>
        <p:spPr>
          <a:xfrm>
            <a:off x="2705040" y="4673520"/>
            <a:ext cx="0" cy="13716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3916080" y="450360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m: Mass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741840" y="5138640"/>
            <a:ext cx="189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g = 9.8 m/s</a:t>
            </a:r>
            <a:r>
              <a:rPr b="1" lang="en-US" sz="2400" spc="-1" strike="noStrike" baseline="30000">
                <a:solidFill>
                  <a:srgbClr val="ff6600"/>
                </a:solidFill>
                <a:latin typeface="Comic Sans MS"/>
              </a:rPr>
              <a:t>2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1"/>
              <p:cNvSpPr txBox="1"/>
              <p:nvPr/>
            </p:nvSpPr>
            <p:spPr>
              <a:xfrm>
                <a:off x="6800760" y="1911240"/>
                <a:ext cx="16495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CC84-4F63-4013-A610-CEE2DC22D225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Normal Force: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Force from a solid surface which keeps object from falling through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Direction: always </a:t>
            </a:r>
            <a:r>
              <a:rPr b="0" lang="en-US" sz="2800" spc="-1" strike="noStrike">
                <a:solidFill>
                  <a:srgbClr val="dc0c3e"/>
                </a:solidFill>
                <a:latin typeface="Tahoma"/>
                <a:ea typeface="宋体"/>
              </a:rPr>
              <a:t>perpendicular to the surfa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 not necessary to be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mg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6261120" y="2451240"/>
                <a:ext cx="8128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4827600" y="1293840"/>
            <a:ext cx="3171960" cy="2787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5478480" y="4206960"/>
                <a:ext cx="19191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7"/>
              <p:cNvSpPr txBox="1"/>
              <p:nvPr/>
            </p:nvSpPr>
            <p:spPr>
              <a:xfrm>
                <a:off x="5732640" y="5365800"/>
                <a:ext cx="11556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8"/>
              <p:cNvSpPr txBox="1"/>
              <p:nvPr/>
            </p:nvSpPr>
            <p:spPr>
              <a:xfrm>
                <a:off x="5462640" y="4753080"/>
                <a:ext cx="2001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9D48-4707-453A-AE7A-1C7215773957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4548240" y="1324080"/>
            <a:ext cx="4606920" cy="16444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Tension Force: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17520" y="1447920"/>
            <a:ext cx="445752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A taut rope exerts forces on whatever holds its end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Direction: always </a:t>
            </a:r>
            <a:r>
              <a:rPr b="0" lang="en-US" sz="2800" spc="-1" strike="noStrike">
                <a:solidFill>
                  <a:srgbClr val="dc0c3e"/>
                </a:solidFill>
                <a:latin typeface="Tahoma"/>
                <a:ea typeface="宋体"/>
              </a:rPr>
              <a:t>along the cord (rope, cable, string ……) and away from the objec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 depend on situa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5629320" y="2881440"/>
            <a:ext cx="2838240" cy="714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3"/>
          <a:stretch/>
        </p:blipFill>
        <p:spPr>
          <a:xfrm>
            <a:off x="4708440" y="3789360"/>
            <a:ext cx="3544920" cy="2289240"/>
          </a:xfrm>
          <a:prstGeom prst="rect">
            <a:avLst/>
          </a:prstGeom>
          <a:ln w="0">
            <a:noFill/>
          </a:ln>
        </p:spPr>
      </p:pic>
      <p:sp>
        <p:nvSpPr>
          <p:cNvPr id="136" name="Line 7"/>
          <p:cNvSpPr/>
          <p:nvPr/>
        </p:nvSpPr>
        <p:spPr>
          <a:xfrm flipH="1" flipV="1">
            <a:off x="5753160" y="4140000"/>
            <a:ext cx="596880" cy="36828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5359320" y="4419360"/>
            <a:ext cx="0" cy="63972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853600" y="37749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T1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4837320" y="457524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T2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7167600" y="4295880"/>
            <a:ext cx="1746000" cy="4597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T1 = T = T2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607F-FA7C-4D99-90EA-24E11476A182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83920" y="1397160"/>
            <a:ext cx="789948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When an object is in motion on a surface or through a viscous medium, there will be a resistance to the motio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.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s resistance is called the </a:t>
            </a: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force of fric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This is due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o the interactions between the object and its environmen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We will be concerned with two types of frictional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Force of static friction: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f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Times New Roman"/>
                <a:ea typeface="宋体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Force of kinetic friction: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f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Times New Roman"/>
                <a:ea typeface="宋体"/>
              </a:rPr>
              <a:t>k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Direction: opposite the direction of the intended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c3e"/>
                </a:solidFill>
                <a:latin typeface="Tahoma"/>
                <a:ea typeface="宋体"/>
              </a:rPr>
              <a:t>If moving: in direction opposite the velocity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c3e"/>
                </a:solidFill>
                <a:latin typeface="Tahoma"/>
                <a:ea typeface="宋体"/>
              </a:rPr>
              <a:t>If stationary, in direction of the vector sum of other force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Forces of Friction: </a:t>
            </a:r>
            <a:r>
              <a:rPr b="0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f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6757920" y="1886040"/>
            <a:ext cx="2386080" cy="2462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friction"/>
          <p:cNvPicPr/>
          <p:nvPr/>
        </p:nvPicPr>
        <p:blipFill>
          <a:blip r:embed="rId2"/>
          <a:stretch/>
        </p:blipFill>
        <p:spPr>
          <a:xfrm>
            <a:off x="5122800" y="1878120"/>
            <a:ext cx="1849680" cy="24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725C-CE32-4BCA-8430-2ECD5E8FBFBF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14480" y="1359000"/>
            <a:ext cx="477504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riction is proportional to the normal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Tahoma"/>
                <a:ea typeface="宋体"/>
              </a:rPr>
              <a:t>Static friction: 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 = F </a:t>
            </a:r>
            <a:r>
              <a:rPr b="0" i="1" lang="en-US" sz="2400" spc="-1" strike="noStrike">
                <a:solidFill>
                  <a:srgbClr val="dc0c3e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 </a:t>
            </a:r>
            <a:r>
              <a:rPr b="0" i="1" lang="el-GR" sz="2400" spc="-1" strike="noStrike">
                <a:solidFill>
                  <a:srgbClr val="dc0c3e"/>
                </a:solidFill>
                <a:latin typeface="Times New Roman"/>
                <a:ea typeface="Times New Roman"/>
              </a:rPr>
              <a:t>μ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s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Tahoma"/>
                <a:ea typeface="宋体"/>
              </a:rPr>
              <a:t>Kinetic friction: 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 = </a:t>
            </a:r>
            <a:r>
              <a:rPr b="0" i="1" lang="el-GR" sz="2400" spc="-1" strike="noStrike">
                <a:solidFill>
                  <a:srgbClr val="dc0c3e"/>
                </a:solidFill>
                <a:latin typeface="Times New Roman"/>
                <a:ea typeface="Times New Roman"/>
              </a:rPr>
              <a:t>μ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k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dc0c3e"/>
                </a:solidFill>
                <a:latin typeface="Times New Roman"/>
                <a:ea typeface="Times New Roman"/>
              </a:rPr>
              <a:t>μ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Arial"/>
              </a:rPr>
              <a:t> is the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Arial"/>
              </a:rPr>
              <a:t>coefficient of fric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 coefficients of friction are nearly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i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dependent of the area of contact (why?)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Forces of Friction: </a:t>
            </a:r>
            <a:r>
              <a:rPr b="0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Magnitud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9" name="Picture 4" descr="05T1"/>
          <p:cNvPicPr/>
          <p:nvPr/>
        </p:nvPicPr>
        <p:blipFill>
          <a:blip r:embed="rId1"/>
          <a:stretch/>
        </p:blipFill>
        <p:spPr>
          <a:xfrm>
            <a:off x="4767120" y="1380960"/>
            <a:ext cx="4351320" cy="415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EDEF-22E0-4664-B443-8CB87C072BAA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1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tatic Fric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tatic friction acts to keep the object from moving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f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ncreases, so does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f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decreases, so does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ƒ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µ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Remember, the equality holds when the surfaces are on the verge of slipping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1165320" y="2163600"/>
          <a:ext cx="237960" cy="4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163600"/>
                    <a:ext cx="2379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5"/>
          <p:cNvGraphicFramePr/>
          <p:nvPr/>
        </p:nvGraphicFramePr>
        <p:xfrm>
          <a:off x="1181160" y="2557440"/>
          <a:ext cx="23796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1160" y="2557440"/>
                    <a:ext cx="2379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6"/>
          <p:cNvGraphicFramePr/>
          <p:nvPr/>
        </p:nvGraphicFramePr>
        <p:xfrm>
          <a:off x="3962520" y="2149560"/>
          <a:ext cx="379440" cy="50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2149560"/>
                    <a:ext cx="3794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7"/>
          <p:cNvGraphicFramePr/>
          <p:nvPr/>
        </p:nvGraphicFramePr>
        <p:xfrm>
          <a:off x="4013280" y="2581200"/>
          <a:ext cx="35712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13280" y="2581200"/>
                    <a:ext cx="3571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Picture 8" descr="0516a"/>
          <p:cNvPicPr/>
          <p:nvPr/>
        </p:nvPicPr>
        <p:blipFill>
          <a:blip r:embed="rId9"/>
          <a:stretch/>
        </p:blipFill>
        <p:spPr>
          <a:xfrm>
            <a:off x="5562720" y="1608120"/>
            <a:ext cx="2889000" cy="372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2T23:38:32Z</dcterms:created>
  <dc:creator>Gary</dc:creator>
  <dc:description/>
  <dc:language>en-US</dc:language>
  <cp:lastModifiedBy>Asus</cp:lastModifiedBy>
  <dcterms:modified xsi:type="dcterms:W3CDTF">2018-03-09T16:21:03Z</dcterms:modified>
  <cp:revision>346</cp:revision>
  <dc:subject/>
  <dc:title>PowerPoint Presentation</dc:title>
</cp:coreProperties>
</file>