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F7AB-54AB-4BAA-B5C0-B712765AAC94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AF2E-AF91-4FDD-83A5-04BE608CB529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58A1-5979-4216-9CA0-1B5BC955E64F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7EB4-1C88-43E7-AAD7-10B74744EB1C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47A5-3505-4416-8E00-4BFE50684FF2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0706-4C08-48D5-8AFE-0106C3722254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4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lIns="12600" rIns="12600" tIns="12600" bIns="12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6B79-129A-403C-8E3C-4CC497BFD323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7896-AA48-4BC7-853B-9AA77FDF3B4F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4554-DAEE-4F88-A0AA-329AC1F48A63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0000"/>
              </a:solidFill>
              <a:latin typeface="Gill Sans"/>
              <a:ea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824B-A0C6-4586-B30D-0C7A0194B4A4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C88C-65E7-4158-B54D-FA5ABBADD08D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8960" y="837720"/>
            <a:ext cx="1046484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a0b11"/>
                </a:solidFill>
                <a:latin typeface="Gill Sans"/>
              </a:rPr>
              <a:t>MAGNETIC FIELD USES SOUND WAVES TO IGNITE SUN'S RING OF FIRE</a:t>
            </a:r>
            <a:endParaRPr b="0" lang="en-US" sz="4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-91080" y="5762160"/>
            <a:ext cx="1305396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Stuart Jefferies, University of Hawaii, H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Viggo Hansteen, University of Oslo, Norwa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Scott McIntosh, Southwest Research Institute, Boulder, C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Bart De Pontieu, Lockheed Martin Solar &amp; Astrophysics Lab, Palo Alto, C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928080" y="4190760"/>
            <a:ext cx="111884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“</a:t>
            </a: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Scientists discover what molds the Sun’s Ring of Fire”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1066680" y="533520"/>
            <a:ext cx="110491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Funding Credits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685800" y="3429000"/>
            <a:ext cx="11734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earch presented was supported by the National Aeronautics and Space Adminstration (NNG05GM75G, NNG06GG79G, NNG06GC89G), the National Science Foundation (ANT-0338251, ATM-0541567) and by the Research Council of Norway through grant 146467/420 and grants of computing time from the Programme for Supercomputing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771280" y="345600"/>
            <a:ext cx="7463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hat is the Sun’s Ring of Fire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-138960" y="7848360"/>
            <a:ext cx="1323972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"/>
                <a:ea typeface="Gill Sans"/>
              </a:rPr>
              <a:t>Solar Chromosphere: 20,000 F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Sandwiched between surface (10,000 F) and corona (2 million F)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Gill Sans"/>
                <a:ea typeface="Gill Sans"/>
              </a:rPr>
              <a:t>Produces UV radiation that may influence Earth’s climate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8" name="Picture 4" descr="TSE2005-125w"/>
          <p:cNvPicPr/>
          <p:nvPr/>
        </p:nvPicPr>
        <p:blipFill>
          <a:blip r:embed="rId1"/>
          <a:stretch/>
        </p:blipFill>
        <p:spPr>
          <a:xfrm>
            <a:off x="1600200" y="1295280"/>
            <a:ext cx="9526680" cy="635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2575800" y="345600"/>
            <a:ext cx="7914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hy is the Chromosphere Hot 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0" name="STEREO_EUVI_304.mov" descr="Tarkus:Users:mcintosh:Desktop:Notes:SSU Stuff:nasa_press1:STEREO_EUVI_304.mov"/>
          <p:cNvPicPr/>
          <p:nvPr/>
        </p:nvPicPr>
        <p:blipFill>
          <a:blip r:embed="rId1"/>
          <a:stretch/>
        </p:blipFill>
        <p:spPr>
          <a:xfrm>
            <a:off x="3124080" y="1066680"/>
            <a:ext cx="7086600" cy="7086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732960" y="8510760"/>
            <a:ext cx="1133928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  <a:ea typeface="Gill Sans"/>
              </a:rPr>
              <a:t>Movie taken with NASA’s STEREO A spacecraft in EUV light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Note the jets at the limb and the flickering on the disk.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269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1334880" y="345600"/>
            <a:ext cx="104036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hy is the Chromosphere Hot &amp; Barbed 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591200" y="7772400"/>
            <a:ext cx="987336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  <a:ea typeface="Gill Sans"/>
              </a:rPr>
              <a:t>Movie taken with NASA/ESA’s SOHO spacecraft in EUV light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Zoomed in 3x on the South polar limb.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4" name="SOHO_EIT_SLess_Zoom.mp" descr="Tarkus:Users:mcintosh:Desktop:Notes:SSU Stuff:movies:SOHO_EIT_SLess_Zoom.mp"/>
          <p:cNvPicPr/>
          <p:nvPr/>
        </p:nvPicPr>
        <p:blipFill>
          <a:blip r:embed="rId1"/>
          <a:stretch/>
        </p:blipFill>
        <p:spPr>
          <a:xfrm>
            <a:off x="1143000" y="1828800"/>
            <a:ext cx="10515600" cy="525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304920" y="6750720"/>
            <a:ext cx="1242036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Movie taken with Solar Optical Telescope (NASA/JAXA) onboard Japanese Hinode satelli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The Chromosphere is dominated by thin (100-500 mile wide) jets 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shooting up and down with velocities of order 10-50 miles/s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traversing 3,000 miles in a few minutes.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6" name="SOT_ca_061120_0715.mpg" descr="Tarkus:Users:mcintosh:Desktop:Notes:SSU Stuff:nasa_press1:SOT_ca_061120_0715.mpg"/>
          <p:cNvPicPr/>
          <p:nvPr/>
        </p:nvPicPr>
        <p:blipFill>
          <a:blip r:embed="rId1"/>
          <a:stretch/>
        </p:blipFill>
        <p:spPr>
          <a:xfrm>
            <a:off x="457200" y="1106640"/>
            <a:ext cx="12265200" cy="61322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"/>
          <p:cNvSpPr/>
          <p:nvPr/>
        </p:nvSpPr>
        <p:spPr>
          <a:xfrm>
            <a:off x="299160" y="274320"/>
            <a:ext cx="12727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hy is the Chromosphere Hot, Barbed &amp; Dynamic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1940040" y="228240"/>
            <a:ext cx="9159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hat Forges the Sun’s “Ring of Fire”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609480" y="1295280"/>
            <a:ext cx="11734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914400" y="8305920"/>
            <a:ext cx="11125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333399"/>
                </a:solidFill>
                <a:latin typeface="Gill Sans"/>
                <a:ea typeface="Gill Sans"/>
              </a:rPr>
              <a:t>Magnetic field concentrations that are inclined from the vertical provide “portals” for the trapped waves to leak out and travel upwards.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1" name="Picture 15" descr="Spicule_m"/>
          <p:cNvPicPr/>
          <p:nvPr/>
        </p:nvPicPr>
        <p:blipFill>
          <a:blip r:embed="rId1"/>
          <a:stretch/>
        </p:blipFill>
        <p:spPr>
          <a:xfrm>
            <a:off x="990720" y="914400"/>
            <a:ext cx="10972800" cy="68961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6"/>
          <p:cNvSpPr/>
          <p:nvPr/>
        </p:nvSpPr>
        <p:spPr>
          <a:xfrm>
            <a:off x="2971800" y="77724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ill Sans"/>
              </a:rPr>
              <a:t>Illustration by Zina Deretsky, National Science Founda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1753200" y="228240"/>
            <a:ext cx="9527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aves leak out of interior of the Sun…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573120" y="7696800"/>
            <a:ext cx="1192356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ill Sans"/>
                <a:ea typeface="Gill Sans"/>
              </a:rPr>
              <a:t>The dynamic magnetic field (jostled by convection) forms temporary “cracks” (twinkling) for the low frequency waves to pass through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76320" y="7238880"/>
            <a:ext cx="1287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Movie from MOTH (Magneto-Optical filters at Two Heights - NSF, Office of Polar Program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6" name="MOTH_Evo_3mHz_SM_CB.mo" descr="Tarkus:Users:mcintosh:Desktop:MOTH_Evo_3mHz_SM_CB.mo"/>
          <p:cNvPicPr/>
          <p:nvPr/>
        </p:nvPicPr>
        <p:blipFill>
          <a:blip r:embed="rId1"/>
          <a:stretch/>
        </p:blipFill>
        <p:spPr>
          <a:xfrm>
            <a:off x="1447920" y="990720"/>
            <a:ext cx="10134360" cy="617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108360" y="228240"/>
            <a:ext cx="12871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…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Leaking sound waves form strong Shock Waves…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04920" y="7923960"/>
            <a:ext cx="12268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Chromospheric Movie from Swedish Solar Telescope (Spa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Courtesy Luc Rouppe van der Voort, Michiel van Noo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9" name="halpha_04oct05_cut.mov" descr="Tarkus:Users:mcintosh:Desktop:Notes:SSU Stuff:nasa_press1:halpha_04oct05_cut.mov"/>
          <p:cNvPicPr/>
          <p:nvPr/>
        </p:nvPicPr>
        <p:blipFill>
          <a:blip r:embed="rId1"/>
          <a:stretch/>
        </p:blipFill>
        <p:spPr>
          <a:xfrm>
            <a:off x="2971800" y="990720"/>
            <a:ext cx="6865920" cy="68864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"/>
          <p:cNvSpPr/>
          <p:nvPr/>
        </p:nvSpPr>
        <p:spPr>
          <a:xfrm>
            <a:off x="-434520" y="8793000"/>
            <a:ext cx="13977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ill Sans"/>
                <a:ea typeface="Gill Sans"/>
              </a:rPr>
              <a:t>Continuously driving fountains of plasma upwards at supersonic speeds.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4165920" y="45720"/>
            <a:ext cx="5598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Computer Simul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2" name="spic_uztg.mov" descr="Tarkus:Users:mcintosh:Desktop:Notes:SSU Stuff:nasa_press1:spic_uztg.mov"/>
          <p:cNvPicPr/>
          <p:nvPr/>
        </p:nvPicPr>
        <p:blipFill>
          <a:blip r:embed="rId1"/>
          <a:stretch/>
        </p:blipFill>
        <p:spPr>
          <a:xfrm>
            <a:off x="1676520" y="790560"/>
            <a:ext cx="9612360" cy="7210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 rot="16200000">
            <a:off x="-916560" y="2293560"/>
            <a:ext cx="3466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emperatur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8"/>
          <p:cNvSpPr/>
          <p:nvPr/>
        </p:nvSpPr>
        <p:spPr>
          <a:xfrm rot="16200000">
            <a:off x="-277920" y="5472360"/>
            <a:ext cx="2119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Velocit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609480" y="7924320"/>
            <a:ext cx="1226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Courtesy of Institute of Theoretical Astrophysics, University of Oslo, Norwa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380880" y="8305920"/>
            <a:ext cx="1226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ill Sans"/>
                <a:ea typeface="Gill Sans"/>
              </a:rPr>
              <a:t>Dynamic interplay of magnetic field and waves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ill Sans"/>
                <a:ea typeface="Gill Sans"/>
              </a:rPr>
              <a:t>form jets that are very similar to those observe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7200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sus</dc:creator>
  <dc:description/>
  <dc:language>en-US</dc:language>
  <cp:lastModifiedBy>Asus</cp:lastModifiedBy>
  <dcterms:modified xsi:type="dcterms:W3CDTF">2018-03-09T16:18:58Z</dcterms:modified>
  <cp:revision>80</cp:revision>
  <dc:subject/>
  <dc:title>MAGNETIC FIELD USES SOUND WAVES TO IGNITE SUN'S RING OF FIRE</dc:title>
</cp:coreProperties>
</file>