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27.jpeg" ContentType="image/jpeg"/>
  <Override PartName="/ppt/media/image13.jpeg" ContentType="image/jpeg"/>
  <Override PartName="/ppt/media/image30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D94A-0FCD-4B4F-8F0D-3F8A5DF301B6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9CF3-6334-47D6-8E15-F59A4727F1C4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4F2A-0334-44EB-9E34-EC8A929C12E4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1BB-591E-46EF-9802-7B4B892C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216-B167-4F6C-B21D-1AA61718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682-7935-488C-A18B-066BD19E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E70-B6FD-489C-AAB8-D4008A56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821A-532E-416D-AAEC-8651E822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6D4-940B-4548-8721-4E2E926E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0F3-2615-4260-AB34-6C912CFE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A12-BBE7-47D8-9FA3-9BFC4F40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4C5-45E6-4D31-95DA-F9C45885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D8A-1DB5-437E-A173-EF122FAC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AA4-018B-4FE2-9A22-D6CF4017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922-7772-4B8F-AD3D-0F2BA237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2BB1-220E-4356-A38C-0CC1DAE8C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Comic Sans MS"/>
              </a:rPr>
              <a:t>Madame Marie Cu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The Science of Radio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9-PIC"/>
          <p:cNvPicPr/>
          <p:nvPr/>
        </p:nvPicPr>
        <p:blipFill>
          <a:blip r:embed="rId1"/>
          <a:stretch/>
        </p:blipFill>
        <p:spPr>
          <a:xfrm>
            <a:off x="3505320" y="2895480"/>
            <a:ext cx="210168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895480" y="61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Comic Sans MS"/>
              </a:rPr>
              <a:t>By Claire Goel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981080" y="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D:\lalalala\17-M&amp;P.GIF"/>
          <p:cNvPicPr/>
          <p:nvPr/>
        </p:nvPicPr>
        <p:blipFill>
          <a:blip r:embed="rId1"/>
          <a:stretch/>
        </p:blipFill>
        <p:spPr>
          <a:xfrm>
            <a:off x="4800600" y="1143000"/>
            <a:ext cx="4084560" cy="5334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8" name="Text Box 4"/>
          <p:cNvSpPr/>
          <p:nvPr/>
        </p:nvSpPr>
        <p:spPr>
          <a:xfrm>
            <a:off x="228600" y="14479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stopped his work on crystals to work with Mari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ontinued her work, but with a different substance,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76520" y="22860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43434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called this new substance polonium in honor of Marie’s home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114800" y="11430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uly 1898 they extracted a new element that was even more radioactive than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200400" cy="29588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571920" cy="251928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1952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8600" y="14479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anuary of 1899 another new element was discovered that was over 1 million times more radioactive than uranium, it was named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4" descr="D:\lalalala\31-radium.jpg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3732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19320" y="48769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0 Marie isolated pure radium met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486400" y="205740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ajor studies showed that radium gave out light and heat, as well as being able to damage living fles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43000" y="236232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914400" y="2362320"/>
            <a:ext cx="4495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952880" cy="277488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0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026"/>
          <p:cNvSpPr/>
          <p:nvPr/>
        </p:nvSpPr>
        <p:spPr>
          <a:xfrm>
            <a:off x="2057400" y="3049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027"/>
          <p:cNvSpPr/>
          <p:nvPr/>
        </p:nvSpPr>
        <p:spPr>
          <a:xfrm>
            <a:off x="762120" y="22096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1028"/>
          <p:cNvSpPr/>
          <p:nvPr/>
        </p:nvSpPr>
        <p:spPr>
          <a:xfrm>
            <a:off x="533520" y="127332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order to obtain one decigram of pure radium chloride salt, Marie had to sift through hundreds of tons of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030" descr="D:\lalalala\pitchblende.jpg"/>
          <p:cNvPicPr/>
          <p:nvPr/>
        </p:nvPicPr>
        <p:blipFill>
          <a:blip r:embed="rId1"/>
          <a:stretch/>
        </p:blipFill>
        <p:spPr>
          <a:xfrm>
            <a:off x="3886200" y="2286000"/>
            <a:ext cx="4648320" cy="34146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828800" y="3049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roperties of 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267080" cy="32763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4" name="Text Box 5"/>
          <p:cNvSpPr/>
          <p:nvPr/>
        </p:nvSpPr>
        <p:spPr>
          <a:xfrm>
            <a:off x="380880" y="1295280"/>
            <a:ext cx="381024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adium is silver-white in colo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day it is used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mall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mounts as a cancer treatment and in fluorescent pain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67652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’s Dea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447920" y="511812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Curie was killed tragically by a horse-drawn cart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114800" y="16002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6" descr="D:\lalalala\18-pierre.gif"/>
          <p:cNvPicPr/>
          <p:nvPr/>
        </p:nvPicPr>
        <p:blipFill>
          <a:blip r:embed="rId1"/>
          <a:stretch/>
        </p:blipFill>
        <p:spPr>
          <a:xfrm>
            <a:off x="3276720" y="1523880"/>
            <a:ext cx="2670120" cy="34578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95280" y="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each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14300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t was decided that Marie should take over Pierre’s teaching job at the Sorbonne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952880" y="401940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made Marie the 1st woman professor at any French universit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D:\lalalala\37-PIC.JPG"/>
          <p:cNvPicPr/>
          <p:nvPr/>
        </p:nvPicPr>
        <p:blipFill>
          <a:blip r:embed="rId1"/>
          <a:srcRect l="4983" t="3321" r="4983" b="5399"/>
          <a:stretch/>
        </p:blipFill>
        <p:spPr>
          <a:xfrm>
            <a:off x="5105520" y="893880"/>
            <a:ext cx="3578040" cy="31035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04920" y="3956040"/>
            <a:ext cx="4267080" cy="29019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38080" y="3049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is Radium Institu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28600" y="15238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07 Marie convinced the French government to fund a radium research institute, to be used mainly for medical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6" descr="D:\lalalala\15-PIC.GIF"/>
          <p:cNvPicPr/>
          <p:nvPr/>
        </p:nvPicPr>
        <p:blipFill>
          <a:blip r:embed="rId1"/>
          <a:stretch/>
        </p:blipFill>
        <p:spPr>
          <a:xfrm>
            <a:off x="4267080" y="1828800"/>
            <a:ext cx="4015080" cy="43340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133720" y="3808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Problem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51776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believed that working with radium was not a danger to her health, however, doctors today have proven that she wa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ver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wro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4" descr="D:\lalalala\3-PIC.GIF"/>
          <p:cNvPicPr/>
          <p:nvPr/>
        </p:nvPicPr>
        <p:blipFill>
          <a:blip r:embed="rId1"/>
          <a:stretch/>
        </p:blipFill>
        <p:spPr>
          <a:xfrm>
            <a:off x="4800600" y="1600200"/>
            <a:ext cx="3592440" cy="44197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57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1523880"/>
            <a:ext cx="4876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orn on November 7, 1867 in Warsaw, Po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iven name was Marya Sklodowska, but her family and friends called her “Little Manya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" name="Picture 6" descr="D:\lalalala\7PIC.BMP"/>
          <p:cNvPicPr/>
          <p:nvPr/>
        </p:nvPicPr>
        <p:blipFill>
          <a:blip r:embed="rId1"/>
          <a:stretch/>
        </p:blipFill>
        <p:spPr>
          <a:xfrm>
            <a:off x="5181480" y="838080"/>
            <a:ext cx="3719520" cy="5619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181480" y="1371600"/>
            <a:ext cx="3429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1 Marie collapsed from depression and severe kidney problems that were a result of her long-time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0" r="0" b="9599"/>
          <a:stretch/>
        </p:blipFill>
        <p:spPr>
          <a:xfrm>
            <a:off x="914400" y="1447920"/>
            <a:ext cx="3564000" cy="5110200"/>
          </a:xfrm>
          <a:prstGeom prst="rect">
            <a:avLst/>
          </a:prstGeom>
          <a:ln cap="rnd" w="4752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4300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Institut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4300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 August 1914 the Radium Institute was finished, and named after Marie’s deceased husb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5" descr="D:\lalalala\36-radium institute.jpg"/>
          <p:cNvPicPr/>
          <p:nvPr/>
        </p:nvPicPr>
        <p:blipFill>
          <a:blip r:embed="rId1"/>
          <a:srcRect l="4793" t="6803" r="4793" b="6803"/>
          <a:stretch/>
        </p:blipFill>
        <p:spPr>
          <a:xfrm>
            <a:off x="2508120" y="1670040"/>
            <a:ext cx="4813560" cy="32400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13372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547640"/>
            <a:ext cx="41907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ly after the institute was finished, Germany invaded Fra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staff was cut short to two people, herself and her daughter Iren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8442"/>
          <a:stretch/>
        </p:blipFill>
        <p:spPr>
          <a:xfrm>
            <a:off x="5105520" y="1295280"/>
            <a:ext cx="3450960" cy="5110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66680" y="457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57200" y="167652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mmediately after the War broke out Marie donated all of her money to the War fund, and signed up to be a nur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4" descr="D:\lalalala\39-NURSE.JPG"/>
          <p:cNvPicPr/>
          <p:nvPr/>
        </p:nvPicPr>
        <p:blipFill>
          <a:blip r:embed="rId1"/>
          <a:srcRect l="6781" t="4990" r="6781" b="4990"/>
          <a:stretch/>
        </p:blipFill>
        <p:spPr>
          <a:xfrm>
            <a:off x="4951440" y="1598760"/>
            <a:ext cx="3440160" cy="48686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3808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05520" y="190512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ecided that there should be x-ray machines that the war doctors could use on the battle field for soldie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45054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52388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6212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reated 20 mobile x-ray machines and over 200 stationary machin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5" descr="D:\lalalala\38-CAR.JPG"/>
          <p:cNvPicPr/>
          <p:nvPr/>
        </p:nvPicPr>
        <p:blipFill>
          <a:blip r:embed="rId1"/>
          <a:stretch/>
        </p:blipFill>
        <p:spPr>
          <a:xfrm>
            <a:off x="2133720" y="1371600"/>
            <a:ext cx="4975200" cy="35654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666880" y="5335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24382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also invented tiny glass tubes that were filled with radon ( a radioactive 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19200" cy="488628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45720" y="38088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33520" y="48769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octors would insert the tubes in patients at spots where the radiation would destroy diseased tissu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30481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752480" y="10666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676520" y="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38080" y="4876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he War ended in 1918 Marie spent a lot of time with her two daughters Irene and Eve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5" descr="D:\lalalala\11-m,I,E.jpg"/>
          <p:cNvPicPr/>
          <p:nvPr/>
        </p:nvPicPr>
        <p:blipFill>
          <a:blip r:embed="rId1"/>
          <a:stretch/>
        </p:blipFill>
        <p:spPr>
          <a:xfrm>
            <a:off x="2971800" y="914400"/>
            <a:ext cx="2901960" cy="3886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800600" y="198108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wo or three years with her daughters she resumed her work with radium at the Paris institu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5" descr="D:\lalalala\12-PIC.JPG"/>
          <p:cNvPicPr/>
          <p:nvPr/>
        </p:nvPicPr>
        <p:blipFill>
          <a:blip r:embed="rId1"/>
          <a:stretch/>
        </p:blipFill>
        <p:spPr>
          <a:xfrm>
            <a:off x="838080" y="1752480"/>
            <a:ext cx="3667320" cy="40579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051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191120" y="1273320"/>
            <a:ext cx="46479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father was a professor of math and physic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was a pianist, singer, and teach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died of tuberculosis when Marya was 11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446640" cy="46483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0574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Declining Heal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95280" y="1981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828800"/>
            <a:ext cx="266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had been working at the radium institute in good health for almost 12 yea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5880" y="1273320"/>
            <a:ext cx="274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began to notice burns on her hands and her failing eyesight somewhere around 19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6" descr="D:\lalalala\28-PIC.GIF"/>
          <p:cNvPicPr/>
          <p:nvPr/>
        </p:nvPicPr>
        <p:blipFill>
          <a:blip r:embed="rId1"/>
          <a:stretch/>
        </p:blipFill>
        <p:spPr>
          <a:xfrm>
            <a:off x="2971800" y="1752480"/>
            <a:ext cx="2976480" cy="39625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905120" y="68580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66880" y="38088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" y="4294080"/>
            <a:ext cx="82296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blood had been weakened by her constant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caused her to catch aplastic anemi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606760" cy="2743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3623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81080" y="25146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66680" y="48769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eventually contracted leukemia and died on July 14, 193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800600" cy="32511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9092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182880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numerous small awards during her life such as having her picture placed on a stamp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5" descr="D:\lalalala\26-STAMP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19720" cy="29048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14600" y="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419720" y="990720"/>
            <a:ext cx="449568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the Nobel prize in physics in 1903 for her work with X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was also awarded the Nobel prize in chemistry in 1911 for her work with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4" descr="D:\lalalala\33-PRIZE.JPG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36576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9092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bout Me!!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Picture 4" descr="D:\Claire's Pictures\Claire copy.JPG"/>
          <p:cNvPicPr/>
          <p:nvPr/>
        </p:nvPicPr>
        <p:blipFill>
          <a:blip r:embed="rId1"/>
          <a:srcRect l="0" t="0" r="24409" b="0"/>
          <a:stretch/>
        </p:blipFill>
        <p:spPr>
          <a:xfrm>
            <a:off x="5840280" y="762120"/>
            <a:ext cx="3303720" cy="327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Claire's Pictures\blacksilkie2.jpg"/>
          <p:cNvPicPr/>
          <p:nvPr/>
        </p:nvPicPr>
        <p:blipFill>
          <a:blip r:embed="rId2"/>
          <a:stretch/>
        </p:blipFill>
        <p:spPr>
          <a:xfrm>
            <a:off x="6858000" y="4362480"/>
            <a:ext cx="1965240" cy="249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:\Claire's Pictures\macaroni.jpg"/>
          <p:cNvPicPr/>
          <p:nvPr/>
        </p:nvPicPr>
        <p:blipFill>
          <a:blip r:embed="rId3"/>
          <a:srcRect l="8498" t="53654" r="0" b="5459"/>
          <a:stretch/>
        </p:blipFill>
        <p:spPr>
          <a:xfrm>
            <a:off x="609480" y="335268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914400" y="917640"/>
            <a:ext cx="6019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!I’m Claire! I like food-all kinds. And I like horses, chickens(yes a little odd I know), and talking!!!!!! I’m incredibly tall and I have re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ir!!!! I hav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sisters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brother,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are all older than me. I especially like Chinese food and Mac n’ che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362320" y="3049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chool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29200" y="1219320"/>
            <a:ext cx="38098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raduated high school when she was 1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891 she enrolled at the Sorbonne in Paris as “Marie” and graduated in 189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" name="Picture 5" descr="D:\lalalala\32-sorbonne.jpg"/>
          <p:cNvPicPr/>
          <p:nvPr/>
        </p:nvPicPr>
        <p:blipFill>
          <a:blip r:embed="rId1"/>
          <a:stretch/>
        </p:blipFill>
        <p:spPr>
          <a:xfrm>
            <a:off x="304920" y="1295280"/>
            <a:ext cx="3887640" cy="495324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740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7" descr="D:\lalalala\23-M&amp;P.JPG"/>
          <p:cNvPicPr/>
          <p:nvPr/>
        </p:nvPicPr>
        <p:blipFill>
          <a:blip r:embed="rId1"/>
          <a:stretch/>
        </p:blipFill>
        <p:spPr>
          <a:xfrm>
            <a:off x="2666880" y="1676520"/>
            <a:ext cx="4038840" cy="4017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7" name="Text Box 8"/>
          <p:cNvSpPr/>
          <p:nvPr/>
        </p:nvSpPr>
        <p:spPr>
          <a:xfrm>
            <a:off x="304920" y="6019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married Pierre Curie in July 189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638680" y="31240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3808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hesis Work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5800" y="1600200"/>
            <a:ext cx="419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ecided that her thesis for her doctorate would be on Henri Becquerel’s mysterious “x-rays”  that are given off by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71880" cy="43434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44792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k with Ura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D:\lalalala\Uranium.jpg"/>
          <p:cNvPicPr/>
          <p:nvPr/>
        </p:nvPicPr>
        <p:blipFill>
          <a:blip r:embed="rId1"/>
          <a:stretch/>
        </p:blipFill>
        <p:spPr>
          <a:xfrm>
            <a:off x="2438280" y="1066680"/>
            <a:ext cx="4267440" cy="28544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6" name="Text Box 11"/>
          <p:cNvSpPr/>
          <p:nvPr/>
        </p:nvSpPr>
        <p:spPr>
          <a:xfrm>
            <a:off x="914400" y="40194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iscovered that if you have a certain amount of uranium, then you get a certain amount of ray intensity, no matter what you did to the materi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808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ran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" name="Picture 3" descr="D:\lalalala\20-PIC.GIF"/>
          <p:cNvPicPr/>
          <p:nvPr/>
        </p:nvPicPr>
        <p:blipFill>
          <a:blip r:embed="rId1"/>
          <a:stretch/>
        </p:blipFill>
        <p:spPr>
          <a:xfrm>
            <a:off x="304920" y="1523880"/>
            <a:ext cx="3627360" cy="49341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0" name="Text Box 4"/>
          <p:cNvSpPr/>
          <p:nvPr/>
        </p:nvSpPr>
        <p:spPr>
          <a:xfrm>
            <a:off x="4191120" y="2286000"/>
            <a:ext cx="495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iscovered that there was something going on inside the atom that created the rays, she named this effect         “radioactivity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2133720"/>
            <a:ext cx="396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iscovered that the only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know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ements that were radioactive were uranium and thor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905120" y="4572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oactivity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rcRect l="0" t="0" r="4006" b="4016"/>
          <a:stretch/>
        </p:blipFill>
        <p:spPr>
          <a:xfrm>
            <a:off x="4343400" y="2133720"/>
            <a:ext cx="4572000" cy="34257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49:54Z</dcterms:created>
  <dc:creator>Science Lab</dc:creator>
  <dc:description/>
  <dc:language>en-US</dc:language>
  <cp:lastModifiedBy>Asus</cp:lastModifiedBy>
  <dcterms:modified xsi:type="dcterms:W3CDTF">2018-03-09T16:18:07Z</dcterms:modified>
  <cp:revision>77</cp:revision>
  <dc:subject/>
  <dc:title>Madame Marie Curie</dc:title>
</cp:coreProperties>
</file>