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0376-5EF8-4E52-8E31-FB573234AC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D71B-88B9-437D-A82B-DFF7CD9B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1A7-0BE8-44E9-A2BE-F4FDAB84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D5C-B70E-4D96-8251-96636744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FB3-7366-4074-8499-F3AA3EFB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66F1-9B44-40FC-A3E1-309D33D8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58A8-B85F-4366-BB36-3C597A54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B4EF-0FA9-4858-ADEF-F5E12E01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FB32-0CB6-48D6-A530-436D258F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5601-3854-4BDF-9311-38D03C70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DA74-613A-41C7-9384-9DFA4C4D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EB19-2227-4F72-906E-21EFBEA6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950-B115-4F49-BCFF-72D5F5D5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0BE7-648A-4027-9D21-AB5BB71F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B4B4-649C-4374-9A1B-F0EC2B6C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968C-F1BC-449A-B602-F3F48474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60EA-96CF-4ADE-8FB3-F6A1B314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42D2-77EE-42EA-B51C-6CCA8AFC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59C-667A-4740-820E-D0DAA835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346-FAF9-43CA-AB74-BAFBB306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D61-879E-42D5-9261-CAB2BCF9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00C-4391-4E46-B262-857D85EF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FD8-C98A-4E81-A4AC-A51033A7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93E-9BFB-411C-845D-C541B9F4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54F-55B3-4C67-998D-EAD80AED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2B88-39A7-43B3-A29A-CFA3DED68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C041-972D-400E-AB1C-82F148615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Start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Uses of plastics - Statis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6" descr="Uses of plastic as percentage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ypes of Plast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7720" y="1904760"/>
          <a:ext cx="8007480" cy="4190760"/>
        </p:xfrm>
        <a:graphic>
          <a:graphicData uri="http://schemas.openxmlformats.org/drawingml/2006/table"/>
        </a:graphic>
      </p:graphicFrame>
      <p:pic>
        <p:nvPicPr>
          <p:cNvPr id="111" name="Picture 12" descr="Recycling Logo"/>
          <p:cNvPicPr/>
          <p:nvPr/>
        </p:nvPicPr>
        <p:blipFill>
          <a:blip r:embed="rId1"/>
          <a:stretch/>
        </p:blipFill>
        <p:spPr>
          <a:xfrm>
            <a:off x="-571680" y="1260360"/>
            <a:ext cx="3337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Recycling Logo"/>
          <p:cNvPicPr/>
          <p:nvPr/>
        </p:nvPicPr>
        <p:blipFill>
          <a:blip r:embed="rId2"/>
          <a:stretch/>
        </p:blipFill>
        <p:spPr>
          <a:xfrm>
            <a:off x="-571680" y="1222200"/>
            <a:ext cx="343080" cy="3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Recycling Logo"/>
          <p:cNvPicPr/>
          <p:nvPr/>
        </p:nvPicPr>
        <p:blipFill>
          <a:blip r:embed="rId3"/>
          <a:stretch/>
        </p:blipFill>
        <p:spPr>
          <a:xfrm>
            <a:off x="-571680" y="11732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Recycling Logo"/>
          <p:cNvPicPr/>
          <p:nvPr/>
        </p:nvPicPr>
        <p:blipFill>
          <a:blip r:embed="rId4"/>
          <a:stretch/>
        </p:blipFill>
        <p:spPr>
          <a:xfrm>
            <a:off x="-571680" y="106668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Recycling Logo"/>
          <p:cNvPicPr/>
          <p:nvPr/>
        </p:nvPicPr>
        <p:blipFill>
          <a:blip r:embed="rId5"/>
          <a:stretch/>
        </p:blipFill>
        <p:spPr>
          <a:xfrm>
            <a:off x="-571680" y="1019160"/>
            <a:ext cx="33372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ecycling Logo"/>
          <p:cNvPicPr/>
          <p:nvPr/>
        </p:nvPicPr>
        <p:blipFill>
          <a:blip r:embed="rId6"/>
          <a:stretch/>
        </p:blipFill>
        <p:spPr>
          <a:xfrm>
            <a:off x="-571680" y="9698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Recycling Logo"/>
          <p:cNvPicPr/>
          <p:nvPr/>
        </p:nvPicPr>
        <p:blipFill>
          <a:blip r:embed="rId7"/>
          <a:stretch/>
        </p:blipFill>
        <p:spPr>
          <a:xfrm>
            <a:off x="-571680" y="952560"/>
            <a:ext cx="343080" cy="314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"/>
          <p:cNvSpPr/>
          <p:nvPr/>
        </p:nvSpPr>
        <p:spPr>
          <a:xfrm>
            <a:off x="57168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979640" y="1700280"/>
          <a:ext cx="5133960" cy="4906800"/>
        </p:xfrm>
        <a:graphic>
          <a:graphicData uri="http://schemas.openxmlformats.org/drawingml/2006/table">
            <a:tbl>
              <a:tblPr/>
              <a:tblGrid>
                <a:gridCol w="615960"/>
                <a:gridCol w="860400"/>
                <a:gridCol w="365760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ethylene terephthalat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izzy drink bottles and oven-ready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High-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Bottles for milk and washing-up liquid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V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vinyl chlorid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ood trays, cling film, bottles for squash, mineral water and shampo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ow 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Carrier bags and bin line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prop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Margarine tubs, microwaveable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styr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Yoghurt pots, foam meat or fish trays, hamburger boxes and egg cartons, vending cups, plastic cutlery, protective packaging for electronic goods and to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y other plastic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at do not fall into any of the above categories. - An example is melamine, which is often used in plastic plates and cup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ercentage that can be recycl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y recycle plastic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emissions of carbon-dioxide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nitrogen-oxide (NO) and sulphur-dioxide (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How are polymers recycle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M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at can we d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20:09:29Z</dcterms:created>
  <dc:creator>EP School</dc:creator>
  <dc:description>Starter plastic recycling</dc:description>
  <cp:keywords>Starter plastic recycling</cp:keywords>
  <dc:language>en-US</dc:language>
  <cp:lastModifiedBy>RomaK</cp:lastModifiedBy>
  <dcterms:modified xsi:type="dcterms:W3CDTF">2015-09-02T06:00:44Z</dcterms:modified>
  <cp:revision>14</cp:revision>
  <dc:subject>Starter plastic recycling</dc:subject>
  <dc:title>Starter plastic recycling</dc:title>
</cp:coreProperties>
</file>