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B7D0-440A-4CB8-9BC4-9B1F02576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EBBB-8529-4A4E-995A-3FE096ECD29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8B4E-EAEA-416E-8EFB-DD7FB552FB1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52CB-68A3-490E-9AB7-00890140FA9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12F3-1618-46EE-A18A-A61EADFFC66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61A7-6A68-4B40-81EF-BDBD336FCEC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1048-BB62-4247-99B3-CC287D60824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8E36-72A6-4346-B45F-2F2AEE30FD7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1983-D70C-462C-B531-DD074D46DF8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E750-FB29-4A17-A4D7-4D77092BD93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7CD2-8E60-4DFF-AFEB-A108DF3CBF5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DE81-0481-49E5-BDB7-65259ADAEAA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D691-ECF1-40DE-8E2E-46E959235F5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E3D0-ECDD-4A63-9139-49EA145013D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93F1-6B27-49C3-95E4-825AADEB6E8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D43B-E752-4076-A6D7-B77DB95D9AB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420F-D3D5-44DA-9D35-C9D75F9028A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FFB5-B12A-4873-969E-34B71E7C8C5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C363-EA21-4A6C-9080-F760E6BAF16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AA91-56CB-49BF-BDAB-19167F9A85B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B182-ED95-4026-A698-B9B9CD11DFE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FE13-C220-41BC-97B2-66B201AE972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0A9D-2405-4F6D-845A-6A045A62A2B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586A-7F9F-4A68-8292-A3F89560C3F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6C75-09DF-4275-A902-2216465C85A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4846-FBE0-457A-B166-8D927F70A80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7823-B360-4798-B03D-17BF8C13820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D18E-9C2D-44B5-8A3C-09BBDDAFBBD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CC6F-92FE-452F-9134-58C09FEFBF9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12F3-03D3-4CC0-9D51-8FE85B2E549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C5BE-DA2A-467C-86C3-CD50C2CCFF2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200F-FFE2-497B-873C-C32B70C22D3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021B-66C7-4D2B-9038-D59093E5552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A257-2E3E-479D-9EF9-222BE5B367E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5273-7FAC-4210-B940-432075945E6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D125-E99E-4185-85EB-EE9F5DFA44E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6F34-0173-42B9-B57F-E71A1014942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F7BB-E44A-41B5-9507-DF89BDBDEAC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3CAE-A2F7-44AC-9B86-0AC0F16472C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05B4-9929-4437-B307-9955226AB83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A517-BE31-417C-99F3-530086F86EA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A16B-443E-48E3-A81E-79BCCBBE7AA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2806-2F6F-4F08-A48F-8702268F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954-E111-4CC6-892A-119D0593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042-9BCF-4813-A1F9-FA5EDF26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B7D-005C-4504-8FCA-0D4979A4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CC41-0F3C-4B6B-A9F2-335261B8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9E4D-5549-484A-A6FE-53628612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B197-FBD8-41E6-918A-79D00194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5FF6-CCDD-4053-BE17-29FAA197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9EE3-FC8C-48FF-8F49-E55B2049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B3F7-577C-487D-B9B6-B131D6A8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79F2-9E49-43B0-BCDC-C6CA8C18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317-494F-491B-91E9-91B8DA27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7FE9-74B8-461F-BF49-5C3E0815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2C1D-AA1E-4F7F-BCFB-F99EF075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02F2-16F0-4AD7-A304-56424622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F128-F108-4980-8A5E-96E5EBAA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FD5A-210F-4D20-A385-4F14595E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68DC-18C9-478E-AA38-7EAA29EB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F6C5-CBF8-4606-B9D4-B96EA3C7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F90-BA0C-44D5-A5F2-9D0AF6C8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5BB1-5DB6-47BE-96FD-A714E2FA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271-3689-47C1-B9C0-D4C4E665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C00-0C68-4AA4-B7FE-681AE93D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888D-4831-4418-B942-2CC59D69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B4D1-265E-441B-AD6B-AB1D2D75DEA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EA30-072B-437D-85EF-916D004DB6A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 far as we know, humans have always been interested in the motions of objects in the sk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t only did early humans navigate by means of the sky, but the motions of objects in the sky predicted the changing of the seasons,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Law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the orbits of the planets were not perfect circles, b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llips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ith the Sun at one foc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3" name="Group 7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44" name="Oval 8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Oval 9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Text Box 12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9" name="Нижний колонтитул 1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Second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a planet move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aster when ne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e Sun, an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lower when f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Su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2" name="Group 1028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53" name="Oval 1029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Oval 1030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Oval 1031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Text Box 1032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Text Box 1033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8" name="Text Box 1034"/>
          <p:cNvSpPr/>
          <p:nvPr/>
        </p:nvSpPr>
        <p:spPr>
          <a:xfrm>
            <a:off x="1257480" y="4479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a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Line 1035"/>
          <p:cNvSpPr/>
          <p:nvPr/>
        </p:nvSpPr>
        <p:spPr>
          <a:xfrm>
            <a:off x="2362320" y="4724280"/>
            <a:ext cx="38088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Line 1036"/>
          <p:cNvSpPr/>
          <p:nvPr/>
        </p:nvSpPr>
        <p:spPr>
          <a:xfrm flipH="1" flipV="1">
            <a:off x="2666880" y="472428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Line 1037"/>
          <p:cNvSpPr/>
          <p:nvPr/>
        </p:nvSpPr>
        <p:spPr>
          <a:xfrm flipH="1">
            <a:off x="2666880" y="480060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038"/>
          <p:cNvSpPr/>
          <p:nvPr/>
        </p:nvSpPr>
        <p:spPr>
          <a:xfrm>
            <a:off x="6498360" y="4327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low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1039"/>
          <p:cNvSpPr/>
          <p:nvPr/>
        </p:nvSpPr>
        <p:spPr>
          <a:xfrm flipH="1">
            <a:off x="6400440" y="4572000"/>
            <a:ext cx="2286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1040"/>
          <p:cNvSpPr/>
          <p:nvPr/>
        </p:nvSpPr>
        <p:spPr>
          <a:xfrm>
            <a:off x="6400800" y="4800600"/>
            <a:ext cx="763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Line 1041"/>
          <p:cNvSpPr/>
          <p:nvPr/>
        </p:nvSpPr>
        <p:spPr>
          <a:xfrm flipV="1">
            <a:off x="6400800" y="472428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Нижний колонтитул 19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pler’s Laws provided a complet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kinematical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cription of planetary motion (including the motion of planetary satellites, like the Moon) - but </a:t>
            </a:r>
            <a:r>
              <a:rPr b="1" i="1" lang="en-US" sz="4800" spc="-1" strike="noStrike">
                <a:solidFill>
                  <a:srgbClr val="fcab40"/>
                </a:solidFill>
                <a:latin typeface="Arial"/>
              </a:rPr>
              <a:t>wh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id the planets move like tha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Apple &amp;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aac Newton realized that the motion of a falling apple and the motion of the Moon were both actuall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mo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caused b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-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2438280" y="4287960"/>
            <a:ext cx="1906560" cy="2036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562720" y="4254480"/>
            <a:ext cx="1371600" cy="2070000"/>
          </a:xfrm>
          <a:prstGeom prst="rect">
            <a:avLst/>
          </a:prstGeom>
          <a:ln w="0">
            <a:noFill/>
          </a:ln>
        </p:spPr>
      </p:pic>
      <p:sp>
        <p:nvSpPr>
          <p:cNvPr id="17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idea was that gravity wa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universal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orce acting betwee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any two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2133720" y="4267080"/>
            <a:ext cx="72540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4191120" y="2782800"/>
            <a:ext cx="1244520" cy="1290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6553080" y="4495680"/>
            <a:ext cx="85572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4038480" y="5375160"/>
            <a:ext cx="1371600" cy="1150920"/>
          </a:xfrm>
          <a:prstGeom prst="rect">
            <a:avLst/>
          </a:prstGeom>
          <a:ln w="0">
            <a:noFill/>
          </a:ln>
        </p:spPr>
      </p:pic>
      <p:cxnSp>
        <p:nvCxnSpPr>
          <p:cNvPr id="181" name="AutoShape 8"/>
          <p:cNvCxnSpPr/>
          <p:nvPr/>
        </p:nvCxnSpPr>
        <p:spPr>
          <a:xfrm>
            <a:off x="5334120" y="3809520"/>
            <a:ext cx="1219680" cy="114372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2" name="AutoShape 9"/>
          <p:cNvCxnSpPr/>
          <p:nvPr/>
        </p:nvCxnSpPr>
        <p:spPr>
          <a:xfrm flipH="1">
            <a:off x="2801160" y="3428640"/>
            <a:ext cx="1389960" cy="12200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3" name="AutoShape 10"/>
          <p:cNvCxnSpPr/>
          <p:nvPr/>
        </p:nvCxnSpPr>
        <p:spPr>
          <a:xfrm>
            <a:off x="4876560" y="4038120"/>
            <a:ext cx="1080" cy="13374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11"/>
          <p:cNvCxnSpPr/>
          <p:nvPr/>
        </p:nvCxnSpPr>
        <p:spPr>
          <a:xfrm>
            <a:off x="2858760" y="4610160"/>
            <a:ext cx="1027800" cy="12578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AutoShape 12"/>
          <p:cNvCxnSpPr/>
          <p:nvPr/>
        </p:nvCxnSpPr>
        <p:spPr>
          <a:xfrm flipH="1">
            <a:off x="5409360" y="4952880"/>
            <a:ext cx="1143720" cy="9990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" name="AutoShape 14"/>
          <p:cNvCxnSpPr/>
          <p:nvPr/>
        </p:nvCxnSpPr>
        <p:spPr>
          <a:xfrm>
            <a:off x="2858760" y="4610160"/>
            <a:ext cx="3694680" cy="3434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7" name="Нижний колонтитул 1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t the Earth’s Surfa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 that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the apple equals the apple’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weight, mg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re 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85436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Line 5"/>
          <p:cNvSpPr/>
          <p:nvPr/>
        </p:nvSpPr>
        <p:spPr>
          <a:xfrm>
            <a:off x="5486400" y="4800600"/>
            <a:ext cx="0" cy="16002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477040" y="52578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 = m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reasoned that the centripetal force on the moon was also supplied by the Earth’s gravitational for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2819520" y="3733920"/>
            <a:ext cx="2209680" cy="213336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4952880" y="4724280"/>
            <a:ext cx="228600" cy="2286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3809880" y="4724280"/>
            <a:ext cx="304920" cy="304920"/>
          </a:xfrm>
          <a:prstGeom prst="ellipse">
            <a:avLst/>
          </a:prstGeom>
          <a:solidFill>
            <a:srgbClr val="8fb8f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4266720" y="4876920"/>
            <a:ext cx="7621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5148000" y="4189320"/>
            <a:ext cx="1985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= m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5827320" y="3930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Picture 11" descr=""/>
          <p:cNvPicPr/>
          <p:nvPr/>
        </p:nvPicPr>
        <p:blipFill>
          <a:blip r:embed="rId1"/>
          <a:stretch/>
        </p:blipFill>
        <p:spPr>
          <a:xfrm>
            <a:off x="4876920" y="4648320"/>
            <a:ext cx="363240" cy="380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2"/>
          <a:stretch/>
        </p:blipFill>
        <p:spPr>
          <a:xfrm>
            <a:off x="3657600" y="4572000"/>
            <a:ext cx="514440" cy="53352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13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calculations showed that the centripetal force needed for the Moon’s motion was about 1/360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Mg, however, where M is the mass of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4191120"/>
            <a:ext cx="1959120" cy="2057400"/>
          </a:xfrm>
          <a:prstGeom prst="rect">
            <a:avLst/>
          </a:prstGeom>
          <a:ln w="0">
            <a:noFill/>
          </a:ln>
        </p:spPr>
      </p:pic>
      <p:sp>
        <p:nvSpPr>
          <p:cNvPr id="20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, though, that the Moon was abo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60 times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center of the Earth than the app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6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= 36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om this, Newton reasoned that the strength of the gravitational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ot constan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in fact, the magnitude of the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ly proportional to the square of the distan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were many early attempts both to describe and explain the motions of stars and planets in the sk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were unsatisfactory, for one reason or ano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concluded that the gravitational force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mass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aw of 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symbols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ewton’s Law of Universal Gravit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"/>
              </a:rPr>
              <a:t>grav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ere G is a constant of proportionali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 = 6.67 x 10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N m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352680" y="3048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301920" y="3581280"/>
            <a:ext cx="8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 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3352680" y="358128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rse Square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Law of Universal Gravitation is often called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 square law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since the force is inversely proportional to the square of the distan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 Inverse-Square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Picture 9" descr="Fgrav_graph2"/>
          <p:cNvPicPr/>
          <p:nvPr/>
        </p:nvPicPr>
        <p:blipFill>
          <a:blip r:embed="rId1"/>
          <a:stretch/>
        </p:blipFill>
        <p:spPr>
          <a:xfrm>
            <a:off x="685800" y="1447920"/>
            <a:ext cx="8610480" cy="5410080"/>
          </a:xfrm>
          <a:prstGeom prst="rect">
            <a:avLst/>
          </a:prstGeom>
          <a:ln w="0">
            <a:noFill/>
          </a:ln>
        </p:spPr>
      </p:pic>
      <p:sp>
        <p:nvSpPr>
          <p:cNvPr id="230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perimental Evide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Law of Universal Gravitation allowe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extremely accurate prediction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orbi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avendis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easured gravitational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orces between human-scale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fore 1800.  His experiments were later simplified and improved by von Jol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ction at a Dista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Newton’s time, there was much discussion about HOW gravity worked - how does the Sun, for instance, reach across empty space, with no actual contact at all, to exert a force on the Eart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spooky notion was called “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ction at a distance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uring the 19th century, the notion of the “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 entered physics (via Michael Faraday)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jects with mass create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isible disturbance in the space around the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t is felt by other massive objects - this i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, since the Sun is very massive, it creates an intense gravitational field around it, and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arth responds to the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No more “action at a distance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measure the strength of the gravitational field at any point, measure the gravitational force, F,  exerted on any “test mass”, 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 Strength, g = F/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ar the surface of the Earth, g = F/m = 9.8 N/k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general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 = GM/r</a:t>
            </a:r>
            <a:r>
              <a:rPr b="1" i="1" lang="en-US" sz="3200" spc="-1" strike="noStrike" baseline="30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here M is the mass of the object creating the field, r is the distance from the object’s center, and G = 6.67 x1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m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arth-Centered Univer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e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Earth-centered) solar system is often credited to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Ptolem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n Alexandrian Greek, although the idea is very 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Picture 1028" descr="Heraclides_SS"/>
          <p:cNvPicPr/>
          <p:nvPr/>
        </p:nvPicPr>
        <p:blipFill>
          <a:blip r:embed="rId1"/>
          <a:stretch/>
        </p:blipFill>
        <p:spPr>
          <a:xfrm>
            <a:off x="3886200" y="3276720"/>
            <a:ext cx="4572000" cy="2890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29"/>
          <p:cNvSpPr/>
          <p:nvPr/>
        </p:nvSpPr>
        <p:spPr>
          <a:xfrm>
            <a:off x="3962520" y="632448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strength of the gravitational field at some point, then the gravitational force on an object of mass m at that point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</a:t>
            </a:r>
            <a:r>
              <a:rPr b="1" i="1" lang="en-US" sz="3200" spc="-1" strike="noStrike" baseline="-25000">
                <a:solidFill>
                  <a:srgbClr val="ccff33"/>
                </a:solidFill>
                <a:latin typeface="Arial"/>
              </a:rPr>
              <a:t>grav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= m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gravitational field strength at some point (in N/kg), then the free fall acceleration at that point is also g (in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are located a distance r from the center of a plan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pulls you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toward the center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of the plane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exerts </a:t>
            </a: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net gravitational for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you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blue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pulls you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toward point 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rey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oes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not pull you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a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5" descr="Untitled-2"/>
          <p:cNvPicPr/>
          <p:nvPr/>
        </p:nvPicPr>
        <p:blipFill>
          <a:blip r:embed="rId1"/>
          <a:stretch/>
        </p:blipFill>
        <p:spPr>
          <a:xfrm>
            <a:off x="5562720" y="1905120"/>
            <a:ext cx="3276360" cy="3276360"/>
          </a:xfrm>
          <a:prstGeom prst="rect">
            <a:avLst/>
          </a:prstGeom>
          <a:ln w="0">
            <a:noFill/>
          </a:ln>
        </p:spPr>
      </p:pic>
      <p:sp>
        <p:nvSpPr>
          <p:cNvPr id="25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alf way to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g ha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one-half of its surface valu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t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 = 0 N/k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Picture 6" descr="g_inside_earth"/>
          <p:cNvPicPr/>
          <p:nvPr/>
        </p:nvPicPr>
        <p:blipFill>
          <a:blip r:embed="rId1"/>
          <a:stretch/>
        </p:blipFill>
        <p:spPr>
          <a:xfrm>
            <a:off x="1905120" y="2859120"/>
            <a:ext cx="6311880" cy="3998880"/>
          </a:xfrm>
          <a:prstGeom prst="rect">
            <a:avLst/>
          </a:prstGeom>
          <a:ln w="0">
            <a:noFill/>
          </a:ln>
        </p:spPr>
      </p:pic>
      <p:sp>
        <p:nvSpPr>
          <p:cNvPr id="262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a very massive star gets old and runs out of fusionable material, gravitational forces may cause it to collapse to a mathematical point -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ingulari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All normal matter is crushed out of existence.  This is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black hol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Picture 4" descr="blackhole_gravity"/>
          <p:cNvPicPr/>
          <p:nvPr/>
        </p:nvPicPr>
        <p:blipFill>
          <a:blip r:embed="rId1"/>
          <a:stretch/>
        </p:blipFill>
        <p:spPr>
          <a:xfrm>
            <a:off x="1066680" y="1371600"/>
            <a:ext cx="8077320" cy="5110200"/>
          </a:xfrm>
          <a:prstGeom prst="rect">
            <a:avLst/>
          </a:prstGeom>
          <a:ln w="0">
            <a:noFill/>
          </a:ln>
        </p:spPr>
      </p:pic>
      <p:sp>
        <p:nvSpPr>
          <p:cNvPr id="269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ame as the original star’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distances greater than the star’s original radi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lack hole’s </a:t>
            </a: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don’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agically “suck things in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intense because you can get really, really close to i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th’s Tid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are 2 high tides and 2 low tides per d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tides follow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4" descr="tide_diagram"/>
          <p:cNvPicPr/>
          <p:nvPr/>
        </p:nvPicPr>
        <p:blipFill>
          <a:blip r:embed="rId1"/>
          <a:stretch/>
        </p:blipFill>
        <p:spPr>
          <a:xfrm>
            <a:off x="2438280" y="3657600"/>
            <a:ext cx="5410440" cy="2625840"/>
          </a:xfrm>
          <a:prstGeom prst="rect">
            <a:avLst/>
          </a:prstGeom>
          <a:ln w="0">
            <a:noFill/>
          </a:ln>
        </p:spPr>
      </p:pic>
      <p:sp>
        <p:nvSpPr>
          <p:cNvPr id="276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ides are caused by th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stretch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a plane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retching is caused by a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difference in forc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the two sides of an objec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ravitational force depends on 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there is more gravitational force on the side of Earth closest to the Moon and less gravitational force on the side of Earth farther from the Mo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member th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2" name="Picture 4" descr="tideforce"/>
          <p:cNvPicPr/>
          <p:nvPr/>
        </p:nvPicPr>
        <p:blipFill>
          <a:blip r:embed="rId1"/>
          <a:stretch/>
        </p:blipFill>
        <p:spPr>
          <a:xfrm>
            <a:off x="2133720" y="3405240"/>
            <a:ext cx="4854600" cy="1982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fgrav_eqn"/>
          <p:cNvPicPr/>
          <p:nvPr/>
        </p:nvPicPr>
        <p:blipFill>
          <a:blip r:embed="rId2"/>
          <a:stretch/>
        </p:blipFill>
        <p:spPr>
          <a:xfrm>
            <a:off x="4572000" y="1828800"/>
            <a:ext cx="2882880" cy="1135080"/>
          </a:xfrm>
          <a:prstGeom prst="rect">
            <a:avLst/>
          </a:prstGeom>
          <a:ln w="0">
            <a:noFill/>
          </a:ln>
        </p:spPr>
      </p:pic>
      <p:sp>
        <p:nvSpPr>
          <p:cNvPr id="28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tolemy’s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tolemy’s solar system could be made to fit the observational data pretty well, but only by becoming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omplicat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4" descr="epicycle_deferent"/>
          <p:cNvPicPr/>
          <p:nvPr/>
        </p:nvPicPr>
        <p:blipFill>
          <a:blip r:embed="rId1"/>
          <a:stretch/>
        </p:blipFill>
        <p:spPr>
          <a:xfrm>
            <a:off x="2209680" y="3276720"/>
            <a:ext cx="4496040" cy="293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886200" y="6324480"/>
            <a:ext cx="525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un’s gravitational pull on Earth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larg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the Moon’s gravitational pull on Earth.  So why do the tides follow the Moon and not the Su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nce the Sun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Earth than the Moon, the difference in distance across Earth is much less significant for the Sun than the Moon, therefore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ifference in gravitational force on the two sides of Earth is less for the 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for the Moon (even though the Sun’s force on Earth is more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oes have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mall effec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Earth’s tides, but the major effect is due to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429000" y="23194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pernicus’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Polish cleric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opernicu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roposed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eli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Sun centered) solar system in the 15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Picture 1028" descr="Aristarchus_SS"/>
          <p:cNvPicPr/>
          <p:nvPr/>
        </p:nvPicPr>
        <p:blipFill>
          <a:blip r:embed="rId1"/>
          <a:stretch/>
        </p:blipFill>
        <p:spPr>
          <a:xfrm>
            <a:off x="2819520" y="3352680"/>
            <a:ext cx="4647960" cy="3086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29"/>
          <p:cNvSpPr/>
          <p:nvPr/>
        </p:nvSpPr>
        <p:spPr>
          <a:xfrm>
            <a:off x="3832200" y="6553080"/>
            <a:ext cx="531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ons to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could Earth be moving at enormous speeds when we don’t feel i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Copernicus didn’t know about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y can’t we detect Earth’s motion against the background stars (stellar parallax)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pernicus’ model did </a:t>
            </a:r>
            <a:r>
              <a:rPr b="0" lang="en-US" sz="54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it the observational data very we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alileo &amp;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alileo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came convinced that Copernicus was correct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by observatio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the Sun, Venus, and the moons of Jupiter using the newly-invented telescop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haps Galileo was motivated to understand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y his desire to understand and defend Copernicus’ ide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the late 1500’s, a Danish nobleman named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Tycho Brah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et out to make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most accurate measuremen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motions to date, in order to validate his own ideas of planetary mo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ycho’s data was successfully interpreted by the German mathematician and scientis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Johannes 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 the early 16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09:59:40Z</dcterms:created>
  <dc:creator>Media Center</dc:creator>
  <dc:description/>
  <dc:language>en-US</dc:language>
  <cp:lastModifiedBy>Asus</cp:lastModifiedBy>
  <cp:lastPrinted>2002-01-31T07:45:58Z</cp:lastPrinted>
  <dcterms:modified xsi:type="dcterms:W3CDTF">2018-03-09T16:14:35Z</dcterms:modified>
  <cp:revision>71</cp:revision>
  <dc:subject/>
  <dc:title>PowerPoint Presentation  -</dc:title>
</cp:coreProperties>
</file>