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7288-1AE8-4626-9313-E04D3B0FD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44D9-DB64-4745-A9E9-214FFF3ED1E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CF80-58B1-44F8-9C11-163FF0707A9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A83B-85C8-44AB-9A47-0E072C9E0CF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A3EE-AB8D-4DF9-A225-89D4E3DECD3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6A48-5771-406F-9461-009F8789F4B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0343-CC7C-4348-971F-E526591AE01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D8AD-0C29-4344-BAE5-333AAFCB23E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77F8-CF5F-4B62-BE76-752A0FEBC8F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A936-364E-4F93-A6C2-A8362AC89BB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5D8B-3EB0-4E95-8082-59FC232A058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36C4-F905-4FA7-8534-F95413C243D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7000-4704-40F4-B9E6-73E4374F053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1625-5C87-46AE-B77A-2E09FEA37C8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280D-CFFE-4EC3-A056-1BAA32FBCC1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4FDE-6224-4508-8364-4EFDAB2B997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87A6-FAFC-4F1C-8045-1D13B1F383E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E0A6-4B0D-48F8-B96F-119DD019647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0B45-7332-44F8-8551-E94E08DAD33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CD3C-8039-4BFF-801E-FCD4E6B8485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F600-7821-41E0-87BD-70A89606562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98E8-5024-47C5-ABD3-2B83CC5ABA5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16B6-8E2F-4FAF-804D-AEA286B5FF9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A770-20A2-446F-888F-E68F77C4D3A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1356-9020-4D9B-93E0-F2BD65157E5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92D5-5056-439C-B961-10681199928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309D-EABB-41C3-9F79-B0F69AA4F23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3731-D9C3-4657-83CC-958C8BCCE8F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0A28-79CF-481D-99FD-FB9422662DD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DEA2-F41D-4D94-9361-763FC962CCE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09A0-EF80-496C-A25F-692BAFF8164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2067-CBB5-4CAD-BC35-827B8A871F6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0315-7852-449F-B244-A0D6FAB77C5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A110-7C33-456F-ACB6-B093A9CE39F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F94F-6F42-49D7-897C-695968EC382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9E43-6BD2-458F-B0E5-5EBD09F996D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15AD-968D-4C89-92B7-0703A07A4A1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F33F-F785-4C50-BCBE-83123900D89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8BF1-DAAC-4018-AA80-2857BA0F691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7D66-9B93-45EB-97C7-6574EB1AA0A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C0E2-0E82-4390-922F-0E6FE16E0B7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B855-80AA-4F97-864B-ED5A2FA927D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E1E3-7131-4BE5-B87D-86F0044F4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3F40-1937-49E2-9782-6BD5F81B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9044-60C2-41E2-8972-E6C5D7258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FE9D-5AC9-49D1-9213-1B6EB228B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5CA0-BD70-4777-8A10-55C0B28D2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5BBB-9B78-43C9-AAA6-2FF6DB2C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D5E1-6173-4EF5-881F-41899C3B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ECF9E-7448-4164-BAA6-FE957247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3A5F-183B-4631-9F9A-F08CC1A9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B2C3-736A-42BC-9F53-9A70AE98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12EF-9C54-45A3-832B-3AF581D7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1238-9582-483C-ACF2-0A4C3B75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0648-A882-4A34-98FC-4951BDA3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5BD2-D0EC-4F1A-8E4F-BC9427EF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3792-E852-49E3-9D70-521ABC8E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127E-2C97-468E-A6CB-501B196F7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B34F-0028-49F9-8F09-5CC0B4617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FDC0-CF55-48E8-8909-66630420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7DE1-DBC9-415C-9A35-31FE3D02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2D40-0870-417F-84F1-95A9933D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9908-AF8C-42A7-95DA-3AA7616B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C4CA-4AE3-47BE-B1C4-A3CAD3D4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4AF1-3D48-47F9-A51F-42C136CC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3192-FB7E-405C-9646-81A9A646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Picture 10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BDA2-209D-4D75-B4FC-33E5D5AB750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>
              <a:gd name="textAreaLeft" fmla="*/ 0 w 1722600"/>
              <a:gd name="textAreaRight" fmla="*/ 1722960 w 17226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Picture 11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C2D8-5A47-43FC-BEF9-31F619AEF34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arly Astronom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 far as we know, humans have always been interested in the motions of objects in the sk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t only did early humans navigate by means of the sky, but the motions of objects in the sky predicted the changing of the seasons, etc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epler’s Law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Kepl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determined that the orbits of the planets were not perfect circles, but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ellipse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with the Sun at one focu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43" name="Group 7"/>
          <p:cNvGrpSpPr/>
          <p:nvPr/>
        </p:nvGrpSpPr>
        <p:grpSpPr>
          <a:xfrm>
            <a:off x="2789280" y="3581280"/>
            <a:ext cx="3778560" cy="2438280"/>
            <a:chOff x="2789280" y="3581280"/>
            <a:chExt cx="3778560" cy="2438280"/>
          </a:xfrm>
        </p:grpSpPr>
        <p:sp>
          <p:nvSpPr>
            <p:cNvPr id="144" name="Oval 8"/>
            <p:cNvSpPr/>
            <p:nvPr/>
          </p:nvSpPr>
          <p:spPr>
            <a:xfrm>
              <a:off x="2789280" y="3809880"/>
              <a:ext cx="3580920" cy="2209680"/>
            </a:xfrm>
            <a:prstGeom prst="ellips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" name="Oval 9"/>
            <p:cNvSpPr/>
            <p:nvPr/>
          </p:nvSpPr>
          <p:spPr>
            <a:xfrm>
              <a:off x="3474720" y="4724280"/>
              <a:ext cx="304560" cy="304560"/>
            </a:xfrm>
            <a:prstGeom prst="ellipse">
              <a:avLst/>
            </a:pr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5684400" y="3962160"/>
              <a:ext cx="228240" cy="228600"/>
            </a:xfrm>
            <a:prstGeom prst="ellipse">
              <a:avLst/>
            </a:prstGeom>
            <a:solidFill>
              <a:srgbClr val="b97c01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Text Box 11"/>
            <p:cNvSpPr/>
            <p:nvPr/>
          </p:nvSpPr>
          <p:spPr>
            <a:xfrm>
              <a:off x="3287160" y="43430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Sun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Text Box 12"/>
            <p:cNvSpPr/>
            <p:nvPr/>
          </p:nvSpPr>
          <p:spPr>
            <a:xfrm>
              <a:off x="5289840" y="3581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Planet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9" name="Нижний колонтитул 1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epler’s Second La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Kepl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determined that a planet moves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faster when nea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e Sun, and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lower when fa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rom the Su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52" name="Group 1028"/>
          <p:cNvGrpSpPr/>
          <p:nvPr/>
        </p:nvGrpSpPr>
        <p:grpSpPr>
          <a:xfrm>
            <a:off x="2789280" y="3581280"/>
            <a:ext cx="3778560" cy="2438280"/>
            <a:chOff x="2789280" y="3581280"/>
            <a:chExt cx="3778560" cy="2438280"/>
          </a:xfrm>
        </p:grpSpPr>
        <p:sp>
          <p:nvSpPr>
            <p:cNvPr id="153" name="Oval 1029"/>
            <p:cNvSpPr/>
            <p:nvPr/>
          </p:nvSpPr>
          <p:spPr>
            <a:xfrm>
              <a:off x="2789280" y="3809880"/>
              <a:ext cx="3580920" cy="2209680"/>
            </a:xfrm>
            <a:prstGeom prst="ellips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" name="Oval 1030"/>
            <p:cNvSpPr/>
            <p:nvPr/>
          </p:nvSpPr>
          <p:spPr>
            <a:xfrm>
              <a:off x="3474720" y="4724280"/>
              <a:ext cx="304560" cy="304560"/>
            </a:xfrm>
            <a:prstGeom prst="ellipse">
              <a:avLst/>
            </a:pr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Oval 1031"/>
            <p:cNvSpPr/>
            <p:nvPr/>
          </p:nvSpPr>
          <p:spPr>
            <a:xfrm>
              <a:off x="5684400" y="3962160"/>
              <a:ext cx="228240" cy="228600"/>
            </a:xfrm>
            <a:prstGeom prst="ellipse">
              <a:avLst/>
            </a:prstGeom>
            <a:solidFill>
              <a:srgbClr val="b97c01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Text Box 1032"/>
            <p:cNvSpPr/>
            <p:nvPr/>
          </p:nvSpPr>
          <p:spPr>
            <a:xfrm>
              <a:off x="3287160" y="43430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Sun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Text Box 1033"/>
            <p:cNvSpPr/>
            <p:nvPr/>
          </p:nvSpPr>
          <p:spPr>
            <a:xfrm>
              <a:off x="5289840" y="3581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Planet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58" name="Text Box 1034"/>
          <p:cNvSpPr/>
          <p:nvPr/>
        </p:nvSpPr>
        <p:spPr>
          <a:xfrm>
            <a:off x="1257480" y="4479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as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Line 1035"/>
          <p:cNvSpPr/>
          <p:nvPr/>
        </p:nvSpPr>
        <p:spPr>
          <a:xfrm>
            <a:off x="2362320" y="4724280"/>
            <a:ext cx="38088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Line 1036"/>
          <p:cNvSpPr/>
          <p:nvPr/>
        </p:nvSpPr>
        <p:spPr>
          <a:xfrm flipH="1" flipV="1">
            <a:off x="2666880" y="4724280"/>
            <a:ext cx="7632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Line 1037"/>
          <p:cNvSpPr/>
          <p:nvPr/>
        </p:nvSpPr>
        <p:spPr>
          <a:xfrm flipH="1">
            <a:off x="2666880" y="4800600"/>
            <a:ext cx="7632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Text Box 1038"/>
          <p:cNvSpPr/>
          <p:nvPr/>
        </p:nvSpPr>
        <p:spPr>
          <a:xfrm>
            <a:off x="6498360" y="43275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low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Line 1039"/>
          <p:cNvSpPr/>
          <p:nvPr/>
        </p:nvSpPr>
        <p:spPr>
          <a:xfrm flipH="1">
            <a:off x="6400440" y="4572000"/>
            <a:ext cx="22860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Line 1040"/>
          <p:cNvSpPr/>
          <p:nvPr/>
        </p:nvSpPr>
        <p:spPr>
          <a:xfrm>
            <a:off x="6400800" y="4800600"/>
            <a:ext cx="763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Line 1041"/>
          <p:cNvSpPr/>
          <p:nvPr/>
        </p:nvSpPr>
        <p:spPr>
          <a:xfrm flipV="1">
            <a:off x="6400800" y="4724280"/>
            <a:ext cx="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Нижний колонтитул 19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epler’s Laws provided a complet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kinematical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cription of planetary motion (including the motion of planetary satellites, like the Moon) - but </a:t>
            </a:r>
            <a:r>
              <a:rPr b="1" i="1" lang="en-US" sz="4800" spc="-1" strike="noStrike">
                <a:solidFill>
                  <a:srgbClr val="fcab40"/>
                </a:solidFill>
                <a:latin typeface="Arial"/>
              </a:rPr>
              <a:t>wh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did the planets move like that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Apple &amp; the Mo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saac Newton realized that the motion of a falling apple and the motion of the Moon were both actually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same mo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caused by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same forc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-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ravitational forc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2438280" y="4287960"/>
            <a:ext cx="1906560" cy="2036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2"/>
          <a:stretch/>
        </p:blipFill>
        <p:spPr>
          <a:xfrm>
            <a:off x="5562720" y="4254480"/>
            <a:ext cx="1371600" cy="2070000"/>
          </a:xfrm>
          <a:prstGeom prst="rect">
            <a:avLst/>
          </a:prstGeom>
          <a:ln w="0">
            <a:noFill/>
          </a:ln>
        </p:spPr>
      </p:pic>
      <p:sp>
        <p:nvSpPr>
          <p:cNvPr id="174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Universal Gravi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’s idea was that gravity was a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universal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orce acting between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any two object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2133720" y="4267080"/>
            <a:ext cx="725400" cy="6858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2"/>
          <a:stretch/>
        </p:blipFill>
        <p:spPr>
          <a:xfrm>
            <a:off x="4191120" y="2782800"/>
            <a:ext cx="1244520" cy="1290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6553080" y="4495680"/>
            <a:ext cx="855720" cy="914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4038480" y="5375160"/>
            <a:ext cx="1371600" cy="1150920"/>
          </a:xfrm>
          <a:prstGeom prst="rect">
            <a:avLst/>
          </a:prstGeom>
          <a:ln w="0">
            <a:noFill/>
          </a:ln>
        </p:spPr>
      </p:pic>
      <p:cxnSp>
        <p:nvCxnSpPr>
          <p:cNvPr id="181" name="AutoShape 8"/>
          <p:cNvCxnSpPr/>
          <p:nvPr/>
        </p:nvCxnSpPr>
        <p:spPr>
          <a:xfrm>
            <a:off x="5334120" y="3809520"/>
            <a:ext cx="1219680" cy="114372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2" name="AutoShape 9"/>
          <p:cNvCxnSpPr/>
          <p:nvPr/>
        </p:nvCxnSpPr>
        <p:spPr>
          <a:xfrm flipH="1">
            <a:off x="2801160" y="3428640"/>
            <a:ext cx="1389960" cy="122004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3" name="AutoShape 10"/>
          <p:cNvCxnSpPr/>
          <p:nvPr/>
        </p:nvCxnSpPr>
        <p:spPr>
          <a:xfrm>
            <a:off x="4876560" y="4038120"/>
            <a:ext cx="1080" cy="133740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4" name="AutoShape 11"/>
          <p:cNvCxnSpPr/>
          <p:nvPr/>
        </p:nvCxnSpPr>
        <p:spPr>
          <a:xfrm>
            <a:off x="2858760" y="4610160"/>
            <a:ext cx="1027800" cy="125784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5" name="AutoShape 12"/>
          <p:cNvCxnSpPr/>
          <p:nvPr/>
        </p:nvCxnSpPr>
        <p:spPr>
          <a:xfrm flipH="1">
            <a:off x="5409360" y="4952880"/>
            <a:ext cx="1143720" cy="99900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6" name="AutoShape 14"/>
          <p:cNvCxnSpPr/>
          <p:nvPr/>
        </p:nvCxnSpPr>
        <p:spPr>
          <a:xfrm>
            <a:off x="2858760" y="4610160"/>
            <a:ext cx="3694680" cy="34344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7" name="Нижний колонтитул 1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t the Earth’s Surfa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 knew that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ravitational forc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n the apple equals the apple’s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weight, mg,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ere g = 9.8 m/s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1854360" cy="1981080"/>
          </a:xfrm>
          <a:prstGeom prst="rect">
            <a:avLst/>
          </a:prstGeom>
          <a:ln w="0">
            <a:noFill/>
          </a:ln>
        </p:spPr>
      </p:pic>
      <p:sp>
        <p:nvSpPr>
          <p:cNvPr id="191" name="Line 5"/>
          <p:cNvSpPr/>
          <p:nvPr/>
        </p:nvSpPr>
        <p:spPr>
          <a:xfrm>
            <a:off x="5486400" y="4800600"/>
            <a:ext cx="0" cy="160020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5477040" y="525780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W = mg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Нижний колонтитул 8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eight of the Mo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 reasoned that the centripetal force on the moon was also supplied by the Earth’s gravitational forc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2819520" y="3733920"/>
            <a:ext cx="2209680" cy="213336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Oval 5"/>
          <p:cNvSpPr/>
          <p:nvPr/>
        </p:nvSpPr>
        <p:spPr>
          <a:xfrm>
            <a:off x="4952880" y="4724280"/>
            <a:ext cx="228600" cy="2286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Oval 6"/>
          <p:cNvSpPr/>
          <p:nvPr/>
        </p:nvSpPr>
        <p:spPr>
          <a:xfrm>
            <a:off x="3809880" y="4724280"/>
            <a:ext cx="304920" cy="304920"/>
          </a:xfrm>
          <a:prstGeom prst="ellipse">
            <a:avLst/>
          </a:prstGeom>
          <a:solidFill>
            <a:srgbClr val="8fb8f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Line 7"/>
          <p:cNvSpPr/>
          <p:nvPr/>
        </p:nvSpPr>
        <p:spPr>
          <a:xfrm flipH="1">
            <a:off x="4266720" y="4876920"/>
            <a:ext cx="76212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5148000" y="4189320"/>
            <a:ext cx="1985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F</a:t>
            </a:r>
            <a:r>
              <a:rPr b="0" lang="en-US" sz="3600" spc="-1" strike="noStrike" baseline="-25000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 = mg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5827320" y="3930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2" name="Picture 11" descr=""/>
          <p:cNvPicPr/>
          <p:nvPr/>
        </p:nvPicPr>
        <p:blipFill>
          <a:blip r:embed="rId1"/>
          <a:stretch/>
        </p:blipFill>
        <p:spPr>
          <a:xfrm>
            <a:off x="4876920" y="4648320"/>
            <a:ext cx="363240" cy="380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3" descr=""/>
          <p:cNvPicPr/>
          <p:nvPr/>
        </p:nvPicPr>
        <p:blipFill>
          <a:blip r:embed="rId2"/>
          <a:stretch/>
        </p:blipFill>
        <p:spPr>
          <a:xfrm>
            <a:off x="3657600" y="4572000"/>
            <a:ext cx="514440" cy="533520"/>
          </a:xfrm>
          <a:prstGeom prst="rect">
            <a:avLst/>
          </a:prstGeom>
          <a:ln w="0">
            <a:noFill/>
          </a:ln>
        </p:spPr>
      </p:pic>
      <p:sp>
        <p:nvSpPr>
          <p:cNvPr id="204" name="Нижний колонтитул 13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eight of the Mo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’s calculations showed that the centripetal force needed for the Moon’s motion was about 1/3600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Mg, however, where M is the mass of the Mo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4191120"/>
            <a:ext cx="1959120" cy="2057400"/>
          </a:xfrm>
          <a:prstGeom prst="rect">
            <a:avLst/>
          </a:prstGeom>
          <a:ln w="0">
            <a:noFill/>
          </a:ln>
        </p:spPr>
      </p:pic>
      <p:sp>
        <p:nvSpPr>
          <p:cNvPr id="208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eight of the Mo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 knew, though, that the Moon was about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60 times farth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rom the center of the Earth than the appl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d 60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= 360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Universal Gravi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rom this, Newton reasoned that the strength of the gravitational force is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not constan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in fact, the magnitude of the force is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inversely proportional to the square of the distanc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between the objec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arly Astronom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re were many early attempts both to describe and explain the motions of stars and planets in the sky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were unsatisfactory, for one reason or anoth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Universal Gravi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 concluded that the gravitational force i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Directly proportional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to the </a:t>
            </a: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masse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f </a:t>
            </a: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both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bjec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Inversely proportional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to the </a:t>
            </a: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distanc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between the objec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aw of Universal Gravi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symbols,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Newton’s Law of Universal Gravita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Arial"/>
              </a:rPr>
              <a:t>grav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= 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ere G is a constant of proportionalit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 = 6.67 x 10</a:t>
            </a:r>
            <a:r>
              <a:rPr b="0" lang="en-US" sz="2800" spc="-1" strike="noStrike" baseline="30000">
                <a:solidFill>
                  <a:srgbClr val="eaeaea"/>
                </a:solidFill>
                <a:latin typeface="Arial"/>
              </a:rPr>
              <a:t>-1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N m</a:t>
            </a:r>
            <a:r>
              <a:rPr b="0" lang="en-US" sz="28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/kg</a:t>
            </a:r>
            <a:r>
              <a:rPr b="0" lang="en-US" sz="28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3352680" y="30481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3301920" y="3581280"/>
            <a:ext cx="80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 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Line 6"/>
          <p:cNvSpPr/>
          <p:nvPr/>
        </p:nvSpPr>
        <p:spPr>
          <a:xfrm>
            <a:off x="3352680" y="3581280"/>
            <a:ext cx="9144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Нижний колонтитул 8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verse Square La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’s Law of Universal Gravitation is often called an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inverse square law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since the force is inversely proportional to the square of the distanc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n Inverse-Square For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9" name="Picture 9" descr="Fgrav_graph2"/>
          <p:cNvPicPr/>
          <p:nvPr/>
        </p:nvPicPr>
        <p:blipFill>
          <a:blip r:embed="rId1"/>
          <a:stretch/>
        </p:blipFill>
        <p:spPr>
          <a:xfrm>
            <a:off x="685800" y="1447920"/>
            <a:ext cx="8610480" cy="5410080"/>
          </a:xfrm>
          <a:prstGeom prst="rect">
            <a:avLst/>
          </a:prstGeom>
          <a:ln w="0">
            <a:noFill/>
          </a:ln>
        </p:spPr>
      </p:pic>
      <p:sp>
        <p:nvSpPr>
          <p:cNvPr id="230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perimental Eviden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Law of Universal Gravitation allowed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extremely accurate prediction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planetary orbi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Cavendish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measured gravitational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forces between human-scale object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before 1800.  His experiments were later simplified and improved by von Joll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ction at a Distan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Newton’s time, there was much discussion about HOW gravity worked - how does the Sun, for instance, reach across empty space, with no actual contact at all, to exert a force on the Earth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spooky notion was called “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action at a distance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Gravitational Fiel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uring the 19th century, the notion of the “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fiel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” entered physics (via Michael Faraday)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bjects with mass create an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invisible disturbance in the space around them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at is felt by other massive objects - this is a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ravitational fiel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Gravitational Fiel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, since the Sun is very massive, it creates an intense gravitational field around it, and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Earth responds to the fiel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No more “action at a distance.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Strengt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measure the strength of the gravitational field at any point, measure the gravitational force, F,  exerted on any “test mass”, m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ravitational Field Strength, g = F/m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Strengt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ar the surface of the Earth, g = F/m = 9.8 N/kg = 9.8 m/s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general,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 = GM/r</a:t>
            </a:r>
            <a:r>
              <a:rPr b="1" i="1" lang="en-US" sz="3200" spc="-1" strike="noStrike" baseline="30000">
                <a:solidFill>
                  <a:srgbClr val="ccff33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where M is the mass of the object creating the field, r is the distance from the object’s center, and G = 6.67 x10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-1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m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/kg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arth-Centered Univer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geocentric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(Earth-centered) solar system is often credited to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Ptolem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an Alexandrian Greek, although the idea is very ol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6" name="Picture 1028" descr="Heraclides_SS"/>
          <p:cNvPicPr/>
          <p:nvPr/>
        </p:nvPicPr>
        <p:blipFill>
          <a:blip r:embed="rId1"/>
          <a:stretch/>
        </p:blipFill>
        <p:spPr>
          <a:xfrm>
            <a:off x="3886200" y="3276720"/>
            <a:ext cx="4572000" cy="28908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29"/>
          <p:cNvSpPr/>
          <p:nvPr/>
        </p:nvSpPr>
        <p:spPr>
          <a:xfrm>
            <a:off x="3962520" y="6324480"/>
            <a:ext cx="5181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Image from: http://abyss.uoregon.edu/~js/ast123/lectures/lec02.htm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or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g is the strength of the gravitational field at some point, then the gravitational force on an object of mass m at that point is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F</a:t>
            </a:r>
            <a:r>
              <a:rPr b="1" i="1" lang="en-US" sz="3200" spc="-1" strike="noStrike" baseline="-25000">
                <a:solidFill>
                  <a:srgbClr val="ccff33"/>
                </a:solidFill>
                <a:latin typeface="Arial"/>
              </a:rPr>
              <a:t>grav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= mg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g is the gravitational field strength at some point (in N/kg), then the free fall acceleration at that point is also g (in m/s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Inside a Plane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you are located a distance r from the center of a plane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l of the planet’s mass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insid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a sphere of radius r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pulls you </a:t>
            </a:r>
            <a:r>
              <a:rPr b="0" i="1" lang="en-US" sz="2800" spc="-1" strike="noStrike">
                <a:solidFill>
                  <a:srgbClr val="ccff33"/>
                </a:solidFill>
                <a:latin typeface="Arial"/>
              </a:rPr>
              <a:t>toward the center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 of the planet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l of the planet’s mass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outsid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a sphere of radius r exerts </a:t>
            </a:r>
            <a:r>
              <a:rPr b="1" i="1" lang="en-US" sz="2800" spc="-1" strike="noStrike" u="sng">
                <a:solidFill>
                  <a:srgbClr val="ccff33"/>
                </a:solidFill>
                <a:uFillTx/>
                <a:latin typeface="Arial"/>
              </a:rPr>
              <a:t>no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 net gravitational forc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n you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Inside a Plane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 blue-shade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part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 the planet pulls you</a:t>
            </a:r>
            <a:br>
              <a:rPr sz="3200"/>
            </a:b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toward point C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grey-shade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part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 the planet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does </a:t>
            </a:r>
            <a:br>
              <a:rPr sz="3200"/>
            </a:b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not pull you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t a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7" name="Picture 5" descr="Untitled-2"/>
          <p:cNvPicPr/>
          <p:nvPr/>
        </p:nvPicPr>
        <p:blipFill>
          <a:blip r:embed="rId1"/>
          <a:stretch/>
        </p:blipFill>
        <p:spPr>
          <a:xfrm>
            <a:off x="5562720" y="1905120"/>
            <a:ext cx="3276360" cy="3276360"/>
          </a:xfrm>
          <a:prstGeom prst="rect">
            <a:avLst/>
          </a:prstGeom>
          <a:ln w="0">
            <a:noFill/>
          </a:ln>
        </p:spPr>
      </p:pic>
      <p:sp>
        <p:nvSpPr>
          <p:cNvPr id="258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Inside a Plane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Half way to the cent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the planet, g has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one-half of its surface valu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At the cent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the planet,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g = 0 N/kg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1" name="Picture 6" descr="g_inside_earth"/>
          <p:cNvPicPr/>
          <p:nvPr/>
        </p:nvPicPr>
        <p:blipFill>
          <a:blip r:embed="rId1"/>
          <a:stretch/>
        </p:blipFill>
        <p:spPr>
          <a:xfrm>
            <a:off x="1905120" y="2859120"/>
            <a:ext cx="6311880" cy="3998880"/>
          </a:xfrm>
          <a:prstGeom prst="rect">
            <a:avLst/>
          </a:prstGeom>
          <a:ln w="0">
            <a:noFill/>
          </a:ln>
        </p:spPr>
      </p:pic>
      <p:sp>
        <p:nvSpPr>
          <p:cNvPr id="262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lack Hol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en a very massive star gets old and runs out of fusionable material, gravitational forces may cause it to collapse to a mathematical point - 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ingularit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 All normal matter is crushed out of existence.  This is 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black hol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lack Hole Gravitational For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8" name="Picture 4" descr="blackhole_gravity"/>
          <p:cNvPicPr/>
          <p:nvPr/>
        </p:nvPicPr>
        <p:blipFill>
          <a:blip r:embed="rId1"/>
          <a:stretch/>
        </p:blipFill>
        <p:spPr>
          <a:xfrm>
            <a:off x="1066680" y="1371600"/>
            <a:ext cx="8077320" cy="5110200"/>
          </a:xfrm>
          <a:prstGeom prst="rect">
            <a:avLst/>
          </a:prstGeom>
          <a:ln w="0">
            <a:noFill/>
          </a:ln>
        </p:spPr>
      </p:pic>
      <p:sp>
        <p:nvSpPr>
          <p:cNvPr id="269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lack Hole Gravitational For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black hole’s gravity is the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ame as the original star’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t distances greater than the star’s original radiu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lack hole’s </a:t>
            </a:r>
            <a:r>
              <a:rPr b="0" lang="en-US" sz="4000" spc="-1" strike="noStrike">
                <a:solidFill>
                  <a:srgbClr val="ccff33"/>
                </a:solidFill>
                <a:latin typeface="Arial"/>
              </a:rPr>
              <a:t>don’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magically “suck things in.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black hole’s gravity is intense because you can get really, really close to it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arth’s Tid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re are 2 high tides and 2 low tides per da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tides follow the Mo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5" name="Picture 4" descr="tide_diagram"/>
          <p:cNvPicPr/>
          <p:nvPr/>
        </p:nvPicPr>
        <p:blipFill>
          <a:blip r:embed="rId1"/>
          <a:stretch/>
        </p:blipFill>
        <p:spPr>
          <a:xfrm>
            <a:off x="2438280" y="3657600"/>
            <a:ext cx="5410440" cy="2625840"/>
          </a:xfrm>
          <a:prstGeom prst="rect">
            <a:avLst/>
          </a:prstGeom>
          <a:ln w="0">
            <a:noFill/>
          </a:ln>
        </p:spPr>
      </p:pic>
      <p:sp>
        <p:nvSpPr>
          <p:cNvPr id="276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wo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Tides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ides are caused by the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stretching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f a plane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retching is caused by a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difference in force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n the two sides of an objec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nce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gravitational force depends on distanc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, there is more gravitational force on the side of Earth closest to the Moon and less gravitational force on the side of Earth farther from the Mo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wo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Tides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member that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2" name="Picture 4" descr="tideforce"/>
          <p:cNvPicPr/>
          <p:nvPr/>
        </p:nvPicPr>
        <p:blipFill>
          <a:blip r:embed="rId1"/>
          <a:stretch/>
        </p:blipFill>
        <p:spPr>
          <a:xfrm>
            <a:off x="2133720" y="3405240"/>
            <a:ext cx="4854600" cy="19828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fgrav_eqn"/>
          <p:cNvPicPr/>
          <p:nvPr/>
        </p:nvPicPr>
        <p:blipFill>
          <a:blip r:embed="rId2"/>
          <a:stretch/>
        </p:blipFill>
        <p:spPr>
          <a:xfrm>
            <a:off x="4572000" y="1828800"/>
            <a:ext cx="2882880" cy="1135080"/>
          </a:xfrm>
          <a:prstGeom prst="rect">
            <a:avLst/>
          </a:prstGeom>
          <a:ln w="0">
            <a:noFill/>
          </a:ln>
        </p:spPr>
      </p:pic>
      <p:sp>
        <p:nvSpPr>
          <p:cNvPr id="284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tolemy’s Solar Syste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tolemy’s solar system could be made to fit the observational data pretty well, but only by becoming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ver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omplicat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1" name="Picture 4" descr="epicycle_deferent"/>
          <p:cNvPicPr/>
          <p:nvPr/>
        </p:nvPicPr>
        <p:blipFill>
          <a:blip r:embed="rId1"/>
          <a:stretch/>
        </p:blipFill>
        <p:spPr>
          <a:xfrm>
            <a:off x="2209680" y="3276720"/>
            <a:ext cx="4496040" cy="29368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3886200" y="6324480"/>
            <a:ext cx="5257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Image from: http://abyss.uoregon.edu/~js/ast123/lectures/lec02.htm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the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Mo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Sun’s gravitational pull on Earth is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much larg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an the Moon’s gravitational pull on Earth.  So why do the tides follow the Moon and not the Sun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the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Mo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nce the Sun is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much farth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rom Earth than the Moon, the difference in distance across Earth is much less significant for the Sun than the Moon, therefore the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difference in gravitational force on the two sides of Earth is less for the Su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an for the Moon (even though the Sun’s force on Earth is more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the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Mo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u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does have 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mall effec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n Earth’s tides, but the major effect is due to the Mo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3429000" y="231948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pernicus’ Solar Syste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Polish cleric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Copernicu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proposed 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heliocentric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(Sun centered) solar system in the 1500’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6" name="Picture 1028" descr="Aristarchus_SS"/>
          <p:cNvPicPr/>
          <p:nvPr/>
        </p:nvPicPr>
        <p:blipFill>
          <a:blip r:embed="rId1"/>
          <a:stretch/>
        </p:blipFill>
        <p:spPr>
          <a:xfrm>
            <a:off x="2819520" y="3352680"/>
            <a:ext cx="4647960" cy="30862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029"/>
          <p:cNvSpPr/>
          <p:nvPr/>
        </p:nvSpPr>
        <p:spPr>
          <a:xfrm>
            <a:off x="3832200" y="6553080"/>
            <a:ext cx="5311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Image from: http://abyss.uoregon.edu/~js/ast123/lectures/lec02.htm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bjections to Copernicu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w could Earth be moving at enormous speeds when we don’t feel it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Copernicus didn’t know about </a:t>
            </a:r>
            <a:r>
              <a:rPr b="0" i="1" lang="en-US" sz="2800" spc="-1" strike="noStrike">
                <a:solidFill>
                  <a:srgbClr val="ccff33"/>
                </a:solidFill>
                <a:latin typeface="Arial"/>
              </a:rPr>
              <a:t>inertia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y can’t we detect Earth’s motion against the background stars (stellar parallax)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pernicus’ model did </a:t>
            </a:r>
            <a:r>
              <a:rPr b="0" lang="en-US" sz="5400" spc="-1" strike="noStrike">
                <a:solidFill>
                  <a:srgbClr val="ccff33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it the observational data very we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alileo &amp; Copernicu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Galileo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became convinced that Copernicus was correct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by observation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f the Sun, Venus, and the moons of Jupiter using the newly-invented telescop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rhaps Galileo was motivated to understand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inertia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by his desire to understand and defend Copernicus’ idea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cho and Kepl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the late 1500’s, a Danish nobleman named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Tycho Brah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et out to make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most accurate measurement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planetary motions to date, in order to validate his own ideas of planetary mot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ycho’s data was successfully interpreted by the German mathematician and scientist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Johannes Kepl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n the early 1600’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cho and Kepl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0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09:59:40Z</dcterms:created>
  <dc:creator>Media Center</dc:creator>
  <dc:description/>
  <dc:language>en-US</dc:language>
  <cp:lastModifiedBy>Asus</cp:lastModifiedBy>
  <cp:lastPrinted>2002-01-31T07:45:58Z</cp:lastPrinted>
  <dcterms:modified xsi:type="dcterms:W3CDTF">2018-03-09T16:14:35Z</dcterms:modified>
  <cp:revision>71</cp:revision>
  <dc:subject/>
  <dc:title>PowerPoint Presentation  -</dc:title>
</cp:coreProperties>
</file>