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DF80-5975-4815-91ED-6929ED9E0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0" y="56386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8" descr="C:\WINDOWS\Desktop\Table Top Robots\Logos\transparent image 2.gif"/>
          <p:cNvPicPr/>
          <p:nvPr/>
        </p:nvPicPr>
        <p:blipFill>
          <a:blip r:embed="rId2"/>
          <a:stretch/>
        </p:blipFill>
        <p:spPr>
          <a:xfrm>
            <a:off x="76320" y="6019920"/>
            <a:ext cx="190476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-228600" y="22860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nsider 2 Types of Fri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531720" y="930240"/>
                <a:ext cx="126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Text Box 7"/>
          <p:cNvSpPr/>
          <p:nvPr/>
        </p:nvSpPr>
        <p:spPr>
          <a:xfrm>
            <a:off x="2000160" y="3870360"/>
            <a:ext cx="69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Kine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33520" y="47084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9"/>
              <p:cNvSpPr txBox="1"/>
              <p:nvPr/>
            </p:nvSpPr>
            <p:spPr>
              <a:xfrm>
                <a:off x="584280" y="3368520"/>
                <a:ext cx="141588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Text Box 10"/>
          <p:cNvSpPr/>
          <p:nvPr/>
        </p:nvSpPr>
        <p:spPr>
          <a:xfrm>
            <a:off x="1924200" y="1600200"/>
            <a:ext cx="69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Sta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609480" y="23018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228600" y="2286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Coefficient of Static Friction Between the </a:t>
            </a:r>
            <a:r>
              <a:rPr b="1" lang="en-US" sz="3600" spc="-1" strike="noStrike">
                <a:solidFill>
                  <a:srgbClr val="c9935d"/>
                </a:solidFill>
                <a:latin typeface="Times New Roman"/>
              </a:rPr>
              <a:t>Wood Desktop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stic Battery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is Described Algebraically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514600" y="2160720"/>
                <a:ext cx="274320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Text Box 5"/>
          <p:cNvSpPr/>
          <p:nvPr/>
        </p:nvSpPr>
        <p:spPr>
          <a:xfrm>
            <a:off x="5334120" y="348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34120" y="25192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2514600" y="434340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Line 9"/>
          <p:cNvSpPr/>
          <p:nvPr/>
        </p:nvSpPr>
        <p:spPr>
          <a:xfrm>
            <a:off x="5334120" y="3352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581280" y="4533840"/>
            <a:ext cx="358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447920" y="1981080"/>
            <a:ext cx="647676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3936960" y="3745080"/>
                <a:ext cx="21844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4"/>
          <p:cNvSpPr/>
          <p:nvPr/>
        </p:nvSpPr>
        <p:spPr>
          <a:xfrm>
            <a:off x="76320" y="304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Coefficient of Kinetic Friction Can be Found Using the Same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371600" y="54864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33520" y="304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21337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4"/>
          <p:cNvSpPr/>
          <p:nvPr/>
        </p:nvSpPr>
        <p:spPr>
          <a:xfrm>
            <a:off x="635040" y="2666880"/>
            <a:ext cx="401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64832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6"/>
          <p:cNvSpPr/>
          <p:nvPr/>
        </p:nvSpPr>
        <p:spPr>
          <a:xfrm flipV="1">
            <a:off x="1676520" y="2666880"/>
            <a:ext cx="297180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7"/>
          <p:cNvSpPr/>
          <p:nvPr/>
        </p:nvSpPr>
        <p:spPr>
          <a:xfrm>
            <a:off x="4648320" y="2247840"/>
            <a:ext cx="990360" cy="876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1371600"/>
            <a:ext cx="12952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105520" y="2019240"/>
            <a:ext cx="1295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5105520" y="31240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 rot="16242000">
            <a:off x="-936000" y="39078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ictional Forc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ist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2096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orce Causing the Object to 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105520" y="387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6002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4533840" y="396252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44197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V="1">
            <a:off x="1600200" y="391644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7543800" y="4191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1828800" y="39164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1"/>
              <p:cNvSpPr txBox="1"/>
              <p:nvPr/>
            </p:nvSpPr>
            <p:spPr>
              <a:xfrm>
                <a:off x="635040" y="1600200"/>
                <a:ext cx="8888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2"/>
              <p:cNvSpPr txBox="1"/>
              <p:nvPr/>
            </p:nvSpPr>
            <p:spPr>
              <a:xfrm>
                <a:off x="7378560" y="2529000"/>
                <a:ext cx="100332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Line 23"/>
          <p:cNvSpPr/>
          <p:nvPr/>
        </p:nvSpPr>
        <p:spPr>
          <a:xfrm flipV="1">
            <a:off x="1676520" y="1371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1676520" y="5562720"/>
            <a:ext cx="6400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1828800" y="22096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6"/>
              <p:cNvSpPr txBox="1"/>
              <p:nvPr/>
            </p:nvSpPr>
            <p:spPr>
              <a:xfrm>
                <a:off x="4324320" y="3314880"/>
                <a:ext cx="495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27"/>
              <p:cNvSpPr txBox="1"/>
              <p:nvPr/>
            </p:nvSpPr>
            <p:spPr>
              <a:xfrm>
                <a:off x="2286000" y="52560"/>
                <a:ext cx="450540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rictional Forces Occur When Materials are in           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952880" y="914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22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3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4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2057400" y="478476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1"/>
          <p:cNvSpPr/>
          <p:nvPr/>
        </p:nvSpPr>
        <p:spPr>
          <a:xfrm>
            <a:off x="2133720" y="4800600"/>
            <a:ext cx="70102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  = Force Causing Motion (Pull on 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= Force of Static Friction (Resists Mo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76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Friction is a Force That Resists Mo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3200400" y="3581280"/>
            <a:ext cx="3962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105520" y="2133720"/>
            <a:ext cx="175248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2743200" y="3048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320040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200400" y="38862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6172200" y="4205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8"/>
          <p:cNvSpPr/>
          <p:nvPr/>
        </p:nvSpPr>
        <p:spPr>
          <a:xfrm flipV="1">
            <a:off x="601992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685800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0"/>
          <p:cNvSpPr/>
          <p:nvPr/>
        </p:nvSpPr>
        <p:spPr>
          <a:xfrm flipH="1">
            <a:off x="373392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601992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32"/>
          <p:cNvSpPr/>
          <p:nvPr/>
        </p:nvSpPr>
        <p:spPr>
          <a:xfrm>
            <a:off x="586728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7772400" y="2529000"/>
            <a:ext cx="9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971800" y="2468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6019920" y="9907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8"/>
          <p:cNvSpPr/>
          <p:nvPr/>
        </p:nvSpPr>
        <p:spPr>
          <a:xfrm flipH="1">
            <a:off x="6934320" y="32004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9"/>
          <p:cNvSpPr/>
          <p:nvPr/>
        </p:nvSpPr>
        <p:spPr>
          <a:xfrm>
            <a:off x="723888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708660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2209680" y="5257800"/>
            <a:ext cx="6782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ink Block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not Move Until the Force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Pull on the scal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Exceeds the Force of Static Friction 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5029200" y="2971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4"/>
          <p:cNvSpPr/>
          <p:nvPr/>
        </p:nvSpPr>
        <p:spPr>
          <a:xfrm>
            <a:off x="129528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5"/>
          <p:cNvSpPr/>
          <p:nvPr/>
        </p:nvSpPr>
        <p:spPr>
          <a:xfrm flipV="1">
            <a:off x="1905120" y="2529000"/>
            <a:ext cx="30456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6"/>
          <p:cNvSpPr/>
          <p:nvPr/>
        </p:nvSpPr>
        <p:spPr>
          <a:xfrm flipH="1">
            <a:off x="68544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7"/>
          <p:cNvSpPr/>
          <p:nvPr/>
        </p:nvSpPr>
        <p:spPr>
          <a:xfrm>
            <a:off x="45720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0" y="76320"/>
            <a:ext cx="93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 Relative Force of  Static Friction Between 2 Objects is Expressed as the        Quotient of the Force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(F)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Required to               Move the Ob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638680" y="762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4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5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228600" y="46483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vided by the Weigh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f the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1828800" y="55627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This is Called the Coefficient of Fri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502920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2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3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8"/>
              <p:cNvSpPr txBox="1"/>
              <p:nvPr/>
            </p:nvSpPr>
            <p:spPr>
              <a:xfrm>
                <a:off x="4495680" y="3346560"/>
                <a:ext cx="1526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8"/>
              <p:cNvSpPr txBox="1"/>
              <p:nvPr/>
            </p:nvSpPr>
            <p:spPr>
              <a:xfrm>
                <a:off x="2712960" y="4935600"/>
                <a:ext cx="5637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9"/>
              <p:cNvSpPr txBox="1"/>
              <p:nvPr/>
            </p:nvSpPr>
            <p:spPr>
              <a:xfrm>
                <a:off x="2712960" y="5621400"/>
                <a:ext cx="459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0"/>
              <p:cNvSpPr txBox="1"/>
              <p:nvPr/>
            </p:nvSpPr>
            <p:spPr>
              <a:xfrm>
                <a:off x="2789280" y="6230880"/>
                <a:ext cx="3985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41"/>
          <p:cNvSpPr/>
          <p:nvPr/>
        </p:nvSpPr>
        <p:spPr>
          <a:xfrm>
            <a:off x="3581280" y="5653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3581280" y="6110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3581280" y="5043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5"/>
              <p:cNvSpPr txBox="1"/>
              <p:nvPr/>
            </p:nvSpPr>
            <p:spPr>
              <a:xfrm>
                <a:off x="228600" y="117360"/>
                <a:ext cx="2417760" cy="17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46"/>
          <p:cNvSpPr/>
          <p:nvPr/>
        </p:nvSpPr>
        <p:spPr>
          <a:xfrm>
            <a:off x="2971800" y="24444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efficient of Static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Using the Gears-IDS Battery to Calculate The         St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371600" y="1981080"/>
            <a:ext cx="647712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962520" y="374508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5"/>
          <p:cNvSpPr/>
          <p:nvPr/>
        </p:nvSpPr>
        <p:spPr>
          <a:xfrm>
            <a:off x="1828800" y="55324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efficient of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5111640" y="53352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6320" y="1681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Maximum Force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F)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Before the Battery Begins to Mov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762120" y="1817640"/>
            <a:ext cx="7848360" cy="4049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3962520" y="406080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5"/>
          <p:cNvSpPr/>
          <p:nvPr/>
        </p:nvSpPr>
        <p:spPr>
          <a:xfrm>
            <a:off x="1981080" y="5638680"/>
            <a:ext cx="5105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523880" y="2144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imum Forc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0 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H="1">
            <a:off x="3962160" y="2786040"/>
            <a:ext cx="990360" cy="80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4952880" y="2786040"/>
            <a:ext cx="685800" cy="127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52280" y="152280"/>
            <a:ext cx="518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Weight  (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W )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of the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07960" y="1584360"/>
                <a:ext cx="215892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4" name="Picture 6" descr="C:\WINDOWS\Desktop\Table Top Robots\curriculum\physical science\Forces\slide shows\pics and images\weighing_battery.jpg"/>
          <p:cNvPicPr/>
          <p:nvPr/>
        </p:nvPicPr>
        <p:blipFill>
          <a:blip r:embed="rId1"/>
          <a:stretch/>
        </p:blipFill>
        <p:spPr>
          <a:xfrm>
            <a:off x="5630760" y="152280"/>
            <a:ext cx="3303720" cy="64771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5" name="Line 7"/>
          <p:cNvSpPr/>
          <p:nvPr/>
        </p:nvSpPr>
        <p:spPr>
          <a:xfrm flipV="1">
            <a:off x="2666880" y="1980720"/>
            <a:ext cx="4191120" cy="6858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C:\WINDOWS\Desktop\Table Top Robots\curriculum\physical science\Forces\slide shows\pics and images\scale_reading_coefficient.jpg"/>
          <p:cNvPicPr/>
          <p:nvPr/>
        </p:nvPicPr>
        <p:blipFill>
          <a:blip r:embed="rId2"/>
          <a:srcRect l="17828" t="29406" r="13741" b="13399"/>
          <a:stretch/>
        </p:blipFill>
        <p:spPr>
          <a:xfrm>
            <a:off x="2160720" y="3352680"/>
            <a:ext cx="3249360" cy="32734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7" name="Line 9"/>
          <p:cNvSpPr/>
          <p:nvPr/>
        </p:nvSpPr>
        <p:spPr>
          <a:xfrm>
            <a:off x="2666880" y="2666880"/>
            <a:ext cx="1905120" cy="14479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"/>
          <p:cNvSpPr/>
          <p:nvPr/>
        </p:nvSpPr>
        <p:spPr>
          <a:xfrm flipH="1">
            <a:off x="1295280" y="3181320"/>
            <a:ext cx="53352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52280" y="4114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11:46:32Z</dcterms:created>
  <dc:creator>mymxfwcc4fmjxpffx4t6kwyg8</dc:creator>
  <dc:description/>
  <dc:language>en-US</dc:language>
  <cp:lastModifiedBy>LEGION</cp:lastModifiedBy>
  <dcterms:modified xsi:type="dcterms:W3CDTF">2018-04-03T08:58:39Z</dcterms:modified>
  <cp:revision>60</cp:revision>
  <dc:subject/>
  <dc:title>PowerPoint Presentation</dc:title>
</cp:coreProperties>
</file>