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AA49-1A72-4009-BD38-93B75C10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9Co     +  1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                      0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radioisotope   partic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9Co     +  1n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radioisotope   particl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9CC-DFC1-4A95-B4AF-CA91326C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DCD-8BBE-42CE-9305-69FD1EF5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FF0-9D7E-4932-AABC-14BB8B45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AE9-BF0C-4746-9D86-73E5FCB7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B54-0020-46EF-90C8-AA4F484D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B54-8C39-49CF-9030-7721B3B2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D1F-1DF8-478D-ABCC-128A2D0A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EB5-43F6-4CB0-BF27-3531CEEF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2C5-D31D-4CD3-A984-CDF69BE4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2A0-4312-423D-ADD1-454E0433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860-0613-453F-B26C-0A97ECE2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E14-2B3F-4B98-B9CA-F48D5779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27EB-6E03-485F-A47B-58CB98D5950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Ch 9 - Nuclear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Picture 5" descr="bd06719_"/>
          <p:cNvPicPr/>
          <p:nvPr/>
        </p:nvPicPr>
        <p:blipFill>
          <a:blip r:embed="rId1"/>
          <a:stretch/>
        </p:blipFill>
        <p:spPr>
          <a:xfrm>
            <a:off x="4876920" y="3862440"/>
            <a:ext cx="3809880" cy="292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3935520" cy="223056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47680" y="3276720"/>
          <a:ext cx="87631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76720"/>
                    <a:ext cx="8763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    +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91    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beta parti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 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oron atom in 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igh-energy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666880" y="34290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914400" y="2819520"/>
                <a:ext cx="73152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819520" y="42670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324480" y="25909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1722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13560" y="217476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990720" y="2133720"/>
                <a:ext cx="3581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3. Producing Radioactive Isotop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     +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n   +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balt     neutron            manganese    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om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radioisotope   particl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276720" y="33526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7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adioisotop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4. Half-Life of a Radioisotop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im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the radiation level to fall (decay) to one-half its initial val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304920" y="2214720"/>
            <a:ext cx="8426160" cy="441468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Re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memb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bd06978_"/>
          <p:cNvPicPr/>
          <p:nvPr/>
        </p:nvPicPr>
        <p:blipFill>
          <a:blip r:embed="rId1"/>
          <a:stretch/>
        </p:blipFill>
        <p:spPr>
          <a:xfrm>
            <a:off x="5791320" y="1523880"/>
            <a:ext cx="179388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3809880" y="3657600"/>
                <a:ext cx="1905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 flipH="1" flipV="1">
            <a:off x="5486040" y="4495320"/>
            <a:ext cx="106668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251040" y="4791240"/>
            <a:ext cx="2593080" cy="5814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ic symb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3886200" y="5334120"/>
            <a:ext cx="38088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276720" y="5772240"/>
            <a:ext cx="3733560" cy="106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omic numb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ber of prot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3276720" y="4114800"/>
            <a:ext cx="533160" cy="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62120" y="3747960"/>
            <a:ext cx="2514600" cy="204372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umber of protons and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609480" y="3048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uclear Symbol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notice mass number is on top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sotope          Half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x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7"/>
          <p:cNvSpPr/>
          <p:nvPr/>
        </p:nvSpPr>
        <p:spPr>
          <a:xfrm>
            <a:off x="6858000" y="2209680"/>
            <a:ext cx="2286000" cy="1676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. Fission VS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Fis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3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3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  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9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r + 3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543800" y="1295280"/>
            <a:ext cx="1600200" cy="3124440"/>
          </a:xfrm>
          <a:prstGeom prst="irregularSeal2">
            <a:avLst/>
          </a:prstGeom>
          <a:solidFill>
            <a:srgbClr val="ff66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Picture 8" descr="in00420_"/>
          <p:cNvPicPr/>
          <p:nvPr/>
        </p:nvPicPr>
        <p:blipFill>
          <a:blip r:embed="rId1"/>
          <a:stretch/>
        </p:blipFill>
        <p:spPr>
          <a:xfrm>
            <a:off x="2133720" y="3886200"/>
            <a:ext cx="4800600" cy="27194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ssion of Uranium-235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8088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hain 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the reaction sustains itself by producing more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057400" y="2309760"/>
            <a:ext cx="5334120" cy="44672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6248520" y="1962000"/>
            <a:ext cx="2895480" cy="22100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uclear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91520" y="1733400"/>
            <a:ext cx="1523880" cy="312444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8120" y="3962520"/>
            <a:ext cx="990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487692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cessive heat can not be contain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tempts at “cold” fusion have FAIL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t” fusion is difficult to con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248520" y="18097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391520" y="114300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5867280" y="533520"/>
            <a:ext cx="289584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+ 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934320" y="76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6. Uses &amp;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cers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– small amounts of radioactive substances used as probes to study internal orga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uclear imag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medical techniques involving trac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049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49709" t="0" r="0" b="0"/>
          <a:stretch/>
        </p:blipFill>
        <p:spPr>
          <a:xfrm>
            <a:off x="1676520" y="4764240"/>
            <a:ext cx="2361960" cy="174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4952880" y="4789440"/>
            <a:ext cx="1905120" cy="176364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40561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ph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43000" y="3505320"/>
            <a:ext cx="106668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1905120" y="3276720"/>
            <a:ext cx="22096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209680" y="4114800"/>
            <a:ext cx="1828800" cy="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752480" y="4191120"/>
            <a:ext cx="2438640" cy="9144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7"/>
              <p:cNvSpPr txBox="1"/>
              <p:nvPr/>
            </p:nvSpPr>
            <p:spPr>
              <a:xfrm>
                <a:off x="6248520" y="5245200"/>
                <a:ext cx="973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819000" y="6480"/>
            <a:ext cx="7506000" cy="6845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or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Particle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  or   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191120" y="3429000"/>
            <a:ext cx="1371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514600" y="5105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7" descr="bd05670_"/>
          <p:cNvPicPr/>
          <p:nvPr/>
        </p:nvPicPr>
        <p:blipFill>
          <a:blip r:embed="rId1"/>
          <a:stretch/>
        </p:blipFill>
        <p:spPr>
          <a:xfrm>
            <a:off x="3505320" y="4191120"/>
            <a:ext cx="19969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4" descr="pe02421_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4163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5800" y="1981080"/>
          <a:ext cx="733572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357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  Nuclear Equations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20:48:09Z</dcterms:created>
  <dc:creator>Bill Timberlake</dc:creator>
  <dc:description/>
  <dc:language>en-US</dc:language>
  <cp:lastModifiedBy>LEGION</cp:lastModifiedBy>
  <cp:lastPrinted>1999-05-17T20:19:48Z</cp:lastPrinted>
  <dcterms:modified xsi:type="dcterms:W3CDTF">2018-04-03T08:55:06Z</dcterms:modified>
  <cp:revision>86</cp:revision>
  <dc:subject/>
  <dc:title>Chapter 6</dc:title>
</cp:coreProperties>
</file>