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2804-736C-4FC2-9FF4-DB8D646182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otherapy dose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43 patients received 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achieved in all but one patient (99.7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(1.2%) had isolated spinal rela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 (3.8%) overall relapse over half outside craniospinal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0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8 patients treated with whole brain or whole ventr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(2.9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1 (7.6%) overall relap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3 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3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 (11.3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1 (23.3%) overall relaps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6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D28-672C-4CD2-B75B-AD54CE4B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021-5C5A-469D-B5B4-A56E0BF1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048-177F-4681-B16D-DF76BF02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F2F-443C-49A5-84D4-947A5229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473-3697-4499-9204-F29220F8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67B-0541-40B4-BBAA-21385839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D70-F61D-4B2F-AB1D-A21A4333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125-91D2-489D-9671-F6F836C9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754-DF0F-4057-AB8F-764A5726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835-85FB-4FA0-B316-7B2D6F82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DFAC-A6AD-46C7-BFF5-0502D4BD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64C-8FAE-4A2B-8F88-9AB2651A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66D5-6584-4A59-8BA7-61B365D1C1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07E9-7445-4A06-9234-57CF2EE11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SI.jpg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5170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Brain RT.jpg"/>
          <p:cNvPicPr/>
          <p:nvPr/>
        </p:nvPicPr>
        <p:blipFill>
          <a:blip r:embed="rId1"/>
          <a:stretch/>
        </p:blipFill>
        <p:spPr>
          <a:xfrm>
            <a:off x="685800" y="1676520"/>
            <a:ext cx="7666200" cy="2727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8" descr="axial brain.jpg"/>
          <p:cNvPicPr/>
          <p:nvPr/>
        </p:nvPicPr>
        <p:blipFill>
          <a:blip r:embed="rId1"/>
          <a:stretch/>
        </p:blipFill>
        <p:spPr>
          <a:xfrm>
            <a:off x="533520" y="1523880"/>
            <a:ext cx="7888320" cy="290988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DVH.jpg"/>
          <p:cNvPicPr/>
          <p:nvPr/>
        </p:nvPicPr>
        <p:blipFill>
          <a:blip r:embed="rId1"/>
          <a:stretch/>
        </p:blipFill>
        <p:spPr>
          <a:xfrm>
            <a:off x="1219320" y="1371600"/>
            <a:ext cx="6730920" cy="39369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1"/>
          <p:cNvSpPr/>
          <p:nvPr/>
        </p:nvSpPr>
        <p:spPr>
          <a:xfrm>
            <a:off x="1777320" y="5562720"/>
            <a:ext cx="63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895480"/>
          <a:ext cx="7696440" cy="148284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914400"/>
                <a:gridCol w="1600200"/>
                <a:gridCol w="1219320"/>
                <a:gridCol w="14479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aniosp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2666880"/>
          <a:ext cx="8686800" cy="3978360"/>
        </p:xfrm>
        <a:graphic>
          <a:graphicData uri="http://schemas.openxmlformats.org/drawingml/2006/table">
            <a:tbl>
              <a:tblPr/>
              <a:tblGrid>
                <a:gridCol w="1219320"/>
                <a:gridCol w="1676160"/>
                <a:gridCol w="1219320"/>
                <a:gridCol w="838080"/>
                <a:gridCol w="914400"/>
                <a:gridCol w="990720"/>
                <a:gridCol w="762120"/>
                <a:gridCol w="10666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otherapy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carbo/e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 or M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cis/cyclop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 SD 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entric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HCG- 10IU-70IU in 10-20% pure germinomas, &gt;1000IU choriocarc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CG more then 100 some consider adequate to diagnose “malignant” G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137134194.jpg"/>
          <p:cNvPicPr/>
          <p:nvPr/>
        </p:nvPicPr>
        <p:blipFill>
          <a:blip r:embed="rId1"/>
          <a:stretch/>
        </p:blipFill>
        <p:spPr>
          <a:xfrm>
            <a:off x="1981080" y="14479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981080" y="1447920"/>
            <a:ext cx="1143000" cy="533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44:27Z</dcterms:created>
  <dc:creator>crittend</dc:creator>
  <dc:description/>
  <dc:language>en-US</dc:language>
  <cp:lastModifiedBy>LEGION</cp:lastModifiedBy>
  <dcterms:modified xsi:type="dcterms:W3CDTF">2018-04-03T08:52:22Z</dcterms:modified>
  <cp:revision>109</cp:revision>
  <dc:subject/>
  <dc:title>Germinomas: An evolution in the use of Radiation</dc:title>
</cp:coreProperties>
</file>