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8C15-26C6-4B36-BB6A-1B19887DA9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Out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 Radiation Treatment for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e therapeutic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alone (International stud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Field Radiation without Chemotherapy (Royal Marsden Lancet Review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d Approa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G ACNS 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Radiation Treatment for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therapeutic Appro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alone (International stu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Field Radiation without Chemotherapy (Royal Marsden Lancet Revie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d Appro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 ACNS 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Tumor biopsy – 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ymphohistiocytic inflammation with rare embedded OCT 3 / 4 (+) atypical cells. Most compatible with germino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Tumor biopsy – Pat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ymphohistiocytic inflammation with rare embedded OCT 3 / 4 (+) atypical cells. Most compatible with germin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and Germ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5% primary brain tumors in children and young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-60% Germ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ommon in male children ages 10-20 and arise in midline locations such as pineal and suprasellar 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ditional radiation for primary CNS Germinoma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olume/high dose radiothera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30-36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Gy boost to primary tum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year OS &gt;8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and Germ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5% primary brain tumors in children and young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-60% Germ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in male children ages 10-20 and arise in midline locations such as pineal and suprasellar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radiation for primary CNS Germinoma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Volume/high dose radiothera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30-36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Gy boost to primary tum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year OS &gt;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r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g et al 1978 (pre-CT er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 pati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 10% percent risk of subarachnoid disse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ddock et al (Mayo experience) reported on 25 patients who received RT to 44 Gy without full CSI. 36% spine relapses were report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year survival was still 9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g et al 1978 (pre-CT 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 pat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 10% percent risk of subarachnoid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dock et al (Mayo experience) reported on 25 patients who received RT to 44 Gy without full CSI. 36% spine relapses were repor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year survival was still 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I has been the gold standard for patients even with local disea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mful effects of CSI on neurocognitive development extrapolated from the literature on P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im now becomes focused on limiting treatment related side eff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I has been the gold standard for patients even with local dise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CSI on neurocognitive development extrapolated from the literature on PN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im now becomes focused on limiting treatment related side eff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emotherapy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ternational protocol” Balcameda et al JCO 19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DDP, VP-16, bleomycin x 4 cycles followed by imaging e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R received 2 further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s received 2 cycles intensified by cyclophospham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igh initial response rates (78% CR)  but 50% of patients experience disease progression or recur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related mortality approximates 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lvage with reinduction cyclophosphamide and CSI still results in 76% 2 yr surviv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emotherapy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rnational protocol” Balcameda et al JCO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DDP, VP-16, bleomycin x 4 cycles followed by imaging e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R received 2 further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s received 2 cycles intensified by cyclophospha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igh initial response rates (78% CR)  but 50% of patients experience disease progression or recur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related mortality approximates 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lvage with reinduction cyclophosphamide and CSI still results in 76% 2 yr surviv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roaches to limiting tox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r total radiation dose while maintaining irradiation volu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the volume while maintaining dose and use chemotherapy as a substitute for extended-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 both volume and dose without the use of chem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ystemic chemotherapy with both volume and dose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es to limiting tox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total radiation dose while maintaining irradiation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the volume while maintaining dose and use chemotherapy as a substitute for extended-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both volume and dose without the use of 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ystemic chemotherapy with both volume and dose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 comprehensive review on patterns of relapse after radiotherapy alone for localized intracranial germinom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orted on series published after 1988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luded se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urrent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nal staging not repo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volumes were not specifi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pse pattern was not defi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was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without histologic ver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s with evidence of spinal disse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 comprehensive review on patterns of relapse after radiotherapy alone for localized intracranial germino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ed on series published after 198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luded se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urrent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al staging not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volumes were not 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pse pattern was not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wa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without histologic ver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with evidence of spinal disse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ient Class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aniospin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brain or whole ventricular radiotherapy plus bo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of primary tumor al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aniospin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brain or whole ventricular radiotherapy plus bo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of primary tumor al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Brain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-ventricular 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re-2% of pediatric tumors in North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rminoma-60-7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” subtypes 15-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mbryonal, endodermal sinus, choriocarcin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 benign, immature and malignant 15-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-admixture of benign teratoma with one or more malignant germ cell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re-2% of pediatric tumors in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rminoma-60-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” subtypes 15-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mbryonal, endodermal sinus, choriocarcin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 benign, immature and malignant 15-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-admixture of benign teratoma with one or more malignant germ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VH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B and WV include dose to 24 Gy followed by a 16 Gy focal bo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RT single 40Gy treatment p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Volume Ir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VH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 and WV include dose to 24 Gy followed by a 16 Gy focal bo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al RT single 40Gy treatment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8 patients includ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ed  median age was 13.5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follow up 6.4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n radiation dose to primary tumor 48.6 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pse rates subdivided into categories based on first re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 with or without other s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lated spinal relapse (what would be prevented by CS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sites inside and outside C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of localized intracranial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88 patients includ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ed  median age was 13.5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follow up 6.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radiation dose to primary tumor 48.6 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pse rates subdivided into categories based on first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with or without other 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lated spinal relapse (what would be prevented by CS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ites inside and outside C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diotherapy dose and volum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343 patients received CSI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achieved in all but one patient (99.7%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4 (1.2%) had isolated spinal relaps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3 (3.8%) overall relapse over half outside craniospinal axi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0.3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78 patients treated with whole brain or whole ventricula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 97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8 (2.9%) had isolated spinal relap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21 (7.6%) overall relaps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2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33 focal radiotherap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C  93.5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15 (11.3%) had isolated spinal relap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31 (23.3%) overall relapse ra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l relapse rate 6.8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diotherapy dose and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43 patients received C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achieved in all but one patient (99.7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(1.2%) had isolated spinal rela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 (3.8%) overall relapse over half outside craniospinal 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0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8 patients treated with whole brain or whole ventri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 9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 (2.9%) had isolated spinal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1 (7.6%) overall relap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33 foc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C  93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5 (11.3%) had isolated spinal re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1 (23.3%) overall relaps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relapse rate 6.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on and Chem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phase II study reported on patients with localized or metastatic germinom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ated with 4 cycles of etoposide and cisplat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l disease treated with focal RT to prechemo volume + 2 cm margin with dose stratification based on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but one remained in complete remi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II study reported by Matsutani et al 84% of patient with localized germinoma’s achieved a CR after induction chemotherap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ceived 24 Gy to a field including the third and lateral ventr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.2% relapse rate at 2.9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% were out of fie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and Chem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phase II study reported on patients with localized or metastatic germinom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with 4 cycles of etoposide and cisplatin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disease treated with focal RT to prechemo volume + 2 cm margin with dose stratification based on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but one remained in complete r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II study reported by Matsutani et al 84% of patient with localized germinoma’s achieved a CR after induction chemotherap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ceived 24 Gy to a field including the third and lateral ventr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% relapse rate at 2.9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7% were out of fie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ase III study comparing radiotherapy alone vs chemotherapy followed  by Response-based Radiotherapy for Newly diagnosed primary CNS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at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ocal (M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cult multifocal (Modified M+) DI, M0 patients on Regimen B with significant reduction in “normal” pineal gland or pituitary s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seminated (M+) (Patient M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hase III study comparing radiotherapy alone vs chemotherapy followed  by Response-based Radiotherapy for Newly diagnosed primary CNS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a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cal (M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lt multifocal (Modified M+) DI, M0 patients on Regimen B with significant reduction in “normal” pineal gland or pituitary sta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sseminated (M+) (Patient M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gimen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andard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gim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men 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and Radiotherap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G ACNS02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men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and Radiothera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therapy alone for Germinomas can achieve high long-term rates &gt;9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in field size without additional therapy can achieve good local control rates in localized 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otherapy may be able to help reduce failure rates so patient can receive reduced dose and field radi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therapy alone for Germinomas can achieve high long-term rates &gt;9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 in field size without additional therapy can achieve good local control rates in localiz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therapy may be able to help reduce failure rates so patient can receive reduced dose and field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partment of Radiation Medic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les Thomas J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rol Marque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John Hol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rtin Fu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rthur Hu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am Wa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sha McDona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trick Gag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eline Bicqu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partment of Radiatio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rles Thomas J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ol Marqu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hn Hol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tin Fu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rthur H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m Wa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asha McDon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trick G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ine Bicqu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ccur in diencephalic structures-almost exclusively midline 3rd ventr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st Frequent 50-6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0-35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sal ganglia and thalamic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ltifocal – Pineal and suprasellar “multiple midline germinomas” 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cur in diencephalic structures-almost exclusively midline 3rd ventr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st Frequent 50-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0-3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al ganglia and thalamic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ltifocal – Pineal and suprasellar “multiple midline germinomas” 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germi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olescent m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st 2 decades no gender predi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eratomas-young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lignant” histioty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lder childrem adolescent and young ad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germi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olescent 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rst 2 decades no gender predi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ratomas-young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lignant” histi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lder childrem adolescent and young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inea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vated intracranial pressure-compression of sylvian aquadu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arinaud’s syndrome-ocular symptoms of decrease upward gaze, near-light dissociation, diminished converg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betes insipidus, precocious or delayed sexual development,  visual defic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um Mar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FP-serum or CSF in embryonal, endodermal sinus or malignant teratoma-if posistive excludes a pure germ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G- 10IU-70IU in 10-20% pure germinomas, &gt;1000IU choriocarcino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inea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levated intracranial pressure-compression of sylvian aqua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arinaud’s syndrome-ocular symptoms of decrease upward gaze, near-light dissociation, diminished conver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abetes insipidus, precocious or delayed sexual development,  visual defic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erum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FP-serum or CSF in embryonal, endodermal sinus or malignant teratoma-if posistive excludes a pure germ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G- 10IU-70IU in 10-20% pure germinomas, &gt;1000IU choriocarc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eed for biopsy controvers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commended for pineal tum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prasellar – biopsy considered ess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f elevated tumor marke-any AFP or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G more then 100 some consider adequate to diagnose “malignant” G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verview of Germ Cel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ed for biopsy controvers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commended for pineal tum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prasellar – biopsy considered ess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f elevated tumor marke-any AFP or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β-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CG more then 100 some consider adequate to diagnose “malignant” G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C: Heada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PI: 11 year old boy who presented to OSH with a 1 month history of HA, polyuria, polydypsia and a several day history of double vis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ing: MRI revealed a tumor in the pineal and pituitary region with associated hydrocephal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 x 2.2 cm (pine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9 x 1.5 x 1.2 cm (suprasellar tumo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: Head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I: 11 year old boy who presented to OSH with a 1 month history of HA, polyuria, polydypsia and a several day history of double vis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g: MRI revealed a tumor in the pineal and pituitary region with associated hydrocepha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 x 2.2 cm (pine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9 x 1.5 x 1.2 cm (suprasellar tumo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aboratory evaluation revealed panhypopituitarism, nml AFP and beta-HCG in both serum and CS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agem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9/2008 placement of EV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14/2008 craniotomy with biopsy – non-diagno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16/08 VP shunt 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/29/08 Second craniotomy with biopsy-non-diagno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eatment of panhypopituitarism treated with DDAVP, hydrocortisone, and levothyrox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/27/2008 Endoscopic biopsy of third ventricle and pineal region tum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se Presentation 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aboratory evaluation revealed panhypopituitarism, nml AFP and beta-HCG in both serum and CS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nagemen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9/2008 placement of EV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14/2008 craniotomy with biopsy – non-diagno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16/08 VP shunt pla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/29/08 Second craniotomy with biopsy-non-diagno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eatment of panhypopituitarism treated with DDAVP, hydrocortisone, and levothyrox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/27/2008 Endoscopic biopsy of third ventricle and pineal region tum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12CB-3BEF-4845-B641-E5C7D2EA4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84AE-0CAB-48F9-9B40-BF26BC49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7A93-3197-435C-BB95-47C10CE2D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133-878B-4CA5-B3A7-7F6B1E04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A83D-5E1C-4CBB-8FE4-567E0E54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F042-FCBC-446B-BA2B-FB026B99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1BC-DD24-40C5-9DE8-1D9E1743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F5E5-D3DD-4756-977E-17138ED7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F5A5-ADAF-41B7-A4A0-B59C5FF9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CAED-0276-4983-8D32-73398C12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93C-2655-4C4B-B19F-49A6D15F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3795-EB3A-49EB-824B-86463CBB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919F-569F-496B-ADC1-6B5B3C7027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612D-FC52-4734-8D52-1D294F4BB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se Present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itional Radiation Treatment for Germino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ternate therapeutic Approach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motherapy alone (International stud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duced Field Radiation without Chemotherapy (Royal Marsden Lancet Review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mbined Approach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G ACNS 023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al Tumor biopsy – Path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ymphohistiocytic inflammation with rare embedded OCT 3 / 4 (+) atypical cells. Most compatible with germinom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eatment Plan: COG ACNS 0232 4 cycles of carbo/etoposide plan individualized to receive 4 cycles of carboplatin and etoposide) 7/31/08 - 10/10/08. Followed by whole ventricular radiation therapy to 24 Gy with tumor boost to 30 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and Germino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rm Cell Tum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3-5% primary brain tumors in children and young adul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0-60% Germinom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common in male children ages 10-20 and arise in midline locations such as pineal and suprasellar reg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raditional radiation for primary CNS Germinoma’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rge Volume/high dose radiotherap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SI 30-36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Gy boost to primary tum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 year OS &gt;8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I rat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052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g et al 1978 (pre-CT er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7 pati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gt; 10% percent risk of subarachnoid disse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ddock et al (Mayo experience) reported on 25 patients who received RT to 44 Gy without full CSI. 36% spine relapses were report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year survival was still 9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4" descr="CSI.jpg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5170320"/>
          </a:xfrm>
          <a:prstGeom prst="rect">
            <a:avLst/>
          </a:prstGeom>
          <a:ln w="0">
            <a:noFill/>
          </a:ln>
        </p:spPr>
      </p:pic>
      <p:sp>
        <p:nvSpPr>
          <p:cNvPr id="8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I has been the gold standard for patients even with local disea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mful effects of CSI on neurocognitive development extrapolated from the literature on PNE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im now becomes focused on limiting treatment related side eff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otherapy Alo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ernational protocol” Balcameda et al JCO 1996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DDP, VP-16, bleomycin x 4 cycles followed by imaging ev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 received 2 further cy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s received 2 cycles intensified by cyclophospham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igh initial response rates (78% CR)  but 50% of patients experience disease progression or recurrenc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atment related mortality approximates 1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lvage with reinduction cyclophosphamide and CSI still results in 76% 2 yr surviv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roaches to limiting toxi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er total radiation dose while maintaining irradiation 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the volume while maintaining dose and use chemotherapy as a substitute for extended-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rease both volume and dose without the use of chemo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systemic chemotherapy with both volume and dose re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gers et al reported in Lancet  Oncology in July of 2005 on a review of the “modern” literature (published) since 1988 to compare patterns of disease relapse, and cure rates after CSI, reduced –volume irradiation and focal radiation alon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 comprehensive review on patterns of relapse after radiotherapy alone for localized intracranial germinom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orted on series published after 1988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cluded ser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current disea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inal staging not report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adiotherapy volumes were not specifi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lapse pattern was not defin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hemotherapy was us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tients without histologic verific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tients with evidence of spinal dissemin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ient Class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aniospinal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-brain or whole ventricular radiotherapy plus bo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of primary tumor al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Brain RT.jpg"/>
          <p:cNvPicPr/>
          <p:nvPr/>
        </p:nvPicPr>
        <p:blipFill>
          <a:blip r:embed="rId1"/>
          <a:stretch/>
        </p:blipFill>
        <p:spPr>
          <a:xfrm>
            <a:off x="685800" y="1676520"/>
            <a:ext cx="7666200" cy="27273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4"/>
          <p:cNvSpPr/>
          <p:nvPr/>
        </p:nvSpPr>
        <p:spPr>
          <a:xfrm>
            <a:off x="995760" y="47242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3511440" y="47242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6327720" y="4724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995760" y="47242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 Brain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3511440" y="47242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ole-ventricular 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6327720" y="472428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cal Radio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Content Placeholder 8" descr="axial brain.jpg"/>
          <p:cNvPicPr/>
          <p:nvPr/>
        </p:nvPicPr>
        <p:blipFill>
          <a:blip r:embed="rId1"/>
          <a:stretch/>
        </p:blipFill>
        <p:spPr>
          <a:xfrm>
            <a:off x="533520" y="1523880"/>
            <a:ext cx="7888320" cy="290988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e-2% of pediatric tumors in North Amer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rminoma-60-7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gnant” subtypes 15-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bryonal, endodermal sinus, choriocarcinom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atomas benign, immature and malignant 15-2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lignant-admixture of benign teratoma with one or more malignant germ cell 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uced Volume Ir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10" descr="DVH.jpg"/>
          <p:cNvPicPr/>
          <p:nvPr/>
        </p:nvPicPr>
        <p:blipFill>
          <a:blip r:embed="rId1"/>
          <a:stretch/>
        </p:blipFill>
        <p:spPr>
          <a:xfrm>
            <a:off x="1219320" y="1371600"/>
            <a:ext cx="6730920" cy="39369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1"/>
          <p:cNvSpPr/>
          <p:nvPr/>
        </p:nvSpPr>
        <p:spPr>
          <a:xfrm>
            <a:off x="1777320" y="5562720"/>
            <a:ext cx="63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VH B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B and WV include dose to 24 Gy followed by a 16 Gy focal bo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al RT single 40Gy treatmen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therapy of localized intracranial germino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788 patients included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ighted  median age was 13.5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dian follow up 6.4 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dian radiation dose to primary tumor 48.6 G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lapse rates subdivided into categories based on first relap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l with or without other si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olated spinal relapse (what would be prevented by CS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ther sites inside and outside C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therapy dose and volu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43 patients received C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achieved in all but one patient (99.7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 (1.2%) had isolated spinal relap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3 (3.8%) overall relapse over half outside craniospinal ax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0.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78 patients treated with whole brain or whole ventricul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 97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 (2.9%) had isolated spinal relap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1 (7.6%) overall relap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2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33 focal radiotherap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C  93.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 (11.3%) had isolated spinal relap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1 (23.3%) overall relapse r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cal relapse rate 6.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and Chemotherap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OP experience reported on chemotherapy + focal radiotherapy associated with a 10% excess risk of relapse in the ventricular area when compared to craniospinal radiotherap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 phase II study reported on patients with localized or metastatic germinoma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eated with 4 cycles of etoposide and cisplati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 disease treated with focal RT to prechemo volume + 2 cm margin with dose stratification based on respon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but one remained in complete remi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 II study reported by Matsutani et al 84% of patient with localized germinoma’s achieved a CR after induction chemotherap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ceived 24 Gy to a field including the third and lateral ventric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2.2% relapse rate at 2.9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7% were out of fie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ase III study comparing radiotherapy alone vs chemotherapy followed  by Response-based Radiotherapy for Newly diagnosed primary CNS Germino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atific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l (M0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cult multifocal (Modified M+) DI, M0 patients on Regimen B with significant reduction in “normal” pineal gland or pituitary stal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seminated (M+) (Patient M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men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ndard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2895480"/>
          <a:ext cx="7696440" cy="1482840"/>
        </p:xfrm>
        <a:graphic>
          <a:graphicData uri="http://schemas.openxmlformats.org/drawingml/2006/table">
            <a:tbl>
              <a:tblPr/>
              <a:tblGrid>
                <a:gridCol w="1143000"/>
                <a:gridCol w="1371600"/>
                <a:gridCol w="914400"/>
                <a:gridCol w="1600200"/>
                <a:gridCol w="1219320"/>
                <a:gridCol w="144792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ost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ric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ric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aniospi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olved 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G ACNS023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men B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otherapy and Radio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8600" y="2666880"/>
          <a:ext cx="8686800" cy="3978360"/>
        </p:xfrm>
        <a:graphic>
          <a:graphicData uri="http://schemas.openxmlformats.org/drawingml/2006/table">
            <a:tbl>
              <a:tblPr/>
              <a:tblGrid>
                <a:gridCol w="1219320"/>
                <a:gridCol w="1676160"/>
                <a:gridCol w="1219320"/>
                <a:gridCol w="838080"/>
                <a:gridCol w="914400"/>
                <a:gridCol w="990720"/>
                <a:gridCol w="762120"/>
                <a:gridCol w="10666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emotherapy cyc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g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ost 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carbo/et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 or M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cis/cycloph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 SD P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(+) m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ic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therapy alone for Germinomas can achieve high long-term rates &gt;9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uction in field size without additional therapy can achieve good local control rates in localized dise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otherapy may be able to help reduce failure rates so patient can receive reduced dose and field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partment of Radiation Medic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rles Thomas J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rol Marquez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John Holl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rtin Fu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rthur Hu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am W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sha McDona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trick Gagn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line Bicqu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ato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cur in diencephalic structures-almost exclusively midline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ventric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ineal reg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st Frequent 50-6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-3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al ganglia and thalamic nucle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ultifocal – Pineal and suprasellar “multiple midline germinomas” 2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ineal germio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lescent m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st 2 decades no gender predi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atom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ratomas-young child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lignant” histiotyp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r childrem adolescent and young ad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resent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neal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vated intracranial pressure-compression of sylvian aquadu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inaud’s syndrome-ocular symptoms of decrease upward gaze, near-light dissociation, diminished converg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rasell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betes insipidus, precocious or delayed sexual development,  visual defic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um Mark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P-serum or CSF in embryonal, endodermal sinus or malignant teratoma-if posistive excludes a pure germin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HCG- 10IU-70IU in 10-20% pure germinomas, &gt;1000IU choriocarcino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Germ Cell Tum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ed for biopsy controvers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ed for pineal tum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rasellar – biopsy considered ess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elevated tumor marke-any AFP or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CG more then 100 some consider adequate to diagnose “malignant” G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C: Headac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PI: 11 year old boy who presented to OSH with a 1 month history of HA, polyuria, polydypsia and a several day history of double vis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maging: MRI revealed a tumor in the pineal and pituitary region with associated hydrocephal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2.7 x 2.2 cm (pinea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.9 x 1.5 x 1.2 cm (suprasellar tum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137134194.jpg"/>
          <p:cNvPicPr/>
          <p:nvPr/>
        </p:nvPicPr>
        <p:blipFill>
          <a:blip r:embed="rId1"/>
          <a:stretch/>
        </p:blipFill>
        <p:spPr>
          <a:xfrm>
            <a:off x="1981080" y="14479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1981080" y="1447920"/>
            <a:ext cx="1143000" cy="5331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se Presentation M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aboratory evaluation revealed panhypopituitarism, nml AFP and beta-HCG in both serum and CSF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nagement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9/2008 placement of EV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14/2008 craniotomy with biopsy – non-diagnost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16/08 VP shunt plac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5/29/08 Second craniotomy with biopsy-non-diagnost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eatment of panhypopituitarism treated with DDAVP, hydrocortisone, and levothyroxi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6/27/2008 Endoscopic biopsy of third ventricle and pineal region tum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Findings – small amount of tumor noted to be coating the floor of the third ventricle as well as a fluffy tumor in the posterior third ventricle. Biopsies were obtained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9T13:44:27Z</dcterms:created>
  <dc:creator>crittend</dc:creator>
  <dc:description/>
  <dc:language>en-US</dc:language>
  <cp:lastModifiedBy>LEGION</cp:lastModifiedBy>
  <dcterms:modified xsi:type="dcterms:W3CDTF">2018-04-03T08:52:22Z</dcterms:modified>
  <cp:revision>109</cp:revision>
  <dc:subject/>
  <dc:title>Germinomas: An evolution in the use of Radiation</dc:title>
</cp:coreProperties>
</file>