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93E1-ED9D-4E31-AA01-337FA96E47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 Out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itional Radiation Treatment for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e therapeutic Appro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alone (International stud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Field Radiation without Chemotherapy (Royal Marsden Lancet Revie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d Appro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G ACNS 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Radiation Treatment for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therapeutic Appro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alone (International stu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Field Radiation without Chemotherapy (Royal Marsden Lancet Revie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d Appro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G ACNS 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Tumor biopsy – Path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ymphohistiocytic inflammation with rare embedded OCT 3 / 4 (+) atypical cells. Most compatible with germino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eatment Plan: COG ACNS 0232 4 cycles of carbo/etoposide plan individualized to receive 4 cycles of carboplatin and etoposide) 7/31/08 - 10/10/08. Followed by whole ventricular radiation therapy to 24 Gy with tumor boost to 30 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Tumor biopsy – Path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ymphohistiocytic inflammation with rare embedded OCT 3 / 4 (+) atypical cells. Most compatible with germino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eatment Plan: COG ACNS 0232 4 cycles of carbo/etoposide plan individualized to receive 4 cycles of carboplatin and etoposide) 7/31/08 - 10/10/08. Followed by whole ventricular radiation therapy to 24 Gy with tumor boost to 30 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and Germin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5% primary brain tumors in children and young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-60% Germin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in male children ages 10-20 and arise in midline locations such as pineal and suprasellar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itional radiation for primary CNS Germinoma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Volume/high dose radiothera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 30-36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Gy boost to primary tum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year OS &gt;8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and Germin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5% primary brain tumors in children and young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-60% Germin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in male children ages 10-20 and arise in midline locations such as pineal and suprasellar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radiation for primary CNS Germinoma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Volume/high dose radiothera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 30-36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Gy boost to primary tum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year OS &gt;8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 r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g et al 1978 (pre-CT er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 pati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 10% percent risk of subarachnoid disse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dock et al (Mayo experience) reported on 25 patients who received RT to 44 Gy without full CSI. 36% spine relapses were repor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year survival was still 9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 r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g et al 1978 (pre-CT 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 pat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 10% percent risk of subarachnoid 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dock et al (Mayo experience) reported on 25 patients who received RT to 44 Gy without full CSI. 36% spine relapses were repor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year survival was still 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 has been the gold standard for patients even with local disea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mful effects of CSI on neurocognitive development extrapolated from the literature on P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im now becomes focused on limiting treatment related side eff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 has been the gold standard for patients even with local dise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effects of CSI on neurocognitive development extrapolated from the literature on PN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im now becomes focused on limiting treatment related side eff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emotherapy A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ternational protocol” Balcameda et al JCO 19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DDP, VP-16, bleomycin x 4 cycles followed by imaging e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R received 2 further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thers received 2 cycles intensified by cyclophospham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gh initial response rates (78% CR)  but 50% of patients experience disease progression or recur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eatment related mortality approximates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lvage with reinduction cyclophosphamide and CSI still results in 76% 2 yr surviv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emotherapy A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ernational protocol” Balcameda et al JCO 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DDP, VP-16, bleomycin x 4 cycles followed by imaging e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R received 2 further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thers received 2 cycles intensified by cyclophosph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igh initial response rates (78% CR)  but 50% of patients experience disease progression or recur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eatment related mortality approximates 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lvage with reinduction cyclophosphamide and CSI still results in 76% 2 yr survi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aches to limiting tox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total radiation dose while maintaining irradiation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 the volume while maintaining dose and use chemotherapy as a substitute for extended-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 both volume and dose without the use of chem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stemic chemotherapy with both volume and dose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es to limiting tox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total radiation dose while maintaining irradiation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the volume while maintaining dose and use chemotherapy as a substitute for extended-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both volume and dose without the use of 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ystemic chemotherapy with both volume and dose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gers et al reported in Lancet  Oncology in July of 2005 on a review of the “modern” literature (published) since 1988 to compare patterns of disease relapse, and cure rates after CSI, reduced –volume irradiation and focal radiation al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 comprehensive review on patterns of relapse after radiotherapy alone for localized intracranial germinom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orted on series published after 198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luded se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urrent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nal staging not repo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volumes were not specif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pse pattern was not defi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wa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s without histologic ver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s with evidence of spinal disse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gers et al reported in Lancet  Oncology in July of 2005 on a review of the “modern” literature (published) since 1988 to compare patterns of disease relapse, and cure rates after CSI, reduced –volume irradiation and focal radiation al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 comprehensive review on patterns of relapse after radiotherapy alone for localized intracranial germinom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ed on series published after 198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luded ser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urren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al staging not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volumes were not 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pse pattern was not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wa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without histologic ver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with evidence of spinal 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 Class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niospin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-brain or whole ventricular radiotherapy plus bo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of primary tumor a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niospin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-brain or whole ventricular radiotherapy plus bo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of primary tumor a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re-2% of pediatric tumors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rminoma-60-7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lignant” subtypes 15-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mbryonal, endodermal sinus, choriocarcin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ratomas benign, immature and malignant 15-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lignant-admixture of benign teratoma with one or more malignant germ cel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re-2% of pediatric tumors in 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rminoma-60-7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lignant” subtypes 15-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mbryonal, endodermal sinus, choriocarcin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atomas benign, immature and malignant 15-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lignant-admixture of benign teratoma with one or more malignant germ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VH B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B and WV include dose to 24 Gy followed by a 16 Gy focal bo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RT single 40Gy treatment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VH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 and WV include dose to 24 Gy followed by a 16 Gy focal bo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al RT single 40Gy treatment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8 patients includ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ed  median age was 13.5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follow up 6.4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radiation dose to primary tumor 48.6 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pse rates subdivided into categories based on first re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l with or without other s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lated spinal relapse (what would be prevented by CS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sites inside and outside C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88 patients inclu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ed  median age was 13.5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follow up 6.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radiation dose to primary tumor 48.6 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pse rates subdivided into categories based on first re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with or without other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d spinal relapse (what would be prevented by C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ites inside and outside C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adiotherapy dose and volum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343 patients received CS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C achieved in all but one patient (99.7%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4 (1.2%) had isolated spinal relaps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13 (3.8%) overall relapse over half outside craniospinal axi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l relapse rate 0.3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278 patients treated with whole brain or whole ventricula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C  97.5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8 (2.9%) had isolated spinal relap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21 (7.6%) overall relaps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l relapse rate 2.5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133 focal radiotherap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C  93.5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15 (11.3%) had isolated spinal relap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31 (23.3%) overall relapse ra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l relapse rate 6.8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diotherapy dose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43 patients received C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C achieved in all but one patient (99.7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 (1.2%) had isolated spinal rela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 (3.8%) overall relapse over half outside craniospinal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relapse rate 0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78 patients treated with whole brain or whole ventri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C  9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 (2.9%) had isolated spinal re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1 (7.6%) overall relap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relapse rate 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3 foc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C  93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 (11.3%) had isolated spinal re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1 (23.3%) overall relapse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relapse rate 6.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and Chem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P experience reported on chemotherapy + focal radiotherapy associated with a 10% excess risk of relapse in the ventricular area when compared to craniospin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phase II study reported on patients with localized or metastatic germinoma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ated with 4 cycles of etoposide and cisplat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l disease treated with focal RT to prechemo volume + 2 cm margin with dose stratification based on respo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but one remained in complete rem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 II study reported by Matsutani et al 84% of patient with localized germinoma’s achieved a CR after induction chemothera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ceived 24 Gy to a field including the third and lateral ventr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.2% relapse rate at 2.9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% were out of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and 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OP experience reported on chemotherapy + focal radiotherapy associated with a 10% excess risk of relapse in the ventricular area when compared to craniospin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 phase II study reported on patients with localized or metastatic germinom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with 4 cycles of etoposide and cisplati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disease treated with focal RT to prechemo volume + 2 cm margin with dose stratification based on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but one remained in complete r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II study reported by Matsutani et al 84% of patient with localized germinoma’s achieved a CR after induction chemotherap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ceived 24 Gy to a field including the third and lateral ventr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2% relapse rate at 2.9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% were out of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ase III study comparing radiotherapy alone vs chemotherapy followed  by Response-based Radiotherapy for Newly diagnosed primary CNS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at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ocal (M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cult multifocal (Modified M+) DI, M0 patients on Regimen B with significant reduction in “normal” pineal gland or pituitary s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seminated (M+) (Patient M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ase III study comparing radiotherapy alone vs chemotherapy followed  by Response-based Radiotherapy for Newly diagnosed primary CNS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a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(M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lt multifocal (Modified M+) DI, M0 patients on Regimen B with significant reduction in “normal” pineal gland or pituitary st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sseminated (M+) (Patient M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gimen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andard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gime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ndard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men 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and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men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and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alone for Germinomas can achieve high long-term rates &gt;9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 in field size without additional therapy can achieve good local control rates in localized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may be able to help reduce failure rates so patient can receive reduced dose and field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alone for Germinomas can achieve high long-term rates &gt;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in field size without additional therapy can achieve good local control rates in localiz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may be able to help reduce failure rates so patient can receive reduced dose and field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knowledg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partment of Radiation Medic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les Thomas J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rol Marque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ohn Hol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rtin Fu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rthur H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m W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sha McDona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trick Gag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eline Bicqu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partment of Radiatio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rles Thomas J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ol Marqu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hn Hol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rtin F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rthur H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m W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asha McDon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trick Gag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line Bicqu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cur in diencephalic structures-almost exclusively midline 3rd ventr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st Frequent 50-6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0-3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al ganglia and thalamic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ltifocal – Pineal and suprasellar “multiple midline germinomas”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r in diencephalic structures-almost exclusively midline 3rd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st Frequent 50-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-3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al ganglia and thalamic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ultifocal – Pineal and suprasellar “multiple midline germinomas”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germi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olescent ma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st 2 decades no gender predi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rat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ratomas-young child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lignant” histioty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lder childrem adolescent and young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germi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olescent 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rst 2 decades no gender predi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at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atomas-young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lignant” histi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lder childrem adolescent and young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levated intracranial pressure-compression of sylvian aqua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rinaud’s syndrome-ocular symptoms of decrease upward gaze, near-light dissociation, diminished converg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abetes insipidus, precocious or delayed sexual development,  visual defic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um Ma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FP-serum or CSF in embryonal, endodermal sinus or malignant teratoma-if posistive excludes a pure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G- 10IU-70IU in 10-20% pure germinomas, &gt;1000IU choriocarc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vated intracranial pressure-compression of sylvian aqua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rinaud’s syndrome-ocular symptoms of decrease upward gaze, near-light dissociation, diminished conver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abetes insipidus, precocious or delayed sexual development,  visual defic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um 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FP-serum or CSF in embryonal, endodermal sinus or malignant teratoma-if posistive excludes a pure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G- 10IU-70IU in 10-20% pure germinomas, &gt;1000IU choriocarc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ed for biopsy controvers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commended for pinea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 – biopsy considered ess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f elevated tumor marke-any AFP or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G more then 100 some consider adequate to diagnose “malignant” G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ed for biopsy controvers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commended for pinea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 – biopsy considered ess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f elevated tumor marke-any AFP or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G more then 100 some consider adequate to diagnose “malignant” G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: Heada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PI: 11 year old boy who presented to OSH with a 1 month history of HA, polyuria, polydypsia and a several day history of double vis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ing: MRI revealed a tumor in the pineal and pituitary region with associated hydrocephal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 x 2.2 cm (pine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9 x 1.5 x 1.2 cm (suprasellar tum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: Head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PI: 11 year old boy who presented to OSH with a 1 month history of HA, polyuria, polydypsia and a several day history of double vi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g: MRI revealed a tumor in the pineal and pituitary region with associated hydrocepha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7 x 2.2 cm (pine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9 x 1.5 x 1.2 cm (suprasellar tum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boratory evaluation revealed panhypopituitarism, nml AFP and beta-HCG in both serum and CS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nagem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9/2008 placement of EV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14/2008 craniotomy with biopsy – non-diagno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16/08 VP shunt 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29/08 Second craniotomy with biopsy-non-diagno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eatment of panhypopituitarism treated with DDAVP, hydrocortisone, and levothyrox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6/27/2008 Endoscopic biopsy of third ventricle and pineal region tum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ndings – small amount of tumor noted to be coating the floor of the third ventricle as well as a fluffy tumor in the posterior third ventricle. Biopsies were obtai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aboratory evaluation revealed panhypopituitarism, nml AFP and beta-HCG in both serum and CS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agemen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9/2008 placement of E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14/2008 craniotomy with biopsy – non-diagno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16/08 VP shunt pla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29/08 Second craniotomy with biopsy-non-diagno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eatment of panhypopituitarism treated with DDAVP, hydrocortisone, and levothyrox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/27/2008 Endoscopic biopsy of third ventricle and pineal region tum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ndings – small amount of tumor noted to be coating the floor of the third ventricle as well as a fluffy tumor in the posterior third ventricle. Biopsies were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8E9A-37CB-4D6E-8054-BD186BD8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8A23-2F29-4CA7-8A75-5D1CBD7F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EF5D-3DA5-482A-B624-6ED832B0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6908-BC62-4CC7-8567-52E59DF9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C2AF-67BA-48CA-AC9F-E29D9BF2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F2DC-5D25-4A9F-B2AD-258497BC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6DE3-288F-423C-978F-6CB7EC58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32CD-C855-4C4E-A9CD-5A6846AD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F13B-4825-4174-A576-91778693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6134-415C-40C9-882F-DE4B072E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99B6-E0AD-44F3-B746-F167AAE8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0761-C555-4246-A64A-D5DEAB14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19BC-4F54-4A85-BDE4-6835A4B9E9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D9EC-BAB7-4B87-BCE0-AB1E1B70E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lk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se Pres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ditional Radiation Treatment for Germino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ternate therapeutic Approach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emotherapy alone (International stud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Field Radiation without Chemotherapy (Royal Marsden Lancet Review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bined Approach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G ACNS 023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neal Tumor biopsy – Path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ymphohistiocytic inflammation with rare embedded OCT 3 / 4 (+) atypical cells. Most compatible with germinom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tment Plan: COG ACNS 0232 4 cycles of carbo/etoposide plan individualized to receive 4 cycles of carboplatin and etoposide) 7/31/08 - 10/10/08. Followed by whole ventricular radiation therapy to 24 Gy with tumor boost to 30 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and Germino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rm Cell Tum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-5% primary brain tumors in children and young adul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0-60% Germinom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common in male children ages 10-20 and arise in midline locations such as pineal and suprasellar reg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ditional radiation for primary CNS Germinoma’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rge Volume/high dose radiotherap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SI 30-36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Gy boost to primary tum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 year OS &gt;8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I rati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52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g et al 1978 (pre-CT er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7 pati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gt; 10% percent risk of subarachnoid disse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ddock et al (Mayo experience) reported on 25 patients who received RT to 44 Gy without full CSI. 36% spine relapses were report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 year survival was still 9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CSI.jpg"/>
          <p:cNvPicPr/>
          <p:nvPr/>
        </p:nvPicPr>
        <p:blipFill>
          <a:blip r:embed="rId1"/>
          <a:stretch/>
        </p:blipFill>
        <p:spPr>
          <a:xfrm>
            <a:off x="6248520" y="1143000"/>
            <a:ext cx="2361960" cy="5170320"/>
          </a:xfrm>
          <a:prstGeom prst="rect">
            <a:avLst/>
          </a:prstGeom>
          <a:ln w="0">
            <a:noFill/>
          </a:ln>
        </p:spPr>
      </p:pic>
      <p:sp>
        <p:nvSpPr>
          <p:cNvPr id="8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I has been the gold standard for patients even with local disea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mful effects of CSI on neurocognitive development extrapolated from the literature on PNE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im now becomes focused on limiting treatment related side eff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otherapy Al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ternational protocol” Balcameda et al JCO 199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DDP, VP-16, bleomycin x 4 cycles followed by imaging e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 received 2 further cy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s received 2 cycles intensified by cyclophospham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igh initial response rates (78% CR)  but 50% of patients experience disease progression or recurrenc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eatment related mortality approximates 1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alvage with reinduction cyclophosphamide and CSI still results in 76% 2 yr surviv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es to limiting tox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er total radiation dose while maintaining irradiation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the volume while maintaining dose and use chemotherapy as a substitute for extended-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both volume and dose without the use of chemo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systemic chemotherapy with both volume and dose re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ogers et al reported in Lancet  Oncology in July of 2005 on a review of the “modern” literature (published) since 1988 to compare patterns of disease relapse, and cure rates after CSI, reduced –volume irradiation and focal radiation alon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 comprehensive review on patterns of relapse after radiotherapy alone for localized intracranial germinom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orted on series published after 1988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luded ser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current diseas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pinal staging not report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adiotherapy volumes were not specifi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lapse pattern was not defin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otherapy was us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tients without histologic verific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tients with evidence of spinal dissemin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 Class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aniospinal radio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le-brain or whole ventricular radiotherapy plus bo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of primary tumor al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3" descr="Brain RT.jpg"/>
          <p:cNvPicPr/>
          <p:nvPr/>
        </p:nvPicPr>
        <p:blipFill>
          <a:blip r:embed="rId1"/>
          <a:stretch/>
        </p:blipFill>
        <p:spPr>
          <a:xfrm>
            <a:off x="685800" y="1676520"/>
            <a:ext cx="7666200" cy="27273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995760" y="472428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3511440" y="472428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6327720" y="47242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995760" y="472428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3511440" y="472428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6327720" y="47242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ontent Placeholder 8" descr="axial brain.jpg"/>
          <p:cNvPicPr/>
          <p:nvPr/>
        </p:nvPicPr>
        <p:blipFill>
          <a:blip r:embed="rId1"/>
          <a:stretch/>
        </p:blipFill>
        <p:spPr>
          <a:xfrm>
            <a:off x="533520" y="1523880"/>
            <a:ext cx="7888320" cy="290988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e-2% of pediatric tumors in North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rminoma-60-7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ignant” subtypes 15-2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bryonal, endodermal sinus, choriocarcino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atomas benign, immature and malignant 15-2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lignant-admixture of benign teratoma with one or more malignant germ cell 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0" descr="DVH.jpg"/>
          <p:cNvPicPr/>
          <p:nvPr/>
        </p:nvPicPr>
        <p:blipFill>
          <a:blip r:embed="rId1"/>
          <a:stretch/>
        </p:blipFill>
        <p:spPr>
          <a:xfrm>
            <a:off x="1219320" y="1371600"/>
            <a:ext cx="6730920" cy="39369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1"/>
          <p:cNvSpPr/>
          <p:nvPr/>
        </p:nvSpPr>
        <p:spPr>
          <a:xfrm>
            <a:off x="1777320" y="5562720"/>
            <a:ext cx="63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VH B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B and WV include dose to 24 Gy followed by a 16 Gy focal bo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cal RT single 40Gy treatmen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788 patients include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ighted  median age was 13.5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dian follow up 6.4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dian radiation dose to primary tumor 48.6 G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lapse rates subdivided into categories based on first relap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cal with or without other si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olated spinal relapse (what would be prevented by CSI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sites inside and outside C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therapy dose and volu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43 patients received C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 achieved in all but one patient (99.7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(1.2%) had isolated spinal relap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 (3.8%) overall relapse over half outside craniospinal ax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al relapse rate 0.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78 patients treated with whole brain or whole ventricul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  97.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 (2.9%) had isolated spinal relap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1 (7.6%) overall relap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al relapse rate 2.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33 focal radiotherap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  93.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 (11.3%) had isolated spinal relap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1 (23.3%) overall relapse 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al relapse rate 6.8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and Chemo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OP experience reported on chemotherapy + focal radiotherapy associated with a 10% excess risk of relapse in the ventricular area when compared to craniospinal radiotherap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 phase II study reported on patients with localized or metastatic germinoma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ated with 4 cycles of etoposide and cisplati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 disease treated with focal RT to prechemo volume + 2 cm margin with dose stratification based on respon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but one remained in complete remi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 II study reported by Matsutani et al 84% of patient with localized germinoma’s achieved a CR after induction chemotherap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received 24 Gy to a field including the third and lateral ventric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.2% relapse rate at 2.9 y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7% were out of fie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ase III study comparing radiotherapy alone vs chemotherapy followed  by Response-based Radiotherapy for Newly diagnosed primary CNS Germino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ratif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cal (M0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ccult multifocal (Modified M+) DI, M0 patients on Regimen B with significant reduction in “normal” pineal gland or pituitary stal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seminated (M+) (Patient M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men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ndard Radio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2895480"/>
          <a:ext cx="7696440" cy="148284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914400"/>
                <a:gridCol w="1600200"/>
                <a:gridCol w="1219320"/>
                <a:gridCol w="144792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ost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ric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lved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ric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lved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aniosp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lved 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men 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otherapy and Radio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8600" y="2666880"/>
          <a:ext cx="8686800" cy="3978360"/>
        </p:xfrm>
        <a:graphic>
          <a:graphicData uri="http://schemas.openxmlformats.org/drawingml/2006/table">
            <a:tbl>
              <a:tblPr/>
              <a:tblGrid>
                <a:gridCol w="1219320"/>
                <a:gridCol w="1676160"/>
                <a:gridCol w="1219320"/>
                <a:gridCol w="838080"/>
                <a:gridCol w="914400"/>
                <a:gridCol w="990720"/>
                <a:gridCol w="762120"/>
                <a:gridCol w="10666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otherapy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ost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carbo/et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 or M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cis/cycloph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 SD 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therapy alone for Germinomas can achieve high long-term rates &gt;9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tion in field size without additional therapy can achieve good local control rates in localized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otherapy may be able to help reduce failure rates so patient can receive reduced dose and field rad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partment of Radiation Medic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rles Thomas J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rol Marque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ohn Holl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rtin Fu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thur Hu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m W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sha McDona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trick Gagn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eline Bicqu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at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ccur in diencephalic structures-almost exclusively midline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ventric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ineal reg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Frequent 50-6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-35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al ganglia and thalamic nucle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ltifocal – Pineal and suprasellar “multiple midline germinomas” 2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neal germio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olescent m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st 2 decades no gender predi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ato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atomas-young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ignant” histio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der childrem adolescent and young ad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neal tum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vated intracranial pressure-compression of sylvian aquadu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inaud’s syndrome-ocular symptoms of decrease upward gaze, near-light dissociation, diminished converg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betes insipidus, precocious or delayed sexual development,  visual defic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um Mar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P-serum or CSF in embryonal, endodermal sinus or malignant teratoma-if posistive excludes a pure germino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HCG- 10IU-70IU in 10-20% pure germinomas, &gt;1000IU choriocarcino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for biopsy controvers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mmended for pineal tum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rasellar – biopsy considered essent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elevated tumor marke-any AFP or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HCG more then 100 some consider adequate to diagnose “malignant” G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C: Headac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PI: 11 year old boy who presented to OSH with a 1 month history of HA, polyuria, polydypsia and a several day history of double vis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aging: MRI revealed a tumor in the pineal and pituitary region with associated hydrocephal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7 x 2.2 cm (pinea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.9 x 1.5 x 1.2 cm (suprasellar tum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137134194.jpg"/>
          <p:cNvPicPr/>
          <p:nvPr/>
        </p:nvPicPr>
        <p:blipFill>
          <a:blip r:embed="rId1"/>
          <a:stretch/>
        </p:blipFill>
        <p:spPr>
          <a:xfrm>
            <a:off x="1981080" y="14479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1981080" y="1447920"/>
            <a:ext cx="1143000" cy="5331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aboratory evaluation revealed panhypopituitarism, nml AFP and beta-HCG in both serum and CSF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nagement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9/2008 placement of EV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14/2008 craniotomy with biopsy – non-diagnost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16/08 VP shunt plac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29/08 Second craniotomy with biopsy-non-diagnost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eatment of panhypopituitarism treated with DDAVP, hydrocortisone, and levothyrox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/27/2008 Endoscopic biopsy of third ventricle and pineal region tum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ndings – small amount of tumor noted to be coating the floor of the third ventricle as well as a fluffy tumor in the posterior third ventricle. Biopsies were obtained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44:27Z</dcterms:created>
  <dc:creator>crittend</dc:creator>
  <dc:description/>
  <dc:language>en-US</dc:language>
  <cp:lastModifiedBy>LEGION</cp:lastModifiedBy>
  <dcterms:modified xsi:type="dcterms:W3CDTF">2018-04-03T08:52:22Z</dcterms:modified>
  <cp:revision>109</cp:revision>
  <dc:subject/>
  <dc:title>Germinomas: An evolution in the use of Radiation</dc:title>
</cp:coreProperties>
</file>