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708-2D42-46F0-BDF9-831C531F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503-E23B-41E4-B2A3-7205289A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E0D8-24CC-4E8A-AF40-E87AD9E0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CC54-E7F9-4D7B-B43C-E54DCC2E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BC58-D233-40AB-84B5-032067D4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EDF0-A2DC-4EC6-9066-966A4D1F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A395-992B-41E0-880D-A1EC45A6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2D9C-B7D2-46F2-9918-0BEE2F18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76B6-CA42-4B38-BAAE-A487F400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F24D-E9AB-46E9-9B36-B8074EBA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61EA-09AD-4E6A-9F4A-2AF10641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7215-28A6-4CE1-A057-4B85136D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DA41-2C55-414E-AD99-9F59B4237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371680" cy="2590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609480" y="5059440"/>
            <a:ext cx="815364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President Clinton and Vice President Gore, righ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... It's Clinton's face twice, with two different haircut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276720" y="990720"/>
            <a:ext cx="472428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3879720" cy="5486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438280" y="6172200"/>
            <a:ext cx="457200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ee a couple or a skull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324480" cy="46958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2438280" y="5607000"/>
            <a:ext cx="426744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the black dots! :o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77320" cy="47289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1013040" y="5638680"/>
            <a:ext cx="67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horizontal lines parallel or do they slop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553080" cy="4613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828800" y="5486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legs does this elephant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3570120" cy="52578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2432160" y="5972040"/>
            <a:ext cx="39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ee the three faces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334120" cy="4610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981080" y="556272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es the sign say? Are you sur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700440" cy="5105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1833480" y="58672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the face? Or an Eski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568760" cy="4800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2057400" y="5562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 cube missing a corner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do you see a small cube in a big 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454640" cy="4724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622440" y="5638680"/>
            <a:ext cx="81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blue on the inner left back or the outer left fro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481640" cy="51818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646640" y="5791320"/>
            <a:ext cx="57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 musician or a girl's f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2716200" cy="4724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1752480" y="6095880"/>
            <a:ext cx="533412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's a face... and the wor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393000" y="257184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895480" y="380880"/>
            <a:ext cx="57913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725720" cy="54104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826920" y="6019920"/>
            <a:ext cx="77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n old man's face or two lovers kis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647960" cy="2789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133720" y="5257800"/>
            <a:ext cx="495288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they're both the sam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981080" y="990720"/>
            <a:ext cx="53341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left center circle bigger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819520" y="380880"/>
            <a:ext cx="419076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's a spiral, right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219320" y="5880240"/>
            <a:ext cx="723888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these are a bunch of independent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3684600" cy="5257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600200" y="380880"/>
            <a:ext cx="7010280" cy="28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taring at the black dot. After a whi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ay haze around it will appear to shrink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840200" cy="5105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895480" y="380880"/>
            <a:ext cx="548640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find the dog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2603520" cy="4610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914400" y="380880"/>
            <a:ext cx="822960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e at the black lightbulb for at least 30 second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immediately stare at a white area on the scr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t a sheet of paper. You should see a glowing light bulb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2235600" y="120600"/>
            <a:ext cx="434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colors do you see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371600" y="5638680"/>
            <a:ext cx="685800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nly 3 colors: White, green, and pin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seem to be two different shades of pink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re is only one pink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447920" y="165240"/>
            <a:ext cx="6933960" cy="6535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1:14:47Z</dcterms:created>
  <dc:creator>Carolyn Baker</dc:creator>
  <dc:description/>
  <dc:language>en-US</dc:language>
  <cp:lastModifiedBy>Asus</cp:lastModifiedBy>
  <dcterms:modified xsi:type="dcterms:W3CDTF">2018-03-09T15:37:47Z</dcterms:modified>
  <cp:revision>18</cp:revision>
  <dc:subject/>
  <dc:title>Optical Illusions</dc:title>
</cp:coreProperties>
</file>