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4.wmf" ContentType="image/x-wmf"/>
  <Override PartName="/ppt/media/image10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49.png" ContentType="image/png"/>
  <Override PartName="/ppt/media/image24.jpeg" ContentType="image/jpeg"/>
  <Override PartName="/ppt/media/image15.png" ContentType="image/png"/>
  <Override PartName="/ppt/media/image3.jpeg" ContentType="image/jpeg"/>
  <Override PartName="/ppt/media/image25.jpeg" ContentType="image/jpeg"/>
  <Override PartName="/ppt/media/image4.jpeg" ContentType="image/jpeg"/>
  <Override PartName="/ppt/media/image40.png" ContentType="image/png"/>
  <Override PartName="/ppt/media/image26.jpeg" ContentType="image/jpeg"/>
  <Override PartName="/ppt/media/image5.jpeg" ContentType="image/jpeg"/>
  <Override PartName="/ppt/media/image50.png" ContentType="image/png"/>
  <Override PartName="/ppt/media/image30.jpeg" ContentType="image/jpeg"/>
  <Override PartName="/ppt/media/image33.jpeg" ContentType="image/jpeg"/>
  <Override PartName="/ppt/media/image42.jpeg" ContentType="image/jpeg"/>
  <Override PartName="/ppt/media/image41.png" ContentType="image/png"/>
  <Override PartName="/ppt/media/image43.wmf" ContentType="image/x-wmf"/>
  <Override PartName="/ppt/media/image53.jpeg" ContentType="image/jpeg"/>
  <Override PartName="/ppt/media/image44.jpeg" ContentType="image/jpeg"/>
  <Override PartName="/ppt/media/image46.jpeg" ContentType="image/jpeg"/>
  <Override PartName="/ppt/media/image31.jpeg" ContentType="image/jpeg"/>
  <Override PartName="/ppt/media/image47.wmf" ContentType="image/x-wmf"/>
  <Override PartName="/ppt/media/image51.png" ContentType="image/png"/>
  <Override PartName="/ppt/media/image12.wmf" ContentType="image/x-wmf"/>
  <Override PartName="/ppt/media/image36.png" ContentType="image/png"/>
  <Override PartName="/ppt/media/image48.png" ContentType="image/png"/>
  <Override PartName="/ppt/media/image52.png" ContentType="image/png"/>
  <Override PartName="/ppt/media/image13.wmf" ContentType="image/x-wmf"/>
  <Override PartName="/ppt/media/image28.png" ContentType="image/png"/>
  <Override PartName="/ppt/media/image11.jpeg" ContentType="image/jpeg"/>
  <Override PartName="/ppt/media/image38.png" ContentType="image/png"/>
  <Override PartName="/ppt/media/image8.png" ContentType="image/png"/>
  <Override PartName="/ppt/media/image16.wmf" ContentType="image/x-wmf"/>
  <Override PartName="/ppt/media/image45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39.png" ContentType="image/png"/>
  <Override PartName="/ppt/media/image9.png" ContentType="image/png"/>
  <Override PartName="/ppt/media/image22.jpeg" ContentType="image/jpeg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333A-9FB4-4919-A260-C5FB9C86E0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rence and Conditions for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chelson Interferome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-Film Interfere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through a Single Slit: Qualitative Behavi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-Slit Interference: Young’s Experiment of Light from a Single Sl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Gratin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Resolution and the Rayleigh Criter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the Sky Blu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rence and Conditions for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chelson Interferome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-Film Interfer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through a Single Slit: Qualitative Behavi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-Slit Interference: Young’s Experiment of Light from a Single Sl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Grat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Resolution and the Rayleigh Criter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the Sky Blu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-Film Interfere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e a thin soap film rests on a flat glas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pper surface of the soap film is similar to the beam splitter in the interfero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eflects part of the incoming light and allows the rest to be transmitted into the soap layer after refraction at the air-soap inte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-Film Interfer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e a thin soap film rests on a flat glas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pper surface of the soap film is similar to the beam splitter in the interfer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eflects part of the incoming light and allows the rest to be transmitted into the soap layer after refraction at the air-soap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nsmitted ray is partially reflected at the bottom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wo outgoing rays meet the conditions for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travel through different 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recombine when they leave the fil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oherent because they originated from the same source and initial r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speed of the wave inside the fil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length changes as the light wave travels from a vacuum into the fil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extra wavelengths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nsmitted ray is partially reflected at the bottom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wo outgoing rays meet the conditions for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travel through different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recombine when they leave the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oherent because they originated from the same source and initial 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speed of the wave inside the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length changes as the light wave travels from a vacuum into the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extra wavelengths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-Film Interference, Cas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s reflected by a thin film undergo a phase ch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extra cycles traveled by the ray inside the film completely determines the nature of the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number of extra cycles, N, is an integer, there is constructive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number of extra cycles is a half-integer, there is destructive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if: nair &lt; nfilm &lt; n(substance below the film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-Film Interference, Cas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s reflected by a thin film undergo a phase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extra cycles traveled by the ray inside the film completely determines the nature of the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number of extra cycles, N, is an integer, there is constructive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number of extra cycles is a half-integer, there is destructive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if: nair &lt; nfilm &lt; n(substance below the film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-Film Interference, Cas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e the soap bubble is surrounded by 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 phase change at the top of the bub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phase change at the bottom of the bub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only one wave undergoes a phase change, the interference conditions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-Film Interference, Cas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e the soap bubble is surrounded by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 phase change at the top of the bub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phase change at the bottom of the bub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only one wave undergoes a phase change, the interference condition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5 .3 Color and Thickness of a Soap Fil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a bubble formed from a thin, soapy film that looks blue when viewed at normal incidence. Estimate the thickness of the film. Assume its index of refraction is nfilm=1.35 and blue light has a wavelength λblue=400 nm. Also assume the film is so thin that thinner films are not able to give constructive interfer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ference here is destructive and we consider m=0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5 .3 Color and Thickness of a Soap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a bubble formed from a thin, soapy film that looks blue when viewed at normal incidence. Estimate the thickness of the film. Assume its index of refraction is nfilm=1.35 and blue light has a wavelength λblue=400 nm. Also assume the film is so thin that thinner films are not able to give constructive inter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ference here is destructive and we consider m=0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through a Single Slit: Qualitative Behavi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passes through a slit or opening and then illuminates a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 width of the slit becomes closer to the wavelength of the light, the intensity pattern on the screen and additional maxima become notice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through a Single Slit: Qualitative Behavi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passes through a slit or opening and then illuminates a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 width of the slit becomes closer to the wavelength of the light, the intensity pattern on the screen and additional maxima become notice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-Slit 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wave example of single-slit 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ypes of waves undergo single-slit 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is the bending or spreading of a wave when it passes through an op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useful to draw the wave fronts and rays for the incident and diffracting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ygen’s Principle can be stated as all points on a wave front can be thought of as new sources of spherical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-Slit Dif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wave example of single-slit dif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ypes of waves undergo single-slit dif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is the bending or spreading of a wave when it passes through an op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useful to draw the wave fronts and rays for the incident and diffracting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ygen’s Principle can be stated as all points on a wave front can be thought of as new sources of spherical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-Slit Interference: Young’s Experiment of Light from a Single Sl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-Slit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passes through two very narrow sl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two slits are both very narrow, each slit acts as a simple point source of new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going waves from each slit are like simple spherical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uble slit experiment showed conclusively that light is a w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 was first carried out by Thomas Young around 18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-Slit Interference: Young’s Experiment of Light from a Single Sl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-Slit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passes through two very narrow sl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two slits are both very narrow, each slit acts as a simple point source of new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going waves from each slit are like simple spherical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uble slit experiment showed conclusively that light is a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 was first carried out by Thomas Young around 1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’s Double-Slit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incident onto two slits and after passing through them strikes a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intensity on the screen shows an interference patte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lits are separated by a distance d, then the difference in length between the paths of the two rays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ΔL = d sin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’s Double-Slit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incident onto two slits and after passing through them strikes a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intensity on the screen shows an interference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lits are separated by a distance d, then the difference in length between the paths of the two rays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ΔL = d sin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constructive interference, d sinθ = m 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0, ±1, ±2, 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observe a bright fri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intensity will be 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s will be in phase when they strike the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destructive interference, d sinθ = (m + ½) 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0, ±1, ±2, 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observe a dark fri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intensity will be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s will not be in phase when they strike the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constructive interference, d sinθ = m 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0, ±1, ±2,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observe a bright fri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intensity will be 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s will be in phase when they strike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destructive interference, d sinθ = (m + ½) 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0, ±1, ±2,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observe a dark fri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intensity will be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s will not be in phase when they strike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rence and Conditions for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 Op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eld of wave optics studies the properties of light that depend on its wave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ginally light was thought to be a particle and that model successfully explained the phenomena discussed in geometric op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xwell’s theory of electromagnetism convinced physicists that light was a w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discussing image characteristics over distances much greater than the wavelength, geometric optics is extremely accu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dealing with sizes comparable to or smaller than the wavelength, wave optics is requi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rence and Conditions for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 Op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eld of wave optics studies the properties of light that depend on its wave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ginally light was thought to be a particle and that model successfully explained the phenomena discussed in geometric op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xwell’s theory of electromagnetism convinced physicists that light was a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discussing image characteristics over distances much greater than the wavelength, geometric optics is extremely accu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dealing with sizes comparable to or smaller than the wavelength, wave optics is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-Slit Intensity Patte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gle θ varies as you move along the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bright fringe corresponds to a different value of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 values of m indicate that the path to those points on the screen from the lower slit is shorter than the path from the upper sl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m = 1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 angle is very small, sin θ ~ θ and θ ~ λ/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m = 0 and m = 1, h = W tan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is the distance between the sl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is the distance between the slits and the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is the distance between the adjacent bright frin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-Slit Intensity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gle θ varies as you move along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bright fringe corresponds to a different value of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 values of m indicate that the path to those points on the screen from the lower slit is shorter than the path from the upper s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m = 1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 angle is very small, sin θ ~ θ and θ ~ λ/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m = 0 and m = 1, h = W tan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is the distance between the sl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is the distance between the slits and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is the distance between the adjacent bright fri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roxi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mall angles, tan θ ~ θ and sin θ ~ 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approximations, h = W θ = W λ /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ence with Monochromatic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with a single frequency is called monochromatic (one colo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sources with a variety of wavelengths are generally not useful for double-slit interference experi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right and dark fringes may overlap or the total pattern may be a “washed out” sum of bright and dark 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bright or dark fringes will be vi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rox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mall angles, tan θ ~ θ and sin θ ~ 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approximations, h = W θ = W λ /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ence with Monochromatic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with a single frequency is called monochromatic (one col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sources with a variety of wavelengths are generally not useful for double-slit interference experi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right and dark fringes may overlap or the total pattern may be a “washed out” sum of bright and dark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bright or dark fringes will be vi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5 .5 Measuring the Wavelength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’s double-slit experiment shows that light is indeed a wave and also gives a way to measure the wavelength. Suppose the double-slit experiment in Figure 25.20 is carried out with a slit spacing d=0.40 mm and the screen at a distance W=1.5 m. If the bright fringes nearest the center of the screen are separated by a distance h=1.5 mm, what is the wavelength of the l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5 .5 Measuring the Wavelength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’s double-slit experiment shows that light is indeed a wave and also gives a way to measure the wavelength. Suppose the double-slit experiment in Figure 25.20 is carried out with a slit spacing d=0.40 mm and the screen at a distance W=1.5 m. If the bright fringes nearest the center of the screen are separated by a distance h=1.5 mm, what is the wavelength of the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-Slit Diffraction: Interfere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ts may be narrow enough to exhibit diffraction but not so narrow that they can be treated as a single point source of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e the single slit has a width,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diffracted as it passes through the slit and then propagates to the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key to the calculation of where the fringes occur is Huygen’s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points across the slit act as wave 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different waves interfere at the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nalysis, divide the slit into two pa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-Slit Diffraction: Interfer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ts may be narrow enough to exhibit diffraction but not so narrow that they can be treated as a single point source of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e the single slit has a width, 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diffracted as it passes through the slit and then propagates to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key to the calculation of where the fringes occur is Huygen’s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points across the slit act as wave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different waves interfere at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nalysis, divide the slit into two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one point in each part of the slit satisfies the conditions for destructive interference, the waves from all similar sets of points will also interfere destructive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tructive interference will produce a dark fri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-Slit Analysis: Dark Frin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itions for destructive interference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sin θ = ±m λ (m = 1, 2, 3, …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gative sign will correspond to a fringe below the center of the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one point in each part of the slit satisfies the conditions for destructive interference, the waves from all similar sets of points will also interfere destru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tructive interference will produce a dark fri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-Slit Analysis: Dark Frin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itions for destructive interference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sin θ = ±m λ (m = 1, 2, 3, …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gative sign will correspond to a fringe below the center of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-Slit Analysis: Bright Frin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simple formula for the angles at which the bright fringes occ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nsity on the screen can be calculated by adding up all the Huygens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 central bright fring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ntral fringe is called the central max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ntral fringe is about 20 times more intense than the bright fringes on either s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idth of the central bright fringe is approximately the angular separation of the first dark fringes on either sideThe full angular width of the central bright fringe = 2 λ /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lit is much wider than the wavelength, the light beam essentially passes straight through the slit with almost no effect from 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-Slit Analysis: Bright Fri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simple formula for the angles at which the bright fringes occ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nsity on the screen can be calculated by adding up all the Huygens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 central bright frin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ntral fringe is called the central max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ntral fringe is about 20 times more intense than the bright fringes on either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idth of the central bright fringe is approximately the angular separation of the first dark fringes on either sideThe full angular width of the central bright fringe = 2 λ / 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lit is much wider than the wavelength, the light beam essentially passes straight through the slit with almost no effect from dif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Gratin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rrangement of many slits is called a diffraction gr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p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lits are narr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one produces a single outgoing w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reen is very far a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lit-to-slit spacing is d, then the path length difference for the rays from two adjacent slits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ΔL = d sin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ΔL is equal to an integral number of wavelengths, constructive interference occ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bright fringe, d sin θ = m λ (m = 0, ±1, ±2, 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Grat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rrangement of many slits is called a diffraction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lits are nar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one produces a single outgoing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reen is very far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lit-to-slit spacing is d, then the path length difference for the rays from two adjacent slit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ΔL = d sin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ΔL is equal to an integral number of wavelengths, constructive interference occ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bright fringe, d sin θ = m λ (m = 0, ±1, ±2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dition for bright fringes from a diffraction grating is identical to the condition for constructive interference from a double sl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verall intensity pattern depends on the number of sl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ger the number of slits, the narrower the pea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dition for bright fringes from a diffraction grating is identical to the condition for constructive interference from a double s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verall intensity pattern depends on the number of sl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ger the number of slits, the narrower the pea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5 .6 Diffraction of Light by a Gr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ffraction experiment is carried out with a grating. Using light from a red laser (λ = 630 nm), the diffraction fringes are separated by h=0.15 m on a screen that is W=2.0 m from the grating. Find the spacing d between slits in the gra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5 .6 Diffraction of Light by a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ffraction experiment is carried out with a grating. Using light from a red laser (λ = 630 nm), the diffraction fringes are separated by h=0.15 m on a screen that is W=2.0 m from the grating. Find the spacing d between slits in the gr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Resolution and the Rayleigh Criter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circular opening of diameter D, the angle between the central bright maximum and the first minimum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rcular geometry leads to the additional numerical factor of 1.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Resolution and the Rayleigh Criter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circular opening of diameter D, the angle between the central bright maximum and the first minimum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rcular geometry leads to the additional numerical factor of 1.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property unique to waves is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ence of sound waves can be produced by two spea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ive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waves are in phase, their maxima occur at the same time at a given point in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wave displacement at the listener’s location is the sum of the displacements of the two individual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wo waves are in phase, the sum of their displacements is 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property unique to waves is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ence of sound waves can be produced by two spea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ive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waves are in phase, their maxima occur at the same time at a given point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wave displacement at the listener’s location is the sum of the displacements of the two individual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wo waves are in phase, the sum of their displacements is 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leigh Criter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two sources are sufficiently far apart, they can be seen as two separate diffraction spots (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ources are too close together, their diffraction spots will overlap so much that they appear as a single spot (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                                              B                                          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sources will be resolved as two distinct sources of light if their angular separation is greater than the angular spread of a single diffraction sp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leigh Crite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two sources are sufficiently far apart, they can be seen as two separate diffraction spots 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ources are too close together, their diffraction spots will overlap so much that they appear as a single spot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                                              B                                          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sources will be resolved as two distinct sources of light if their angular separation is greater than the angular spread of a single diffraction sp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esult is called the Rayleigh criter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circular opening, the Rayleigh criterion for the angular resolution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objects will be resolved when viewed through an opening of diameter D if the light rays from the two objects are separated by an angle at least as large as θm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esult is called the Rayleigh crite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circular opening, the Rayleigh criterion for the angular resolutio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objects will be resolved when viewed through an opening of diameter D if the light rays from the two objects are separated by an angle at least as large as θm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5 .7 Rayleigh Criterion for a Marksma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ifle used for target shooting has a small telescope so that the shooter can accurately aim at his target. Suppose the telescope has a diameter D=1.5 cm and the shooter is looking at two small objects that are L=200 m away. If the shooter is just barely able to tell that there are two objects (and not one), how far apart are the objects? Assume red light with λ=600 n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5 .7 Rayleigh Criterion for a Marksm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ifle used for target shooting has a small telescope so that the shooter can accurately aim at his target. Suppose the telescope has a diameter D=1.5 cm and the shooter is looking at two small objects that are L=200 m away. If the shooter is just barely able to tell that there are two objects (and not one), how far apart are the objects? Assume red light with λ=600 n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the Sky Blu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we see from the sky is sunlight scattered by the molecules in the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lecules are much smaller than the wavelength of visibl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catter blue light more strongly than 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gives the atmosphere its blue 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ue sk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hough violet scatters more than blue, the sky appears bl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emits more strongly in blue than viol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eyes are more sensitive to bl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ky appears blue even though the violet light is scattered m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near horiz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ore molecules to scatter th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blue is scattered away, leaving the 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the Sky Blu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we see from the sky is sunlight scattered by the molecules in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lecules are much smaller than the wavelength of visibl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catter blue light more strongly than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gives the atmosphere its blue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ue 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hough violet scatters more than blue, the sky appears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emits more strongly in blue than vio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eyes are more sensitive to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ky appears blue even though the violet light is scattered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near hori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ore molecules to scatter th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blue is scattered away, leaving the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tructive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ximum of one wave can coincide with the minimum of the other w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ves are out of ph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ference is destructive when the waves are out of ph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waves are 180° out of phase, the sum of the displacements of the two waves is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tructive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ximum of one wave can coincide with the minimum of the other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ves are out of 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ference is destructive when the waves are out of 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waves are 180° out of phase, the sum of the displacements of the two waves is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conditions for interferen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waves can interfere if all the following conditions are m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Two or more interfering waves travel through different regions of space over at least part of their propagation from source to destin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waves are brought together at a common poi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The waves must have the same frequency and must also have a fixed phase relationship. Thus, over a given distance or time interval the phase difference between the waves remains constant. Such waves are called coher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conditions for interfer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waves can interfere if all the following conditions are m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Two or more interfering waves travel through different regions of space over at least part of their propagation from source to destin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waves are brought together at a common poi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The waves must have the same frequency and must also have a fixed phase relationship. Thus, over a given distance or time interval the phase difference between the waves remains constant. Such waves are called cohe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chelson Interferome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chelson interferometer is based on the interference of reflected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reflecting mirrors are mounted at right 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hird mirror is partially reflec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a beam spli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cident light hits the beam splitter and is divided into two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s reflect from the mirrors at the top and right and recombine at the beam spli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chelson Interferome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chelson interferometer is based on the interference of reflected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reflecting mirrors are mounted at right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hird mirror is partially reflec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a beam spl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cident light hits the beam splitter and is divided into two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s reflect from the mirrors at the top and right and recombine at the beam spl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being reflected again from the beam splitter, portions of the waves combine at the det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nly difference between the two waves is that they travel different distances between their respective mirrors and the beam spli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th length difference is ΔL = 2L2 – 2L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th length difference is related to the wavelength of th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N is an integer, the two waves are in phase and produce constructive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N is a half-integer the waves will produce destructive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being reflected again from the beam splitter, portions of the waves combine at the det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nly difference between the two waves is that they travel different distances between their respective mirrors and the beam spl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th length difference is ΔL = 2L2 – 2L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th length difference is related to the wavelength of th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N is an integer, the two waves are in phase and produce constructive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N is a half-integer the waves will produce destructive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constructive interference, ΔL = m 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destructive interference, ΔL = (m + ½) 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is an integer in both c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interference is constructive, the light intensity at the detector is 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a bright fri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interference is destructive, the light intensity at the detector is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a dark fri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constructive interference, ΔL = m 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destructive interference, ΔL = (m + ½) 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is an integer in both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interference is constructive, the light intensity at the detector is 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a bright fri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interference is destructive, the light intensity at the detector is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a dark fri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elium–neon (He–Ne) laser emits light with a wavelength of approximately λHe–Ne =633 nm. Suppose this light source is used in a Michelson interferometer and one of the mirrors is moved a distance d such that exactly N = 1,000,000 bright fringes are counted, calculate 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mirror moves a distance d, the distance traveled by the light changes by 2d because the light travels back and forth between the beam splitter and the mi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= 0.5×1000000×633×10-9m=0.317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ΔL=2L2 – 2L1=2(L2 – L1)=2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elium–neon (He–Ne) laser emits light with a wavelength of approximately λHe–Ne =633 nm. Suppose this light source is used in a Michelson interferometer and one of the mirrors is moved a distance d such that exactly N = 1,000,000 bright fringes are counted, calculate 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mirror moves a distance d, the distance traveled by the light changes by 2d because the light travels back and forth between the beam splitter and the mirr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= 0.5×1000000×633×10-9m=0.317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ΔL=2L2 – 2L1=2(L2 – L1)=2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1159-0490-48DB-BAD4-EB422BBF6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D1CD-D242-494A-9446-90C76551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2E50-0A56-4C20-8A97-A37406405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0DCE-F29D-403D-B521-A8DEE78DB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92F3-BA74-4F74-A8BD-85D98E33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70EA-89BC-4E2E-ABA8-9A2ACCE1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1247-097B-4CDE-91BC-D994D242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75D4-8EF0-4D9B-AA4C-24E451F0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07D9-FE5A-4D72-82F0-1D1D303E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2B7C-83B3-4358-B72B-05F71B16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13B2-08A9-4F04-838B-C5AAD6F0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1E1F-92C7-4D6F-B075-0C60F642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EC62-77DD-4701-9688-AD968392E6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9410-02AB-4588-903E-818183658F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herence and Conditions for Interfe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ichelson Interferome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-Film Interferen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ht through a Single Slit: Qualitative Behavi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Slit Interference: Young’s Experiment of Light from a Single Sl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raction Grating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cal Resolution and the Rayleigh Criter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Is the Sky Blu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-Film Interferenc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8" descr="25p875_f07"/>
          <p:cNvPicPr/>
          <p:nvPr/>
        </p:nvPicPr>
        <p:blipFill>
          <a:blip r:embed="rId1"/>
          <a:stretch/>
        </p:blipFill>
        <p:spPr>
          <a:xfrm>
            <a:off x="228600" y="4267080"/>
            <a:ext cx="8726400" cy="2286000"/>
          </a:xfrm>
          <a:prstGeom prst="rect">
            <a:avLst/>
          </a:prstGeom>
          <a:ln w="0">
            <a:noFill/>
          </a:ln>
        </p:spPr>
      </p:pic>
      <p:sp>
        <p:nvSpPr>
          <p:cNvPr id="90" name="Content Placeholder 2"/>
          <p:cNvSpPr/>
          <p:nvPr/>
        </p:nvSpPr>
        <p:spPr>
          <a:xfrm>
            <a:off x="457200" y="1066680"/>
            <a:ext cx="8534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sume a thin soap film rests on a flat glass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upper surface of the soap film is similar to the beam splitter in the interfero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t reflects part of the incoming light and allows the rest to be transmitted into the soap layer after refraction at the air-soap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15228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transmitted ray is partially reflected at the bottom su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two outgoing rays meet the conditions for inter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y travel through different re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y recombine when they leave the fil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y are coherent because they originated from the same source and initial r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Content Placeholder 2"/>
          <p:cNvSpPr/>
          <p:nvPr/>
        </p:nvSpPr>
        <p:spPr>
          <a:xfrm>
            <a:off x="457200" y="3809880"/>
            <a:ext cx="8686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om the speed of the wave inside the fi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2"/>
          <p:cNvGraphicFramePr/>
          <p:nvPr/>
        </p:nvGraphicFramePr>
        <p:xfrm>
          <a:off x="3505320" y="4419720"/>
          <a:ext cx="1830240" cy="83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4419720"/>
                    <a:ext cx="183024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Content Placeholder 2"/>
          <p:cNvSpPr/>
          <p:nvPr/>
        </p:nvSpPr>
        <p:spPr>
          <a:xfrm>
            <a:off x="457200" y="5181480"/>
            <a:ext cx="86868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wavelength changes as the light wave travels from a vacuum into the fi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number of extra wavelengths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6553080" y="6049800"/>
          <a:ext cx="1094040" cy="80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3080" y="6049800"/>
                    <a:ext cx="109404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7632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n-Film Interference, Cas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aves reflected by a thin film undergo a phase 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number of extra cycles traveled by the ray inside the film completely determines the nature of the inter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 number of extra cycle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 is an integer, there is constructive inter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 number of extra cycles is a half-integer, there is destructive inter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Object 2"/>
          <p:cNvGraphicFramePr/>
          <p:nvPr/>
        </p:nvGraphicFramePr>
        <p:xfrm>
          <a:off x="384120" y="4038480"/>
          <a:ext cx="502596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4038480"/>
                    <a:ext cx="502596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Content Placeholder 2"/>
          <p:cNvSpPr/>
          <p:nvPr/>
        </p:nvSpPr>
        <p:spPr>
          <a:xfrm>
            <a:off x="304920" y="6172200"/>
            <a:ext cx="5029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nly if: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ai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&lt;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film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&lt;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(substance below the film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3"/>
          <a:stretch/>
        </p:blipFill>
        <p:spPr>
          <a:xfrm>
            <a:off x="5791320" y="4267080"/>
            <a:ext cx="3130560" cy="2133720"/>
          </a:xfrm>
          <a:prstGeom prst="rect">
            <a:avLst/>
          </a:prstGeom>
          <a:ln w="0">
            <a:noFill/>
          </a:ln>
        </p:spPr>
      </p:pic>
      <p:sp>
        <p:nvSpPr>
          <p:cNvPr id="105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151920"/>
            <a:ext cx="86868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n-Film Interference, Cas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sume the soap bubble is surrounded by 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re is a phase change at the top of the bub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re is no phase change at the bottom of the bub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nce only one wave undergoes a phase change, the interference conditions 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Object 2"/>
          <p:cNvGraphicFramePr/>
          <p:nvPr/>
        </p:nvGraphicFramePr>
        <p:xfrm>
          <a:off x="509760" y="3352680"/>
          <a:ext cx="535752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3352680"/>
                    <a:ext cx="53575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Picture 3" descr=""/>
          <p:cNvPicPr/>
          <p:nvPr/>
        </p:nvPicPr>
        <p:blipFill>
          <a:blip r:embed="rId3"/>
          <a:stretch/>
        </p:blipFill>
        <p:spPr>
          <a:xfrm>
            <a:off x="6019920" y="2895480"/>
            <a:ext cx="2965320" cy="2295720"/>
          </a:xfrm>
          <a:prstGeom prst="rect">
            <a:avLst/>
          </a:prstGeom>
          <a:ln w="0">
            <a:noFill/>
          </a:ln>
        </p:spPr>
      </p:pic>
      <p:sp>
        <p:nvSpPr>
          <p:cNvPr id="11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3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7632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ample 25 .3 Color and Thickness of a Soap Fil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a bubble formed from a thin, soapy film that looks blue when viewed at normal incidence. Estimate the thickness of the film. Assume its index of refraction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il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.35 and blue light has a wavelength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400 nm. Also assume the film is so thin that thinner films are not able to give constructive interfere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lution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762120" y="4381560"/>
            <a:ext cx="2106360" cy="799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5316480" y="4370400"/>
            <a:ext cx="3141720" cy="811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3"/>
          <a:stretch/>
        </p:blipFill>
        <p:spPr>
          <a:xfrm>
            <a:off x="1676520" y="5559480"/>
            <a:ext cx="6365880" cy="765000"/>
          </a:xfrm>
          <a:prstGeom prst="rect">
            <a:avLst/>
          </a:prstGeom>
          <a:ln w="0">
            <a:noFill/>
          </a:ln>
        </p:spPr>
      </p:pic>
      <p:cxnSp>
        <p:nvCxnSpPr>
          <p:cNvPr id="115" name="Straight Arrow Connector 6"/>
          <p:cNvCxnSpPr/>
          <p:nvPr/>
        </p:nvCxnSpPr>
        <p:spPr>
          <a:xfrm>
            <a:off x="3200040" y="4723920"/>
            <a:ext cx="160092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6" name="Rectangle 7"/>
          <p:cNvSpPr/>
          <p:nvPr/>
        </p:nvSpPr>
        <p:spPr>
          <a:xfrm>
            <a:off x="457200" y="34290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interference here is destructive and we consider m=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ht through a Single Slit: Qualitative Behavi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Content Placeholder 3"/>
          <p:cNvSpPr/>
          <p:nvPr/>
        </p:nvSpPr>
        <p:spPr>
          <a:xfrm>
            <a:off x="304920" y="914400"/>
            <a:ext cx="8839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ght passes through a slit or opening and then illuminates a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 the width of the slit becomes closer to the wavelength of the light, the intensity pattern on the screen and additional maxima become notice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25p881_f15"/>
          <p:cNvPicPr/>
          <p:nvPr/>
        </p:nvPicPr>
        <p:blipFill>
          <a:blip r:embed="rId1"/>
          <a:stretch/>
        </p:blipFill>
        <p:spPr>
          <a:xfrm>
            <a:off x="1944720" y="3505320"/>
            <a:ext cx="5568840" cy="3047760"/>
          </a:xfrm>
          <a:prstGeom prst="rect">
            <a:avLst/>
          </a:prstGeom>
          <a:ln w="0">
            <a:noFill/>
          </a:ln>
        </p:spPr>
      </p:pic>
      <p:sp>
        <p:nvSpPr>
          <p:cNvPr id="121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25p882_f16"/>
          <p:cNvPicPr/>
          <p:nvPr/>
        </p:nvPicPr>
        <p:blipFill>
          <a:blip r:embed="rId1"/>
          <a:stretch/>
        </p:blipFill>
        <p:spPr>
          <a:xfrm>
            <a:off x="6394320" y="76320"/>
            <a:ext cx="2673360" cy="28954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57200" y="45720"/>
            <a:ext cx="5867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ngle-Slit Diffr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ater wave example of single-slit diffr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ll types of waves undergo single-slit diffra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ffra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is the bending or spreading of a wave when it passes through an ope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Content Placeholder 2"/>
          <p:cNvSpPr/>
          <p:nvPr/>
        </p:nvSpPr>
        <p:spPr>
          <a:xfrm>
            <a:off x="457200" y="3657600"/>
            <a:ext cx="57913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t is useful to draw the wave fronts and rays for the incident and diffracting w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uygen</a:t>
            </a:r>
            <a:r>
              <a:rPr b="1" i="1" lang="ja-JP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’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 Princip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n be stated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ll points on a wave front can be thought of as new sources of spherical w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25p882_f17"/>
          <p:cNvPicPr/>
          <p:nvPr/>
        </p:nvPicPr>
        <p:blipFill>
          <a:blip r:embed="rId2"/>
          <a:stretch/>
        </p:blipFill>
        <p:spPr>
          <a:xfrm>
            <a:off x="6324480" y="3657600"/>
            <a:ext cx="2738520" cy="3143160"/>
          </a:xfrm>
          <a:prstGeom prst="rect">
            <a:avLst/>
          </a:prstGeom>
          <a:ln w="0">
            <a:noFill/>
          </a:ln>
        </p:spPr>
      </p:pic>
      <p:sp>
        <p:nvSpPr>
          <p:cNvPr id="126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2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Slit Interference: Young’s Experiment of Light from a Single Sl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2949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uble-Slit Inter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ght passes through two very narrow sl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hen the two slits are both very narrow, each slit acts as a simple point source of new wa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outgoing waves from each slit are like simple spherical wa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double slit experiment showed conclusively that light is a wa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xperiment was first carried out by Thomas Young around 18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6" descr="25p883_f18"/>
          <p:cNvPicPr/>
          <p:nvPr/>
        </p:nvPicPr>
        <p:blipFill>
          <a:blip r:embed="rId1"/>
          <a:stretch/>
        </p:blipFill>
        <p:spPr>
          <a:xfrm>
            <a:off x="6372360" y="152280"/>
            <a:ext cx="2619360" cy="25909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6840" y="75960"/>
            <a:ext cx="57913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Young’s Double-Slit Experi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ght is incident onto two slits and after passing through them strikes a scr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light intensity on the screen shows an interference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Content Placeholder 2"/>
          <p:cNvSpPr/>
          <p:nvPr/>
        </p:nvSpPr>
        <p:spPr>
          <a:xfrm>
            <a:off x="457200" y="3017880"/>
            <a:ext cx="5791320" cy="23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 slits are separated by a distance d, then the difference in length between the paths of the two rays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sin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25p883_f19"/>
          <p:cNvPicPr/>
          <p:nvPr/>
        </p:nvPicPr>
        <p:blipFill>
          <a:blip r:embed="rId2"/>
          <a:stretch/>
        </p:blipFill>
        <p:spPr>
          <a:xfrm>
            <a:off x="6324480" y="2819520"/>
            <a:ext cx="2686320" cy="2286000"/>
          </a:xfrm>
          <a:prstGeom prst="rect">
            <a:avLst/>
          </a:prstGeom>
          <a:ln w="0">
            <a:noFill/>
          </a:ln>
        </p:spPr>
      </p:pic>
      <p:sp>
        <p:nvSpPr>
          <p:cNvPr id="134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1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6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22824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constructive interference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sin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 = 0, ±1, ±2, …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Will observe a bright fri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he light intensity will be lar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waves will be in phase when they strike the scr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destructive interference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sin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+ ½)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 = 0, ±1, ±2, …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Will observe a dark fri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he light intensity will be z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waves will not be in phase when they strike the scr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0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8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1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7" dur="5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herence and Conditions for Interfe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8240" y="99036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ave Optic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field of wave optics studies the properties of light that depend on its wave natur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riginally light was thought to be a particle and that model successfully explained the phenomena discussed in geometric optic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xwell’s theory of electromagnetism convinced physicists that light was a wav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hen discussing image characteristics over distances much greater than the wavelength, geometric optics is extremely accura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hen dealing with sizes comparable to or smaller than the wavelength, wave optics is requir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75960"/>
            <a:ext cx="4952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uble-Slit Intensity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angle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varies as you move along the scr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ach bright fringe corresponds to a different value of 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egative values of m indicate that the path to those points on the screen from the lower slit is shorter than the path from the upper sl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6" descr="25p883_f20"/>
          <p:cNvPicPr/>
          <p:nvPr/>
        </p:nvPicPr>
        <p:blipFill>
          <a:blip r:embed="rId1"/>
          <a:stretch/>
        </p:blipFill>
        <p:spPr>
          <a:xfrm>
            <a:off x="5475240" y="76320"/>
            <a:ext cx="3668760" cy="2286000"/>
          </a:xfrm>
          <a:prstGeom prst="rect">
            <a:avLst/>
          </a:prstGeom>
          <a:ln w="0">
            <a:noFill/>
          </a:ln>
        </p:spPr>
      </p:pic>
      <p:sp>
        <p:nvSpPr>
          <p:cNvPr id="139" name="Content Placeholder 2"/>
          <p:cNvSpPr/>
          <p:nvPr/>
        </p:nvSpPr>
        <p:spPr>
          <a:xfrm>
            <a:off x="457200" y="4724280"/>
            <a:ext cx="8686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m = 1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nce the angle is very small, sin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~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and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~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0 and m = 1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tan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2"/>
          <p:cNvGraphicFramePr/>
          <p:nvPr/>
        </p:nvGraphicFramePr>
        <p:xfrm>
          <a:off x="2971800" y="4648320"/>
          <a:ext cx="1282680" cy="81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4648320"/>
                    <a:ext cx="128268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Rectangle 11"/>
          <p:cNvSpPr/>
          <p:nvPr/>
        </p:nvSpPr>
        <p:spPr>
          <a:xfrm>
            <a:off x="5486400" y="2514600"/>
            <a:ext cx="3657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distance between the sl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distance between the slits and the 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distance between the adjacent bright fri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9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4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9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52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pproxim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small angles, tan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~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and sin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~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sing the approximation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/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Content Placeholder 2"/>
          <p:cNvSpPr/>
          <p:nvPr/>
        </p:nvSpPr>
        <p:spPr>
          <a:xfrm>
            <a:off x="457200" y="1981080"/>
            <a:ext cx="86868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terference with Monochromatic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ght with a single frequency is calle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onochrom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(one col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ght sources with a variety of wavelengths are generally not useful for double-slit interference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bright and dark fringes may overlap or the total pattern may be a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ashed ou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sum of bright and dark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o bright or dark fringes will be v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1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6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6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1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6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9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6840" y="763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ample 25 .5 Measuring the Wavelength of L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ng’s double-slit experiment shows that light is indeed a wave and also gives a way to measure the wavelength. Suppose the double-slit experiment in Figure 25.20 is carried out with a slit spac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.40 mm and the screen at a dista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.5 m. If the bright fringes nearest the center of the screen are separated by a dista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mm, what is the wavelength of the ligh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lution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990360" cy="685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"/>
          <p:cNvPicPr/>
          <p:nvPr/>
        </p:nvPicPr>
        <p:blipFill>
          <a:blip r:embed="rId2"/>
          <a:stretch/>
        </p:blipFill>
        <p:spPr>
          <a:xfrm>
            <a:off x="457200" y="6019920"/>
            <a:ext cx="7728120" cy="685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25p883_f20"/>
          <p:cNvPicPr/>
          <p:nvPr/>
        </p:nvPicPr>
        <p:blipFill>
          <a:blip r:embed="rId3"/>
          <a:stretch/>
        </p:blipFill>
        <p:spPr>
          <a:xfrm>
            <a:off x="5410080" y="3662280"/>
            <a:ext cx="3733920" cy="2327400"/>
          </a:xfrm>
          <a:prstGeom prst="rect">
            <a:avLst/>
          </a:prstGeom>
          <a:ln w="0">
            <a:noFill/>
          </a:ln>
        </p:spPr>
      </p:pic>
      <p:sp>
        <p:nvSpPr>
          <p:cNvPr id="151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1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-Slit Diffraction: Interferenc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560" y="990360"/>
            <a:ext cx="6476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lits may be narrow enough to exhibit diffraction but not so narrow that they can be treated as a single point source of wa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sume the single slit has a width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ght is diffracted as it passes through the slit and then propagates to the scr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6" descr="25p886_f21a"/>
          <p:cNvPicPr/>
          <p:nvPr/>
        </p:nvPicPr>
        <p:blipFill>
          <a:blip r:embed="rId1"/>
          <a:stretch/>
        </p:blipFill>
        <p:spPr>
          <a:xfrm>
            <a:off x="6854760" y="838080"/>
            <a:ext cx="2289240" cy="2772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25p886_f21b"/>
          <p:cNvPicPr/>
          <p:nvPr/>
        </p:nvPicPr>
        <p:blipFill>
          <a:blip r:embed="rId2"/>
          <a:stretch/>
        </p:blipFill>
        <p:spPr>
          <a:xfrm>
            <a:off x="7553160" y="3733920"/>
            <a:ext cx="1590840" cy="3124080"/>
          </a:xfrm>
          <a:prstGeom prst="rect">
            <a:avLst/>
          </a:prstGeom>
          <a:ln w="0">
            <a:noFill/>
          </a:ln>
        </p:spPr>
      </p:pic>
      <p:sp>
        <p:nvSpPr>
          <p:cNvPr id="156" name="Content Placeholder 2"/>
          <p:cNvSpPr/>
          <p:nvPr/>
        </p:nvSpPr>
        <p:spPr>
          <a:xfrm>
            <a:off x="304920" y="4267080"/>
            <a:ext cx="7162560" cy="26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key to the calculation of where the fringes occur is Huygen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ll points across the slit act as wave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se different waves interfere at the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analysis, divide the slit into two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3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8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3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3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8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3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Content Placeholder 2"/>
          <p:cNvSpPr/>
          <p:nvPr/>
        </p:nvSpPr>
        <p:spPr>
          <a:xfrm>
            <a:off x="457200" y="46080"/>
            <a:ext cx="518148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one point in each part of the slit satisfies the conditions for destructive interference, the waves from all similar sets of points will also interfere destru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structive interference will produce a dark fri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25p886_f21c"/>
          <p:cNvPicPr/>
          <p:nvPr/>
        </p:nvPicPr>
        <p:blipFill>
          <a:blip r:embed="rId1"/>
          <a:stretch/>
        </p:blipFill>
        <p:spPr>
          <a:xfrm>
            <a:off x="5715000" y="457200"/>
            <a:ext cx="3429000" cy="2789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457200" y="396252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ngle-Slit Analysis: Dark Fring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ditions for destructive interference a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 sin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±m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 = 1, 2, 3, …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negative sign will correspond to a fringe below the center of the scre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5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0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5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8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Content Placeholder 2"/>
          <p:cNvSpPr/>
          <p:nvPr/>
        </p:nvSpPr>
        <p:spPr>
          <a:xfrm>
            <a:off x="228600" y="152280"/>
            <a:ext cx="876312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ngle-Slit Analysis: Bright Fri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re is no simple formula for the angles at which the bright fringes occ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intensity on the screen can be calculated by adding up all the Huygens wa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re is a central bright fring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central fringe is called the central max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central fringe is about 20 times more intense than the bright fringes on ei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width of the central bright fringe is approximately the angular separation of the first dark fringes on either sideThe full angular width of the central bright fringe = 2 λ /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f the slit is much wider than the wavelength, the light beam essentially passes straight through the slit with almost no effect from dif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5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0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5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5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8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1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4" dur="5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raction Grating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837720"/>
            <a:ext cx="55627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 arrangement of many slits is called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ffraction gra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sum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slits are narr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ach one produces a single outgoing wa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screen is very far aw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6" descr="25p889_f24"/>
          <p:cNvPicPr/>
          <p:nvPr/>
        </p:nvPicPr>
        <p:blipFill>
          <a:blip r:embed="rId1"/>
          <a:stretch/>
        </p:blipFill>
        <p:spPr>
          <a:xfrm>
            <a:off x="6095880" y="938160"/>
            <a:ext cx="2930760" cy="2876760"/>
          </a:xfrm>
          <a:prstGeom prst="rect">
            <a:avLst/>
          </a:prstGeom>
          <a:ln w="0">
            <a:noFill/>
          </a:ln>
        </p:spPr>
      </p:pic>
      <p:sp>
        <p:nvSpPr>
          <p:cNvPr id="167" name="Content Placeholder 2"/>
          <p:cNvSpPr/>
          <p:nvPr/>
        </p:nvSpPr>
        <p:spPr>
          <a:xfrm>
            <a:off x="457200" y="3809880"/>
            <a:ext cx="8686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 slit-to-slit spacing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 then the path length difference for the rays from two adjacent slit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sin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is equal to an integral number of wavelengths, constructive interference occ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a bright fringe, d sin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m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 = 0, ±1, ±2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6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1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4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0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0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3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8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52280"/>
            <a:ext cx="4952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condition for bright fringes from a diffraction grating is identical to the condition for constructive interference from a double sl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overall intensity pattern depends on the number of sl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larger the number of slits, the narrower the pea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6" descr="25p889_f25"/>
          <p:cNvPicPr/>
          <p:nvPr/>
        </p:nvPicPr>
        <p:blipFill>
          <a:blip r:embed="rId1"/>
          <a:stretch/>
        </p:blipFill>
        <p:spPr>
          <a:xfrm>
            <a:off x="5595840" y="76320"/>
            <a:ext cx="3471840" cy="3740040"/>
          </a:xfrm>
          <a:prstGeom prst="rect">
            <a:avLst/>
          </a:prstGeom>
          <a:ln w="0">
            <a:noFill/>
          </a:ln>
        </p:spPr>
      </p:pic>
      <p:sp>
        <p:nvSpPr>
          <p:cNvPr id="17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6840" y="75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ample 25 .6 Diffraction of Light by a Gra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iffraction experiment is carried out with a grating. Using light from a red laser (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30 nm), the diffraction fringes are separated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.15 m on a screen that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.0 m from the grating. Find the spacing d between slits in the grat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lution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2514600" y="3352680"/>
            <a:ext cx="1469880" cy="722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1905120" y="4191120"/>
            <a:ext cx="2987640" cy="6858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"/>
          <p:cNvPicPr/>
          <p:nvPr/>
        </p:nvPicPr>
        <p:blipFill>
          <a:blip r:embed="rId3"/>
          <a:stretch/>
        </p:blipFill>
        <p:spPr>
          <a:xfrm>
            <a:off x="1981080" y="4952880"/>
            <a:ext cx="2895840" cy="471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"/>
          <p:cNvPicPr/>
          <p:nvPr/>
        </p:nvPicPr>
        <p:blipFill>
          <a:blip r:embed="rId4"/>
          <a:stretch/>
        </p:blipFill>
        <p:spPr>
          <a:xfrm>
            <a:off x="2133720" y="5562720"/>
            <a:ext cx="2514600" cy="420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"/>
          <p:cNvPicPr/>
          <p:nvPr/>
        </p:nvPicPr>
        <p:blipFill>
          <a:blip r:embed="rId5"/>
          <a:stretch/>
        </p:blipFill>
        <p:spPr>
          <a:xfrm>
            <a:off x="766800" y="6019920"/>
            <a:ext cx="7539120" cy="761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"/>
          <p:cNvPicPr/>
          <p:nvPr/>
        </p:nvPicPr>
        <p:blipFill>
          <a:blip r:embed="rId6"/>
          <a:stretch/>
        </p:blipFill>
        <p:spPr>
          <a:xfrm>
            <a:off x="6172200" y="2971800"/>
            <a:ext cx="2828880" cy="2666880"/>
          </a:xfrm>
          <a:prstGeom prst="rect">
            <a:avLst/>
          </a:prstGeom>
          <a:ln w="0">
            <a:noFill/>
          </a:ln>
        </p:spPr>
      </p:pic>
      <p:sp>
        <p:nvSpPr>
          <p:cNvPr id="179" name="Нижний колонтитул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2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7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7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cal Resolution and the Rayleigh Criter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6840" y="1142640"/>
            <a:ext cx="579132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a circular opening of diameter D, the angle between the central bright maximum and the first minimum i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circular geometry leads to the additional numerical factor of 1.2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7" descr="25p892_f30"/>
          <p:cNvPicPr/>
          <p:nvPr/>
        </p:nvPicPr>
        <p:blipFill>
          <a:blip r:embed="rId1"/>
          <a:stretch/>
        </p:blipFill>
        <p:spPr>
          <a:xfrm>
            <a:off x="6354720" y="1042920"/>
            <a:ext cx="2712960" cy="533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Object 2"/>
          <p:cNvGraphicFramePr/>
          <p:nvPr/>
        </p:nvGraphicFramePr>
        <p:xfrm>
          <a:off x="2527200" y="3076560"/>
          <a:ext cx="1435320" cy="80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27200" y="3076560"/>
                    <a:ext cx="143532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4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4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6840" y="152280"/>
            <a:ext cx="67057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ne property unique to waves is inter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terference of sound waves can be produced by two speak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8" descr="25p869_f01a"/>
          <p:cNvPicPr/>
          <p:nvPr/>
        </p:nvPicPr>
        <p:blipFill>
          <a:blip r:embed="rId1"/>
          <a:srcRect l="0" t="-22" r="0" b="23983"/>
          <a:stretch/>
        </p:blipFill>
        <p:spPr>
          <a:xfrm>
            <a:off x="7021440" y="76320"/>
            <a:ext cx="2046240" cy="2514600"/>
          </a:xfrm>
          <a:prstGeom prst="rect">
            <a:avLst/>
          </a:prstGeom>
          <a:ln w="0">
            <a:noFill/>
          </a:ln>
        </p:spPr>
      </p:pic>
      <p:sp>
        <p:nvSpPr>
          <p:cNvPr id="56" name="Content Placeholder 2"/>
          <p:cNvSpPr/>
          <p:nvPr/>
        </p:nvSpPr>
        <p:spPr>
          <a:xfrm>
            <a:off x="380880" y="2362320"/>
            <a:ext cx="6858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structive Inter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hen the waves a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 ph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 their maxima occur at the same time at a given point in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total wave displacement at the listener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 location is the sum of the displacements of the two individual w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wo waves are in phase, the sum of their displacements is l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25p869_f01b"/>
          <p:cNvPicPr/>
          <p:nvPr/>
        </p:nvPicPr>
        <p:blipFill>
          <a:blip r:embed="rId2"/>
          <a:stretch/>
        </p:blipFill>
        <p:spPr>
          <a:xfrm>
            <a:off x="7259760" y="2819520"/>
            <a:ext cx="1884240" cy="3809880"/>
          </a:xfrm>
          <a:prstGeom prst="rect">
            <a:avLst/>
          </a:prstGeom>
          <a:ln w="0">
            <a:noFill/>
          </a:ln>
        </p:spPr>
      </p:pic>
      <p:sp>
        <p:nvSpPr>
          <p:cNvPr id="58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Content Placeholder 2"/>
          <p:cNvSpPr/>
          <p:nvPr/>
        </p:nvSpPr>
        <p:spPr>
          <a:xfrm>
            <a:off x="457200" y="763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ayleigh Criter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 two sources are sufficiently far apart, they can be seen as two separate diffraction spots 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 sources are too close together, their diffraction spots will overlap so much that they appear as a single spot (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8" descr="25p893_f32(a)"/>
          <p:cNvPicPr/>
          <p:nvPr/>
        </p:nvPicPr>
        <p:blipFill>
          <a:blip r:embed="rId1"/>
          <a:stretch/>
        </p:blipFill>
        <p:spPr>
          <a:xfrm>
            <a:off x="1108080" y="3016080"/>
            <a:ext cx="1863720" cy="1765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25p893_f32(b)"/>
          <p:cNvPicPr/>
          <p:nvPr/>
        </p:nvPicPr>
        <p:blipFill>
          <a:blip r:embed="rId2"/>
          <a:stretch/>
        </p:blipFill>
        <p:spPr>
          <a:xfrm>
            <a:off x="3905280" y="3016080"/>
            <a:ext cx="1809720" cy="17798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25p893_f32(c)"/>
          <p:cNvPicPr/>
          <p:nvPr/>
        </p:nvPicPr>
        <p:blipFill>
          <a:blip r:embed="rId3"/>
          <a:stretch/>
        </p:blipFill>
        <p:spPr>
          <a:xfrm>
            <a:off x="6477120" y="3036960"/>
            <a:ext cx="1809720" cy="176364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8"/>
          <p:cNvSpPr/>
          <p:nvPr/>
        </p:nvSpPr>
        <p:spPr>
          <a:xfrm>
            <a:off x="762120" y="47242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                                               B                                         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51051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wo sources will be resolved as two distinct sources of light if their angular separation is greater than the angular spread of a single diffraction spo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ижний колонтитул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7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57200" y="2286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s result is called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ayleigh criter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a circular opening, the Rayleigh criterion for the angular resolution 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wo objects will be resolved when viewed through an opening of diameter D if the light rays from the two objects are separated by an angle at least as large as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Object 2"/>
          <p:cNvGraphicFramePr/>
          <p:nvPr/>
        </p:nvGraphicFramePr>
        <p:xfrm>
          <a:off x="3809880" y="1828800"/>
          <a:ext cx="160524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160524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4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9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9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6840" y="759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ample 25 .7 Rayleigh Criterion for a Marksm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ifle used for target shooting has a small telescope so that the shooter can accurately aim at his target. Suppose the telescope has a di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.5 cm and the shooter is looking at two small objects that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00 m away. If the shooter is just barely able to tell that there are two objects (and not one), how far apart are the objects? Assume red light with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600 n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lution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5410080" y="3809880"/>
            <a:ext cx="3505320" cy="1271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"/>
          <p:cNvPicPr/>
          <p:nvPr/>
        </p:nvPicPr>
        <p:blipFill>
          <a:blip r:embed="rId2"/>
          <a:stretch/>
        </p:blipFill>
        <p:spPr>
          <a:xfrm>
            <a:off x="2666880" y="4146480"/>
            <a:ext cx="1524240" cy="711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"/>
          <p:cNvPicPr/>
          <p:nvPr/>
        </p:nvPicPr>
        <p:blipFill>
          <a:blip r:embed="rId3"/>
          <a:stretch/>
        </p:blipFill>
        <p:spPr>
          <a:xfrm>
            <a:off x="1295280" y="5160960"/>
            <a:ext cx="1684440" cy="630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"/>
          <p:cNvPicPr/>
          <p:nvPr/>
        </p:nvPicPr>
        <p:blipFill>
          <a:blip r:embed="rId4"/>
          <a:stretch/>
        </p:blipFill>
        <p:spPr>
          <a:xfrm>
            <a:off x="4038480" y="5140440"/>
            <a:ext cx="2556000" cy="6984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"/>
          <p:cNvPicPr/>
          <p:nvPr/>
        </p:nvPicPr>
        <p:blipFill>
          <a:blip r:embed="rId5"/>
          <a:stretch/>
        </p:blipFill>
        <p:spPr>
          <a:xfrm>
            <a:off x="990720" y="5979960"/>
            <a:ext cx="6943680" cy="687600"/>
          </a:xfrm>
          <a:prstGeom prst="rect">
            <a:avLst/>
          </a:prstGeom>
          <a:ln w="0">
            <a:noFill/>
          </a:ln>
        </p:spPr>
      </p:pic>
      <p:cxnSp>
        <p:nvCxnSpPr>
          <p:cNvPr id="203" name="Straight Arrow Connector 10"/>
          <p:cNvCxnSpPr/>
          <p:nvPr/>
        </p:nvCxnSpPr>
        <p:spPr>
          <a:xfrm>
            <a:off x="3276360" y="5486040"/>
            <a:ext cx="61020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04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Is the Sky Blue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838080"/>
            <a:ext cx="64771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light we see from the sky is sunlight scattered by the molecules in the atmosp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molecules are much smaller than the wavelength of visible l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hey scatter blue light more strongly than 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his gives the atmosphere its blue col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6" descr="25p897_f39"/>
          <p:cNvPicPr/>
          <p:nvPr/>
        </p:nvPicPr>
        <p:blipFill>
          <a:blip r:embed="rId1"/>
          <a:stretch/>
        </p:blipFill>
        <p:spPr>
          <a:xfrm>
            <a:off x="6629400" y="914400"/>
            <a:ext cx="2514600" cy="2817720"/>
          </a:xfrm>
          <a:prstGeom prst="rect">
            <a:avLst/>
          </a:prstGeom>
          <a:ln w="0">
            <a:noFill/>
          </a:ln>
        </p:spPr>
      </p:pic>
      <p:sp>
        <p:nvSpPr>
          <p:cNvPr id="208" name="Content Placeholder 2"/>
          <p:cNvSpPr/>
          <p:nvPr/>
        </p:nvSpPr>
        <p:spPr>
          <a:xfrm>
            <a:off x="457200" y="3352680"/>
            <a:ext cx="8686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lue 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lthough violet scatters more than blue, the sky appears 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un emits more strongly in blue than vio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Our eyes are more sensitive to 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ky appears blue even though the violet light is scattered m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un near horiz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are more molecules to scatter the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ost of the blue is scattered away, leaving the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8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3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6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9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nodeType="clickEffect" fill="hold">
                      <p:stCondLst>
                        <p:cond delay="indefinite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Content Placeholder 2"/>
          <p:cNvSpPr/>
          <p:nvPr/>
        </p:nvSpPr>
        <p:spPr>
          <a:xfrm>
            <a:off x="380880" y="152280"/>
            <a:ext cx="56390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structive Inter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73486"/>
              </a:buClr>
              <a:buSzPct val="9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maximum of one wave can coincide with the minimum of the other wa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73486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se waves a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ut of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73486"/>
              </a:buClr>
              <a:buSzPct val="9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interference is destructive when the waves are out of ph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73486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f the waves are 180° out of phase, the sum of the displacements of the two waves is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25p869_f01c"/>
          <p:cNvPicPr/>
          <p:nvPr/>
        </p:nvPicPr>
        <p:blipFill>
          <a:blip r:embed="rId1"/>
          <a:stretch/>
        </p:blipFill>
        <p:spPr>
          <a:xfrm>
            <a:off x="6080040" y="228600"/>
            <a:ext cx="2987640" cy="5334120"/>
          </a:xfrm>
          <a:prstGeom prst="rect">
            <a:avLst/>
          </a:prstGeom>
          <a:ln w="0">
            <a:noFill/>
          </a:ln>
        </p:spPr>
      </p:pic>
      <p:sp>
        <p:nvSpPr>
          <p:cNvPr id="61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6840" y="38052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conditions for interferenc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waves can interfere if all the following conditions are me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Two or more interfering waves travel through different regions of space over at least part of their propagation from source to destin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The waves are brought together at a common poi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he waves must have the same frequency and must also have a fixed phase relationship. Thus, over a given distance or time interval the phase difference between the waves remains constant. Such waves are called coher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ichelson Interferometer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25p872_f03"/>
          <p:cNvPicPr/>
          <p:nvPr/>
        </p:nvPicPr>
        <p:blipFill>
          <a:blip r:embed="rId1"/>
          <a:stretch/>
        </p:blipFill>
        <p:spPr>
          <a:xfrm>
            <a:off x="6400800" y="1066680"/>
            <a:ext cx="2666880" cy="3684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457200" y="990360"/>
            <a:ext cx="58672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Michelson interferometer is based on the interference of reflected wa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wo reflecting mirrors are mounted at right ang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 third mirror is partially reflec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alled a beam split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Content Placeholder 2"/>
          <p:cNvSpPr/>
          <p:nvPr/>
        </p:nvSpPr>
        <p:spPr>
          <a:xfrm>
            <a:off x="457200" y="4724280"/>
            <a:ext cx="8686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incident light hits the beam splitter and is divided into two w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waves reflect from the mirrors at the top and right and recombine at the beam spli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Content Placeholder 2"/>
          <p:cNvSpPr/>
          <p:nvPr/>
        </p:nvSpPr>
        <p:spPr>
          <a:xfrm>
            <a:off x="457200" y="152280"/>
            <a:ext cx="8686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73486"/>
              </a:buClr>
              <a:buSzPct val="9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fter being reflected again from the beam splitter, portions of the waves combine at the det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73486"/>
              </a:buClr>
              <a:buSzPct val="9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only difference between the two waves is that they travel different distances between their respective mirrors and the beam spli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73486"/>
              </a:buClr>
              <a:buSzPct val="9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ath length differen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s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–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3200040"/>
            <a:ext cx="5486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path length difference is related to the wavelength of the l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If N is an integer, the two waves are in phase and produce constructive interfer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If N is a half-integer the waves will produce destructive interfer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7" descr="25p873_f04"/>
          <p:cNvPicPr/>
          <p:nvPr/>
        </p:nvPicPr>
        <p:blipFill>
          <a:blip r:embed="rId1"/>
          <a:stretch/>
        </p:blipFill>
        <p:spPr>
          <a:xfrm>
            <a:off x="5867280" y="3276720"/>
            <a:ext cx="3200400" cy="310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Object 2"/>
          <p:cNvGraphicFramePr/>
          <p:nvPr/>
        </p:nvGraphicFramePr>
        <p:xfrm>
          <a:off x="2590920" y="4267080"/>
          <a:ext cx="1019160" cy="75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4267080"/>
                    <a:ext cx="101916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152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constructive interference,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destructive interference,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+ ½)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 is an integer in both c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 interference is constructive, the light intensity at the detector is lar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alled a bright fri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 interference is destructive, the light intensity at the detector is z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alled a dark fri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759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helium–neon (He–Ne) laser emits light with a wavelength of approximately 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e–N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633 nm. Suppose this light source is used in a Michelson interferometer and one of the mirrors is moved a distanc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ch that exactly N = 1,000,000 bright fringes are counted, calculat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lution</a:t>
            </a:r>
            <a:r>
              <a:rPr b="0" lang="en-U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3048120" y="3124080"/>
            <a:ext cx="2679480" cy="498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2"/>
          <a:stretch/>
        </p:blipFill>
        <p:spPr>
          <a:xfrm>
            <a:off x="5410080" y="4952880"/>
            <a:ext cx="3481560" cy="565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3"/>
          <a:stretch/>
        </p:blipFill>
        <p:spPr>
          <a:xfrm>
            <a:off x="1066680" y="5638680"/>
            <a:ext cx="1720800" cy="762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4"/>
          <a:stretch/>
        </p:blipFill>
        <p:spPr>
          <a:xfrm>
            <a:off x="6818400" y="304920"/>
            <a:ext cx="2249280" cy="25905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1"/>
          <p:cNvSpPr/>
          <p:nvPr/>
        </p:nvSpPr>
        <p:spPr>
          <a:xfrm>
            <a:off x="304920" y="36576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 mirror moves a dista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 distance traveled by the light changes by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cause the light travels back and forth between the beam splitter and the mirr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2"/>
          <p:cNvSpPr/>
          <p:nvPr/>
        </p:nvSpPr>
        <p:spPr>
          <a:xfrm>
            <a:off x="4037760" y="5791320"/>
            <a:ext cx="486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.5×1000000×633×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0.317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Straight Arrow Connector 14"/>
          <p:cNvCxnSpPr/>
          <p:nvPr/>
        </p:nvCxnSpPr>
        <p:spPr>
          <a:xfrm>
            <a:off x="2895480" y="6019560"/>
            <a:ext cx="99144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5" name="Rectangle 15"/>
          <p:cNvSpPr/>
          <p:nvPr/>
        </p:nvSpPr>
        <p:spPr>
          <a:xfrm>
            <a:off x="424080" y="5029200"/>
            <a:ext cx="382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=2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– 2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=2(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–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)=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Straight Arrow Connector 16"/>
          <p:cNvCxnSpPr/>
          <p:nvPr/>
        </p:nvCxnSpPr>
        <p:spPr>
          <a:xfrm>
            <a:off x="4419360" y="5257440"/>
            <a:ext cx="68652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7" name="Нижний колонтитул 1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sw1979</dc:creator>
  <dc:description/>
  <dc:language>en-US</dc:language>
  <cp:lastModifiedBy>LEGION</cp:lastModifiedBy>
  <dcterms:modified xsi:type="dcterms:W3CDTF">2018-04-03T08:34:42Z</dcterms:modified>
  <cp:revision>350</cp:revision>
  <dc:subject/>
  <dc:title>Physics 1404, Section 1 Chapter 21:  Magnetic Induction</dc:title>
</cp:coreProperties>
</file>