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4.wmf" ContentType="image/x-wmf"/>
  <Override PartName="/ppt/media/image10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50.png" ContentType="image/png"/>
  <Override PartName="/ppt/media/image30.jpeg" ContentType="image/jpeg"/>
  <Override PartName="/ppt/media/image33.jpeg" ContentType="image/jpeg"/>
  <Override PartName="/ppt/media/image42.jpeg" ContentType="image/jpeg"/>
  <Override PartName="/ppt/media/image41.png" ContentType="image/png"/>
  <Override PartName="/ppt/media/image43.wmf" ContentType="image/x-wmf"/>
  <Override PartName="/ppt/media/image53.jpeg" ContentType="image/jpeg"/>
  <Override PartName="/ppt/media/image44.jpeg" ContentType="image/jpeg"/>
  <Override PartName="/ppt/media/image46.jpeg" ContentType="image/jpeg"/>
  <Override PartName="/ppt/media/image31.jpeg" ContentType="image/jpeg"/>
  <Override PartName="/ppt/media/image47.wmf" ContentType="image/x-wmf"/>
  <Override PartName="/ppt/media/image51.png" ContentType="image/png"/>
  <Override PartName="/ppt/media/image12.wmf" ContentType="image/x-wmf"/>
  <Override PartName="/ppt/media/image36.png" ContentType="image/png"/>
  <Override PartName="/ppt/media/image48.png" ContentType="image/png"/>
  <Override PartName="/ppt/media/image52.png" ContentType="image/png"/>
  <Override PartName="/ppt/media/image13.wmf" ContentType="image/x-wmf"/>
  <Override PartName="/ppt/media/image28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6.wmf" ContentType="image/x-wmf"/>
  <Override PartName="/ppt/media/image45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8A72-F04D-471D-B1CB-A8F65A9C3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a thin soap film rests on a flat glas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pper surface of the soap film is similar to the beam splitter in the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part of the incoming light and allows the rest to be transmitted into the soap layer after refraction at the air-soap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a thin soap film rests on a flat glas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pper surface of the soap film is similar to the beam splitter in the interfer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part of the incoming light and allows the rest to be transmitted into the soap layer after refraction at the air-soap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mitted ray is partially reflected at the bottom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outgoing rays meet the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vel through different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combine when they leave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oherent because they originated from the same source and initial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peed of the wave inside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changes as the light wave travels from a vacuum into the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wavelengths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mitted ray is partially reflected at the bottom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outgoing rays meet the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vel through different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combine when they leave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oherent because they originated from the same source and initial 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peed of the wave inside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changes as the light wave travels from a vacuum into the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wavelength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reflected by a thin film undergo a phase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cycles traveled by the ray inside the film completely determines the nature of th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, N, is an integer, there is 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 is a half-integer, there is 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if: nair &lt; nfilm &lt; n(substance below the film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reflected by a thin film undergo a phas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extra cycles traveled by the ray inside the film completely determines the nature of th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, N, is an integer, there is 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number of extra cycles is a half-integer, there is 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if: nair &lt; nfilm &lt; n(substance below the film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oap bubble is surrounded by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phase change at the top of the bub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phase change at the bottom of the bub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only one wave undergoes a phase change, the interference conditions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-Film Interference,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oap bubble is surrounded by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phase change at the top of the b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phase change at the bottom of the b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only one wave undergoes a phase change, the interference condition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3 Color and Thickness of a Soap Fil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bubble formed from a thin, soapy film that looks blue when viewed at normal incidence. Estimate the thickness of the film. Assume its index of refraction is nfilm=1.35 and blue light has a wavelength λblue=400 nm. Also assume the film is so thin that thinner films are not able to give constructive inter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here is destructive and we consider m=0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3 Color and Thickness of a Soap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bubble formed from a thin, soapy film that looks blue when viewed at normal incidence. Estimate the thickness of the film. Assume its index of refraction is nfilm=1.35 and blue light has a wavelength λblue=400 nm. Also assume the film is so thin that thinner films are not able to give constructive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here is destructive and we consider m=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a slit or opening and then illuminates a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width of the slit becomes closer to the wavelength of the light, the intensity pattern on the screen and additional maxima become notice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rough a Single Slit: Qualitative Behavi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a slit or opening and then illuminates a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width of the slit becomes closer to the wavelength of the light, the intensity pattern on the screen and additional maxima become notice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ave example of 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ypes of waves undergo single-slit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s the bending or spreading of a wave when it passes through an op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draw the wave fronts and rays for the incident and diffracting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ygen’s Principle can be stated as all points on a wave front can be thought of as new sources of spheric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wave example of 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ypes of waves undergo single-slit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s the bending or spreading of a wave when it passes through an op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draw the wave fronts and rays for the incident and diffracting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ygen’s Principle can be stated as all points on a wave front can be thought of as new sources of spheric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two very narrow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two slits are both very narrow, each slit acts as a simple point source of new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going waves from each slit are like simple spheric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slit experiment showed conclusively that light is a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was first carried out by Thomas Young around 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: Young’s Experiment of Light from a Single Sl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asses through two very narrow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two slits are both very narrow, each slit acts as a simple point source of new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going waves from each slit are like simple spheric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slit experiment showed conclusively that light is a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was first carried out by Thomas Young around 1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incident onto two slits and after passing through them strikes a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on the screen shows an interference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s are separated by a distance d, then the difference in length between the paths of the two rays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incident onto two slits and after passing through them strikes a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on the screen shows an interferenc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s are separated by a distance d, then the difference in length between the paths of the two ray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d sinθ = m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bright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d sinθ = (m + ½)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not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d sinθ = m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bright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d sinθ = (m + ½)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0, ±1, ±2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intensity will be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will not be in phase when they strike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wave optics studies the properties of light that depend on its wave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lly light was thought to be a particle and that model successfully explained the phenomena discussed in geometric 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well’s theory of electromagnetism convinced physicists that light was a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scussing image characteristics over distances much greater than the wavelength, geometric optics is extremely accu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ealing with sizes comparable to or smaller than the wavelength, wave optics is requ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ce and Conditions for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Op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wave optics studies the properties of light that depend on its wa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lly light was thought to be a particle and that model successfully explained the phenomena discussed in geometric op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well’s theory of electromagnetism convinced physicists that light was a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scussing image characteristics over distances much greater than the wavelength, geometric optics is extremely 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ealing with sizes comparable to or smaller than the wavelength, wave optics i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nsity Patt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gle θ varies as you move along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right fringe corresponds to a different value of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values of m indicate that the path to those points on the screen from the lower slit is shorter than the path from the upper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 = 1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angle is very small, sin θ ~ θ and θ ~ λ/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 = 0 and m = 1, h = W ta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the distance between the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the distance between the slits and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the distance between the adjacent bright fri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-Slit Intensity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gle θ varies as you move along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right fringe corresponds to a different value of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values of m indicate that the path to those points on the screen from the lower slit is shorter than the path from the upper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 = 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angle is very small, sin θ ~ θ and θ ~ λ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 = 0 and m = 1, h = W ta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the distance between the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the distance between the slits and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the distance between the adjacent bright f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tan θ ~ θ and sin θ ~ 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approximations, h = W θ = W λ /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with Monochromatic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with a single frequency is called monochromatic (one col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s with a variety of wavelengths are generally not useful for double-slit interference experi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ght and dark fringes may overlap or the total pattern may be a “washed out” sum of bright and dark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right or dark fringes will be 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tan θ ~ θ and sin θ ~ 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approximations, h = W θ = W λ /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with Monochromatic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with a single frequency is called monochromatic (one col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s with a variety of wavelengths are generally not useful for double-slit interference experi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ght and dark fringes may overlap or the total pattern may be a “washed out” sum of bright and dark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right or dark fringes will be 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5 Measuring the Wavelength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 shows that light is indeed a wave and also gives a way to measure the wavelength. Suppose the double-slit experiment in Figure 25.20 is carried out with a slit spacing d=0.40 mm and the screen at a distance W=1.5 m. If the bright fringes nearest the center of the screen are separated by a distance h=1.5 mm, what is the wavelength of the l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5 Measuring the Wavelength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’s double-slit experiment shows that light is indeed a wave and also gives a way to measure the wavelength. Suppose the double-slit experiment in Figure 25.20 is carried out with a slit spacing d=0.40 mm and the screen at a distance W=1.5 m. If the bright fringes nearest the center of the screen are separated by a distance h=1.5 mm, what is the wavelength of th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: 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ts may be narrow enough to exhibit diffraction but not so narrow that they can be treated as a single point source of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ingle slit has a width,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diffracted as it passes through the slit and then propagates to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to the calculation of where the fringes occur is Huygen’s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oints across the slit act as wave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ifferent waves interfere at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alysis, divide the slit into two p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Diffraction: Inter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ts may be narrow enough to exhibit diffraction but not so narrow that they can be treated as a single point source of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e the single slit has a width,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diffracted as it passes through the slit and then propagates to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to the calculation of where the fringes occur is Huygen’s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oints across the slit act as wav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ifferent waves interfere at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alysis, divide the slit into two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 will produce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Dark Frin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destructive interference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sin θ = ±m λ (m = 1, 2, 3, …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sign will correspond to a fringe below the center of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 will produce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Dark Frin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destructive interference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sin θ = ±m λ (m = 1, 2, 3, …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sign will correspond to a fringe below the center of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Bright Fri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imple formula for the angles at which the bright fringes occ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nsity on the screen can be calculated by adding up all the Huygen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central bright frin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called the central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about 20 times more intense than the bright fringes on either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 is much wider than the wavelength, the light beam essentially passes straight through the slit with almost no effect from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-Slit Analysis: Bright F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imple formula for the angles at which the bright fringes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nsity on the screen can be calculated by adding up all the Huygen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 central bright frin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called the central max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fringe is about 20 times more intense than the bright fringes on either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 is much wider than the wavelength, the light beam essentially passes straight through the slit with almost no effect from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rrangement of many slits is called a diffraction gr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ts are na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ne produces a single outgoing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reen is very far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-to-slit spacing is d, then the path length difference for the rays from two adjacent slits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ΔL is equal to an integral number of wavelengths, constructive interference occ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bright fringe, d sin θ = m λ (m = 0, ±1, ±2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Gra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rrangement of many slits is called a diffraction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ts are n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ne produces a single outgoing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reen is very far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lit-to-slit spacing is d, then the path length difference for the rays from two adjacent slit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 = d sin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ΔL is equal to an integral number of wavelengths, constructive interference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bright fringe, d sin θ = m λ (m = 0, ±1, ±2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dition for bright fringes from a diffraction grating is identical to the condition for constructive interference from a double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erall intensity pattern depends on the number of sl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r the number of slits, the narrower the pea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dition for bright fringes from a diffraction grating is identical to the condition for constructive interference from a double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erall intensity pattern depends on the number of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r the number of slits, the narrower the 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6 Diffraction of Light by a Gr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experiment is carried out with a grating. Using light from a red laser (λ = 630 nm), the diffraction fringes are separated by h=0.15 m on a screen that is W=2.0 m from the grating. Find the spacing d between slits in the gr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6 Diffraction of Light by a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experiment is carried out with a grating. Using light from a red laser (λ = 630 nm), the diffraction fringes are separated by h=0.15 m on a screen that is W=2.0 m from the grating. Find the spacing d between slits in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 of diameter D, the angle between the central bright maximum and the first minimum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lar geometry leads to the additional numerical factor of 1.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Resolution and the Rayleigh Criter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 of diameter D, the angle between the central bright maximum and the first minimum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lar geometry leads to the additional numerical factor of 1.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perty unique to waves is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of sound waves can be produced by two sp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aves are in phase, their maxima occur at the same time at a given point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wave displacement at the listener’s location is the sum of the displacements of the two individual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waves are in phase, the sum of their displacements is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perty unique to waves is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of sound waves can be produced by two spea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aves are in phase, their maxima occur at the same time at a given point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wave displacement at the listener’s location is the sum of the displacements of the two individual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waves are in phase, the sum of their displacements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leigh Criter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wo sources are sufficiently far apart, they can be seen as two separate diffraction spots 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ources are too close together, their diffraction spots will overlap so much that they appear as a single spot (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                                       B                                          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will be resolved as two distinct sources of light if their angular separation is greater than the angular spread of a single diffraction sp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leigh Crite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wo sources are sufficiently far apart, they can be seen as two separate diffraction spots 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ources are too close together, their diffraction spots will overlap so much that they appear as a single spot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                                       B                                          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will be resolved as two distinct sources of light if their angular separation is greater than the angular spread of a single diffraction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sult is called the Rayleigh criter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, the Rayleigh criterion for the angular resolution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jects will be resolved when viewed through an opening of diameter D if the light rays from the two objects are separated by an angle at least as large as θm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sult is called the Rayleigh crite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circular opening, the Rayleigh criterion for the angular re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jects will be resolved when viewed through an opening of diameter D if the light rays from the two objects are separated by an angle at least as large as θm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7 Rayleigh Criterion for a Marksm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ifle used for target shooting has a small telescope so that the shooter can accurately aim at his target. Suppose the telescope has a diameter D=1.5 cm and the shooter is looking at two small objects that are L=200 m away. If the shooter is just barely able to tell that there are two objects (and not one), how far apart are the objects? Assume red light with λ=600 n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5 .7 Rayleigh Criterion for a Marksm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ifle used for target shooting has a small telescope so that the shooter can accurately aim at his target. Suppose the telescope has a diameter D=1.5 cm and the shooter is looking at two small objects that are L=200 m away. If the shooter is just barely able to tell that there are two objects (and not one), how far apart are the objects? Assume red light with λ=600 n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we see from the sky is sunlight scattered by the molecules in the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ecules are much smaller than the wavelength of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catter blue light more strongly than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the atmosphere its blue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violet scatters more than blue, the sky appears b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emits more strongly in blue than 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yes are more sensitive to b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ky appears blue even though the violet light is scattered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near horiz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molecules to scatter th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blue is scattered away, leaving the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we see from the sky is sunlight scattered by the molecul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ecules are much smaller than the wavelength of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catter blue light more strongly than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the atmosphere its blu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violet scatters more than blue, the sky appears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emits more strongly in blue than 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yes are more sensitive to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ky appears blue even though the violet light is scattere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near hori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molecules to scatter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blue is scattered away, leaving the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ximum of one wave can coincide with the minimum of the other 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ves are out of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is destructive when the waves are out of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waves are 180° out of phase, the sum of the displacements of the two waves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ximum of one wave can coincide with the minimum of the other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waves are out of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ference is destructive when the waves are out of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waves are 180° out of phase, the sum of the displacements of the two waves is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conditions for interfer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aves can interfere if all the following conditions are m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wo or more interfering waves travel through different regions of space over at least part of their propagation from source to destin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waves are brought together at a common poi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conditions for interfer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waves can interfere if all the following conditions are m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wo or more interfering waves travel through different regions of space over at least part of their propagation from source to destin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waves are brought together at a common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is based on the interference of reflected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eflecting mirrors are mounted at right 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rd mirror is partially refle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ident light hits the beam splitter and is divided into tw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reflect from the mirrors at the top and right and recombine at the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chelson interferometer is based on the interference of reflecte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eflecting mirrors are mounted at right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rd mirror is partially refle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ident light hits the beam splitter and is divided into tw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s reflect from the mirrors at the top and right and recombine at the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eing reflected again from the beam splitter, portions of the waves combine at the det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difference between the two waves is that they travel different distances between their respective mirrors and the beam spli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ΔL = 2L2 – 2L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related to the wavelength of th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n integer, the two waves are in phase and produce con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 half-integer the waves will produce destructive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eing reflected again from the beam splitter, portions of the waves combine at the 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difference between the two waves is that they travel different distances between their respective mirrors and the beam spl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ΔL = 2L2 – 2L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th length difference is related to the wavelength of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n integer, the two waves are in phase and produce con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 is a half-integer the waves will produce destructive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ΔL = m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ΔL = (m + ½) 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an integer in both c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constructive, the light intensity at the detector is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right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destructive, the light intensity at the detector is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dark fri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onstructive interference, ΔL = m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estructive interference, ΔL = (m + ½) 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an integer in both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constructive, the light intensity at the detector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bright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interference is destructive, the light intensity at the detector is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a dark fr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um–neon (He–Ne) laser emits light with a wavelength of approximately λHe–Ne =633 nm. Suppose this light source is used in a Michelson interferometer and one of the mirrors is moved a distance d such that exactly N = 1,000,000 bright fringes are counted, calculate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mirror moves a distance d, the distance traveled by the light changes by 2d because the light travels back and forth between the beam splitter and the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0.5×1000000×633×10-9m=0.317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=2L2 – 2L1=2(L2 – L1)=2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um–neon (He–Ne) laser emits light with a wavelength of approximately λHe–Ne =633 nm. Suppose this light source is used in a Michelson interferometer and one of the mirrors is moved a distance d such that exactly N = 1,000,000 bright fringes are counted, calculate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mirror moves a distance d, the distance traveled by the light changes by 2d because the light travels back and forth between the beam splitter and the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0.5×1000000×633×10-9m=0.31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L=2L2 – 2L1=2(L2 – L1)=2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5EA-8063-4F27-8E4B-275EFB5C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F6E-69C6-4894-8A01-7003F10B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DF4D-E084-470F-8910-D1B5F39E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0559-83C1-40C6-A262-E6651CA8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F1C0-D0A4-47D2-9EED-FCA8BE71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6E76-8915-4FAA-9BE7-584BA71C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1C5-F452-41AB-AB95-F50463F6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B4A-A089-4D4F-8FDD-5EE29231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4FD4-7759-4AD1-BB63-E1E842A6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9E2-D175-4F4A-812C-3A3B34A1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69D6-DB74-4D35-A205-F899EA33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1219-03C6-4A85-8B17-AE59E4F4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43B8-CA76-4A4B-9CA0-29EA677921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F2D8-EC44-4ABD-ADE5-BC9E964B8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herence and Conditions for 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chelson Interferome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-Film Interfere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through a Single Slit: Qualitative Behavi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Slit Interference: Young’s Experiment of Light from a Single Sl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raction Grat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Resolution and the Rayleigh Criter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the Sky Blu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-Film Interfere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25p875_f07"/>
          <p:cNvPicPr/>
          <p:nvPr/>
        </p:nvPicPr>
        <p:blipFill>
          <a:blip r:embed="rId1"/>
          <a:stretch/>
        </p:blipFill>
        <p:spPr>
          <a:xfrm>
            <a:off x="228600" y="4267080"/>
            <a:ext cx="8726400" cy="2286000"/>
          </a:xfrm>
          <a:prstGeom prst="rect">
            <a:avLst/>
          </a:prstGeom>
          <a:ln w="0">
            <a:noFill/>
          </a:ln>
        </p:spPr>
      </p:pic>
      <p:sp>
        <p:nvSpPr>
          <p:cNvPr id="90" name="Content Placeholder 2"/>
          <p:cNvSpPr/>
          <p:nvPr/>
        </p:nvSpPr>
        <p:spPr>
          <a:xfrm>
            <a:off x="457200" y="1066680"/>
            <a:ext cx="8534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a thin soap film rests on a flat glass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upper surface of the soap film is similar to the beam splitter in the interfe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reflects part of the incoming light and allows the rest to be transmitted into the soap layer after refraction at the air-soap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5228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ransmitted ray is partially reflected at the bottom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wo outgoing rays meet the conditions for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travel through different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recombine when they leave the fil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are coherent because they originated from the same source and initial 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ontent Placeholder 2"/>
          <p:cNvSpPr/>
          <p:nvPr/>
        </p:nvSpPr>
        <p:spPr>
          <a:xfrm>
            <a:off x="457200" y="38098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om the speed of the wave inside the fi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3505320" y="4419720"/>
          <a:ext cx="1830240" cy="8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419720"/>
                    <a:ext cx="183024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Content Placeholder 2"/>
          <p:cNvSpPr/>
          <p:nvPr/>
        </p:nvSpPr>
        <p:spPr>
          <a:xfrm>
            <a:off x="457200" y="5181480"/>
            <a:ext cx="8686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length changes as the light wave travels from a vacuum into the fi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umber of extra wavelength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6553080" y="6049800"/>
          <a:ext cx="109404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6049800"/>
                    <a:ext cx="10940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763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n-Film Interference, Cas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ves reflected by a thin film undergo a phase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umber of extra cycles traveled by the ray inside the film completely determines the nature of th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number of extra cycl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is an integer, there is constructiv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number of extra cycles is a half-integer, there is destructive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Object 2"/>
          <p:cNvGraphicFramePr/>
          <p:nvPr/>
        </p:nvGraphicFramePr>
        <p:xfrm>
          <a:off x="384120" y="4038480"/>
          <a:ext cx="502596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038480"/>
                    <a:ext cx="50259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Content Placeholder 2"/>
          <p:cNvSpPr/>
          <p:nvPr/>
        </p:nvSpPr>
        <p:spPr>
          <a:xfrm>
            <a:off x="304920" y="61722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if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ai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&l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fil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&lt;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(substance below the film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3"/>
          <a:stretch/>
        </p:blipFill>
        <p:spPr>
          <a:xfrm>
            <a:off x="5791320" y="4267080"/>
            <a:ext cx="3130560" cy="213372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51920"/>
            <a:ext cx="8686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n-Film Interference, Cas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the soap bubble is surrounded by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a phase change at the top of the bub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no phase change at the bottom of the bub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ce only one wave undergoes a phase change, the interference conditions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2"/>
          <p:cNvGraphicFramePr/>
          <p:nvPr/>
        </p:nvGraphicFramePr>
        <p:xfrm>
          <a:off x="509760" y="3352680"/>
          <a:ext cx="53575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3352680"/>
                    <a:ext cx="53575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6019920" y="2895480"/>
            <a:ext cx="2965320" cy="2295720"/>
          </a:xfrm>
          <a:prstGeom prst="rect">
            <a:avLst/>
          </a:prstGeom>
          <a:ln w="0">
            <a:noFill/>
          </a:ln>
        </p:spPr>
      </p:pic>
      <p:sp>
        <p:nvSpPr>
          <p:cNvPr id="11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7632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3 Color and Thickness of a Soap Fil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a bubble formed from a thin, soapy film that looks blue when viewed at normal incidence. Estimate the thickness of the film. Assume its index of refrac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il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35 and blue light has a wavelength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00 nm. Also assume the film is so thin that thinner films are not able to give constructive interfer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762120" y="4381560"/>
            <a:ext cx="2106360" cy="799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5316480" y="4370400"/>
            <a:ext cx="3141720" cy="81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1676520" y="5559480"/>
            <a:ext cx="6365880" cy="765000"/>
          </a:xfrm>
          <a:prstGeom prst="rect">
            <a:avLst/>
          </a:prstGeom>
          <a:ln w="0">
            <a:noFill/>
          </a:ln>
        </p:spPr>
      </p:pic>
      <p:cxnSp>
        <p:nvCxnSpPr>
          <p:cNvPr id="115" name="Straight Arrow Connector 6"/>
          <p:cNvCxnSpPr/>
          <p:nvPr/>
        </p:nvCxnSpPr>
        <p:spPr>
          <a:xfrm>
            <a:off x="3200040" y="4723920"/>
            <a:ext cx="16009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6" name="Rectangle 7"/>
          <p:cNvSpPr/>
          <p:nvPr/>
        </p:nvSpPr>
        <p:spPr>
          <a:xfrm>
            <a:off x="457200" y="3429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rference here is destructive and we consider m=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through a Single Slit: Qualitative Behavi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ontent Placeholder 3"/>
          <p:cNvSpPr/>
          <p:nvPr/>
        </p:nvSpPr>
        <p:spPr>
          <a:xfrm>
            <a:off x="304920" y="914400"/>
            <a:ext cx="883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passes through a slit or opening and then illuminates a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 the width of the slit becomes closer to the wavelength of the light, the intensity pattern on the screen and additional maxima become notic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25p881_f15"/>
          <p:cNvPicPr/>
          <p:nvPr/>
        </p:nvPicPr>
        <p:blipFill>
          <a:blip r:embed="rId1"/>
          <a:stretch/>
        </p:blipFill>
        <p:spPr>
          <a:xfrm>
            <a:off x="1944720" y="3505320"/>
            <a:ext cx="5568840" cy="3047760"/>
          </a:xfrm>
          <a:prstGeom prst="rect">
            <a:avLst/>
          </a:prstGeom>
          <a:ln w="0">
            <a:noFill/>
          </a:ln>
        </p:spPr>
      </p:pic>
      <p:sp>
        <p:nvSpPr>
          <p:cNvPr id="12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25p882_f16"/>
          <p:cNvPicPr/>
          <p:nvPr/>
        </p:nvPicPr>
        <p:blipFill>
          <a:blip r:embed="rId1"/>
          <a:stretch/>
        </p:blipFill>
        <p:spPr>
          <a:xfrm>
            <a:off x="6394320" y="76320"/>
            <a:ext cx="2673360" cy="2895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45720"/>
            <a:ext cx="5867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Diff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ter wave example of single-slit diff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l types of waves undergo single-slit diffra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ffr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s the bending or spreading of a wave when it passes through an op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457200" y="3657600"/>
            <a:ext cx="5791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s useful to draw the wave fronts and rays for the incident and diffracting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uygen</a:t>
            </a:r>
            <a:r>
              <a:rPr b="1" i="1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Princip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n be stat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l points on a wave front can be thought of as new sources of spherical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25p882_f17"/>
          <p:cNvPicPr/>
          <p:nvPr/>
        </p:nvPicPr>
        <p:blipFill>
          <a:blip r:embed="rId2"/>
          <a:stretch/>
        </p:blipFill>
        <p:spPr>
          <a:xfrm>
            <a:off x="6324480" y="3657600"/>
            <a:ext cx="2738520" cy="314316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Slit Interference: Young’s Experiment of Light from a Single Sl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uble-Slit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passes through two very narrow sl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the two slits are both very narrow, each slit acts as a simple point source of new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utgoing waves from each slit are like simple spherical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double slit experiment showed conclusively that light is a w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eriment was first carried out by Thomas Young around 18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25p883_f18"/>
          <p:cNvPicPr/>
          <p:nvPr/>
        </p:nvPicPr>
        <p:blipFill>
          <a:blip r:embed="rId1"/>
          <a:stretch/>
        </p:blipFill>
        <p:spPr>
          <a:xfrm>
            <a:off x="6372360" y="152280"/>
            <a:ext cx="2619360" cy="2590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6840" y="75960"/>
            <a:ext cx="57913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oung’s Double-Slit Exper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is incident onto two slits and after passing through them strikes a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ight intensity on the screen shows an interference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Content Placeholder 2"/>
          <p:cNvSpPr/>
          <p:nvPr/>
        </p:nvSpPr>
        <p:spPr>
          <a:xfrm>
            <a:off x="457200" y="3017880"/>
            <a:ext cx="579132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lits are separated by a distance d, then the difference in length between the paths of the two ray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25p883_f19"/>
          <p:cNvPicPr/>
          <p:nvPr/>
        </p:nvPicPr>
        <p:blipFill>
          <a:blip r:embed="rId2"/>
          <a:stretch/>
        </p:blipFill>
        <p:spPr>
          <a:xfrm>
            <a:off x="6324480" y="2819520"/>
            <a:ext cx="2686320" cy="2286000"/>
          </a:xfrm>
          <a:prstGeom prst="rect">
            <a:avLst/>
          </a:prstGeom>
          <a:ln w="0">
            <a:noFill/>
          </a:ln>
        </p:spPr>
      </p:pic>
      <p:sp>
        <p:nvSpPr>
          <p:cNvPr id="134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2282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constructive interference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ill observe a bright fri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ght intensity will be 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will be in phase when they strike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destructive interference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+ ½)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ill observe a dark fri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light intensity will be z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will not be in phase when they strike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herence and Conditions for 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ve Opt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field of wave optics studies the properties of light that depend on its wave natu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iginally light was thought to be a particle and that model successfully explained the phenomena discussed in geometric opt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xwell’s theory of electromagnetism convinced physicists that light was a wav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discussing image characteristics over distances much greater than the wavelength, geometric optics is extremely accura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dealing with sizes comparable to or smaller than the wavelength, wave optics is requir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75960"/>
            <a:ext cx="4952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uble-Slit Intensity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angl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varies as you move along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ach bright fringe corresponds to a different value of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gative values of m indicate that the path to those points on the screen from the lower slit is shorter than the path from the upper sl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25p883_f20"/>
          <p:cNvPicPr/>
          <p:nvPr/>
        </p:nvPicPr>
        <p:blipFill>
          <a:blip r:embed="rId1"/>
          <a:stretch/>
        </p:blipFill>
        <p:spPr>
          <a:xfrm>
            <a:off x="5475240" y="76320"/>
            <a:ext cx="3668760" cy="2286000"/>
          </a:xfrm>
          <a:prstGeom prst="rect">
            <a:avLst/>
          </a:prstGeom>
          <a:ln w="0">
            <a:noFill/>
          </a:ln>
        </p:spPr>
      </p:pic>
      <p:sp>
        <p:nvSpPr>
          <p:cNvPr id="139" name="Content Placeholder 2"/>
          <p:cNvSpPr/>
          <p:nvPr/>
        </p:nvSpPr>
        <p:spPr>
          <a:xfrm>
            <a:off x="457200" y="472428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m = 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ce the angle is very small, s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0 and m = 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a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2971800" y="4648320"/>
          <a:ext cx="1282680" cy="81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4648320"/>
                    <a:ext cx="128268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11"/>
          <p:cNvSpPr/>
          <p:nvPr/>
        </p:nvSpPr>
        <p:spPr>
          <a:xfrm>
            <a:off x="5486400" y="25146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s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slits and the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istance between the adjacent bright fri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proxim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small angles, ta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 s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~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sing the approximation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/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457200" y="1981080"/>
            <a:ext cx="8686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 with Monochromatic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with a single frequency is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nochrom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one co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sources with a variety of wavelengths are generally not useful for double-slit interference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bright and dark fringes may overlap or the total pattern may be a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shed ou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um of bright and dark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 bright or dark fringes will be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6840" y="763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5 Measuring the Wavelength of 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ng’s double-slit experiment shows that light is indeed a wave and also gives a way to measure the wavelength. Suppose the double-slit experiment in Figure 25.20 is carried out with a slit spac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40 mm and the screen at a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5 m. If the bright fringes nearest the center of the screen are separated by a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mm, what is the wavelength of the ligh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990360" cy="685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7728120" cy="68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25p883_f20"/>
          <p:cNvPicPr/>
          <p:nvPr/>
        </p:nvPicPr>
        <p:blipFill>
          <a:blip r:embed="rId3"/>
          <a:stretch/>
        </p:blipFill>
        <p:spPr>
          <a:xfrm>
            <a:off x="5410080" y="3662280"/>
            <a:ext cx="3733920" cy="232740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-Slit Diffraction: Interfer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990360"/>
            <a:ext cx="6476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lits may be narrow enough to exhibit diffraction but not so narrow that they can be treated as a single point source of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e the single slit has a width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ght is diffracted as it passes through the slit and then propagates to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6" descr="25p886_f21a"/>
          <p:cNvPicPr/>
          <p:nvPr/>
        </p:nvPicPr>
        <p:blipFill>
          <a:blip r:embed="rId1"/>
          <a:stretch/>
        </p:blipFill>
        <p:spPr>
          <a:xfrm>
            <a:off x="6854760" y="838080"/>
            <a:ext cx="2289240" cy="2772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25p886_f21b"/>
          <p:cNvPicPr/>
          <p:nvPr/>
        </p:nvPicPr>
        <p:blipFill>
          <a:blip r:embed="rId2"/>
          <a:stretch/>
        </p:blipFill>
        <p:spPr>
          <a:xfrm>
            <a:off x="7553160" y="3733920"/>
            <a:ext cx="1590840" cy="3124080"/>
          </a:xfrm>
          <a:prstGeom prst="rect">
            <a:avLst/>
          </a:prstGeom>
          <a:ln w="0">
            <a:noFill/>
          </a:ln>
        </p:spPr>
      </p:pic>
      <p:sp>
        <p:nvSpPr>
          <p:cNvPr id="156" name="Content Placeholder 2"/>
          <p:cNvSpPr/>
          <p:nvPr/>
        </p:nvSpPr>
        <p:spPr>
          <a:xfrm>
            <a:off x="304920" y="4267080"/>
            <a:ext cx="716256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key to the calculation of where the fringes occur is Huygen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l points across the slit act as wav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se different waves interfere at the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nalysis, divide the slit into two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ontent Placeholder 2"/>
          <p:cNvSpPr/>
          <p:nvPr/>
        </p:nvSpPr>
        <p:spPr>
          <a:xfrm>
            <a:off x="457200" y="46080"/>
            <a:ext cx="518148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one point in each part of the slit satisfies the conditions for destructive interference, the waves from all similar sets of points will also interfere destru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tructive interference will produce a dark fri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25p886_f21c"/>
          <p:cNvPicPr/>
          <p:nvPr/>
        </p:nvPicPr>
        <p:blipFill>
          <a:blip r:embed="rId1"/>
          <a:stretch/>
        </p:blipFill>
        <p:spPr>
          <a:xfrm>
            <a:off x="5715000" y="457200"/>
            <a:ext cx="3429000" cy="2789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39625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Analysis: Dark Frin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ditions for destructive interference 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 si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±m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1, 2, 3, …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negative sign will correspond to a fringe below the center of the sc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2"/>
          <p:cNvSpPr/>
          <p:nvPr/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ngle-Slit Analysis: Bright Fri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no simple formula for the angles at which the bright fringes occ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nsity on the screen can be calculated by adding up all the Huygens wa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a central bright fring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entral fringe is called the central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entral fringe is about 20 times more intense than the bright fringes on ei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width of the central bright fringe is approximately the angular separation of the first dark fringes on either sideThe full angular width of the central bright fringe = 2 λ /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the slit is much wider than the wavelength, the light beam essentially passes straight through the slit with almost no effect from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1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raction Grat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837720"/>
            <a:ext cx="5562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 arrangement of many slits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ffraction gr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lits are nar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ach one produces a single outgoing w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screen is very far a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25p889_f24"/>
          <p:cNvPicPr/>
          <p:nvPr/>
        </p:nvPicPr>
        <p:blipFill>
          <a:blip r:embed="rId1"/>
          <a:stretch/>
        </p:blipFill>
        <p:spPr>
          <a:xfrm>
            <a:off x="6095880" y="938160"/>
            <a:ext cx="2930760" cy="2876760"/>
          </a:xfrm>
          <a:prstGeom prst="rect">
            <a:avLst/>
          </a:prstGeom>
          <a:ln w="0">
            <a:noFill/>
          </a:ln>
        </p:spPr>
      </p:pic>
      <p:sp>
        <p:nvSpPr>
          <p:cNvPr id="167" name="Content Placeholder 2"/>
          <p:cNvSpPr/>
          <p:nvPr/>
        </p:nvSpPr>
        <p:spPr>
          <a:xfrm>
            <a:off x="457200" y="3809880"/>
            <a:ext cx="8686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lit-to-slit spacing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then the path length difference for the rays from two adjacent sli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sin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s equal to an integral number of wavelengths, constructive interference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bright fringe, d si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m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 = 0, ±1, ±2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52280"/>
            <a:ext cx="4952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ondition for bright fringes from a diffraction grating is identical to the condition for constructive interference from a double sl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verall intensity pattern depends on the number of sl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arger the number of slits, the narrower the pea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25p889_f25"/>
          <p:cNvPicPr/>
          <p:nvPr/>
        </p:nvPicPr>
        <p:blipFill>
          <a:blip r:embed="rId1"/>
          <a:stretch/>
        </p:blipFill>
        <p:spPr>
          <a:xfrm>
            <a:off x="5595840" y="76320"/>
            <a:ext cx="3471840" cy="3740040"/>
          </a:xfrm>
          <a:prstGeom prst="rect">
            <a:avLst/>
          </a:prstGeom>
          <a:ln w="0">
            <a:noFill/>
          </a:ln>
        </p:spPr>
      </p:pic>
      <p:sp>
        <p:nvSpPr>
          <p:cNvPr id="17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75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6 Diffraction of Light by a Gr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ffraction experiment is carried out with a grating. Using light from a red laser 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30 nm), the diffraction fringes are separat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15 m on a screen tha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.0 m from the grating. Find the spacing d between slits in the gr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1469880" cy="722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905120" y="4191120"/>
            <a:ext cx="2987640" cy="685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1981080" y="4952880"/>
            <a:ext cx="2895840" cy="471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4"/>
          <a:stretch/>
        </p:blipFill>
        <p:spPr>
          <a:xfrm>
            <a:off x="2133720" y="5562720"/>
            <a:ext cx="2514600" cy="420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5"/>
          <a:stretch/>
        </p:blipFill>
        <p:spPr>
          <a:xfrm>
            <a:off x="766800" y="6019920"/>
            <a:ext cx="7539120" cy="761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6"/>
          <a:stretch/>
        </p:blipFill>
        <p:spPr>
          <a:xfrm>
            <a:off x="6172200" y="2971800"/>
            <a:ext cx="2828880" cy="266688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Resolution and the Rayleigh Criter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142640"/>
            <a:ext cx="57913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circular opening of diameter D, the angle between the central bright maximum and the first minimum 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ircular geometry leads to the additional numerical factor of 1.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7" descr="25p892_f30"/>
          <p:cNvPicPr/>
          <p:nvPr/>
        </p:nvPicPr>
        <p:blipFill>
          <a:blip r:embed="rId1"/>
          <a:stretch/>
        </p:blipFill>
        <p:spPr>
          <a:xfrm>
            <a:off x="6354720" y="1042920"/>
            <a:ext cx="271296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Object 2"/>
          <p:cNvGraphicFramePr/>
          <p:nvPr/>
        </p:nvGraphicFramePr>
        <p:xfrm>
          <a:off x="2527200" y="3076560"/>
          <a:ext cx="143532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7200" y="3076560"/>
                    <a:ext cx="143532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52280"/>
            <a:ext cx="67057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e property unique to waves is inter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erence of sound waves can be produced by two spea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25p869_f01a"/>
          <p:cNvPicPr/>
          <p:nvPr/>
        </p:nvPicPr>
        <p:blipFill>
          <a:blip r:embed="rId1"/>
          <a:srcRect l="0" t="-22" r="0" b="23983"/>
          <a:stretch/>
        </p:blipFill>
        <p:spPr>
          <a:xfrm>
            <a:off x="7021440" y="76320"/>
            <a:ext cx="204624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Content Placeholder 2"/>
          <p:cNvSpPr/>
          <p:nvPr/>
        </p:nvSpPr>
        <p:spPr>
          <a:xfrm>
            <a:off x="380880" y="23623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tructive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the waves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ph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 their maxima occur at the same time at a given point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otal wave displacement at the listener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 location is the sum of the displacements of the two individual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wo waves are in phase, the sum of their displacements is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25p869_f01b"/>
          <p:cNvPicPr/>
          <p:nvPr/>
        </p:nvPicPr>
        <p:blipFill>
          <a:blip r:embed="rId2"/>
          <a:stretch/>
        </p:blipFill>
        <p:spPr>
          <a:xfrm>
            <a:off x="7259760" y="2819520"/>
            <a:ext cx="1884240" cy="380988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Content Placeholder 2"/>
          <p:cNvSpPr/>
          <p:nvPr/>
        </p:nvSpPr>
        <p:spPr>
          <a:xfrm>
            <a:off x="457200" y="763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yleigh Criter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two sources are sufficiently far apart, they can be seen as two separate diffraction spots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sources are too close together, their diffraction spots will overlap so much that they appear as a single spot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25p893_f32(a)"/>
          <p:cNvPicPr/>
          <p:nvPr/>
        </p:nvPicPr>
        <p:blipFill>
          <a:blip r:embed="rId1"/>
          <a:stretch/>
        </p:blipFill>
        <p:spPr>
          <a:xfrm>
            <a:off x="1108080" y="3016080"/>
            <a:ext cx="1863720" cy="1765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25p893_f32(b)"/>
          <p:cNvPicPr/>
          <p:nvPr/>
        </p:nvPicPr>
        <p:blipFill>
          <a:blip r:embed="rId2"/>
          <a:stretch/>
        </p:blipFill>
        <p:spPr>
          <a:xfrm>
            <a:off x="3905280" y="3016080"/>
            <a:ext cx="1809720" cy="1779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25p893_f32(c)"/>
          <p:cNvPicPr/>
          <p:nvPr/>
        </p:nvPicPr>
        <p:blipFill>
          <a:blip r:embed="rId3"/>
          <a:stretch/>
        </p:blipFill>
        <p:spPr>
          <a:xfrm>
            <a:off x="6477120" y="3036960"/>
            <a:ext cx="1809720" cy="1763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762120" y="47242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                                              B                                 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51051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sources will be resolved as two distinct sources of light if their angular separation is greater than the angular spread of a single diffraction spo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228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result is called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yleigh criter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 circular opening, the Rayleigh criterion for the angular resolution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objects will be resolved when viewed through an opening of diameter D if the light rays from the two objects are separated by an angle at least as large a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θ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Object 2"/>
          <p:cNvGraphicFramePr/>
          <p:nvPr/>
        </p:nvGraphicFramePr>
        <p:xfrm>
          <a:off x="3809880" y="1828800"/>
          <a:ext cx="160524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16052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9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6840" y="75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 25 .7 Rayleigh Criterion for a Marksm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ifle used for target shooting has a small telescope so that the shooter can accurately aim at his target. Suppose the telescope has a di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.5 cm and the shooter is looking at two small objects that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00 m away. If the shooter is just barely able to tell that there are two objects (and not one), how far apart are the objects? Assume red light with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00 n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5410080" y="3809880"/>
            <a:ext cx="3505320" cy="1271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2666880" y="4146480"/>
            <a:ext cx="1524240" cy="711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1295280" y="5160960"/>
            <a:ext cx="1684440" cy="63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4"/>
          <a:stretch/>
        </p:blipFill>
        <p:spPr>
          <a:xfrm>
            <a:off x="4038480" y="5140440"/>
            <a:ext cx="2556000" cy="698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5"/>
          <a:stretch/>
        </p:blipFill>
        <p:spPr>
          <a:xfrm>
            <a:off x="990720" y="5979960"/>
            <a:ext cx="6943680" cy="687600"/>
          </a:xfrm>
          <a:prstGeom prst="rect">
            <a:avLst/>
          </a:prstGeom>
          <a:ln w="0">
            <a:noFill/>
          </a:ln>
        </p:spPr>
      </p:pic>
      <p:cxnSp>
        <p:nvCxnSpPr>
          <p:cNvPr id="203" name="Straight Arrow Connector 10"/>
          <p:cNvCxnSpPr/>
          <p:nvPr/>
        </p:nvCxnSpPr>
        <p:spPr>
          <a:xfrm>
            <a:off x="3276360" y="5486040"/>
            <a:ext cx="6102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4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the Sky Blu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808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light we see from the sky is sunlight scattered by the molecules in the atm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olecules are much smaller than the wavelength of visibl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y scatter blue light more strongly than 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is gives the atmosphere its blue col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6" descr="25p897_f39"/>
          <p:cNvPicPr/>
          <p:nvPr/>
        </p:nvPicPr>
        <p:blipFill>
          <a:blip r:embed="rId1"/>
          <a:stretch/>
        </p:blipFill>
        <p:spPr>
          <a:xfrm>
            <a:off x="6629400" y="914400"/>
            <a:ext cx="2514600" cy="2817720"/>
          </a:xfrm>
          <a:prstGeom prst="rect">
            <a:avLst/>
          </a:prstGeom>
          <a:ln w="0">
            <a:noFill/>
          </a:ln>
        </p:spPr>
      </p:pic>
      <p:sp>
        <p:nvSpPr>
          <p:cNvPr id="208" name="Content Placeholder 2"/>
          <p:cNvSpPr/>
          <p:nvPr/>
        </p:nvSpPr>
        <p:spPr>
          <a:xfrm>
            <a:off x="457200" y="335268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lue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lthough violet scatters more than blue, the sky appears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un emits more strongly in blue than vio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ur eyes are more sensitive to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ky appears blue even though the violet light is scattered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n near hori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more molecules to scatter the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st of the blue is scattered away, leaving the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ontent Placeholder 2"/>
          <p:cNvSpPr/>
          <p:nvPr/>
        </p:nvSpPr>
        <p:spPr>
          <a:xfrm>
            <a:off x="380880" y="152280"/>
            <a:ext cx="5639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tructive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aximum of one wave can coincide with the minimum of the other w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73486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se waves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ut o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terference is destructive when the waves are out of 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73486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the waves are 180° out of phase, the sum of the displacements of the two waves is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25p869_f01c"/>
          <p:cNvPicPr/>
          <p:nvPr/>
        </p:nvPicPr>
        <p:blipFill>
          <a:blip r:embed="rId1"/>
          <a:stretch/>
        </p:blipFill>
        <p:spPr>
          <a:xfrm>
            <a:off x="6080040" y="228600"/>
            <a:ext cx="2987640" cy="5334120"/>
          </a:xfrm>
          <a:prstGeom prst="rect">
            <a:avLst/>
          </a:prstGeom>
          <a:ln w="0">
            <a:noFill/>
          </a:ln>
        </p:spPr>
      </p:pic>
      <p:sp>
        <p:nvSpPr>
          <p:cNvPr id="6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6840" y="38052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conditions for interferen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ves can interfere if all the following conditions are m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wo or more interfering waves travel through different regions of space over at least part of their propagation from source to destin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waves are brought together at a common poi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he waves must have the same frequency and must also have a fixed phase relationship. Thus, over a given distance or time interval the phase difference between the waves remains constant. Such waves are called cohe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chelson Interferomet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25p872_f03"/>
          <p:cNvPicPr/>
          <p:nvPr/>
        </p:nvPicPr>
        <p:blipFill>
          <a:blip r:embed="rId1"/>
          <a:stretch/>
        </p:blipFill>
        <p:spPr>
          <a:xfrm>
            <a:off x="6400800" y="1066680"/>
            <a:ext cx="2666880" cy="3684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990360"/>
            <a:ext cx="5867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ichelson interferometer is based on the interference of reflected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reflecting mirrors are mounted at right ang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third mirror is partially reflec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beam spli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457200" y="472428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incident light hits the beam splitter and is divided into two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aves reflect from the mirrors at the top and right and recombine at the beam spl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ontent Placeholder 2"/>
          <p:cNvSpPr/>
          <p:nvPr/>
        </p:nvSpPr>
        <p:spPr>
          <a:xfrm>
            <a:off x="457200" y="152280"/>
            <a:ext cx="8686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fter being reflected again from the beam splitter, portions of the waves combine at the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nly difference between the two waves is that they travel different distances between their respective mirrors and the beam spl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73486"/>
              </a:buClr>
              <a:buSzPct val="9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th length differe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3200040"/>
            <a:ext cx="5486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path length difference is related to the wavelength of the 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f N is an integer, the two waves are in phase and produce constructive inter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f N is a half-integer the waves will produce destructive interfe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25p873_f04"/>
          <p:cNvPicPr/>
          <p:nvPr/>
        </p:nvPicPr>
        <p:blipFill>
          <a:blip r:embed="rId1"/>
          <a:stretch/>
        </p:blipFill>
        <p:spPr>
          <a:xfrm>
            <a:off x="5867280" y="3276720"/>
            <a:ext cx="3200400" cy="310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2"/>
          <p:cNvGraphicFramePr/>
          <p:nvPr/>
        </p:nvGraphicFramePr>
        <p:xfrm>
          <a:off x="2590920" y="4267080"/>
          <a:ext cx="1019160" cy="7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4267080"/>
                    <a:ext cx="10191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52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constructive interference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destructive interference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+ ½)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 is an integer in both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interference is constructive, the light intensity at the detector is 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bright fri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f the interference is destructive, the light intensity at the detector is z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led a dark fri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75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elium–neon (He–Ne) laser emits light with a wavelength of approximately </a:t>
            </a:r>
            <a:r>
              <a:rPr b="0" lang="el-G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e–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633 nm. Suppose this light source is used in a Michelson interferometer and one of the mirrors is moved a distanc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exactly N = 1,000,000 bright fringes are counted, calcula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lution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2679480" cy="498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5410080" y="4952880"/>
            <a:ext cx="3481560" cy="565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1066680" y="5638680"/>
            <a:ext cx="17208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4"/>
          <a:stretch/>
        </p:blipFill>
        <p:spPr>
          <a:xfrm>
            <a:off x="6818400" y="304920"/>
            <a:ext cx="2249280" cy="2590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1"/>
          <p:cNvSpPr/>
          <p:nvPr/>
        </p:nvSpPr>
        <p:spPr>
          <a:xfrm>
            <a:off x="304920" y="36576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mirror moves a dista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distance traveled by the light changes by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cause the light travels back and forth between the beam splitter and the mi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4037760" y="579132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5×1000000×633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0.317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14"/>
          <p:cNvCxnSpPr/>
          <p:nvPr/>
        </p:nvCxnSpPr>
        <p:spPr>
          <a:xfrm>
            <a:off x="2895480" y="6019560"/>
            <a:ext cx="9914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5" name="Rectangle 15"/>
          <p:cNvSpPr/>
          <p:nvPr/>
        </p:nvSpPr>
        <p:spPr>
          <a:xfrm>
            <a:off x="424080" y="5029200"/>
            <a:ext cx="382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=2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2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2(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–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=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16"/>
          <p:cNvCxnSpPr/>
          <p:nvPr/>
        </p:nvCxnSpPr>
        <p:spPr>
          <a:xfrm>
            <a:off x="4419360" y="5257440"/>
            <a:ext cx="68652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sw1979</dc:creator>
  <dc:description/>
  <dc:language>en-US</dc:language>
  <cp:lastModifiedBy>LEGION</cp:lastModifiedBy>
  <dcterms:modified xsi:type="dcterms:W3CDTF">2018-04-03T08:34:42Z</dcterms:modified>
  <cp:revision>350</cp:revision>
  <dc:subject/>
  <dc:title>Physics 1404, Section 1 Chapter 21:  Magnetic Induction</dc:title>
</cp:coreProperties>
</file>