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5DA4-097B-485F-B84D-2502EF0BFA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7D7-75D7-4369-82D1-AF321EE3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C88-CED5-4384-9341-7D82D1B0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471-F906-48FF-B58F-E954778C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981-9ACC-4D3F-8B99-6E219E09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D2E-AE20-4A57-A66E-2D24659C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F13-F02F-4797-AF84-C4DD26DE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2EE-38F2-4947-B810-E0BD0A77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F91F-FB82-4A20-83CC-46CAB7F5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8E9-63BB-4F14-BDD8-D81F363B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F9F-BF18-4AF0-A954-5A93EF82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F87-49CA-45D5-99DC-301C85CB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307-560E-4E2B-926D-753F655A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7150-18CB-4BC6-9640-0EFDD62D0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2819520" y="6170760"/>
            <a:ext cx="567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rst Quar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1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ird (Last) Qu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1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ul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Real 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00240" y="2133720"/>
            <a:ext cx="3505320" cy="358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ully l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you see the “Man in the Moon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906120" y="6248520"/>
            <a:ext cx="523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3" descr="_x000c_fullmoon.jpg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092320"/>
            <a:ext cx="3809880" cy="389088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ew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 light visi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3:25:09Z</dcterms:created>
  <dc:creator>john smith</dc:creator>
  <dc:description/>
  <dc:language>en-US</dc:language>
  <cp:lastModifiedBy>LEGION</cp:lastModifiedBy>
  <dcterms:modified xsi:type="dcterms:W3CDTF">2018-03-22T11:00:37Z</dcterms:modified>
  <cp:revision>35</cp:revision>
  <dc:subject/>
  <dc:title>What Moon Phase Is This?</dc:title>
</cp:coreProperties>
</file>