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40BA-0BBD-4502-88CA-242D40CDE6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9AB-ED75-4B06-900B-EEC7CF25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C0C-FF4D-42AE-A894-FB51A97F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A48-993D-4052-8AF1-D893F1CA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968-70CA-4117-A108-51CA3E46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1F1-FCC6-41D6-A779-DAC2C100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800-B244-4F47-ABF7-C2EC17C0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5C0-49FE-4FCD-9DFE-D46DEBC5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7CC-334A-4031-8801-0C9D2FEF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DAD-26EA-497B-AE5E-9AF4B55B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FED-E976-4650-8A67-5251336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DC9-F993-41C3-9050-E76808F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FDD-BB04-4C18-BA65-0E595D99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45CA-E0F1-4964-AA37-64ECA0CEE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819520" y="6170760"/>
            <a:ext cx="56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st Quar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ird (Last)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u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eal 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lly l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you see the “Man in the Moon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906120" y="6248520"/>
            <a:ext cx="52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3" descr="_x000c_fullmoon.jpg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ew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light vi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3:25:09Z</dcterms:created>
  <dc:creator>john smith</dc:creator>
  <dc:description/>
  <dc:language>en-US</dc:language>
  <cp:lastModifiedBy>LEGION</cp:lastModifiedBy>
  <dcterms:modified xsi:type="dcterms:W3CDTF">2018-03-22T11:00:37Z</dcterms:modified>
  <cp:revision>35</cp:revision>
  <dc:subject/>
  <dc:title>What Moon Phase Is This?</dc:title>
</cp:coreProperties>
</file>