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5FC7-E465-4FAA-89E3-4D9C614B7A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E9B-2C74-4539-B045-E98B9215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028-A418-4342-ACFB-B306900D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E05-E887-4C6A-93D9-D954989D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5B4-8CBC-41F0-A96E-A9063C57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BA3-5BE9-43CB-A14E-53163E49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B92-A9ED-489B-A724-68911254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7F0-7611-44FC-8541-FCA0F9A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842-B8BE-422B-97B5-45CDBC08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D2A-1A95-4BBA-B1AF-132A7A8F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FBB-7ED3-455C-92B5-D4727AE9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D8C-5668-4C34-94EF-FB795620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41B-C94F-45F2-B8BC-A7E02D1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0DDA-1F87-40C8-91AC-FF8292123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819520" y="6170760"/>
            <a:ext cx="56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st Quar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ird (Last)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u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eal 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lly l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you see the “Man in the Moon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906120" y="6248520"/>
            <a:ext cx="52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3" descr="_x000c_fullmoon.jpg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ew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light vi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3:25:09Z</dcterms:created>
  <dc:creator>john smith</dc:creator>
  <dc:description/>
  <dc:language>en-US</dc:language>
  <cp:lastModifiedBy>LEGION</cp:lastModifiedBy>
  <dcterms:modified xsi:type="dcterms:W3CDTF">2018-03-22T11:00:37Z</dcterms:modified>
  <cp:revision>35</cp:revision>
  <dc:subject/>
  <dc:title>What Moon Phase Is This?</dc:title>
</cp:coreProperties>
</file>