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69EE-C318-4334-9632-4B8831952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D72-59CD-46FF-BF12-B80BB166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F24-8384-4695-A8B7-BD45EA50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03A-9003-449F-98FB-67C589A7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F9E-E18E-490F-A887-2C2FA93D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792F1-C9BE-42F8-B5A3-17C22992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F9A13-B9C3-4189-898F-1E7DE08E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5D5A3-1A0D-4D12-868B-04AC1B99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7F1AC-A596-418A-B3AF-795B82B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4548C-2845-45AC-90EF-E38F682F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E44AA-C267-40AF-9541-5002044A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6EE90-E6D3-4E64-A628-291927C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3AB-A67D-401C-BE88-B56BF5C1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E6992-C247-4388-B7CC-634F1BE4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F829E-744A-4BCA-A060-3390377E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055E6-6D31-4ABB-BDE0-771B4302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17A92-FBDF-4750-8784-5FD72973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1A41C-A225-464B-AC4B-84010642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69C-A9F7-47F9-B1A0-D13F069E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643-52C0-4968-8115-3AF500F8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228-BB53-452F-A15A-19F993E3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5CA-61F4-484F-8858-5F4725C5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1FD-10B9-4CA8-ACC8-9C4BAE40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E61-5541-4EB8-939C-52B7E2A2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96D-866E-4EC4-8611-B9375C1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13C2-E6E1-4F06-A97D-F1DFC8167F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3F7E-9289-46B1-A4AB-AC8ED32F0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54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57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3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72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77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78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87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98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3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15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4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31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dc:language>en-US</dc:language>
  <cp:lastModifiedBy>LEGION</cp:lastModifiedBy>
  <cp:lastPrinted>2003-10-27T22:25:26Z</cp:lastPrinted>
  <dcterms:modified xsi:type="dcterms:W3CDTF">2018-03-22T10:54:21Z</dcterms:modified>
  <cp:revision>111</cp:revision>
  <dc:subject/>
  <dc:title>PowerPoint Presentation  -  The Sun as a Power House</dc:title>
</cp:coreProperties>
</file>