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DB7D-E0D2-4163-B8CF-A4A4F31D51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26B-21B0-4205-A0A3-D7A47829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0ED-2191-4EF0-BC7F-BF063D3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E7D-15D3-4C04-A9EB-6171332C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B2C-772B-416E-9B27-11BC9045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507-5708-4B2F-88B9-8C54F541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82E-CDD4-47D9-B3BC-DFEA4C5D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4F2-7F00-45E0-A4F4-A9182465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495-54EE-42EE-B6DC-709E26A9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7F0-493C-479D-AB88-52033603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4EA-E340-4964-9443-5C25B87A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71D-FED3-4CCA-96ED-D9E5CEB7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4D1-5238-4040-8F2F-B3823D94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EA56-CD40-4E11-BB6F-3CAFC0BF98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D65C-7590-4A83-905F-306568129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The Solar Syste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 “</a:t>
            </a:r>
            <a:r>
              <a:rPr b="0" lang="en-US" sz="4400" spc="-1" strike="noStrike">
                <a:solidFill>
                  <a:srgbClr val="0066cc"/>
                </a:solidFill>
                <a:latin typeface="Cooper Std Black"/>
              </a:rPr>
              <a:t>Gas Gian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”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has a methane atmosp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6477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Cooper Std Black"/>
              </a:rPr>
              <a:t>Neptune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neptune"/>
          <p:cNvPicPr/>
          <p:nvPr/>
        </p:nvPicPr>
        <p:blipFill>
          <a:blip r:embed="rId1"/>
          <a:stretch/>
        </p:blipFill>
        <p:spPr>
          <a:xfrm>
            <a:off x="5410080" y="320976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planet was downgraded to a “</a:t>
            </a:r>
            <a:r>
              <a:rPr b="0" lang="en-US" sz="4400" spc="-1" strike="noStrike">
                <a:solidFill>
                  <a:srgbClr val="b2b2b2"/>
                </a:solidFill>
                <a:latin typeface="Magneto"/>
              </a:rPr>
              <a:t>dwarf objec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Magneto"/>
              </a:rPr>
              <a:t>Pluto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pluto"/>
          <p:cNvPicPr/>
          <p:nvPr/>
        </p:nvPicPr>
        <p:blipFill>
          <a:blip r:embed="rId1"/>
          <a:stretch/>
        </p:blipFill>
        <p:spPr>
          <a:xfrm>
            <a:off x="3952800" y="44132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erlin Sans FB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33"/>
                </a:solidFill>
                <a:latin typeface="Berlin Sans FB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Berlin Sans FB"/>
              </a:rPr>
              <a:t>say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Berlin Sans FB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Berlin Sans FB"/>
              </a:rPr>
              <a:t>planets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Berlin Sans FB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erlin Sans FB"/>
              </a:rPr>
              <a:t>order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alibri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alibri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alibri"/>
              </a:rPr>
              <a:t>(Plu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8168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What object is at the </a:t>
            </a:r>
            <a:r>
              <a:rPr b="0" i="1" lang="en-US" sz="4000" spc="-1" strike="noStrike" u="sng">
                <a:solidFill>
                  <a:srgbClr val="ffc000"/>
                </a:solidFill>
                <a:uFillTx/>
                <a:latin typeface="Calibri"/>
              </a:rPr>
              <a:t>center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 of our Solar Syste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008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su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604040" cy="34624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ich Planet is the </a:t>
            </a:r>
            <a:r>
              <a:rPr b="1" lang="en-US" sz="4800" spc="-1" strike="noStrike">
                <a:solidFill>
                  <a:srgbClr val="ff0000"/>
                </a:solidFill>
                <a:latin typeface="Gloucester MT Extra Condensed"/>
              </a:rPr>
              <a:t>closest</a:t>
            </a:r>
            <a:r>
              <a:rPr b="1" lang="en-US" sz="4000" spc="-1" strike="noStrike">
                <a:solidFill>
                  <a:srgbClr val="ff0000"/>
                </a:solidFill>
                <a:latin typeface="Gloucester MT Extra Condense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 the s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mercury.jpg"/>
          <p:cNvPicPr/>
          <p:nvPr/>
        </p:nvPicPr>
        <p:blipFill>
          <a:blip r:embed="rId1"/>
          <a:stretch/>
        </p:blipFill>
        <p:spPr>
          <a:xfrm>
            <a:off x="4038480" y="2362320"/>
            <a:ext cx="4383360" cy="33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3008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loucester MT Extra Condensed"/>
              </a:rPr>
              <a:t>Mercury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03848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ich planet is nicknamed the “</a:t>
            </a:r>
            <a:r>
              <a:rPr b="1" lang="en-US" sz="4000" spc="-1" strike="noStrike">
                <a:solidFill>
                  <a:srgbClr val="0070c0"/>
                </a:solidFill>
                <a:latin typeface="Bradley Hand ITC"/>
              </a:rPr>
              <a:t>Morning Star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venus.jpg"/>
          <p:cNvPicPr/>
          <p:nvPr/>
        </p:nvPicPr>
        <p:blipFill>
          <a:blip r:embed="rId1"/>
          <a:stretch/>
        </p:blipFill>
        <p:spPr>
          <a:xfrm>
            <a:off x="4343400" y="1981080"/>
            <a:ext cx="3992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3657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Bradley Hand ITC"/>
              </a:rPr>
              <a:t>Venu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0081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oadway"/>
              </a:rPr>
              <a:t>Which planet has plants, animals, and u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4" descr="earth.jpg"/>
          <p:cNvPicPr/>
          <p:nvPr/>
        </p:nvPicPr>
        <p:blipFill>
          <a:blip r:embed="rId1"/>
          <a:stretch/>
        </p:blipFill>
        <p:spPr>
          <a:xfrm>
            <a:off x="4191120" y="914400"/>
            <a:ext cx="4487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Broadway"/>
              </a:rPr>
              <a:t>Earth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Britannic Bold"/>
              </a:rPr>
              <a:t>Red Plane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Britannic Bold"/>
              </a:rPr>
              <a:t>Mar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mars"/>
          <p:cNvPicPr/>
          <p:nvPr/>
        </p:nvPicPr>
        <p:blipFill>
          <a:blip r:embed="rId1"/>
          <a:stretch/>
        </p:blipFill>
        <p:spPr>
          <a:xfrm>
            <a:off x="5025960" y="22096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Calibri"/>
              </a:rPr>
              <a:t>Which is t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rg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planet in our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684400"/>
            <a:ext cx="845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Goudy Stout"/>
              </a:rPr>
              <a:t>Jupiter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upiter"/>
          <p:cNvPicPr/>
          <p:nvPr/>
        </p:nvPicPr>
        <p:blipFill>
          <a:blip r:embed="rId1"/>
          <a:stretch/>
        </p:blipFill>
        <p:spPr>
          <a:xfrm>
            <a:off x="3124080" y="2286000"/>
            <a:ext cx="28260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Which planet has </a:t>
            </a:r>
            <a:r>
              <a:rPr b="1" lang="en-US" sz="4400" spc="-1" strike="noStrike">
                <a:solidFill>
                  <a:srgbClr val="c0504d"/>
                </a:solidFill>
                <a:latin typeface="Ravie"/>
              </a:rPr>
              <a:t>rocky rings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Ravie"/>
              </a:rPr>
              <a:t>Satur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aturn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314820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What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00ccff"/>
                </a:solidFill>
                <a:latin typeface="Chiller"/>
              </a:rPr>
              <a:t>icy planet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has 22 ring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f81bd"/>
                </a:solidFill>
                <a:latin typeface="Chiller"/>
              </a:rPr>
              <a:t>Uranus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uranus"/>
          <p:cNvPicPr/>
          <p:nvPr/>
        </p:nvPicPr>
        <p:blipFill>
          <a:blip r:embed="rId1"/>
          <a:stretch/>
        </p:blipFill>
        <p:spPr>
          <a:xfrm>
            <a:off x="228600" y="29718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34:29Z</dcterms:created>
  <dc:creator>COE-MATT-Classroom</dc:creator>
  <dc:description/>
  <dc:language>en-US</dc:language>
  <cp:lastModifiedBy>LEGION</cp:lastModifiedBy>
  <dcterms:modified xsi:type="dcterms:W3CDTF">2018-03-22T10:48:21Z</dcterms:modified>
  <cp:revision>14</cp:revision>
  <dc:subject/>
  <dc:title>The Solar System</dc:title>
</cp:coreProperties>
</file>