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7B04-958B-4181-90C5-D1B8060059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442-98A6-41A2-9FF4-F4BAFB03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16D-9CA9-464B-B91C-C85F14FF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AFA-EA5E-44A8-A655-1F52550D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8DC-037F-46B0-851D-EEE32CB4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574-AD10-4286-BF47-17792E29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4B3-AFD2-43AB-85C9-C0D07758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A54-23AE-4B36-83E0-A372F887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775-243E-4398-8D65-BD4074A6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893-F87E-47A8-A836-23740BD1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9FD-13B0-420C-A284-DA6D39E9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ADD-9FBD-4114-A523-027600C0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5B8-8EA2-4095-A80F-A53AB8A6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0693-6AB5-420F-B300-AF5EB85C3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812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rea Ghez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8-03-22T10:47:14Z</dcterms:modified>
  <cp:revision>11</cp:revision>
  <dc:subject/>
  <dc:title>The Size and Structure of the Milky Way Galaxy</dc:title>
</cp:coreProperties>
</file>