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09D3-6580-440A-A4CF-F5C5E3FF79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a Ghez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rea Ghez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4DE-5943-4C8B-B97D-3754657C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6625-80EE-49D5-B52F-A9FFC3BB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D8ED-FAFA-4CC4-9B5D-A7DC200F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DE9-5A1F-430B-863E-38C66187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731-AC1B-4FF5-84C4-2869E45E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FA51-DD2C-4F6F-A8C5-D7CB0A78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C3D-5377-4A79-8185-23A3D6F6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2FA-30C5-4C8B-9874-1C112820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1855-E80A-42E9-A500-4BCFF058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D96-4539-4B77-94E7-A4ED7C48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CBC5-107B-4A6F-9B54-FD372FB9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6E18-2996-4E6A-8425-194FA992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126F-1A93-4014-AE4C-2E0205556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01220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The Size and Structure of the Milky Way Gal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2_28"/>
          <p:cNvPicPr/>
          <p:nvPr/>
        </p:nvPicPr>
        <p:blipFill>
          <a:blip r:embed="rId1"/>
          <a:stretch/>
        </p:blipFill>
        <p:spPr>
          <a:xfrm>
            <a:off x="2819520" y="1523880"/>
            <a:ext cx="3450960" cy="476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553080" y="22860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We live in a new class of astronomica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5409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 responds to net force by moving on circular path around the 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Forces on Star"/>
          <p:cNvPicPr/>
          <p:nvPr/>
        </p:nvPicPr>
        <p:blipFill>
          <a:blip r:embed="rId1"/>
          <a:stretch/>
        </p:blipFill>
        <p:spPr>
          <a:xfrm>
            <a:off x="1143000" y="298440"/>
            <a:ext cx="6400800" cy="4795920"/>
          </a:xfrm>
          <a:prstGeom prst="rect">
            <a:avLst/>
          </a:prstGeom>
          <a:ln w="0">
            <a:noFill/>
          </a:ln>
        </p:spPr>
      </p:pic>
      <p:sp>
        <p:nvSpPr>
          <p:cNvPr id="94" name="Oval 4"/>
          <p:cNvSpPr/>
          <p:nvPr/>
        </p:nvSpPr>
        <p:spPr>
          <a:xfrm>
            <a:off x="2209680" y="35053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5943600" y="205740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22_29"/>
          <p:cNvPicPr/>
          <p:nvPr/>
        </p:nvPicPr>
        <p:blipFill>
          <a:blip r:embed="rId1"/>
          <a:stretch/>
        </p:blipFill>
        <p:spPr>
          <a:xfrm>
            <a:off x="304920" y="2394000"/>
            <a:ext cx="8458200" cy="2492280"/>
          </a:xfrm>
          <a:prstGeom prst="rect">
            <a:avLst/>
          </a:prstGeom>
          <a:ln w="0">
            <a:noFill/>
          </a:ln>
        </p:spPr>
      </p:pic>
      <p:sp>
        <p:nvSpPr>
          <p:cNvPr id="99" name="Line 4"/>
          <p:cNvSpPr/>
          <p:nvPr/>
        </p:nvSpPr>
        <p:spPr>
          <a:xfrm>
            <a:off x="2819520" y="4952880"/>
            <a:ext cx="152388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7086600" y="5029200"/>
            <a:ext cx="167652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96360" y="5486400"/>
            <a:ext cx="64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 plot of V versus R is called a </a:t>
            </a:r>
            <a:r>
              <a:rPr b="1" lang="en-US" sz="2400" spc="-1" strike="noStrike">
                <a:solidFill>
                  <a:srgbClr val="0d5807"/>
                </a:solidFill>
                <a:latin typeface="Arial"/>
              </a:rPr>
              <a:t>rotation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bserved Cas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932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2_30"/>
          <p:cNvPicPr/>
          <p:nvPr/>
        </p:nvPicPr>
        <p:blipFill>
          <a:blip r:embed="rId1"/>
          <a:stretch/>
        </p:blipFill>
        <p:spPr>
          <a:xfrm>
            <a:off x="1752480" y="1752480"/>
            <a:ext cx="5572080" cy="426744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ignificance of the Rotation Curv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ndicated by the rotation cur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cee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n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3733920" y="3809880"/>
            <a:ext cx="10666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191120" y="3733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1676520" y="2286000"/>
            <a:ext cx="5181480" cy="32004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matter h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 flipV="1">
            <a:off x="1752480" y="45716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ark Matter: A Major Problem for Contemporary Physics and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tars are a small fraction of the mass of major galax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dark matter problem becomes more pronounced as you go out in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form of the dark matter is unknown; probably not what you studied in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ossibly/probably an unknown form of elementary p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 the Very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gcradioarc_vla"/>
          <p:cNvPicPr/>
          <p:nvPr/>
        </p:nvPicPr>
        <p:blipFill>
          <a:blip r:embed="rId1"/>
          <a:stretch/>
        </p:blipFill>
        <p:spPr>
          <a:xfrm>
            <a:off x="1066680" y="990720"/>
            <a:ext cx="7143840" cy="568008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do we see at the galactic center (radio and infrared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trong radio source (synchrotron 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t infrared wavelengths, can see stars orbiting very vast around Sg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twrp.gsfc.nasa.gov/apod/ap001220.html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en years of observations speede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rbit of Star 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S2-GC"/>
          <p:cNvPicPr/>
          <p:nvPr/>
        </p:nvPicPr>
        <p:blipFill>
          <a:blip r:embed="rId1"/>
          <a:stretch/>
        </p:blipFill>
        <p:spPr>
          <a:xfrm>
            <a:off x="1600200" y="1447920"/>
            <a:ext cx="5791320" cy="476712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8120" y="4800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drea Ghez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75248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964"/>
                </a:solidFill>
                <a:latin typeface="Arial"/>
              </a:rPr>
              <a:t>First… an advertisement for 29:52 “Exploration of the Solar System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5790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The other half of 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aturn"/>
          <p:cNvPicPr/>
          <p:nvPr/>
        </p:nvPicPr>
        <p:blipFill>
          <a:blip r:embed="rId1"/>
          <a:stretch/>
        </p:blipFill>
        <p:spPr>
          <a:xfrm>
            <a:off x="609480" y="1600200"/>
            <a:ext cx="4930920" cy="367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itan"/>
          <p:cNvPicPr/>
          <p:nvPr/>
        </p:nvPicPr>
        <p:blipFill>
          <a:blip r:embed="rId2"/>
          <a:stretch/>
        </p:blipFill>
        <p:spPr>
          <a:xfrm>
            <a:off x="6153120" y="1523880"/>
            <a:ext cx="232272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Observations indicate the shape and size of the Milky Way Galax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22_28"/>
          <p:cNvPicPr/>
          <p:nvPr/>
        </p:nvPicPr>
        <p:blipFill>
          <a:blip r:embed="rId1"/>
          <a:stretch/>
        </p:blipFill>
        <p:spPr>
          <a:xfrm>
            <a:off x="4371840" y="457200"/>
            <a:ext cx="44132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Structure of the Milky W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Bul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h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2_28"/>
          <p:cNvPicPr/>
          <p:nvPr/>
        </p:nvPicPr>
        <p:blipFill>
          <a:blip r:embed="rId1"/>
          <a:stretch/>
        </p:blipFill>
        <p:spPr>
          <a:xfrm>
            <a:off x="5029200" y="1600200"/>
            <a:ext cx="3451320" cy="4767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93640" y="4543560"/>
            <a:ext cx="435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Question: what simple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Is consistent with a part of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10645"/>
                </a:solidFill>
                <a:latin typeface="Arial"/>
              </a:rPr>
              <a:t>A view of the Milky Way with an artist’s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Milky_Way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2514600" y="1295280"/>
            <a:ext cx="4419720" cy="403884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 rot="17811600">
            <a:off x="2115360" y="2075400"/>
            <a:ext cx="687240" cy="345960"/>
          </a:xfrm>
          <a:prstGeom prst="rightArrow">
            <a:avLst>
              <a:gd name="adj1" fmla="val 50000"/>
              <a:gd name="adj2" fmla="val 4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249960" y="1905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71040" y="5610240"/>
            <a:ext cx="76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The sun moves in response to the gravitational forc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ll the rest of the mass in th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the mass distribu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63241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ould we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istribution Galactic Mass"/>
          <p:cNvPicPr/>
          <p:nvPr/>
        </p:nvPicPr>
        <p:blipFill>
          <a:blip r:embed="rId1"/>
          <a:stretch/>
        </p:blipFill>
        <p:spPr>
          <a:xfrm>
            <a:off x="990720" y="895320"/>
            <a:ext cx="7315200" cy="5483160"/>
          </a:xfrm>
          <a:prstGeom prst="rect">
            <a:avLst/>
          </a:prstGeom>
          <a:ln w="0">
            <a:noFill/>
          </a:ln>
        </p:spPr>
      </p:pic>
      <p:sp>
        <p:nvSpPr>
          <p:cNvPr id="8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Arial"/>
              </a:rPr>
              <a:t>Force of Gravity acts on the Sun and all objects in the Galax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6095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orbits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4054320"/>
          </a:xfrm>
          <a:prstGeom prst="rect">
            <a:avLst/>
          </a:prstGeom>
          <a:ln w="0">
            <a:noFill/>
          </a:ln>
        </p:spPr>
      </p:pic>
      <p:sp>
        <p:nvSpPr>
          <p:cNvPr id="9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3:29:46Z</dcterms:created>
  <dc:creator>Steven/Spangler</dc:creator>
  <dc:description/>
  <dc:language>en-US</dc:language>
  <cp:lastModifiedBy>LEGION</cp:lastModifiedBy>
  <dcterms:modified xsi:type="dcterms:W3CDTF">2018-03-22T10:47:14Z</dcterms:modified>
  <cp:revision>11</cp:revision>
  <dc:subject/>
  <dc:title>The Size and Structure of the Milky Way Galaxy</dc:title>
</cp:coreProperties>
</file>