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move the slid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46A6-4885-4D9E-86BC-7ACFEA3BC96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5611-CF12-4E14-8516-5D47056F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448-3BD2-4AE3-BFF9-9DAD0555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B2C5-7397-4A43-8CFF-49F48826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4B28-B8B6-42F3-B414-4AAD134B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302A-A57A-407B-A997-C3579266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A4AF-70C9-4D11-AED4-641CBD80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AB0D-1857-4A67-B68D-EE8CFCE5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A596-2F08-49A1-9710-64A73875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AC34-2B8B-4C00-A59C-F52B7A5C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177B-265B-484B-AF12-B370AD93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A731-B841-40BF-AD4C-83CD2711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A8AA-C2F3-4105-96EE-062E1E15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7394-24FE-4A62-BCA8-0B967816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7623-C666-4FA8-A802-3CFF79F7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B7B5-2C7B-4876-8B7A-A330C6EF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095D-F184-4443-BE74-F53085DA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0465-01D5-41F6-80C6-84C3A885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1CA-E4CA-4A3B-A88F-C15FE809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977A-A555-4FC7-8176-305665C9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C172-8708-42B9-B93C-827046DE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84EE-DDD4-41C4-A272-76A158AE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FADD-C82A-47EE-A9F0-A68C1BFB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FCA4-98A0-4511-A8EC-906CAAC9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2ACB-C4A2-4720-94DB-5BE0350E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7696080" y="5910120"/>
            <a:ext cx="1447920" cy="9478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6442-559E-45DC-901F-518A23F4DB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7911720" y="5958000"/>
            <a:ext cx="92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8"/>
          <p:cNvSpPr/>
          <p:nvPr/>
        </p:nvSpPr>
        <p:spPr>
          <a:xfrm>
            <a:off x="8077320" y="60199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44" name="Picture 17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914400" y="685800"/>
            <a:ext cx="7696080" cy="5037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2463-ADA8-4FE4-8A3A-8C19A6F048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0720" y="5028840"/>
            <a:ext cx="5791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Our Galactic Hom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Tyler_Nordgren\My Documents\My Pictures\astro images\images\allsky1_egret.gif"/>
          <p:cNvPicPr/>
          <p:nvPr/>
        </p:nvPicPr>
        <p:blipFill>
          <a:blip r:embed="rId1"/>
          <a:srcRect l="1941" t="0" r="1941" b="0"/>
          <a:stretch/>
        </p:blipFill>
        <p:spPr>
          <a:xfrm>
            <a:off x="152280" y="990720"/>
            <a:ext cx="8839440" cy="46450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22" name="Text Box 3"/>
          <p:cNvSpPr/>
          <p:nvPr/>
        </p:nvSpPr>
        <p:spPr>
          <a:xfrm>
            <a:off x="-272520" y="5732640"/>
            <a:ext cx="76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Gamma-ray emission from pulsars and black hole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Where are We?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aren’t at the center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is the center then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 point the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26" name="Picture 4" descr="D:\CHAISSON\BG314\IMAGES\AABJRIG0.jpg"/>
          <p:cNvPicPr/>
          <p:nvPr/>
        </p:nvPicPr>
        <p:blipFill>
          <a:blip r:embed="rId1"/>
          <a:srcRect l="1838" t="3656" r="4586" b="3051"/>
          <a:stretch/>
        </p:blipFill>
        <p:spPr>
          <a:xfrm>
            <a:off x="4952880" y="1523880"/>
            <a:ext cx="3886200" cy="3886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27" name="Picture 5" descr="C:\Documents and Settings\Tyler_Nordgren\My Documents\My Pictures\astro images\images\m10_crednerkohle.jpg"/>
          <p:cNvPicPr/>
          <p:nvPr/>
        </p:nvPicPr>
        <p:blipFill>
          <a:blip r:embed="rId2"/>
          <a:stretch/>
        </p:blipFill>
        <p:spPr>
          <a:xfrm>
            <a:off x="685800" y="4038480"/>
            <a:ext cx="3200400" cy="2484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28" name="Text Box 6"/>
          <p:cNvSpPr/>
          <p:nvPr/>
        </p:nvSpPr>
        <p:spPr>
          <a:xfrm>
            <a:off x="3777840" y="6172200"/>
            <a:ext cx="29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M10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D:\CHAISSON\BG314\IMAGES\bg14fg13.jpg"/>
          <p:cNvPicPr/>
          <p:nvPr/>
        </p:nvPicPr>
        <p:blipFill>
          <a:blip r:embed="rId1"/>
          <a:srcRect l="6608" t="16670" r="7527" b="23337"/>
          <a:stretch/>
        </p:blipFill>
        <p:spPr>
          <a:xfrm>
            <a:off x="1676520" y="228600"/>
            <a:ext cx="5638680" cy="520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1" name="Picture 4" descr="D:\CHAISSON\BG314\IMAGES\AAAKLAV0.jpg"/>
          <p:cNvPicPr/>
          <p:nvPr/>
        </p:nvPicPr>
        <p:blipFill>
          <a:blip r:embed="rId2"/>
          <a:stretch/>
        </p:blipFill>
        <p:spPr>
          <a:xfrm>
            <a:off x="1981080" y="4933800"/>
            <a:ext cx="4800600" cy="1924200"/>
          </a:xfrm>
          <a:prstGeom prst="rect">
            <a:avLst/>
          </a:prstGeom>
          <a:ln w="0">
            <a:noFill/>
          </a:ln>
        </p:spPr>
      </p:pic>
      <p:sp>
        <p:nvSpPr>
          <p:cNvPr id="132" name="Oval 5"/>
          <p:cNvSpPr/>
          <p:nvPr/>
        </p:nvSpPr>
        <p:spPr>
          <a:xfrm>
            <a:off x="5562720" y="2743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3" name="Line 6"/>
          <p:cNvSpPr/>
          <p:nvPr/>
        </p:nvSpPr>
        <p:spPr>
          <a:xfrm flipV="1">
            <a:off x="5715000" y="1905120"/>
            <a:ext cx="457200" cy="76176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607720" y="14652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Palatino"/>
              </a:rPr>
              <a:t>You Are Her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39" name="Text Box 4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Picture 5" descr="C:\Documents and Settings\Tyler_Nordgren\My Documents\My Pictures\astro images\galaxies\ngc4565_mclaughlin.jpg"/>
          <p:cNvPicPr/>
          <p:nvPr/>
        </p:nvPicPr>
        <p:blipFill>
          <a:blip r:embed="rId2"/>
          <a:stretch/>
        </p:blipFill>
        <p:spPr>
          <a:xfrm>
            <a:off x="1219320" y="304920"/>
            <a:ext cx="6350040" cy="536724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alactic Distanc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we know the distance to stars and clusters in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rigonometric parallax good out to 100 pc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believe galaxy is ~30 kpc w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How do we know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pectroscopic Parallax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any star in the sky, we KNOW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pparent Magnitude (</a:t>
            </a: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ectral Type  (O, B, A, F, G, K, M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bine spectral type and luminosity class to get absolute magnitude (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)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Lecture 7B: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 – 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give you distan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C:\Documents and Settings\Tyler_Nordgren\My Documents\My Pictures\astro images\stars\H-Rdiagram.gif"/>
          <p:cNvPicPr/>
          <p:nvPr/>
        </p:nvPicPr>
        <p:blipFill>
          <a:blip r:embed="rId1"/>
          <a:stretch/>
        </p:blipFill>
        <p:spPr>
          <a:xfrm>
            <a:off x="228600" y="1828800"/>
            <a:ext cx="7162920" cy="45784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Exampl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24280" y="304560"/>
            <a:ext cx="419112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eneb is A2Ia sta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1.25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2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Blue star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a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Supergiant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-8.8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5334120" y="3886200"/>
                <a:ext cx="35622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stanc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p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Text Box 6"/>
          <p:cNvSpPr/>
          <p:nvPr/>
        </p:nvSpPr>
        <p:spPr>
          <a:xfrm>
            <a:off x="1157760" y="5275440"/>
            <a:ext cx="240588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Distance = 10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andard Candl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tandard Candles”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we know how bright something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hould be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, and we know how bright it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looks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Palatino"/>
              </a:rPr>
              <a:t>Distanc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ariable sta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R Lyra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epheid variab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6" name="Picture 4" descr="D:\CHAISSON\BG314\IMAGES\AAAKLBA0a.jpg"/>
          <p:cNvPicPr/>
          <p:nvPr/>
        </p:nvPicPr>
        <p:blipFill>
          <a:blip r:embed="rId1"/>
          <a:srcRect l="2743" t="11997" r="4489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57" name="Picture 5" descr="D:\CHAISSON\BG314\IMAGES\AAAKLBA0b.jpg"/>
          <p:cNvPicPr/>
          <p:nvPr/>
        </p:nvPicPr>
        <p:blipFill>
          <a:blip r:embed="rId2"/>
          <a:srcRect l="1499" t="11997" r="4241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5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Variable Star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RR Lyrae star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verage luminosity is a standard candl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lways ~ 100 x Sun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Cepheid variable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ulsation period is proportional to averag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bserve the period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find th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ood to 15 Mpc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1" name="Picture 4" descr="D:\CHAISSON\BG314\IMAGES\AAAKLBE0.jpg"/>
          <p:cNvPicPr/>
          <p:nvPr/>
        </p:nvPicPr>
        <p:blipFill>
          <a:blip r:embed="rId1"/>
          <a:stretch/>
        </p:blipFill>
        <p:spPr>
          <a:xfrm>
            <a:off x="4343400" y="1981080"/>
            <a:ext cx="4610160" cy="3022560"/>
          </a:xfrm>
          <a:prstGeom prst="rect">
            <a:avLst/>
          </a:prstGeom>
          <a:ln w="0">
            <a:noFill/>
          </a:ln>
        </p:spPr>
      </p:pic>
      <p:sp>
        <p:nvSpPr>
          <p:cNvPr id="1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Tyler_Nordgren\My Documents\My Pictures\astro images\images\MandM_Magrath.jpg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5586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9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6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Rotation …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276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disk, rotate in the disk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Nebula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Young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halo, swarm in a halo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ld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7" name="Picture 4" descr="D:\CHAISSON\BG314\IMAGES\AAAKLBK0.jpg"/>
          <p:cNvPicPr/>
          <p:nvPr/>
        </p:nvPicPr>
        <p:blipFill>
          <a:blip r:embed="rId1"/>
          <a:stretch/>
        </p:blipFill>
        <p:spPr>
          <a:xfrm>
            <a:off x="4267080" y="1600200"/>
            <a:ext cx="4152960" cy="4165560"/>
          </a:xfrm>
          <a:prstGeom prst="rect">
            <a:avLst/>
          </a:prstGeom>
          <a:ln w="0">
            <a:noFill/>
          </a:ln>
        </p:spPr>
      </p:pic>
      <p:sp>
        <p:nvSpPr>
          <p:cNvPr id="1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… </a:t>
            </a: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and Forma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962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icture the formation of the Sun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herical cloud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denses to dis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 in a pla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ort cloud sphere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erhaps the same with the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71" name="Picture 4" descr="D:\CHAISSON\BG314\IMAGES\AAAKLBL0.jpg"/>
          <p:cNvPicPr/>
          <p:nvPr/>
        </p:nvPicPr>
        <p:blipFill>
          <a:blip r:embed="rId1"/>
          <a:stretch/>
        </p:blipFill>
        <p:spPr>
          <a:xfrm>
            <a:off x="4572000" y="1371600"/>
            <a:ext cx="4305240" cy="4191120"/>
          </a:xfrm>
          <a:prstGeom prst="rect">
            <a:avLst/>
          </a:prstGeom>
          <a:ln w="0">
            <a:noFill/>
          </a:ln>
        </p:spPr>
      </p:pic>
      <p:sp>
        <p:nvSpPr>
          <p:cNvPr id="1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Missing Mas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variable stars we know distanc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Doppler shift we know rotation velocit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Kepler’s Third Law (again) to get mass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M = 10</a:t>
            </a:r>
            <a:r>
              <a:rPr b="1" lang="en-US" sz="2800" spc="-1" strike="noStrike" baseline="30000">
                <a:solidFill>
                  <a:srgbClr val="00cc99"/>
                </a:solidFill>
                <a:latin typeface="Palatino"/>
              </a:rPr>
              <a:t>11</a:t>
            </a: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 x M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Palatino"/>
              </a:rPr>
              <a:t>sun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2362320" y="3809880"/>
            <a:ext cx="2971800" cy="2471760"/>
            <a:chOff x="2362320" y="3809880"/>
            <a:chExt cx="2971800" cy="2471760"/>
          </a:xfrm>
        </p:grpSpPr>
        <mc:AlternateContent>
          <mc:Choice xmlns:a14="http://schemas.microsoft.com/office/drawing/2010/main" Requires="a14">
            <p:sp>
              <p:nvSpPr>
                <p:cNvPr id="176" name="Object 5"/>
                <p:cNvSpPr txBox="1"/>
                <p:nvPr/>
              </p:nvSpPr>
              <p:spPr>
                <a:xfrm>
                  <a:off x="2362320" y="3809880"/>
                  <a:ext cx="193680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∝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6"/>
                <p:cNvSpPr txBox="1"/>
                <p:nvPr/>
              </p:nvSpPr>
              <p:spPr>
                <a:xfrm>
                  <a:off x="2362320" y="4724280"/>
                  <a:ext cx="2971800" cy="15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π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GM</m:t>
                          </m:r>
                        </m:den>
                      </m:f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" name="Picture 7" descr="D:\CHAISSON\BG314\IMAGES\AAAKLBS0.jpg"/>
          <p:cNvPicPr/>
          <p:nvPr/>
        </p:nvPicPr>
        <p:blipFill>
          <a:blip r:embed="rId1"/>
          <a:stretch/>
        </p:blipFill>
        <p:spPr>
          <a:xfrm>
            <a:off x="1600200" y="3743280"/>
            <a:ext cx="6019920" cy="311472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Dark Matter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at causes the mass to keep on increasing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on’t see anything there. Thus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“dark”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Brown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White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trange matter?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gravitational lensing (last lecture) to look for these “dark” object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:\CHAISSON\BG314\IMAGES\AAAKLBU0.jpg"/>
          <p:cNvPicPr/>
          <p:nvPr/>
        </p:nvPicPr>
        <p:blipFill>
          <a:blip r:embed="rId1"/>
          <a:stretch/>
        </p:blipFill>
        <p:spPr>
          <a:xfrm>
            <a:off x="2057400" y="1143000"/>
            <a:ext cx="5105520" cy="5003640"/>
          </a:xfrm>
          <a:prstGeom prst="rect">
            <a:avLst/>
          </a:prstGeom>
          <a:ln w="0">
            <a:noFill/>
          </a:ln>
        </p:spPr>
      </p:pic>
      <p:sp>
        <p:nvSpPr>
          <p:cNvPr id="18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Heart of the Galax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3276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an use IR and radio to pierce the dus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87" name="Picture 4" descr="D:\CHAISSON\BG314\IMAGES\AAAKLBW0.jpg"/>
          <p:cNvPicPr/>
          <p:nvPr/>
        </p:nvPicPr>
        <p:blipFill>
          <a:blip r:embed="rId1"/>
          <a:stretch/>
        </p:blipFill>
        <p:spPr>
          <a:xfrm>
            <a:off x="3962520" y="1676520"/>
            <a:ext cx="5029200" cy="3914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8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:\CHAISSON\BG314\IMAGES\AAAKLBW0.jpg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6643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90" name="Line 3"/>
          <p:cNvSpPr/>
          <p:nvPr/>
        </p:nvSpPr>
        <p:spPr>
          <a:xfrm>
            <a:off x="3733920" y="45720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4437360" y="474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2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7772400" y="327672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7668360" y="2743200"/>
            <a:ext cx="6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5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121440" y="556272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5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ellar Mo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frared images of stars in the Galactic Center over 8 year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he “</a:t>
            </a: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+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” is the radio source Sgr A*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Supermassive Black Hole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vent Horizon &lt; 0.05 AU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robably in the centers of all spiral galaxie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98" name="Picture 4" descr="C:\Documents and Settings\Tyler_Nordgren\My Documents\Astronomy classes\Fall 2001\movies\SgrA_sharp_big.gif"/>
          <p:cNvPicPr/>
          <p:nvPr/>
        </p:nvPicPr>
        <p:blipFill>
          <a:blip r:embed="rId1"/>
          <a:stretch/>
        </p:blipFill>
        <p:spPr>
          <a:xfrm>
            <a:off x="4648320" y="12193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4516920" y="5829480"/>
            <a:ext cx="20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oal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ructure of our Galax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ts size and shap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stars and things move through it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ass and Dark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Galactic Cen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C:\Documents and Settings\Tyler_Nordgren\My Documents\My Pictures\astro images\stars\mw7b_gleason.jpg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55926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us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aseous Nebula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uls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lack Hol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they all fit together to make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C:\Documents and Settings\Tyler_Nordgren\My Documents\My Pictures\astro images\images\allsky_mellinger_c2.jpg"/>
          <p:cNvPicPr/>
          <p:nvPr/>
        </p:nvPicPr>
        <p:blipFill>
          <a:blip r:embed="rId1"/>
          <a:stretch/>
        </p:blipFill>
        <p:spPr>
          <a:xfrm>
            <a:off x="76320" y="838080"/>
            <a:ext cx="8915400" cy="49532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6" name="Text Box 4"/>
          <p:cNvSpPr/>
          <p:nvPr/>
        </p:nvSpPr>
        <p:spPr>
          <a:xfrm>
            <a:off x="152280" y="59436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Optical emission from stars and nebula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9" name="Text Box 3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2" name="Text Box 3"/>
          <p:cNvSpPr/>
          <p:nvPr/>
        </p:nvSpPr>
        <p:spPr>
          <a:xfrm>
            <a:off x="-186480" y="5715000"/>
            <a:ext cx="59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Far-Infrared dust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115" name="Picture 2" descr="C:\Documents and Settings\Tyler_Nordgren\My Documents\My Pictures\astro images\images\nHI_alt_skyview_big.jpg"/>
          <p:cNvPicPr/>
          <p:nvPr/>
        </p:nvPicPr>
        <p:blipFill>
          <a:blip r:embed="rId2"/>
          <a:srcRect l="4272" t="9305" r="4272" b="9099"/>
          <a:stretch/>
        </p:blipFill>
        <p:spPr>
          <a:xfrm>
            <a:off x="76320" y="990720"/>
            <a:ext cx="8915400" cy="46479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6" name="Text Box 4"/>
          <p:cNvSpPr/>
          <p:nvPr/>
        </p:nvSpPr>
        <p:spPr>
          <a:xfrm>
            <a:off x="-186480" y="5732640"/>
            <a:ext cx="64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Radio emission from neutral hydroge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Documents and Settings\Tyler_Nordgren\My Documents\My Pictures\astro images\images\xallsky_rosat110.jpg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46353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9" name="Text Box 4"/>
          <p:cNvSpPr/>
          <p:nvPr/>
        </p:nvSpPr>
        <p:spPr>
          <a:xfrm>
            <a:off x="-59040" y="5732640"/>
            <a:ext cx="58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X-ray emission from hot ga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8:19:29Z</dcterms:created>
  <dc:creator>Julie A. Rathbun</dc:creator>
  <dc:description/>
  <dc:language>en-US</dc:language>
  <cp:lastModifiedBy>LEGION</cp:lastModifiedBy>
  <dcterms:modified xsi:type="dcterms:W3CDTF">2018-03-22T10:45:45Z</dcterms:modified>
  <cp:revision>100</cp:revision>
  <dc:subject/>
  <dc:title>PowerPoint Presentation</dc:title>
</cp:coreProperties>
</file>