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8EF1-26C4-4463-9233-689DA3D5AC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D1DF-B856-4183-A710-97B7B8E3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FC4-516C-4080-B5F1-937C59A8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99D-601B-4B62-80A3-DF22F528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58F6-6206-4D57-9F41-A41057C24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DE52-8BA3-428B-96B0-415D8BBC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260E-F896-44BD-8DB9-144A9984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6904-5137-4AE9-9A84-0DAAE0A0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733FB-5C4E-453E-A973-37BAF2F4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B191-7E64-4472-86AB-0D8610C1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A6C1-C59E-41D9-9339-0103B50D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A7A1-E22C-4F5C-AFC8-289E44D3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C6F-A8A1-4209-807E-F0F17ACA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B0A1-ADC2-44C8-BB77-034BA540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BCFE-5617-4BB0-8313-104105C8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319E-02CB-4A14-B6DF-CBD93FE98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684D-6EDD-4E43-AB5F-D4C13DCE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8B05D-1955-497D-B2F8-729601CE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34B-F27C-4E67-B23C-E94EE17DF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469E-0901-4B99-8C4D-4F0654FC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3B9E-7BB6-4A60-85DE-D7B38EC2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CB9-A994-47FD-BF52-C3E962B5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0D4F-21EC-4E0C-8A4C-F3F309B9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8D07-E4BA-46C6-ADEE-7C63BFC2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A72-8CF3-48A0-9DAF-68F65A60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8F26-AF9B-40C6-BB31-A9658C24E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08F4-2B53-479C-A944-126FFF691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8-03-22T10:45:45Z</dcterms:modified>
  <cp:revision>100</cp:revision>
  <dc:subject/>
  <dc:title>PowerPoint Presentation</dc:title>
</cp:coreProperties>
</file>