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4A8F-7736-41E7-B01F-A3E0194EAE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istory of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ase pick up your assigned transmi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story of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pick up your assigned transmi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tolemy: Geocentric model, including epi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mperfect, changeable Earth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Perfect Heavens (described by spher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al guiding princip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tolemy: Geocentric model, including epi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Imperfect, changeable Earth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Perfect Heavens (described by sphe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l guiding princip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ere the epicycles in Ptolemy’s model supposed to explai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 that planets are moving against the background of the st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 that the sun is moving against the background of the st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 that planets are moving eastward for a short amount of time, while they are usually moving westw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 that planets are moving westward for a short amount of time, while they are usually moving eastw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ct that planets seem to remain stationary for substantial amounts of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ere the epicycles in Ptolemy’s model supposed to expla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 that planets are moving against the background of the sta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 that the sun is moving against the background of the st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 that planets are moving eastward for a short amount of time, while they are usually moving west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 that planets are moving westward for a short amount of time, while they are usually moving east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ct that planets seem to remain stationary for substantial amounts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pi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tolemaic system was considered the “standard model” of the Universe until the Copernican Revolu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ed to explain retrograde (westward) motion of 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tolemaic system was considered the “standard model” of the Universe until the Copernican Revol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ed to explain retrograde (westward) motion of pla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time of Ptolemy, the introduction of epicycles was considered a very elegant idea because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explained the motion of the planets to the accuracy observable at the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as consistent with the prevailing geocentric world vie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explained the apparently irregular motion of the planets in the sky with “perfect” cir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it did not openly contradict the teaching of the previous authori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time of Ptolemy, the introduction of epicycles was considered a very elegant idea becaus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explained the motion of the planets to the accuracy observable at th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consistent with the prevailing geocentric world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explained the apparently irregular motion of the planets in the sky with “perfect” cir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did not openly contradict the teaching of the previous author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pernican R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colaus Copernicus (1473 – 1543)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ocentric Universe (Sun in the Cen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pernican Rev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colaus Copernicus (1473 – 1543)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ocentric Universe (Sun in the Cen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(and correct) explanation for retrograde motion of the plane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ade Ptolemy’s epicycles unnecess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rograde (westward) motion of a planet occurs when the Earth passes the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cribed in Copernicus’ famous book “De Revolutionibus Orbium Coelestium” (“About the revolutions of celestial objects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(and correct) explanation for retrograde motion of the plane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de Ptolemy’s epicycles unnecess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rograde (westward) motion of a planet occurs when the Earth passes the plan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d in Copernicus’ famous book “De Revolutionibus Orbium Coelestium” (“About the revolutions of celestial objects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Copernikan “Universe”, the orbits of planets and moons were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ect 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picy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e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Copernikan “Universe”, the orbits of planets and moons were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ect Cir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r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 of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annes Kepler (1571 – 163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the precise observational tables of Tycho Brahe (1546 – 1601) to study planetary motion mathematic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lar motion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move around the sun on elliptical paths, with non-uniform velocit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und a consistent description by abandoning bo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form mo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annes Kepler (1571 – 16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he precise observational tables of Tycho Brahe (1546 – 1601) to study planetary motion mathemat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lar motion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ets move around the sun on elliptical paths, with non-uniform veloc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a consistent description by abandoning b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orm mo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pler’s Laws of Planetary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bits of the planets are ellipses with the sun at one foc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centricity e = c/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pler’s Laws of Planetary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bits of the planets are ellipses with the sun at one foc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centricity e = c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ccentricities of Ellip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 = 0.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 = 0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 = 0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 = 0.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 = 0.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ccentricities of Ellip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 = 0.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 = 0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 = 0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 = 0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 = 0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did mankind first become interested in the science of astronom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the advent of modern computer technology (mid-20th centur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the development of the theory of relativity (early 20th centur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the invention of the telescope (~ A.D. 160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ring the times of the ancient greeks (~ 400 – 300 B.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stone and bronze ages (several thousand years B.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did mankind first become interested in the science of astronom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advent of modern computer technology (mid-20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development of the theory of relativity (early 20th centu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invention of the telescope (~ A.D. 16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the times of the ancient greeks (~ 400 – 300 B.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tone and bronze ages (several thousand years B.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centricities of planetary orb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bits of planets are virtually indistinguishable from circl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: e = 0.016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extreme exa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to: e = 0.24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centricities of planetary or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bits of planets are virtually indistinguishable from circ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: e = 0.01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extreme 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to: e = 0.2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ine from a planet to the sun sweeps over equal areas in equal intervals of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ne from a planet to the sun sweeps over equal areas in equal intervals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all four seasons equally lo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summer is the longest; winter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fall is the longest; spring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winter is the longest; summer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, spring is the longest; fall is the short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all four seasons equally lo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summer is the longest; winter is the shor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fall is the longest; spring is the shor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winter is the longest; summer is the shor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spring is the longest; fall is the shor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the summer longer than win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the precession of the Earth’s axis of ro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the moon’s 5o inclination with respect to the Eclipt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the Earth is rotating around its axis more slowly in the summer (→ longer days!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the Earth is closest to the sun in January and most distant from the sun in Ju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the Earth is closest to the sun in July and most distant from the sun in Janua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the summer longer than win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the precession of the Earth’s axis of ro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of the moon’s 5o inclination with respect to the Eclip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the Earth is rotating around its axis more slowly in the summer (→ longer days!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the Earth is closest to the sun in January and most distant from the sun in Ju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the Earth is closest to the sun in July and most distant from the sun in Janua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umnal Equinox (beg. of fal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ter solstice (beg. of wint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er solstice (beg. of summe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nal equinox (beg. of spr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nu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umnal Equinox (beg. of f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 solstice (beg. of win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solstice (beg. of sum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nal equinox (beg. of sp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planet’s orbital period (P) squared is proportional to its average distance from the sun (a) cub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y2 = aAU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Py = period in years; aAU = distance in A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epler’s Third La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rbital period P known → Calculate average distance to the sun, 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AU = Py2/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verage distance to the sun, a, known → Calculate orbital period 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y = aAU3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 planet’s orbital period (P) squared is proportional to its average distance from the sun (a) cub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y2 = aAU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Py = period in years; aAU = distance in A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epler’s Third L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bital period P known → Calculate average distance to the sun, 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AU = Py2/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verage distance to the sun, a, known → Calculate orbital period 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y = aAU3/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kes 29.46 years for Saturn to orbit once around the sun. What is its average distance from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54 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.64 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.46 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4.31 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0.55 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29.46 years for Saturn to orbit once around the sun. What is its average distance from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54 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.64 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.46 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.31 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0.55 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k critically about Kepler’s Laws: Would you categorize his achievements as physics or mathematic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hem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critically about Kepler’s Laws: Would you categorize his achievements as physics or mathematic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aac Newton (1643 - 172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jor achievemen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nted Calculus as a necessary tool to solve mathematical problems related to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ng physics interpretations to the mathematical descriptions of astronomy by Copernicus, Galileo and Kepl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ed the three laws of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overed the universal law of mutual gravi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aac Newton (1643 - 172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jor achievem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ed Calculus as a necessary tool to solve mathematical problems related to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 physics interpretations to the mathematical descriptions of astronomy by Copernicus, Galileo and Kep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the three laws of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the universal law of mutual grav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Laws of Motion (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ody continues at rest or in uniform motion in a straight line unless acted upon by some net for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stronaut floating in space will float forever in a straight line unless some external force is accelerating him/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ton’s Laws of Motion (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dy continues at rest or in uniform motion in a straight line unless acted upon by some net fo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stronaut floating in space will float forever in a straight line unless some external force is accelerating him/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ots of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ready in the stone and bronze ages, human cultures realized the cyclic nature of motions in the s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uments dating back to ~ 3000 B.C. show alignments with astronomical signific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se monuments were probably used as calendars or even to predict eclip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ots of Astr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ready in the stone and bronze ages, human cultures realized the cyclic nature of motions in the s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uments dating back to ~ 3000 B.C. show alignments with astronomical signific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monuments were probably used as calendars or even to predict eclip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and Accel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(a) is the change of a body’s velocity (v) with time (t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Dv/D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and acceleration are directed quantities (vectors)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locity and 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 (a) is the change of a body’s velocity (v) with time (t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Dv/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locity and acceleration are directed quantities (vectors)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f the following involve(s) a (non-zero) acceler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ing the speed of an obje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k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form motion on a circular p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of the ab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e of the abo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f the following involve(s) a (non-zero) accele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ing the speed of an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orm motion on a circular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e of the ab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and Accel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(a) is the change of a body’s velocity (v) with time (t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in the conventional sense (i.e. increasing spe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Dv/D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cases of acceler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and acceleration are directed quantities (vectors)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nge of the direction of motion (e.g., in circular mo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eleration (i.e. decreasing spe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locity and 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 (a) is the change of a body’s velocity (v) with time (t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 in the conventional sense (i.e. increasing spe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Dv/D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cases of acceler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locity and acceleration are directed quantities (vectors)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of the direction of motion (e.g., in circular mo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eleration (i.e. decreasing spe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l attached to a string is in a circular motion as shown. Which path will the ball follow if the string breaks at the marked poi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) Impossible to tell from the given inform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ll attached to a string is in a circular motion as shown. Which path will the ball follow if the string breaks at the marked poi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) Impossible to tell from the given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Laws of Motion (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cceleration a of a body is inversely proportional to its mass m, directly proportional to the net force F, and in the same direction as the net for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= F/m      F = m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ton’s Laws of Motion (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cceleration a of a body is inversely proportional to its mass m, directly proportional to the net force F, and in the same direction as the net fo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F/m      F = m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ton’s Laws of Motion (II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every action, there is an equal and opposite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 force that is accelerating the boy forward, is accelerating the skateboard backw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ton’s Laws of Motion (II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every action, there is an equal and opposite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 force that is accelerating the boy forward, is accelerating the skateboard backw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niversal Law of Gra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two bodies are attracting each other through gravitation, with a force proportional to the product of their masses and inversely proportional to the square of their distan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= - 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 is the Universal constant of gravity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Universal Law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two bodies are attracting each other through gravitation, with a force proportional to the product of their masses and inversely proportional to the square of their distan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= - 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 is the Universal constant of gravity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ording to Newton’s universal law of gravity, the sun is attracting the Earth with a force of 3.6*1022 N. What is the gravitational force that the Earth exerts on the su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75*1018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6*1022 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95*1029 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ends on the relative speed of the Earth with respect to the su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rding to Newton’s universal law of gravity, the sun is attracting the Earth with a force of 3.6*1022 N. What is the gravitational force that the Earth exerts on the su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75*1018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*1022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95*1029 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s on the relative speed of the Earth with respect to the su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onehe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onehe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nehen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ructed 3000 – 1800 B.C. in Great Brit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ignments with locations of sunset, sunrise, moonset and moonrise at summer and winter solst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ably used as calend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nehe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ed 3000 – 1800 B.C. in Great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gnments with locations of sunset, sunrise, moonset and moonrise at summer and winter sols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ly used as calend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Examples around the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Horn Medicine Wheel (Wyom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Examples around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Horn Medicine Wheel (Wyom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Examples around the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acol (Mexico); Maya culture, approx. A.D. 1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Examples around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acol (Mexico); Maya culture, approx. A.D. 1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is it so difficult to find out about the state of astronomical knowledge of bronze-age civilizati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ten documents from that time are in a language that we don’t underst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o written documents documents from tha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written documents about their astronomical knowledge often contradict each o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to the Earth’s precession, they had a completely different view of the sky than we have to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didn’t have any astronomical knowledge at 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so difficult to find out about the state of astronomical knowledge of bronze-age civiliza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ten documents from that time are in a language that we don’t underst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no written documents documents from that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written documents about their astronomical knowledge often contradict each 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the Earth’s precession, they had a completely different view of the sky than we have to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idn’t have any astronomical knowledge at 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cient Greek Astrono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els were based on unproven “first principles”, believed to be “obvious” and were not question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Geocentric “Universe”: The Earth is at the Center of the “Universe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“Perfect Heavens”: The motions of all celestial bodies can be described by motions involving objects of “perfect” shape, i.e., spheres or cir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ient Greek Astron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s were based on unproven “first principles”, believed to be “obvious” and were not question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Geocentric “Universe”: The Earth is at the Center of the “Univers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“Perfect Heavens”: The motions of all celestial bodies can be described by motions involving objects of “perfect” shape, i.e., spheres or cir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8119-D803-4733-A5DF-FE66ADFBB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CAA7-41C9-4458-B1C0-74F46D8AC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8271-BB26-4A4A-AE55-1D1C2367E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22C6-2750-4BD7-90D5-C05BF7F1E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358B-3C42-4AEF-8DC7-EBCA0B02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4637-185B-4780-8ECE-A43D3325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96BB-E4E4-4D70-90D7-1C938582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B445-7601-4C46-9945-429A5B9F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CA39-48E9-40E1-BE76-3506D3D63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9DD4-E336-45B8-8537-59133ACB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0467-AE77-4DC1-B9CC-4FB01BD8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E2DF-D925-4564-B0F2-4412AB7D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8636-900C-4E21-A2EB-A242B978B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file:///retrograde.mov" TargetMode="External"/><Relationship Id="rId4" Type="http://schemas.openxmlformats.org/officeDocument/2006/relationships/hyperlink" Target="file:///retrograde.mov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file:///passing_car.mov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stonehenge_solstice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00200" y="-9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History of Astronom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762120" y="48006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ease pick up your assigned transmit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seedshistory044"/>
          <p:cNvPicPr/>
          <p:nvPr/>
        </p:nvPicPr>
        <p:blipFill>
          <a:blip r:embed="rId1"/>
          <a:stretch/>
        </p:blipFill>
        <p:spPr>
          <a:xfrm>
            <a:off x="1523880" y="1066680"/>
            <a:ext cx="6096240" cy="41356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228600" y="76320"/>
            <a:ext cx="8915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Ptolemy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eocentric model, including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epicy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6552720" y="762120"/>
            <a:ext cx="1219320" cy="18288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 flipH="1">
            <a:off x="5410080" y="762120"/>
            <a:ext cx="2362320" cy="9144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 flipH="1">
            <a:off x="4343040" y="762120"/>
            <a:ext cx="3429000" cy="761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1676520" y="586728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. Imperfect, changeable Earth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1143000" y="6324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. Perfect Heavens (described by sphe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2209680" y="53341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entral guiding princi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What were the epicycles in Ptolemy’s model supposed to expla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33520" y="20574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are moving against the background of the sta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the sun is moving against the background of the sta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are moving eastward for a short amount of time, while they are usually moving west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are moving westward for a short amount of time, while they are usually moving east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fact that planets seem to remain stationary for substantial amounts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Epi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seedshistory043"/>
          <p:cNvPicPr/>
          <p:nvPr/>
        </p:nvPicPr>
        <p:blipFill>
          <a:blip r:embed="rId1"/>
          <a:stretch/>
        </p:blipFill>
        <p:spPr>
          <a:xfrm>
            <a:off x="152280" y="1046160"/>
            <a:ext cx="4343400" cy="35258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1295280" y="4923000"/>
            <a:ext cx="7315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tolemaic syst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s considered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“standard model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Universe until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pernican Revol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seedshistory042"/>
          <p:cNvPicPr/>
          <p:nvPr/>
        </p:nvPicPr>
        <p:blipFill>
          <a:blip r:embed="rId2"/>
          <a:stretch/>
        </p:blipFill>
        <p:spPr>
          <a:xfrm>
            <a:off x="4572000" y="1066680"/>
            <a:ext cx="4495680" cy="25606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4572000" y="3733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d to explain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etrograde (westward) motion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pla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7"/>
          <p:cNvSpPr/>
          <p:nvPr/>
        </p:nvSpPr>
        <p:spPr>
          <a:xfrm flipH="1" flipV="1">
            <a:off x="6552720" y="2438280"/>
            <a:ext cx="1219320" cy="137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70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t the time of Ptolemy, the introduction of epicycles was considered a very elegant idea becaus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25909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explained the motion of the planets to the accuracy observable at th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was consistent with the prevailing geocentric world vie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t explained the apparently irregular motion of the planets in the sky with “perfect” cir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it did not openly contradict the teaching of the previous author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l of the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Copernican 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08"/>
          <p:cNvPicPr/>
          <p:nvPr/>
        </p:nvPicPr>
        <p:blipFill>
          <a:blip r:embed="rId1"/>
          <a:stretch/>
        </p:blipFill>
        <p:spPr>
          <a:xfrm>
            <a:off x="1295280" y="990720"/>
            <a:ext cx="2963880" cy="4525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09a"/>
          <p:cNvPicPr/>
          <p:nvPr/>
        </p:nvPicPr>
        <p:blipFill>
          <a:blip r:embed="rId2"/>
          <a:stretch/>
        </p:blipFill>
        <p:spPr>
          <a:xfrm>
            <a:off x="4952880" y="990720"/>
            <a:ext cx="3070440" cy="45259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8"/>
          <p:cNvSpPr/>
          <p:nvPr/>
        </p:nvSpPr>
        <p:spPr>
          <a:xfrm>
            <a:off x="457200" y="571500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icolaus Copernic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1473 – 1543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eliocentric Univer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Sun in the Cen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New (and correct) explanation for retrograde motion of the plane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09b"/>
          <p:cNvPicPr/>
          <p:nvPr/>
        </p:nvPicPr>
        <p:blipFill>
          <a:blip r:embed="rId1"/>
          <a:stretch/>
        </p:blipFill>
        <p:spPr>
          <a:xfrm>
            <a:off x="685800" y="1143000"/>
            <a:ext cx="2557440" cy="4343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10"/>
          <p:cNvPicPr/>
          <p:nvPr/>
        </p:nvPicPr>
        <p:blipFill>
          <a:blip r:embed="rId2"/>
          <a:stretch/>
        </p:blipFill>
        <p:spPr>
          <a:xfrm>
            <a:off x="3448080" y="1143000"/>
            <a:ext cx="2919240" cy="43434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8"/>
          <p:cNvSpPr/>
          <p:nvPr/>
        </p:nvSpPr>
        <p:spPr>
          <a:xfrm>
            <a:off x="6367320" y="39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d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tolemy’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picyc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n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6443640" y="1204920"/>
            <a:ext cx="243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trogra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westward)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otion of a planet occ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hen the Earth passes the plane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76320" y="573084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d in Copernicus’ famous book 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 Revolutionibus Orbium Coelestiu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” (“About the revolutions of celestial object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In the Copernikan “Universe”, the orbits of planets and moons were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133720" y="2514240"/>
            <a:ext cx="48765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erfect Cir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llip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pi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pi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one of the ab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7"/>
          <p:cNvSpPr/>
          <p:nvPr/>
        </p:nvSpPr>
        <p:spPr>
          <a:xfrm>
            <a:off x="990720" y="15228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Johannes Kepler (1571 – 163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04920" y="990720"/>
            <a:ext cx="5333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the precise observational tables of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ycho Brahe (1546 – 160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udy planetary motion mathematical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990720" y="40384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ircular mo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0" y="541008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ts move around the sun on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elliptical path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ith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non-uniform veloc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228600" y="3000240"/>
            <a:ext cx="5029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nd a 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consistent descrip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abandon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o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990720" y="464832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cc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Uniform mo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5" descr="kepler"/>
          <p:cNvPicPr/>
          <p:nvPr/>
        </p:nvPicPr>
        <p:blipFill>
          <a:blip r:embed="rId1"/>
          <a:stretch/>
        </p:blipFill>
        <p:spPr>
          <a:xfrm>
            <a:off x="5943600" y="1295280"/>
            <a:ext cx="2830680" cy="3886200"/>
          </a:xfrm>
          <a:prstGeom prst="rect">
            <a:avLst/>
          </a:prstGeom>
          <a:ln w="0">
            <a:noFill/>
          </a:ln>
        </p:spPr>
      </p:pic>
      <p:sp>
        <p:nvSpPr>
          <p:cNvPr id="139" name="Нижний колонтитул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5"/>
          <p:cNvSpPr/>
          <p:nvPr/>
        </p:nvSpPr>
        <p:spPr>
          <a:xfrm>
            <a:off x="1752480" y="152280"/>
            <a:ext cx="571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333399"/>
                </a:solidFill>
                <a:uFillTx/>
                <a:latin typeface="Arial"/>
              </a:rPr>
              <a:t>Kepler’s Laws of Planetary Mo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990720" y="19051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orbits of the planets ar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llipse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with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u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at on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ocu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8" descr="20a"/>
          <p:cNvPicPr/>
          <p:nvPr/>
        </p:nvPicPr>
        <p:blipFill>
          <a:blip r:embed="rId1"/>
          <a:stretch/>
        </p:blipFill>
        <p:spPr>
          <a:xfrm>
            <a:off x="1160640" y="2819520"/>
            <a:ext cx="3259080" cy="3429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20b"/>
          <p:cNvPicPr/>
          <p:nvPr/>
        </p:nvPicPr>
        <p:blipFill>
          <a:blip r:embed="rId2"/>
          <a:stretch/>
        </p:blipFill>
        <p:spPr>
          <a:xfrm>
            <a:off x="4724280" y="3048120"/>
            <a:ext cx="4114800" cy="27288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0"/>
          <p:cNvSpPr/>
          <p:nvPr/>
        </p:nvSpPr>
        <p:spPr>
          <a:xfrm>
            <a:off x="5944680" y="4343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4952880" y="601992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ccentricity e = c/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Eccentricities of Ellip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3"/>
          <p:cNvSpPr/>
          <p:nvPr/>
        </p:nvSpPr>
        <p:spPr>
          <a:xfrm>
            <a:off x="609480" y="1219320"/>
            <a:ext cx="266724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3429000" y="1219320"/>
            <a:ext cx="274320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6324480" y="1219320"/>
            <a:ext cx="274320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6"/>
          <p:cNvSpPr/>
          <p:nvPr/>
        </p:nvSpPr>
        <p:spPr>
          <a:xfrm>
            <a:off x="1600200" y="3962520"/>
            <a:ext cx="289548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1219320" y="22240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3962520" y="22096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6858000" y="22096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2286000" y="49528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5715000" y="49528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 = 0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2"/>
          <p:cNvSpPr/>
          <p:nvPr/>
        </p:nvSpPr>
        <p:spPr>
          <a:xfrm>
            <a:off x="4876920" y="3962520"/>
            <a:ext cx="335268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380880" y="1143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3352680" y="1143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5"/>
          <p:cNvSpPr/>
          <p:nvPr/>
        </p:nvSpPr>
        <p:spPr>
          <a:xfrm>
            <a:off x="6248520" y="11430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6"/>
          <p:cNvSpPr/>
          <p:nvPr/>
        </p:nvSpPr>
        <p:spPr>
          <a:xfrm>
            <a:off x="1219320" y="41911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7"/>
          <p:cNvSpPr/>
          <p:nvPr/>
        </p:nvSpPr>
        <p:spPr>
          <a:xfrm>
            <a:off x="4648320" y="4129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Нижний колонтитул 1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When did mankind first become interested in the science of astronom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948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 the advent of modern computer technology (mid-2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centu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 the development of the theory of relativity (early 2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centu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ith the invention of the telescope (~ A.D. 16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uring the times of the ancient greeks (~ 400 – 300 B.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 the stone and bronze ages (several thousand years B.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Eccentricities of planetary orb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990720" y="152388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rbits of planets are virtually indistinguishable from circ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"/>
          <p:cNvSpPr/>
          <p:nvPr/>
        </p:nvSpPr>
        <p:spPr>
          <a:xfrm>
            <a:off x="1219320" y="3809880"/>
            <a:ext cx="2666880" cy="266724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1356120" y="31240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arth: e = 0.01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181480" y="274320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ost extreme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luto: e = 0.2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7"/>
          <p:cNvSpPr/>
          <p:nvPr/>
        </p:nvSpPr>
        <p:spPr>
          <a:xfrm>
            <a:off x="5486400" y="3962520"/>
            <a:ext cx="2819520" cy="2666880"/>
          </a:xfrm>
          <a:prstGeom prst="ellipse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Нижний колонтитул 8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838080" y="380880"/>
            <a:ext cx="784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buClr>
                <a:srgbClr val="3333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ine from a planet to the su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sweeps ove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qual areas in equal intervals of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7" descr="20c"/>
          <p:cNvPicPr/>
          <p:nvPr/>
        </p:nvPicPr>
        <p:blipFill>
          <a:blip r:embed="rId1"/>
          <a:stretch/>
        </p:blipFill>
        <p:spPr>
          <a:xfrm>
            <a:off x="1752480" y="2081160"/>
            <a:ext cx="6019920" cy="3710160"/>
          </a:xfrm>
          <a:prstGeom prst="rect">
            <a:avLst/>
          </a:prstGeom>
          <a:ln w="0">
            <a:noFill/>
          </a:ln>
        </p:spPr>
      </p:pic>
      <p:sp>
        <p:nvSpPr>
          <p:cNvPr id="17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2"/>
          <p:cNvSpPr/>
          <p:nvPr/>
        </p:nvSpPr>
        <p:spPr>
          <a:xfrm rot="16200000">
            <a:off x="565200" y="31687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3"/>
          <p:cNvSpPr/>
          <p:nvPr/>
        </p:nvSpPr>
        <p:spPr>
          <a:xfrm rot="5400000">
            <a:off x="7421760" y="38545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0" y="64008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Are all four seasons equally lo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33520" y="22860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summer is the longest; winter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fall is the longest; spring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winter is the longest; summer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, spring is the longest; fall is the shor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15200" cy="14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Why is the summer longer than wint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520" y="23623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of the precession of the Earth’s axis of ro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of the moon’s 5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inclination with respect to the Eclipt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the Earth is rotating around its axis more slowly in the summer (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→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nger days!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the Earth is closest to the sun in January and most distant from the sun in Ju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ecause the Earth is closest to the sun in July and most distant from the sun in Janu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reeform 32"/>
          <p:cNvSpPr/>
          <p:nvPr/>
        </p:nvSpPr>
        <p:spPr>
          <a:xfrm>
            <a:off x="3962520" y="1066680"/>
            <a:ext cx="3657600" cy="281952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w="2304" h="1776">
                <a:moveTo>
                  <a:pt x="2256" y="1776"/>
                </a:moveTo>
                <a:lnTo>
                  <a:pt x="0" y="1776"/>
                </a:lnTo>
                <a:lnTo>
                  <a:pt x="0" y="96"/>
                </a:lnTo>
                <a:lnTo>
                  <a:pt x="357" y="23"/>
                </a:lnTo>
                <a:lnTo>
                  <a:pt x="672" y="0"/>
                </a:lnTo>
                <a:lnTo>
                  <a:pt x="960" y="0"/>
                </a:lnTo>
                <a:lnTo>
                  <a:pt x="1248" y="48"/>
                </a:lnTo>
                <a:lnTo>
                  <a:pt x="1584" y="192"/>
                </a:lnTo>
                <a:lnTo>
                  <a:pt x="1776" y="336"/>
                </a:lnTo>
                <a:lnTo>
                  <a:pt x="2021" y="571"/>
                </a:lnTo>
                <a:lnTo>
                  <a:pt x="2160" y="768"/>
                </a:lnTo>
                <a:lnTo>
                  <a:pt x="2267" y="1120"/>
                </a:lnTo>
                <a:lnTo>
                  <a:pt x="2304" y="1440"/>
                </a:lnTo>
                <a:cubicBezTo>
                  <a:pt x="2298" y="1492"/>
                  <a:pt x="2294" y="1544"/>
                  <a:pt x="2286" y="1595"/>
                </a:cubicBezTo>
                <a:cubicBezTo>
                  <a:pt x="2283" y="1614"/>
                  <a:pt x="2267" y="1650"/>
                  <a:pt x="2267" y="1650"/>
                </a:cubicBezTo>
                <a:lnTo>
                  <a:pt x="2256" y="1776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31"/>
          <p:cNvSpPr/>
          <p:nvPr/>
        </p:nvSpPr>
        <p:spPr>
          <a:xfrm>
            <a:off x="1752480" y="3886200"/>
            <a:ext cx="2210040" cy="2286000"/>
          </a:xfrm>
          <a:custGeom>
            <a:avLst/>
            <a:gdLst>
              <a:gd name="textAreaLeft" fmla="*/ 0 w 2210040"/>
              <a:gd name="textAreaRight" fmla="*/ 2210040 w 221004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1392" h="1440">
                <a:moveTo>
                  <a:pt x="0" y="0"/>
                </a:moveTo>
                <a:lnTo>
                  <a:pt x="1392" y="0"/>
                </a:lnTo>
                <a:lnTo>
                  <a:pt x="1392" y="1440"/>
                </a:lnTo>
                <a:lnTo>
                  <a:pt x="1152" y="1392"/>
                </a:lnTo>
                <a:lnTo>
                  <a:pt x="960" y="1344"/>
                </a:lnTo>
                <a:lnTo>
                  <a:pt x="752" y="1246"/>
                </a:lnTo>
                <a:lnTo>
                  <a:pt x="576" y="1152"/>
                </a:lnTo>
                <a:lnTo>
                  <a:pt x="377" y="999"/>
                </a:lnTo>
                <a:lnTo>
                  <a:pt x="240" y="816"/>
                </a:lnTo>
                <a:lnTo>
                  <a:pt x="96" y="528"/>
                </a:lnTo>
                <a:lnTo>
                  <a:pt x="21" y="341"/>
                </a:lnTo>
                <a:lnTo>
                  <a:pt x="0" y="192"/>
                </a:lnTo>
                <a:lnTo>
                  <a:pt x="0" y="0"/>
                </a:ln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7" descr="earth2"/>
          <p:cNvPicPr/>
          <p:nvPr/>
        </p:nvPicPr>
        <p:blipFill>
          <a:blip r:embed="rId1"/>
          <a:stretch/>
        </p:blipFill>
        <p:spPr>
          <a:xfrm>
            <a:off x="3429000" y="838080"/>
            <a:ext cx="1066680" cy="800280"/>
          </a:xfrm>
          <a:prstGeom prst="rect">
            <a:avLst/>
          </a:prstGeom>
          <a:ln w="0">
            <a:noFill/>
          </a:ln>
        </p:spPr>
      </p:pic>
      <p:sp>
        <p:nvSpPr>
          <p:cNvPr id="190" name="Oval 4"/>
          <p:cNvSpPr/>
          <p:nvPr/>
        </p:nvSpPr>
        <p:spPr>
          <a:xfrm rot="20298000">
            <a:off x="1676520" y="1143000"/>
            <a:ext cx="6019560" cy="4952880"/>
          </a:xfrm>
          <a:prstGeom prst="ellipse">
            <a:avLst/>
          </a:prstGeom>
          <a:noFill/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6"/>
          <p:cNvSpPr/>
          <p:nvPr/>
        </p:nvSpPr>
        <p:spPr>
          <a:xfrm>
            <a:off x="3733920" y="3657600"/>
            <a:ext cx="457200" cy="457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"/>
          <p:cNvSpPr/>
          <p:nvPr/>
        </p:nvSpPr>
        <p:spPr>
          <a:xfrm flipH="1" flipV="1">
            <a:off x="3657240" y="837720"/>
            <a:ext cx="609480" cy="76212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2"/>
          <p:cNvSpPr/>
          <p:nvPr/>
        </p:nvSpPr>
        <p:spPr>
          <a:xfrm>
            <a:off x="380880" y="3886200"/>
            <a:ext cx="8763120" cy="0"/>
          </a:xfrm>
          <a:prstGeom prst="line">
            <a:avLst/>
          </a:prstGeom>
          <a:ln w="1908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"/>
          <p:cNvSpPr/>
          <p:nvPr/>
        </p:nvSpPr>
        <p:spPr>
          <a:xfrm>
            <a:off x="3962520" y="0"/>
            <a:ext cx="0" cy="6858000"/>
          </a:xfrm>
          <a:prstGeom prst="line">
            <a:avLst/>
          </a:prstGeom>
          <a:ln w="1908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4"/>
          <p:cNvSpPr/>
          <p:nvPr/>
        </p:nvSpPr>
        <p:spPr>
          <a:xfrm flipH="1">
            <a:off x="4038120" y="685800"/>
            <a:ext cx="838440" cy="53352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5"/>
          <p:cNvSpPr/>
          <p:nvPr/>
        </p:nvSpPr>
        <p:spPr>
          <a:xfrm>
            <a:off x="4419720" y="3049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utumnal Equinox (beg. of f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6"/>
          <p:cNvSpPr/>
          <p:nvPr/>
        </p:nvSpPr>
        <p:spPr>
          <a:xfrm>
            <a:off x="1295280" y="2819520"/>
            <a:ext cx="457200" cy="9903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0" y="192096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inter solstice (beg. of win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8"/>
          <p:cNvSpPr/>
          <p:nvPr/>
        </p:nvSpPr>
        <p:spPr>
          <a:xfrm flipH="1">
            <a:off x="7619760" y="3276720"/>
            <a:ext cx="685800" cy="53316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7772400" y="1724040"/>
            <a:ext cx="144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mmer solstice (beg. of summ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0"/>
          <p:cNvSpPr/>
          <p:nvPr/>
        </p:nvSpPr>
        <p:spPr>
          <a:xfrm flipH="1" flipV="1">
            <a:off x="3962520" y="6171840"/>
            <a:ext cx="2209680" cy="152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6095880" y="58831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Vernal equinox (beg. of sp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2"/>
          <p:cNvSpPr/>
          <p:nvPr/>
        </p:nvSpPr>
        <p:spPr>
          <a:xfrm flipV="1">
            <a:off x="1219320" y="5028840"/>
            <a:ext cx="761760" cy="289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3"/>
          <p:cNvSpPr/>
          <p:nvPr/>
        </p:nvSpPr>
        <p:spPr>
          <a:xfrm>
            <a:off x="2286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anu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4"/>
          <p:cNvSpPr/>
          <p:nvPr/>
        </p:nvSpPr>
        <p:spPr>
          <a:xfrm flipV="1">
            <a:off x="6172200" y="1828440"/>
            <a:ext cx="762120" cy="289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25"/>
          <p:cNvSpPr/>
          <p:nvPr/>
        </p:nvSpPr>
        <p:spPr>
          <a:xfrm>
            <a:off x="5410080" y="1828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u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6"/>
          <p:cNvSpPr/>
          <p:nvPr/>
        </p:nvSpPr>
        <p:spPr>
          <a:xfrm>
            <a:off x="2666880" y="2895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27"/>
          <p:cNvSpPr/>
          <p:nvPr/>
        </p:nvSpPr>
        <p:spPr>
          <a:xfrm>
            <a:off x="2590920" y="4267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8"/>
          <p:cNvSpPr/>
          <p:nvPr/>
        </p:nvSpPr>
        <p:spPr>
          <a:xfrm>
            <a:off x="4343400" y="4267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p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9"/>
          <p:cNvSpPr/>
          <p:nvPr/>
        </p:nvSpPr>
        <p:spPr>
          <a:xfrm>
            <a:off x="4343400" y="2895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m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Нижний колонтитул 2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61 0.01364 C -0.1927 0.10497 -0.28229 0.32716 -0.22621 0.51075 C -0.16979 0.69503 0.01198 0.7711 0.17917 0.67907 C 0.34775 0.59029 0.43855 0.36462 0.38073 0.18081 C 0.32483 -0.00231999999999999 0.14393 -0.07607 -0.02361 0.01364 Z">
                                      <p:cBhvr>
                                        <p:cTn id="186" dur="10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96 0.00809 C -0.18871 0.09711 -0.27968 0.32 -0.2276 0.50312 C -0.17343 0.68833 0.00711999999999999 0.76717 0.17691 0.68 C 0.34323 0.59306 0.43768 0.37156 0.38455 0.18543 C 0.32969 0.00162000000000001 0.14879 -0.0763 -0.01996 0.00809 Z">
                                      <p:cBhvr>
                                        <p:cTn id="188" dur="10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685800" y="121932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planet’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rbital period (P) squared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s proportional to its averag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stance from the sun (a) cubed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4038480" y="259092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= 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AU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3962520" y="2590920"/>
            <a:ext cx="1904760" cy="609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1447920" y="3276720"/>
            <a:ext cx="6781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P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= period in years; a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</a:rPr>
              <a:t>AU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= distance in A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53352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Kepler’s Third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838080" y="418932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rbital perio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known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→ Calculate average distance to the sun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1"/>
          <p:cNvSpPr/>
          <p:nvPr/>
        </p:nvSpPr>
        <p:spPr>
          <a:xfrm>
            <a:off x="3581280" y="4738680"/>
            <a:ext cx="1981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AU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 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838080" y="5470560"/>
            <a:ext cx="792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Average distance to the sun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, known → Calculate orbital period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P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3505320" y="603396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= a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</a:rPr>
              <a:t>AU</a:t>
            </a:r>
            <a:r>
              <a:rPr b="0" lang="en-US" sz="2800" spc="-1" strike="noStrike" baseline="30000">
                <a:solidFill>
                  <a:srgbClr val="ff0000"/>
                </a:solidFill>
                <a:latin typeface="Arial"/>
              </a:rPr>
              <a:t>3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Нижний колонтитул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t takes 29.46 years for Saturn to orbit once around the sun. What is its average distance from the su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286000" y="2819160"/>
            <a:ext cx="5867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9.54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9.64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9.46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44.31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60.55 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4582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Think critically about Kepler’s Laws: Would you categorize his achievements as physics or mathematic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514600" y="3123720"/>
            <a:ext cx="45720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hy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Isaac Newton (1643 - 172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143000" y="3429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Major achievement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685800" y="441972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vented Calcul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 necessary tool to solve mathematical problems related to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304920" y="1143000"/>
            <a:ext cx="5715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dding physics interpret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thematical descrip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stronomy by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pernicus, Galileo and Kep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685800" y="52578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ed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ree laws of 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685800" y="579132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ed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iversal law of mutual grav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9" descr="newton"/>
          <p:cNvPicPr/>
          <p:nvPr/>
        </p:nvPicPr>
        <p:blipFill>
          <a:blip r:embed="rId1"/>
          <a:stretch/>
        </p:blipFill>
        <p:spPr>
          <a:xfrm>
            <a:off x="6031080" y="1143000"/>
            <a:ext cx="3036600" cy="3124080"/>
          </a:xfrm>
          <a:prstGeom prst="rect">
            <a:avLst/>
          </a:prstGeom>
          <a:ln w="0">
            <a:noFill/>
          </a:ln>
        </p:spPr>
      </p:pic>
      <p:sp>
        <p:nvSpPr>
          <p:cNvPr id="238" name="Нижний колонтитул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5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0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348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Newton’s Laws of Motion (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584000"/>
            <a:ext cx="40384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ody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ntinues at rest or in uniform motion in a straight li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nl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cted upon by som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t for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05a"/>
          <p:cNvPicPr/>
          <p:nvPr/>
        </p:nvPicPr>
        <p:blipFill>
          <a:blip r:embed="rId1"/>
          <a:stretch/>
        </p:blipFill>
        <p:spPr>
          <a:xfrm>
            <a:off x="5027760" y="1660680"/>
            <a:ext cx="3506760" cy="45259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5"/>
          <p:cNvSpPr/>
          <p:nvPr/>
        </p:nvSpPr>
        <p:spPr>
          <a:xfrm>
            <a:off x="990720" y="4495680"/>
            <a:ext cx="365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stronaut floating in space will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loat forever in a straight 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less som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ternal 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ccelerating him/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Roots of Astr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ready in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tone and bronze ag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human cultures realized the cyclic nature of motions in the sk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ument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ating back to ~ 3000 B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show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lignments with astronomical signific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monuments were probably used a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alenda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even to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edict eclips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Velocity and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03"/>
          <p:cNvPicPr/>
          <p:nvPr/>
        </p:nvPicPr>
        <p:blipFill>
          <a:blip r:embed="rId1"/>
          <a:stretch/>
        </p:blipFill>
        <p:spPr>
          <a:xfrm>
            <a:off x="762120" y="990720"/>
            <a:ext cx="1962000" cy="586728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4"/>
          <p:cNvSpPr/>
          <p:nvPr/>
        </p:nvSpPr>
        <p:spPr>
          <a:xfrm>
            <a:off x="3048120" y="114300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 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ange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body’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locity (v) with time (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971800" y="1981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=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/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3200400" y="251460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eloc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rected quant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vectors)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7"/>
          <p:cNvSpPr/>
          <p:nvPr/>
        </p:nvSpPr>
        <p:spPr>
          <a:xfrm>
            <a:off x="1219320" y="15238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8"/>
          <p:cNvSpPr/>
          <p:nvPr/>
        </p:nvSpPr>
        <p:spPr>
          <a:xfrm>
            <a:off x="1981080" y="3124080"/>
            <a:ext cx="0" cy="13716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838080" y="1676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19810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1"/>
          <p:cNvSpPr/>
          <p:nvPr/>
        </p:nvSpPr>
        <p:spPr>
          <a:xfrm>
            <a:off x="5410080" y="12193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2"/>
          <p:cNvSpPr/>
          <p:nvPr/>
        </p:nvSpPr>
        <p:spPr>
          <a:xfrm>
            <a:off x="51814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3"/>
          <p:cNvSpPr/>
          <p:nvPr/>
        </p:nvSpPr>
        <p:spPr>
          <a:xfrm>
            <a:off x="58672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4"/>
          <p:cNvSpPr/>
          <p:nvPr/>
        </p:nvSpPr>
        <p:spPr>
          <a:xfrm>
            <a:off x="5943600" y="1600200"/>
            <a:ext cx="3049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Нижний колонтитул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Which of the following involve(s) a (non-zero) acceler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600200" y="2819160"/>
            <a:ext cx="63244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ncreasing the speed of an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ra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niform motion on a circular pa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ll of the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one of the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Velocity and Accel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03"/>
          <p:cNvPicPr/>
          <p:nvPr/>
        </p:nvPicPr>
        <p:blipFill>
          <a:blip r:embed="rId1"/>
          <a:stretch/>
        </p:blipFill>
        <p:spPr>
          <a:xfrm>
            <a:off x="762120" y="990720"/>
            <a:ext cx="1962000" cy="586728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3048120" y="114300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 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ange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body’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elocity (v) with time (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3124080" y="426708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cceleration in the conventional sen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.e. increasing spe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2971800" y="1981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 = 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/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3048120" y="35812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cases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3200400" y="251460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eloc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cele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rected quant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vectors)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3124080" y="571500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ange of the dir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motion (e.g., in circular mo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3124080" y="5105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celer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.e. decreasing spe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1"/>
          <p:cNvSpPr/>
          <p:nvPr/>
        </p:nvSpPr>
        <p:spPr>
          <a:xfrm>
            <a:off x="1219320" y="1523880"/>
            <a:ext cx="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2"/>
          <p:cNvSpPr/>
          <p:nvPr/>
        </p:nvSpPr>
        <p:spPr>
          <a:xfrm>
            <a:off x="1981080" y="3124080"/>
            <a:ext cx="0" cy="13716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3"/>
          <p:cNvSpPr/>
          <p:nvPr/>
        </p:nvSpPr>
        <p:spPr>
          <a:xfrm>
            <a:off x="838080" y="16765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19810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15"/>
          <p:cNvSpPr/>
          <p:nvPr/>
        </p:nvSpPr>
        <p:spPr>
          <a:xfrm>
            <a:off x="5410080" y="121932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51814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5867280" y="205740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18"/>
          <p:cNvSpPr/>
          <p:nvPr/>
        </p:nvSpPr>
        <p:spPr>
          <a:xfrm>
            <a:off x="5943600" y="1600200"/>
            <a:ext cx="30492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Нижний колонтитул 1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2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122040"/>
            <a:ext cx="822960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 ball attached to a string is in a circular motion as shown. Which path will the ball follow if the string breaks at the marked poi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82"/>
          <p:cNvSpPr/>
          <p:nvPr/>
        </p:nvSpPr>
        <p:spPr>
          <a:xfrm>
            <a:off x="3962520" y="31878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283"/>
          <p:cNvSpPr/>
          <p:nvPr/>
        </p:nvSpPr>
        <p:spPr>
          <a:xfrm>
            <a:off x="4724280" y="3035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84"/>
          <p:cNvSpPr/>
          <p:nvPr/>
        </p:nvSpPr>
        <p:spPr>
          <a:xfrm>
            <a:off x="5486400" y="34923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85"/>
          <p:cNvSpPr/>
          <p:nvPr/>
        </p:nvSpPr>
        <p:spPr>
          <a:xfrm>
            <a:off x="5867280" y="4527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86"/>
          <p:cNvSpPr/>
          <p:nvPr/>
        </p:nvSpPr>
        <p:spPr>
          <a:xfrm>
            <a:off x="5105520" y="521352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5) Impossible to tell from the given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287"/>
          <p:cNvSpPr/>
          <p:nvPr/>
        </p:nvSpPr>
        <p:spPr>
          <a:xfrm>
            <a:off x="2666880" y="3645000"/>
            <a:ext cx="2590920" cy="2666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288"/>
          <p:cNvSpPr/>
          <p:nvPr/>
        </p:nvSpPr>
        <p:spPr>
          <a:xfrm>
            <a:off x="4191120" y="3187800"/>
            <a:ext cx="1079280" cy="1752480"/>
          </a:xfrm>
          <a:custGeom>
            <a:avLst/>
            <a:gdLst>
              <a:gd name="textAreaLeft" fmla="*/ 0 w 1079280"/>
              <a:gd name="textAreaRight" fmla="*/ 1079640 w 107928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680" h="1104">
                <a:moveTo>
                  <a:pt x="672" y="1104"/>
                </a:moveTo>
                <a:cubicBezTo>
                  <a:pt x="676" y="1072"/>
                  <a:pt x="680" y="1040"/>
                  <a:pt x="672" y="960"/>
                </a:cubicBezTo>
                <a:cubicBezTo>
                  <a:pt x="664" y="880"/>
                  <a:pt x="664" y="736"/>
                  <a:pt x="624" y="624"/>
                </a:cubicBezTo>
                <a:cubicBezTo>
                  <a:pt x="584" y="512"/>
                  <a:pt x="504" y="376"/>
                  <a:pt x="432" y="288"/>
                </a:cubicBezTo>
                <a:cubicBezTo>
                  <a:pt x="360" y="200"/>
                  <a:pt x="264" y="144"/>
                  <a:pt x="192" y="96"/>
                </a:cubicBezTo>
                <a:cubicBezTo>
                  <a:pt x="120" y="48"/>
                  <a:pt x="60" y="24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289"/>
          <p:cNvSpPr/>
          <p:nvPr/>
        </p:nvSpPr>
        <p:spPr>
          <a:xfrm>
            <a:off x="2590920" y="486396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90"/>
          <p:cNvSpPr/>
          <p:nvPr/>
        </p:nvSpPr>
        <p:spPr>
          <a:xfrm flipV="1">
            <a:off x="5257800" y="3111480"/>
            <a:ext cx="0" cy="190512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291"/>
          <p:cNvSpPr/>
          <p:nvPr/>
        </p:nvSpPr>
        <p:spPr>
          <a:xfrm>
            <a:off x="5105520" y="4863960"/>
            <a:ext cx="304560" cy="3049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92"/>
          <p:cNvSpPr/>
          <p:nvPr/>
        </p:nvSpPr>
        <p:spPr>
          <a:xfrm>
            <a:off x="2666880" y="494028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293"/>
          <p:cNvSpPr/>
          <p:nvPr/>
        </p:nvSpPr>
        <p:spPr>
          <a:xfrm>
            <a:off x="3886200" y="486396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94"/>
          <p:cNvSpPr/>
          <p:nvPr/>
        </p:nvSpPr>
        <p:spPr>
          <a:xfrm flipV="1">
            <a:off x="5257800" y="3492360"/>
            <a:ext cx="990720" cy="15242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95"/>
          <p:cNvSpPr/>
          <p:nvPr/>
        </p:nvSpPr>
        <p:spPr>
          <a:xfrm>
            <a:off x="5257800" y="5016600"/>
            <a:ext cx="12952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Нижний колонтитул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18 0.00578 C 0.00018 -0.10127 0.06407 -0.18867 0.14202 -0.18867 C 0.22014 -0.18867 0.28351 -0.10127 0.28351 0.00578 C 0.28351 0.11307 0.22014 0.19977 0.14202 0.19977 C 0.06407 0.19977 0.00018 0.11307 0.00018 0.00578 Z">
                                      <p:cBhvr>
                                        <p:cTn id="398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Rot by="-21600000">
                                      <p:cBhvr>
                                        <p:cTn id="400" dur="2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1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3.05556E-006 -2.42775E-006 C -3.05556E-006 -0.05225 0.03299 -0.0948 0.07309 -0.0948 C 0.11337 -0.0948 0.14584 -0.05225 0.14584 -2.42775E-006 C 0.14584 0.05226 0.11337 0.09411 0.07309 0.09411 C 0.03299 0.09411 -3.05556E-006 0.05226 -3.05556E-006 -2.42775E-006 Z">
                                      <p:cBhvr>
                                        <p:cTn id="402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334 0.0111 L 0.28334 -0.26636 E">
                                      <p:cBhvr>
                                        <p:cTn id="406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Newton’s Laws of Motion (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371240"/>
            <a:ext cx="3733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celer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 body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versely proport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it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ss 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irectly proportion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t force 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 the same dir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the net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914400" y="57150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/m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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= m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5" descr="05b"/>
          <p:cNvPicPr/>
          <p:nvPr/>
        </p:nvPicPr>
        <p:blipFill>
          <a:blip r:embed="rId1"/>
          <a:stretch/>
        </p:blipFill>
        <p:spPr>
          <a:xfrm>
            <a:off x="5018040" y="1752480"/>
            <a:ext cx="3516480" cy="4419720"/>
          </a:xfrm>
          <a:prstGeom prst="rect">
            <a:avLst/>
          </a:prstGeom>
          <a:ln w="0">
            <a:noFill/>
          </a:ln>
        </p:spPr>
      </p:pic>
      <p:sp>
        <p:nvSpPr>
          <p:cNvPr id="30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7"/>
          <p:cNvSpPr/>
          <p:nvPr/>
        </p:nvSpPr>
        <p:spPr>
          <a:xfrm>
            <a:off x="4343400" y="1523880"/>
            <a:ext cx="2286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8"/>
          <p:cNvSpPr/>
          <p:nvPr/>
        </p:nvSpPr>
        <p:spPr>
          <a:xfrm>
            <a:off x="3124080" y="3962520"/>
            <a:ext cx="3049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9"/>
          <p:cNvSpPr/>
          <p:nvPr/>
        </p:nvSpPr>
        <p:spPr>
          <a:xfrm>
            <a:off x="990720" y="5791320"/>
            <a:ext cx="30456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0"/>
          <p:cNvSpPr/>
          <p:nvPr/>
        </p:nvSpPr>
        <p:spPr>
          <a:xfrm>
            <a:off x="1676520" y="5791320"/>
            <a:ext cx="304560" cy="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11"/>
          <p:cNvSpPr/>
          <p:nvPr/>
        </p:nvSpPr>
        <p:spPr>
          <a:xfrm>
            <a:off x="3505320" y="579132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12"/>
          <p:cNvSpPr/>
          <p:nvPr/>
        </p:nvSpPr>
        <p:spPr>
          <a:xfrm>
            <a:off x="4648320" y="5867280"/>
            <a:ext cx="3045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Нижний колонтитул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321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Newton’s Laws of Motion (II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62120" y="1952280"/>
            <a:ext cx="39621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very 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re is a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qual and opposite rea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4" descr="05c"/>
          <p:cNvPicPr/>
          <p:nvPr/>
        </p:nvPicPr>
        <p:blipFill>
          <a:blip r:embed="rId1"/>
          <a:stretch/>
        </p:blipFill>
        <p:spPr>
          <a:xfrm>
            <a:off x="4800600" y="1952640"/>
            <a:ext cx="4038480" cy="397188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5"/>
          <p:cNvSpPr/>
          <p:nvPr/>
        </p:nvSpPr>
        <p:spPr>
          <a:xfrm>
            <a:off x="990720" y="4390920"/>
            <a:ext cx="373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force that is accelerating the boy forward, is accelerating the skateboard backw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The Universal Law of Gra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two bodies are attracting each other through gravitation, with a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orce proportional to the product of their masses and inversely proportional to the square of their dist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2895480" y="48769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 = - 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5"/>
          <p:cNvSpPr/>
          <p:nvPr/>
        </p:nvSpPr>
        <p:spPr>
          <a:xfrm>
            <a:off x="4419720" y="5181480"/>
            <a:ext cx="5331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4343400" y="4724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7"/>
          <p:cNvSpPr/>
          <p:nvPr/>
        </p:nvSpPr>
        <p:spPr>
          <a:xfrm>
            <a:off x="4495680" y="5181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8"/>
          <p:cNvSpPr/>
          <p:nvPr/>
        </p:nvSpPr>
        <p:spPr>
          <a:xfrm>
            <a:off x="1676520" y="59436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 is the Universal constant of gravity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9"/>
          <p:cNvSpPr/>
          <p:nvPr/>
        </p:nvSpPr>
        <p:spPr>
          <a:xfrm>
            <a:off x="2743200" y="4648320"/>
            <a:ext cx="2514600" cy="10666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Нижний колонтитул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27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ccording to Newton’s universal law of gravity, the sun is attracting the Earth with a force of 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3.6*10</a:t>
            </a:r>
            <a:r>
              <a:rPr b="0" lang="en-US" sz="3600" spc="-1" strike="noStrike" u="sng" baseline="30000">
                <a:solidFill>
                  <a:srgbClr val="ffff00"/>
                </a:solidFill>
                <a:uFillTx/>
                <a:latin typeface="Arial"/>
              </a:rPr>
              <a:t>22</a:t>
            </a: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 N.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hat is the gravitational force that the Earth exerts on the su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990720" y="3124080"/>
            <a:ext cx="723888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.75*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18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3.6*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2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.95*10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29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Depends on the relative speed of the Earth with respect to the 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stonehenge_aerial"/>
          <p:cNvPicPr/>
          <p:nvPr/>
        </p:nvPicPr>
        <p:blipFill>
          <a:blip r:embed="rId1"/>
          <a:stretch/>
        </p:blipFill>
        <p:spPr>
          <a:xfrm>
            <a:off x="-1295280" y="-449280"/>
            <a:ext cx="10972800" cy="73072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ff00"/>
                </a:solidFill>
                <a:uFillTx/>
                <a:latin typeface="Arial"/>
              </a:rPr>
              <a:t>Stonehen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Stoneh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01c"/>
          <p:cNvPicPr/>
          <p:nvPr/>
        </p:nvPicPr>
        <p:blipFill>
          <a:blip r:embed="rId1"/>
          <a:stretch/>
        </p:blipFill>
        <p:spPr>
          <a:xfrm>
            <a:off x="3895560" y="914400"/>
            <a:ext cx="5175360" cy="57913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8"/>
          <p:cNvSpPr/>
          <p:nvPr/>
        </p:nvSpPr>
        <p:spPr>
          <a:xfrm>
            <a:off x="0" y="3962520"/>
            <a:ext cx="388620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tructed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3000 – 1800 B.C. in Great Brit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ignments with locations of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sunset, sunrise, moonset and moonrise at summer and winter solst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ably used as </a:t>
            </a:r>
            <a:r>
              <a:rPr b="0" lang="en-US" sz="2200" spc="-1" strike="noStrike">
                <a:solidFill>
                  <a:srgbClr val="333399"/>
                </a:solidFill>
                <a:latin typeface="Arial"/>
              </a:rPr>
              <a:t>calenda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1" descr="stonehenge_solstice"/>
          <p:cNvPicPr/>
          <p:nvPr/>
        </p:nvPicPr>
        <p:blipFill>
          <a:blip r:embed="rId2"/>
          <a:stretch/>
        </p:blipFill>
        <p:spPr>
          <a:xfrm>
            <a:off x="76320" y="933480"/>
            <a:ext cx="3733560" cy="2800440"/>
          </a:xfrm>
          <a:prstGeom prst="rect">
            <a:avLst/>
          </a:prstGeom>
          <a:ln w="0">
            <a:noFill/>
          </a:ln>
        </p:spPr>
      </p:pic>
      <p:sp>
        <p:nvSpPr>
          <p:cNvPr id="6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Other Examples around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02"/>
          <p:cNvPicPr/>
          <p:nvPr/>
        </p:nvPicPr>
        <p:blipFill>
          <a:blip r:embed="rId1"/>
          <a:stretch/>
        </p:blipFill>
        <p:spPr>
          <a:xfrm>
            <a:off x="152280" y="928800"/>
            <a:ext cx="8839440" cy="52149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1676520" y="624852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ig Horn Medicine Wheel (Wyom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Other Examples around the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03a"/>
          <p:cNvPicPr/>
          <p:nvPr/>
        </p:nvPicPr>
        <p:blipFill>
          <a:blip r:embed="rId1"/>
          <a:stretch/>
        </p:blipFill>
        <p:spPr>
          <a:xfrm>
            <a:off x="152280" y="1523880"/>
            <a:ext cx="4038840" cy="43135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609480" y="60199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racol (Mexico); Maya culture, approx. A.D.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03b"/>
          <p:cNvPicPr/>
          <p:nvPr/>
        </p:nvPicPr>
        <p:blipFill>
          <a:blip r:embed="rId2"/>
          <a:stretch/>
        </p:blipFill>
        <p:spPr>
          <a:xfrm>
            <a:off x="4267080" y="2057400"/>
            <a:ext cx="4724640" cy="3438360"/>
          </a:xfrm>
          <a:prstGeom prst="rect">
            <a:avLst/>
          </a:prstGeom>
          <a:ln w="0">
            <a:noFill/>
          </a:ln>
        </p:spPr>
      </p:pic>
      <p:sp>
        <p:nvSpPr>
          <p:cNvPr id="79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Why is it so difficult to find out about the state of astronomical knowledge of bronze-age civiliza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09480" y="2362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ritten documents from that time are in a language that we don’t underst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re are no written documents documents from that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ifferent written documents about their astronomical knowledge often contradict each o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ue to the Earth’s precession, they had a completely different view of the sky than we have to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y didn’t have any astronomical knowledge at 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99"/>
                </a:solidFill>
                <a:uFillTx/>
                <a:latin typeface="Arial"/>
              </a:rPr>
              <a:t>Ancient Greek Astronom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848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s were based 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npro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first principles”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lieved to be “obvious” and were not question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371600" y="2819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. Geocentric “Universe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ar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t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nter of the “Universe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371600" y="423864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. “Perfect Heavens”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motions of all celestial bodies can be described by motions involving objects of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“perfect” shap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.e.,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pheres or circ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>
              <a:alpha val="2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1T22:00:39Z</dcterms:created>
  <dc:creator>Markus Boettcher</dc:creator>
  <dc:description/>
  <dc:language>en-US</dc:language>
  <cp:lastModifiedBy>LEGION</cp:lastModifiedBy>
  <dcterms:modified xsi:type="dcterms:W3CDTF">2018-03-22T10:40:00Z</dcterms:modified>
  <cp:revision>297</cp:revision>
  <dc:subject/>
  <dc:title>The Roots of Astronomy</dc:title>
</cp:coreProperties>
</file>