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0.wmf" ContentType="image/x-wmf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88074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009C034-CC67-46F2-9599-8850651E33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fractors (glass le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fractors (glass len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antages and Disadvant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y to use and rel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ellent for lunar, planetary and binary star observing especially in larger aper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contrast images with no secondary mirror or diagonal obstru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led optical tube reduces image degrading air currents and protects opt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expensive per inch of apert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vier, longer and bulkier than equivalent aperture Newtonians and catadioptr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aper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suited for viewing small and faint deep sky objec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 aberration due to colors of light bending different amou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vantages and Disadvantag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sy to use and reli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cellent for lunar, planetary and binary star observing especially in larger apertur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igh contrast images with no secondary mirror or diagonal obstructio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aled optical tube reduces image degrading air currents and protects optic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re expensive per inch of apertur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vier, longer and bulkier than equivalent aperture Newtonians and catadioptric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mall apert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ss suited for viewing small and faint deep sky object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lor aberration due to colors of light bending different amount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flectors (mirr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flectors (mirror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antages and disadvant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est cost per inch of aper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sonably compact and portable up to focal lengths of 1000m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ellent for faint deep sky objects such as remote galaxies, nebulae and star clus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sonably good for lunar and planetary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in optical aber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n optical tube design allows image-degrading air currents and air contamin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frag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apertures (over 8") are bulky, heavy and tend to be expens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ght light loss due to secondary obstruction when compared with refr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vantages and disadvantag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west cost per inch of aper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asonably compact and portable up to focal lengths of 1000mm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cellent for faint deep sky objects such as remote galaxies, nebulae and star cluster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asonably good for lunar and planetary work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w in optical aberration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pen optical tube design allows image-degrading air currents and air contamina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re fragi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rge apertures (over 8") are bulky, heavy and tend to be expensiv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light light loss due to secondary obstruction when compared with refractor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ssegrain refl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ssegrain refle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dioptric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st all-around, all-purpose telescope design. Combines the optical advantages of both lenses and mirrors while canceling their disadvant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rp images over a wide fie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ellent for deep sky observing or astrophotography with fast films or CCD’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good for lunar, planetary and binary star observing or photograph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d tube design reduces image degrading air curr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re extremely compact and por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apertures at reasonable prices and less expensive than equivalent aperture refr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adioptric telescop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st all-around, all-purpose telescope design. Combines the optical advantages of both lenses and mirrors while canceling their disadvantag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harp images over a wide fiel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cellent for deep sky observing or astrophotography with fast films or CCD’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ery good for lunar, planetary and binary star observing or photograph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osed tube design reduces image degrading air current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st are extremely compact and portabl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rge apertures at reasonable prices and less expensive than equivalent aperture refractor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chmidtt-Casseg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chmidtt-Cassegra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s with earth-based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atmosphere reflects certain waveleng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-rays, gamma rays and most UV light is not transmitted by our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atmosphere blurs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nding of light by the atmosphere depends on the temperature of the “air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inkling” (shimmering)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pollu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? Put the telescope in sp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blems with earth-based telescop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rth’s atmosphere reflects certain wavelength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x-rays, gamma rays and most UV light is not transmitted by our atmosphe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rth’s atmosphere blurs imag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bending of light by the atmosphere depends on the temperature of the “air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winkling” (shimmering) eff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pollution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ution? Put the telescope in spac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ttp://imagine.gsfc.nasa.gov/docs/science/know_l1/emspectrum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ttp://imagine.gsfc.nasa.gov/docs/science/know_l1/emspectrum.ht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advantages of space-based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nsive to launch and main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icult to rep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life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sadvantages of space-based telescop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pensive to launch and mainta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fficult to repai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w lifeti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of space-based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bble Space Tele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times better re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see fainter o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dra X-ray Observ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ton Gamma-Ray Observ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ples of space-based telescop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ubble Space Telesco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 times better resolu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n see fainter objec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andra X-ray Observato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mpton Gamma-Ray Observato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apt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lescop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apter 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know the general types of telescopes and the advantages and disadvantages of each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know the primary parts and functions of each part of a telesco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know the importance of the diameter of the objective and to know how the magnification of a telescope is related to the focal lengths of the objective and eyepie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know the advantages and disadvantages of earth and space-based telesco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jectiv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know the general types of telescopes and the advantages and disadvantages of each on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know the primary parts and functions of each part of a telescop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know the importance of the diameter of the objective and to know how the magnification of a telescope is related to the focal lengths of the objective and eyepiec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know the advantages and disadvantages of earth and space-based telescop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lileo Galilei (1564-1642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alileo Galilei (1564-164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nted by Dutch lens maker in 16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ileo: small 30X scop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ed the moon and “began” the modern age of Astronomy where measurement was more important than philoso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isto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vented by Dutch lens maker in 160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lileo: small 30X scop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served the moon and “began” the modern age of Astronomy where measurement was more important than philosoph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orbiting Jupi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s of Ve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aters on the mo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ileo noti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as strong evidence that Copernicus was right although Galileo wasn’t willing to die for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ons orbiting Jupi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ases of Ven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aters on the mo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nspo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lileo notic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was strong evidence that Copernicus was right although Galileo wasn’t willing to die for i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 telescope 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thers light through the objective (mirror or le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ger is better because it gathers more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ility to see faint objects increases proportionally with the square of the radius of the obj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s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ewed through an eyepiece (changing the eyepiece changes the magnific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ication is the ratio of the focal length of the objective to the focal length of the eyepi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w a telescope wor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thers light through the objective (mirror or len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igger is better because it gathers more l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ility to see faint objects increases proportionally with the square of the radius of the objecti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cuses l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iewed through an eyepiece (changing the eyepiece changes the magnification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gnification is the ratio of the focal length of the objective to the focal length of the eyepie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types of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racting (objective is a le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ing (objective is a mirr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ton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seg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dioptr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mirrors and len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midt-Casseg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sutov-Casseg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ral types of telescop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fracting (objective is a len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flecting (objective is a mirror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wtoni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ssegra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adioptr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ses mirrors and len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chmidt-Cassegra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ksutov-Cassegra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AEBB-B02B-49ED-B3BC-C7361ABBF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1964-561D-431D-A543-7A0760973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ABBA-C118-4888-9009-EF6AE926B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D413-9C47-4D30-802A-C1B09DCCA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5D1DE-B6D5-480E-825F-043B17511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25908-6696-44EE-AE6C-5B2BCCF2B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D6F06-85D5-4A6A-BCAE-453BC862C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431BA-08DF-4E98-9D1C-648459AFC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BD927-A4C9-40E0-9C7F-2B4C67DAE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33EDF-6242-4F3B-975E-B3F34A7D9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522C4-83A6-4564-8F24-589D949E5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4E90-9CA4-403D-B503-7F0280188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EAE20-50BD-4E2A-8776-4E3B996CA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599FC-BCE1-42DE-86C3-052CF8AD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C6838-0765-4647-92E2-EE4312559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F8759-C139-4E42-AE0A-3C3A32592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955BE-933F-4DF3-8293-F19EDF630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42F8-7AD9-4865-8781-074BB38E6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F587-721F-4C0A-9803-F1E02475A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87BE-F0F7-4649-AC2B-716652A0D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FF0F-3DA1-4A2E-AF78-51181B826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308C-CDF0-4DD0-A794-8FF4F0BD9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80A8-4475-47CD-977B-CD0F7693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2D8C-32E7-4C25-BFFA-46F7BFB9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2600" y="49320"/>
            <a:ext cx="9204120" cy="6865920"/>
            <a:chOff x="-12600" y="49320"/>
            <a:chExt cx="9204120" cy="6865920"/>
          </a:xfrm>
        </p:grpSpPr>
        <p:grpSp>
          <p:nvGrpSpPr>
            <p:cNvPr id="1" name="Group 3"/>
            <p:cNvGrpSpPr/>
            <p:nvPr/>
          </p:nvGrpSpPr>
          <p:grpSpPr>
            <a:xfrm>
              <a:off x="-12600" y="1523880"/>
              <a:ext cx="9204120" cy="5391360"/>
              <a:chOff x="-12600" y="1523880"/>
              <a:chExt cx="9204120" cy="5391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-12600" y="1523880"/>
                <a:ext cx="9204120" cy="44197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33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-12600" y="5943600"/>
                <a:ext cx="9204120" cy="97164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00cc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322200" y="49320"/>
              <a:ext cx="6112080" cy="1077840"/>
              <a:chOff x="322200" y="49320"/>
              <a:chExt cx="6112080" cy="107784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322200" y="49320"/>
                <a:ext cx="6112080" cy="1074600"/>
              </a:xfrm>
              <a:custGeom>
                <a:avLst/>
                <a:gdLst/>
                <a:ahLst/>
                <a:rect l="l" t="t" r="r" b="b"/>
                <a:pathLst>
                  <a:path w="3850" h="677">
                    <a:moveTo>
                      <a:pt x="3630" y="274"/>
                    </a:moveTo>
                    <a:lnTo>
                      <a:pt x="3539" y="262"/>
                    </a:lnTo>
                    <a:lnTo>
                      <a:pt x="3795" y="231"/>
                    </a:lnTo>
                    <a:lnTo>
                      <a:pt x="3598" y="219"/>
                    </a:lnTo>
                    <a:lnTo>
                      <a:pt x="3718" y="200"/>
                    </a:lnTo>
                    <a:lnTo>
                      <a:pt x="3523" y="191"/>
                    </a:lnTo>
                    <a:lnTo>
                      <a:pt x="3845" y="147"/>
                    </a:lnTo>
                    <a:lnTo>
                      <a:pt x="3624" y="153"/>
                    </a:lnTo>
                    <a:lnTo>
                      <a:pt x="3760" y="123"/>
                    </a:lnTo>
                    <a:lnTo>
                      <a:pt x="3604" y="137"/>
                    </a:lnTo>
                    <a:lnTo>
                      <a:pt x="3849" y="84"/>
                    </a:lnTo>
                    <a:lnTo>
                      <a:pt x="3650" y="104"/>
                    </a:lnTo>
                    <a:lnTo>
                      <a:pt x="3779" y="60"/>
                    </a:lnTo>
                    <a:lnTo>
                      <a:pt x="3654" y="71"/>
                    </a:lnTo>
                    <a:lnTo>
                      <a:pt x="3833" y="20"/>
                    </a:lnTo>
                    <a:lnTo>
                      <a:pt x="3673" y="37"/>
                    </a:lnTo>
                    <a:lnTo>
                      <a:pt x="3771" y="0"/>
                    </a:lnTo>
                    <a:lnTo>
                      <a:pt x="3661" y="13"/>
                    </a:lnTo>
                    <a:lnTo>
                      <a:pt x="3524" y="31"/>
                    </a:lnTo>
                    <a:lnTo>
                      <a:pt x="3335" y="55"/>
                    </a:lnTo>
                    <a:lnTo>
                      <a:pt x="3028" y="97"/>
                    </a:lnTo>
                    <a:lnTo>
                      <a:pt x="2837" y="125"/>
                    </a:lnTo>
                    <a:lnTo>
                      <a:pt x="2643" y="151"/>
                    </a:lnTo>
                    <a:lnTo>
                      <a:pt x="2247" y="209"/>
                    </a:lnTo>
                    <a:lnTo>
                      <a:pt x="2067" y="237"/>
                    </a:lnTo>
                    <a:lnTo>
                      <a:pt x="1946" y="256"/>
                    </a:lnTo>
                    <a:lnTo>
                      <a:pt x="1748" y="286"/>
                    </a:lnTo>
                    <a:lnTo>
                      <a:pt x="1500" y="327"/>
                    </a:lnTo>
                    <a:lnTo>
                      <a:pt x="1188" y="379"/>
                    </a:lnTo>
                    <a:lnTo>
                      <a:pt x="995" y="413"/>
                    </a:lnTo>
                    <a:lnTo>
                      <a:pt x="669" y="475"/>
                    </a:lnTo>
                    <a:lnTo>
                      <a:pt x="498" y="508"/>
                    </a:lnTo>
                    <a:lnTo>
                      <a:pt x="206" y="577"/>
                    </a:lnTo>
                    <a:lnTo>
                      <a:pt x="113" y="604"/>
                    </a:lnTo>
                    <a:lnTo>
                      <a:pt x="61" y="622"/>
                    </a:lnTo>
                    <a:lnTo>
                      <a:pt x="18" y="642"/>
                    </a:lnTo>
                    <a:lnTo>
                      <a:pt x="4" y="653"/>
                    </a:lnTo>
                    <a:lnTo>
                      <a:pt x="0" y="663"/>
                    </a:lnTo>
                    <a:lnTo>
                      <a:pt x="5" y="670"/>
                    </a:lnTo>
                    <a:lnTo>
                      <a:pt x="18" y="676"/>
                    </a:lnTo>
                    <a:lnTo>
                      <a:pt x="42" y="675"/>
                    </a:lnTo>
                    <a:lnTo>
                      <a:pt x="69" y="660"/>
                    </a:lnTo>
                    <a:lnTo>
                      <a:pt x="84" y="650"/>
                    </a:lnTo>
                    <a:lnTo>
                      <a:pt x="108" y="641"/>
                    </a:lnTo>
                    <a:lnTo>
                      <a:pt x="138" y="630"/>
                    </a:lnTo>
                    <a:lnTo>
                      <a:pt x="186" y="619"/>
                    </a:lnTo>
                    <a:lnTo>
                      <a:pt x="227" y="609"/>
                    </a:lnTo>
                    <a:lnTo>
                      <a:pt x="289" y="597"/>
                    </a:lnTo>
                    <a:lnTo>
                      <a:pt x="359" y="584"/>
                    </a:lnTo>
                    <a:lnTo>
                      <a:pt x="453" y="569"/>
                    </a:lnTo>
                    <a:lnTo>
                      <a:pt x="557" y="553"/>
                    </a:lnTo>
                    <a:lnTo>
                      <a:pt x="673" y="537"/>
                    </a:lnTo>
                    <a:lnTo>
                      <a:pt x="872" y="513"/>
                    </a:lnTo>
                    <a:lnTo>
                      <a:pt x="1028" y="494"/>
                    </a:lnTo>
                    <a:lnTo>
                      <a:pt x="1353" y="459"/>
                    </a:lnTo>
                    <a:lnTo>
                      <a:pt x="1729" y="423"/>
                    </a:lnTo>
                    <a:lnTo>
                      <a:pt x="2039" y="393"/>
                    </a:lnTo>
                    <a:lnTo>
                      <a:pt x="2346" y="369"/>
                    </a:lnTo>
                    <a:lnTo>
                      <a:pt x="2586" y="349"/>
                    </a:lnTo>
                    <a:lnTo>
                      <a:pt x="2776" y="334"/>
                    </a:lnTo>
                    <a:lnTo>
                      <a:pt x="2985" y="321"/>
                    </a:lnTo>
                    <a:lnTo>
                      <a:pt x="3216" y="304"/>
                    </a:lnTo>
                    <a:lnTo>
                      <a:pt x="3399" y="291"/>
                    </a:lnTo>
                    <a:lnTo>
                      <a:pt x="3630" y="274"/>
                    </a:lnTo>
                  </a:path>
                </a:pathLst>
              </a:custGeom>
              <a:gradFill rotWithShape="0">
                <a:gsLst>
                  <a:gs pos="0">
                    <a:srgbClr val="ccecff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325440" y="887400"/>
                <a:ext cx="835200" cy="239760"/>
              </a:xfrm>
              <a:custGeom>
                <a:avLst/>
                <a:gdLst/>
                <a:ahLst/>
                <a:rect l="l" t="t" r="r" b="b"/>
                <a:pathLst>
                  <a:path w="526" h="151">
                    <a:moveTo>
                      <a:pt x="0" y="128"/>
                    </a:moveTo>
                    <a:lnTo>
                      <a:pt x="18" y="119"/>
                    </a:lnTo>
                    <a:lnTo>
                      <a:pt x="36" y="108"/>
                    </a:lnTo>
                    <a:lnTo>
                      <a:pt x="54" y="101"/>
                    </a:lnTo>
                    <a:lnTo>
                      <a:pt x="95" y="87"/>
                    </a:lnTo>
                    <a:lnTo>
                      <a:pt x="162" y="66"/>
                    </a:lnTo>
                    <a:lnTo>
                      <a:pt x="288" y="39"/>
                    </a:lnTo>
                    <a:lnTo>
                      <a:pt x="410" y="14"/>
                    </a:lnTo>
                    <a:lnTo>
                      <a:pt x="525" y="0"/>
                    </a:lnTo>
                    <a:lnTo>
                      <a:pt x="419" y="27"/>
                    </a:lnTo>
                    <a:lnTo>
                      <a:pt x="339" y="45"/>
                    </a:lnTo>
                    <a:lnTo>
                      <a:pt x="257" y="66"/>
                    </a:lnTo>
                    <a:lnTo>
                      <a:pt x="186" y="83"/>
                    </a:lnTo>
                    <a:lnTo>
                      <a:pt x="107" y="104"/>
                    </a:lnTo>
                    <a:lnTo>
                      <a:pt x="63" y="125"/>
                    </a:lnTo>
                    <a:lnTo>
                      <a:pt x="48" y="140"/>
                    </a:lnTo>
                    <a:lnTo>
                      <a:pt x="29" y="147"/>
                    </a:lnTo>
                    <a:lnTo>
                      <a:pt x="12" y="150"/>
                    </a:lnTo>
                    <a:lnTo>
                      <a:pt x="5" y="146"/>
                    </a:lnTo>
                    <a:lnTo>
                      <a:pt x="0" y="140"/>
                    </a:lnTo>
                    <a:lnTo>
                      <a:pt x="0" y="128"/>
                    </a:lnTo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ccec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61A97-FB3C-40B6-A5BE-94E83966FCC3}" type="slidenum"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-12600" y="1808280"/>
            <a:ext cx="9204120" cy="5106960"/>
            <a:chOff x="-12600" y="1808280"/>
            <a:chExt cx="9204120" cy="5106960"/>
          </a:xfrm>
        </p:grpSpPr>
        <p:grpSp>
          <p:nvGrpSpPr>
            <p:cNvPr id="49" name="Group 3"/>
            <p:cNvGrpSpPr/>
            <p:nvPr/>
          </p:nvGrpSpPr>
          <p:grpSpPr>
            <a:xfrm>
              <a:off x="-12600" y="2927520"/>
              <a:ext cx="9204120" cy="3987720"/>
              <a:chOff x="-12600" y="2927520"/>
              <a:chExt cx="9204120" cy="398772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-12600" y="2927520"/>
                <a:ext cx="9204120" cy="32684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33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-12600" y="6195960"/>
                <a:ext cx="9204120" cy="71928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00cc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838080" y="1808280"/>
              <a:ext cx="8305920" cy="2106360"/>
              <a:chOff x="838080" y="1808280"/>
              <a:chExt cx="8305920" cy="2106360"/>
            </a:xfrm>
          </p:grpSpPr>
          <p:sp>
            <p:nvSpPr>
              <p:cNvPr id="53" name="Freeform 7"/>
              <p:cNvSpPr/>
              <p:nvPr/>
            </p:nvSpPr>
            <p:spPr>
              <a:xfrm>
                <a:off x="838080" y="1808280"/>
                <a:ext cx="8305920" cy="2101680"/>
              </a:xfrm>
              <a:custGeom>
                <a:avLst/>
                <a:gdLst/>
                <a:ahLst/>
                <a:rect l="l" t="t" r="r" b="b"/>
                <a:pathLst>
                  <a:path w="5232" h="1324">
                    <a:moveTo>
                      <a:pt x="4933" y="536"/>
                    </a:moveTo>
                    <a:lnTo>
                      <a:pt x="4809" y="512"/>
                    </a:lnTo>
                    <a:lnTo>
                      <a:pt x="5157" y="452"/>
                    </a:lnTo>
                    <a:lnTo>
                      <a:pt x="4889" y="428"/>
                    </a:lnTo>
                    <a:lnTo>
                      <a:pt x="5052" y="391"/>
                    </a:lnTo>
                    <a:lnTo>
                      <a:pt x="4787" y="373"/>
                    </a:lnTo>
                    <a:lnTo>
                      <a:pt x="5225" y="287"/>
                    </a:lnTo>
                    <a:lnTo>
                      <a:pt x="4925" y="299"/>
                    </a:lnTo>
                    <a:lnTo>
                      <a:pt x="5110" y="240"/>
                    </a:lnTo>
                    <a:lnTo>
                      <a:pt x="4898" y="268"/>
                    </a:lnTo>
                    <a:lnTo>
                      <a:pt x="5231" y="164"/>
                    </a:lnTo>
                    <a:lnTo>
                      <a:pt x="4960" y="203"/>
                    </a:lnTo>
                    <a:lnTo>
                      <a:pt x="5135" y="117"/>
                    </a:lnTo>
                    <a:lnTo>
                      <a:pt x="4965" y="138"/>
                    </a:lnTo>
                    <a:lnTo>
                      <a:pt x="5209" y="39"/>
                    </a:lnTo>
                    <a:lnTo>
                      <a:pt x="4991" y="72"/>
                    </a:lnTo>
                    <a:lnTo>
                      <a:pt x="5124" y="0"/>
                    </a:lnTo>
                    <a:lnTo>
                      <a:pt x="4975" y="25"/>
                    </a:lnTo>
                    <a:lnTo>
                      <a:pt x="4789" y="60"/>
                    </a:lnTo>
                    <a:lnTo>
                      <a:pt x="4532" y="107"/>
                    </a:lnTo>
                    <a:lnTo>
                      <a:pt x="4115" y="189"/>
                    </a:lnTo>
                    <a:lnTo>
                      <a:pt x="3855" y="244"/>
                    </a:lnTo>
                    <a:lnTo>
                      <a:pt x="3591" y="295"/>
                    </a:lnTo>
                    <a:lnTo>
                      <a:pt x="3053" y="409"/>
                    </a:lnTo>
                    <a:lnTo>
                      <a:pt x="2809" y="463"/>
                    </a:lnTo>
                    <a:lnTo>
                      <a:pt x="2644" y="501"/>
                    </a:lnTo>
                    <a:lnTo>
                      <a:pt x="2375" y="559"/>
                    </a:lnTo>
                    <a:lnTo>
                      <a:pt x="2038" y="639"/>
                    </a:lnTo>
                    <a:lnTo>
                      <a:pt x="1614" y="741"/>
                    </a:lnTo>
                    <a:lnTo>
                      <a:pt x="1352" y="808"/>
                    </a:lnTo>
                    <a:lnTo>
                      <a:pt x="909" y="929"/>
                    </a:lnTo>
                    <a:lnTo>
                      <a:pt x="676" y="994"/>
                    </a:lnTo>
                    <a:lnTo>
                      <a:pt x="279" y="1129"/>
                    </a:lnTo>
                    <a:lnTo>
                      <a:pt x="153" y="1182"/>
                    </a:lnTo>
                    <a:lnTo>
                      <a:pt x="82" y="1217"/>
                    </a:lnTo>
                    <a:lnTo>
                      <a:pt x="24" y="1256"/>
                    </a:lnTo>
                    <a:lnTo>
                      <a:pt x="5" y="1277"/>
                    </a:lnTo>
                    <a:lnTo>
                      <a:pt x="0" y="1297"/>
                    </a:lnTo>
                    <a:lnTo>
                      <a:pt x="6" y="1311"/>
                    </a:lnTo>
                    <a:lnTo>
                      <a:pt x="24" y="1323"/>
                    </a:lnTo>
                    <a:lnTo>
                      <a:pt x="57" y="1321"/>
                    </a:lnTo>
                    <a:lnTo>
                      <a:pt x="93" y="1291"/>
                    </a:lnTo>
                    <a:lnTo>
                      <a:pt x="114" y="1272"/>
                    </a:lnTo>
                    <a:lnTo>
                      <a:pt x="146" y="1254"/>
                    </a:lnTo>
                    <a:lnTo>
                      <a:pt x="187" y="1232"/>
                    </a:lnTo>
                    <a:lnTo>
                      <a:pt x="252" y="1211"/>
                    </a:lnTo>
                    <a:lnTo>
                      <a:pt x="308" y="1191"/>
                    </a:lnTo>
                    <a:lnTo>
                      <a:pt x="392" y="1168"/>
                    </a:lnTo>
                    <a:lnTo>
                      <a:pt x="487" y="1142"/>
                    </a:lnTo>
                    <a:lnTo>
                      <a:pt x="615" y="1113"/>
                    </a:lnTo>
                    <a:lnTo>
                      <a:pt x="756" y="1082"/>
                    </a:lnTo>
                    <a:lnTo>
                      <a:pt x="914" y="1050"/>
                    </a:lnTo>
                    <a:lnTo>
                      <a:pt x="1185" y="1003"/>
                    </a:lnTo>
                    <a:lnTo>
                      <a:pt x="1397" y="966"/>
                    </a:lnTo>
                    <a:lnTo>
                      <a:pt x="1838" y="898"/>
                    </a:lnTo>
                    <a:lnTo>
                      <a:pt x="2349" y="827"/>
                    </a:lnTo>
                    <a:lnTo>
                      <a:pt x="2771" y="769"/>
                    </a:lnTo>
                    <a:lnTo>
                      <a:pt x="3188" y="722"/>
                    </a:lnTo>
                    <a:lnTo>
                      <a:pt x="3514" y="683"/>
                    </a:lnTo>
                    <a:lnTo>
                      <a:pt x="3772" y="653"/>
                    </a:lnTo>
                    <a:lnTo>
                      <a:pt x="4056" y="628"/>
                    </a:lnTo>
                    <a:lnTo>
                      <a:pt x="4370" y="594"/>
                    </a:lnTo>
                    <a:lnTo>
                      <a:pt x="4619" y="569"/>
                    </a:lnTo>
                    <a:lnTo>
                      <a:pt x="4933" y="536"/>
                    </a:lnTo>
                  </a:path>
                </a:pathLst>
              </a:custGeom>
              <a:gradFill rotWithShape="0">
                <a:gsLst>
                  <a:gs pos="0">
                    <a:srgbClr val="ccecff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Freeform 8"/>
              <p:cNvSpPr/>
              <p:nvPr/>
            </p:nvSpPr>
            <p:spPr>
              <a:xfrm>
                <a:off x="843120" y="3446640"/>
                <a:ext cx="1133280" cy="468000"/>
              </a:xfrm>
              <a:custGeom>
                <a:avLst/>
                <a:gdLst/>
                <a:ahLst/>
                <a:rect l="l" t="t" r="r" b="b"/>
                <a:pathLst>
                  <a:path w="714" h="295">
                    <a:moveTo>
                      <a:pt x="0" y="250"/>
                    </a:moveTo>
                    <a:lnTo>
                      <a:pt x="24" y="233"/>
                    </a:lnTo>
                    <a:lnTo>
                      <a:pt x="48" y="211"/>
                    </a:lnTo>
                    <a:lnTo>
                      <a:pt x="73" y="197"/>
                    </a:lnTo>
                    <a:lnTo>
                      <a:pt x="129" y="170"/>
                    </a:lnTo>
                    <a:lnTo>
                      <a:pt x="220" y="129"/>
                    </a:lnTo>
                    <a:lnTo>
                      <a:pt x="391" y="76"/>
                    </a:lnTo>
                    <a:lnTo>
                      <a:pt x="556" y="27"/>
                    </a:lnTo>
                    <a:lnTo>
                      <a:pt x="713" y="0"/>
                    </a:lnTo>
                    <a:lnTo>
                      <a:pt x="569" y="52"/>
                    </a:lnTo>
                    <a:lnTo>
                      <a:pt x="460" y="88"/>
                    </a:lnTo>
                    <a:lnTo>
                      <a:pt x="349" y="129"/>
                    </a:lnTo>
                    <a:lnTo>
                      <a:pt x="252" y="162"/>
                    </a:lnTo>
                    <a:lnTo>
                      <a:pt x="145" y="203"/>
                    </a:lnTo>
                    <a:lnTo>
                      <a:pt x="85" y="245"/>
                    </a:lnTo>
                    <a:lnTo>
                      <a:pt x="65" y="274"/>
                    </a:lnTo>
                    <a:lnTo>
                      <a:pt x="39" y="288"/>
                    </a:lnTo>
                    <a:lnTo>
                      <a:pt x="16" y="294"/>
                    </a:lnTo>
                    <a:lnTo>
                      <a:pt x="6" y="286"/>
                    </a:lnTo>
                    <a:lnTo>
                      <a:pt x="0" y="274"/>
                    </a:lnTo>
                    <a:lnTo>
                      <a:pt x="0" y="250"/>
                    </a:lnTo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ccec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93D6B-688B-4C9C-9645-C1A33B781976}" type="slidenum"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1590840" y="0"/>
            <a:ext cx="60894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Нижний колонтитул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C:\share\101\images\dia_refract.jpg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0101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Refractors (glass lens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Нижний колонтитул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dvantages and Disadvantag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sy to use and reli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cellent for lunar, planetary and binary star observing especially in larger apertur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gh contrast images with no secondary mirror or diagonal obstruc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aled optical tube reduces image degrading air currents and protects optic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re expensive per inch of apertur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avier, longer and bulkier than equivalent aperture Newtonians and catadioptric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mall aper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ss suited for viewing small and faint deep sky objec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lor aberration due to colors of light bending different amou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Нижний колонтитул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Reflectors (mirror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0" name="Picture 3" descr="C:\share\101\images\dia_reflect.jpg"/>
          <p:cNvPicPr/>
          <p:nvPr/>
        </p:nvPicPr>
        <p:blipFill>
          <a:blip r:embed="rId1"/>
          <a:stretch/>
        </p:blipFill>
        <p:spPr>
          <a:xfrm>
            <a:off x="0" y="1077840"/>
            <a:ext cx="9144000" cy="4700520"/>
          </a:xfrm>
          <a:prstGeom prst="rect">
            <a:avLst/>
          </a:prstGeom>
          <a:ln w="0">
            <a:noFill/>
          </a:ln>
        </p:spPr>
      </p:pic>
      <p:sp>
        <p:nvSpPr>
          <p:cNvPr id="141" name="Нижний колонтитул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dvantages and disadvantag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west cost per inch of aper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asonably compact and portable up to focal lengths of 1000m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cellent for faint deep sky objects such as remote galaxies, nebulae and star cluste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asonably good for lunar and planetary wor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w in optical aberratio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pen optical tube design allows image-degrading air currents and air contamina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re frag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rge apertures (over 8") are bulky, heavy and tend to be expensiv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light light loss due to secondary obstruction when compared with refracto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Нижний колонтитул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assegrain reflecto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7" name="Picture 6" descr="_x0017_cassegrain-detailed.gif                                        0007E5A8_x000c_Macintosh HD                   B8AA18DE:"/>
          <p:cNvPicPr/>
          <p:nvPr/>
        </p:nvPicPr>
        <p:blipFill>
          <a:blip r:embed="rId1"/>
          <a:stretch/>
        </p:blipFill>
        <p:spPr>
          <a:xfrm>
            <a:off x="1676520" y="2133720"/>
            <a:ext cx="5586120" cy="3122640"/>
          </a:xfrm>
          <a:prstGeom prst="rect">
            <a:avLst/>
          </a:prstGeom>
          <a:ln w="0">
            <a:noFill/>
          </a:ln>
        </p:spPr>
      </p:pic>
      <p:sp>
        <p:nvSpPr>
          <p:cNvPr id="148" name="Нижний колонтитул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atadioptric telescop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st all-around, all-purpose telescope design. Combines the optical advantages of both lenses and mirrors while canceling their disadvantag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arp images over a wide fiel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cellent for deep sky observing or astrophotography with fast films or CCD’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ery good for lunar, planetary and binary star observing or photograph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osed tube design reduces image degrading air curr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st are extremely compact and porta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rge apertures at reasonable prices and less expensive than equivalent aperture refracto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Нижний колонтитул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chmidtt-Cassegrai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3" name="Picture 4" descr="_x0019_s-cassegrain-detailed.gif                                      0007E5A8_x000c_Macintosh HD                   B8AA18DE:"/>
          <p:cNvPicPr/>
          <p:nvPr/>
        </p:nvPicPr>
        <p:blipFill>
          <a:blip r:embed="rId1"/>
          <a:stretch/>
        </p:blipFill>
        <p:spPr>
          <a:xfrm>
            <a:off x="1523880" y="2133720"/>
            <a:ext cx="5853240" cy="3238560"/>
          </a:xfrm>
          <a:prstGeom prst="rect">
            <a:avLst/>
          </a:prstGeom>
          <a:ln w="0">
            <a:noFill/>
          </a:ln>
        </p:spPr>
      </p:pic>
      <p:sp>
        <p:nvSpPr>
          <p:cNvPr id="154" name="Нижний колонтитул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blems with earth-based telescop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rth’s atmosphere reflects certain wavelength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-rays, gamma rays and most UV light is not transmitted by our atmosph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rth’s atmosphere blurs ima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bending of light by the atmosphere depends on the temperature of the “air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winkling” (shimmering) eff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ght pollution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lution? Put the telescope in spa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Нижний колонтитул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8534520" cy="54118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"/>
          <p:cNvSpPr/>
          <p:nvPr/>
        </p:nvSpPr>
        <p:spPr>
          <a:xfrm>
            <a:off x="296280" y="5867280"/>
            <a:ext cx="86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imagine.gsfc.nasa.gov/docs/science/know_l1/emspectrum.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Нижний колонтитул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isadvantages of space-based telescop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ensive to launch and maint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fficult to repai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w life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Нижний колонтитул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533520" y="0"/>
            <a:ext cx="8305560" cy="6692760"/>
          </a:xfrm>
          <a:prstGeom prst="rect">
            <a:avLst/>
          </a:prstGeom>
          <a:ln w="0">
            <a:noFill/>
          </a:ln>
        </p:spPr>
      </p:pic>
      <p:sp>
        <p:nvSpPr>
          <p:cNvPr id="106" name="Нижний колонтитул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xamples of space-based telescop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ubble Space Telesco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 times better resol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see fainter ob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ndra X-ray Observat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ton Gamma-Ray Observat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Нижний колонтитул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133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elescop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pter 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Нижний колонтитул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know the general types of telescopes and the advantages and disadvantages of each o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know the primary parts and functions of each part of a telescop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know the importance of the diameter of the objective and to know how the magnification of a telescope is related to the focal lengths of the objective and eyepie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know the advantages and disadvantages of earth and space-based telescop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Нижний колонтитул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C:\share\101\galileo-portrait.jpg"/>
          <p:cNvPicPr/>
          <p:nvPr/>
        </p:nvPicPr>
        <p:blipFill>
          <a:blip r:embed="rId1"/>
          <a:stretch/>
        </p:blipFill>
        <p:spPr>
          <a:xfrm>
            <a:off x="1671480" y="0"/>
            <a:ext cx="57978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3"/>
          <p:cNvSpPr/>
          <p:nvPr/>
        </p:nvSpPr>
        <p:spPr>
          <a:xfrm>
            <a:off x="1291320" y="6095880"/>
            <a:ext cx="683892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alileo Galilei (1564-1642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Нижний колонтитул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isto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4267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vented by Dutch lens maker in 160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lileo: small 30X scop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bserved the moon and “began” the modern age of Astronomy where measurement was more important than philosoph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8" name="Object 5"/>
          <p:cNvGraphicFramePr/>
          <p:nvPr/>
        </p:nvGraphicFramePr>
        <p:xfrm>
          <a:off x="2190600" y="2133720"/>
          <a:ext cx="476100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0600" y="2133720"/>
                    <a:ext cx="476100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Нижний колонтитул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C:\AtHome\phys101\Lectures-F97\images\moon1.jpg"/>
          <p:cNvPicPr/>
          <p:nvPr/>
        </p:nvPicPr>
        <p:blipFill>
          <a:blip r:embed="rId1"/>
          <a:stretch/>
        </p:blipFill>
        <p:spPr>
          <a:xfrm>
            <a:off x="2440080" y="0"/>
            <a:ext cx="42606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-3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ons orbiting Jupi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ases of Ven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aters on the mo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nspo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5410080" y="151920"/>
            <a:ext cx="37339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Galileo notice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228600" y="4724280"/>
            <a:ext cx="3505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was strong evidence that Copernicus was right although Galileo wasn’t willing to die for i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Нижний колонтитул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ow a telescope work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thers light through the objective (mirror or len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igger is better because it gathers more l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bility to see faint objects increases proportionally with the square of the radius of the objec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cuses l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ewed through an eyepiece (changing the eyepiece changes the magnific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gnification is the ratio of the focal length of the objective to the focal length of the eyepie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Нижний колонтитул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General types of telescop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racting (objective is a len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lecting (objective is a mirro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toni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ssegr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tadioptr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s mirrors and len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hmidt-Cassegr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sutov-Cassegr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Нижний колонтитул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LEGION</dc:creator>
  <dc:description/>
  <dc:language>en-US</dc:language>
  <cp:lastModifiedBy>LEGION</cp:lastModifiedBy>
  <cp:lastPrinted>1998-08-31T16:49:54Z</cp:lastPrinted>
  <dcterms:modified xsi:type="dcterms:W3CDTF">2018-03-22T10:31:29Z</dcterms:modified>
  <cp:revision>216</cp:revision>
  <dc:subject/>
  <dc:title>PowerPoint Presentation  -  No Slide Title</dc:title>
</cp:coreProperties>
</file>