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5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39.png" ContentType="image/png"/>
  <Override PartName="/ppt/media/image41.png" ContentType="image/png"/>
  <Override PartName="/ppt/media/image42.jpeg" ContentType="image/jpeg"/>
  <Override PartName="/ppt/media/image19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45.jpeg" ContentType="image/jpeg"/>
  <Override PartName="/ppt/media/image46.jpeg" ContentType="image/jpeg"/>
  <Override PartName="/ppt/media/image35.png" ContentType="image/png"/>
  <Override PartName="/ppt/media/image5.png" ContentType="image/png"/>
  <Override PartName="/ppt/media/image43.jpeg" ContentType="image/jpeg"/>
  <Override PartName="/ppt/media/image11.png" ContentType="image/png"/>
  <Override PartName="/ppt/media/image9.jpeg" ContentType="image/jpe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010F-9E75-427A-BA38-714A724510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the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or all the colors of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was a 10 meter segmented telescope – and the current larg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ddition of  Keck II (another 10 meter telescope) makes a very large telescope a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was a 10 meter segmented telescope – and the current larges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addition of  Keck II (another 10 meter telescope) makes a very large telescope array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eper the curve, the closer in the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have farther focal points, Radio telescopes have shorter 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deeper the curve, the closer in the focal poin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have farther focal points, Radio telescopes have shorter one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a shor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, they pu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econdary mirror 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nt to reflect it bac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ma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rr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large telescop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is desig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 make a short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lescope, they pu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secondary mirror in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nt to reflect it back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rough the main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irror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ost large telescope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 this desig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rschel’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wton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y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erschel’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Newtonia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tyle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inch Schmidt at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for tak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s of so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bject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nd com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4 inch Schmidt at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d for taking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mages of sola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ystem object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lanets and comets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 are on Mountain t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ay from the lights of the cities, above the clouds, above the weathe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 are in Valle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ing the radio noise made by cities, cars, and radio st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and Gamma ray telescopes ar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 and Gamma rays can’t get through the atmosp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 are on Mountain top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way from the lights of the cities, above the clouds, above the weather,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 are in Valley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voiding the radio noise made by cities, cars, and radio station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 and Gamma ray telescopes are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X-rays and Gamma rays can’t get through the atmosphere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ing one kind of in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adio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eing one kind of invisible ligh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Grote Reb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at NRAO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ba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Radio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Grote Rebe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w at NRAO-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eenban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irst Radio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Ear - OS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ismantl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ed by John Kra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Big Ear - OSU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(dismantled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ed by John Kra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drell Bank - U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odrell Bank - UK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to the telescop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ileo used to see the mo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Jupiter, the moo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Ve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 Lens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imilar to the telescop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lileo used to see the moon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f Jupiter, the moon,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d Ven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es  Lense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RAO – Greenbank, W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0 foot telescope us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achers and a few other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Including Mr.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RAO – Greenbank, WV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40 foot telescope us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achers and a few other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     Including Mr.B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0 M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100 M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ermany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’s Largest - Arecib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orld’s Largest - Arecibo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LA – Socorro, N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VLA – Socorro, N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and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Ground and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ptical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sible and Infrared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n the Ground and in Spac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rkes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inch refra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erkes – 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40 inch refract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ooker – Mt Wil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ooker – Mt Wilson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Hale – Mt. Palo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200 inch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solid glass</a:t>
            </a:r>
            <a:br>
              <a:rPr sz="1200"/>
            </a:b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Hale – Mt. Paloma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200 inch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5 meter</a:t>
            </a:r>
            <a:br>
              <a:rPr sz="1200"/>
            </a:b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solid glass</a:t>
            </a:r>
            <a:br>
              <a:rPr sz="1200"/>
            </a:b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ck I and II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Keck I and II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ileo’s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lileo’s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baru –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ubaru –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HST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stronomy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A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nfraRed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stronomy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Satellit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TF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IRTF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it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Next genera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IR telescope i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itz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Next generatio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IR telescope in</a:t>
            </a:r>
            <a:br>
              <a:rPr sz="1200"/>
            </a:b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spac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 and Sub-millimeter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 and Sub-millimeter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CMT – Mauna K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am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erk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xwel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 sub-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lli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CMT – Mauna Ke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James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lerk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axwell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and sub-</a:t>
            </a:r>
            <a:br>
              <a:rPr sz="1200"/>
            </a:b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millime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ly High Energy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ing for Cherenkov Radiation in the atmosphere to prove gamma rays are coming 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amma 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ally High Energy!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Looking for Cherenkov Radiation in the atmosphere to prove gamma rays are coming in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mmam - Haleak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Gammam - Haleakala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hipple – Gamma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hipple – Gamma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 foot long refracting telescope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ilt by Johannes Hevel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150 foot long refracting telescope!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by Johannes Heveliu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ndra X-Ray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Chandra X-Ray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-Ray Telescope (HEA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X-Ray Telescope (HEAO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zing Incidence X-Ray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azing Incidence X-Ray Mirro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interesting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Other interesting Telescope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itt Peak – Solar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Kitt Peak – Solar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anda – Looking through the Earth for Neutrin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manda – Looking through the Earth for Neutrinos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Bef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Befor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 foot – NRAO -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300 foot – NRAO - Aft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ld Refractor with guide 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n old Refractor with guide 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oh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d Brattstr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isclaimer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loha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 put together these power points for use in my science classes.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may use them in your classes.</a:t>
            </a:r>
            <a:br>
              <a:rPr sz="1200"/>
            </a:b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d Brattstr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O…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d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iginally designed wit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econdary mi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eyepiece. You jus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your eye near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and looked i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pieces and camera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it all easier to 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signed by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saac Newton –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iginally designed with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 secondary mirror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r eyepiece. You just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ut your eye near the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op and looked in!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Eyepieces and cameras</a:t>
            </a:r>
            <a:br>
              <a:rPr sz="1200"/>
            </a:b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made it all easier to us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arly Newtonian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Early Newtonian telescope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ould make a glass mirror a LOT bigger than 40 inches – and it didn’t distort th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5 meter mirror (the Hale telescope at Mt. Palomar) was the largest for a long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ly, the largest Single Piece of glass telescope is 8 meters (Subaru and oth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You could make a glass mirror a LOT bigger than 40 inches – and it didn’t distort the light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 5 meter mirror (the Hale telescope at Mt. Palomar) was the largest for a long time.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urrently, the largest Single Piece of glass telescope is 8 meters (Subaru and others)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1F292-A3E7-4B41-B5D0-1B5C54CF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FB7B0-0C99-4DBA-BA09-B55A0BAD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2FD3-2704-4181-9704-D169924A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BBE1E-26E1-475D-AA47-62E8FD41D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0BDF-AA35-4447-B1DA-A206B846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2C8E-0F07-4DCD-AC84-A9585EEC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49C8-1CC1-4C9D-B503-7EA4FEC0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0C29-69DE-478C-9B60-B6FA96E1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FE40-ED19-4F83-B7D0-843A533A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53BA-FABD-49F6-BFDC-BF55885F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1126-8157-49CD-B36E-796D4DA5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CB42-4ED3-4897-A768-1F06E6401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055D-F267-4DBD-A29D-EE3F24BB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5C32-AFDD-48CF-9300-1965F929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D8BD-4FC9-4D8F-AA3D-B78BCE90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F737-B83C-49EF-9111-991F6AB4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5400-4F18-448D-8A7F-14BA2BF3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8B2C-1B9B-4CE9-BD4C-727DCB67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6B42-112B-4A81-84D5-64FAA52D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789E-BC20-4E9B-81C7-5FBA8BDB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8DB11-7328-4C9B-A064-E82AF8E5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B64A3-CF0B-40A5-B6C2-7CE3B712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27F3-D3B9-4659-A25F-9972D256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0891F-8DEB-4043-8952-09D35507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DD88-C116-480D-9EA9-14EBE8228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95AB-2AF0-4080-939D-13040674F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elescop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r all the colors of ligh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 still unsatisfied – and came up with the idea of putting together a number of carefully made mirror segments, controlled by computer to stay extremely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ck I was a 10 meter segmented telescope – and the current larg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dition of  Keck II (another 10 meter telescope) makes a very large telescope arr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eper the curve, the closer in the focal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cal telescopes have farther focal points, Radio telescopes have shorter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para-tel"/>
          <p:cNvPicPr/>
          <p:nvPr/>
        </p:nvPicPr>
        <p:blipFill>
          <a:blip r:embed="rId1"/>
          <a:stretch/>
        </p:blipFill>
        <p:spPr>
          <a:xfrm>
            <a:off x="0" y="0"/>
            <a:ext cx="453708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ke a shor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, they pu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condary mirror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nt to reflect it bac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 the mai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large telescop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is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Cass-Tele"/>
          <p:cNvPicPr/>
          <p:nvPr/>
        </p:nvPicPr>
        <p:blipFill>
          <a:blip r:embed="rId1"/>
          <a:stretch/>
        </p:blipFill>
        <p:spPr>
          <a:xfrm>
            <a:off x="4637160" y="0"/>
            <a:ext cx="450684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schel’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ia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y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hershel-telescope"/>
          <p:cNvPicPr/>
          <p:nvPr/>
        </p:nvPicPr>
        <p:blipFill>
          <a:blip r:embed="rId1"/>
          <a:stretch/>
        </p:blipFill>
        <p:spPr>
          <a:xfrm>
            <a:off x="2948040" y="304920"/>
            <a:ext cx="6195960" cy="6372000"/>
          </a:xfrm>
          <a:prstGeom prst="rect">
            <a:avLst/>
          </a:prstGeom>
          <a:ln w="0">
            <a:noFill/>
          </a:ln>
        </p:spPr>
      </p:pic>
      <p:sp>
        <p:nvSpPr>
          <p:cNvPr id="16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4 inch Schmidt at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for tak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s of sola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objects –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s and com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hoemakers"/>
          <p:cNvPicPr/>
          <p:nvPr/>
        </p:nvPicPr>
        <p:blipFill>
          <a:blip r:embed="rId1"/>
          <a:stretch/>
        </p:blipFill>
        <p:spPr>
          <a:xfrm>
            <a:off x="4857840" y="1600200"/>
            <a:ext cx="3828960" cy="4976640"/>
          </a:xfrm>
          <a:prstGeom prst="rect">
            <a:avLst/>
          </a:prstGeom>
          <a:ln w="0">
            <a:noFill/>
          </a:ln>
        </p:spPr>
      </p:pic>
      <p:sp>
        <p:nvSpPr>
          <p:cNvPr id="1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ptical Telescopes are on Mountain 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y from the lights of the cities, above the clouds, above the weat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dio Telescopes are in Vall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the radio noise made by cities, cars, and radio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-ray and Gamma ray telescopes are in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s and Gamma rays can’t get through the atmosp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dio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ing one kind of invisible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Grote Reb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t NRAO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n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grote2min"/>
          <p:cNvPicPr/>
          <p:nvPr/>
        </p:nvPicPr>
        <p:blipFill>
          <a:blip r:embed="rId1"/>
          <a:stretch/>
        </p:blipFill>
        <p:spPr>
          <a:xfrm>
            <a:off x="4492800" y="533520"/>
            <a:ext cx="5032080" cy="6324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grote6min"/>
          <p:cNvPicPr/>
          <p:nvPr/>
        </p:nvPicPr>
        <p:blipFill>
          <a:blip r:embed="rId2"/>
          <a:stretch/>
        </p:blipFill>
        <p:spPr>
          <a:xfrm>
            <a:off x="-457200" y="3151080"/>
            <a:ext cx="5410080" cy="37832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990360" y="4568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rst Radio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Ear - OSU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smantl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John Kr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bigearhp[1]"/>
          <p:cNvPicPr/>
          <p:nvPr/>
        </p:nvPicPr>
        <p:blipFill>
          <a:blip r:embed="rId1"/>
          <a:stretch/>
        </p:blipFill>
        <p:spPr>
          <a:xfrm>
            <a:off x="0" y="2700360"/>
            <a:ext cx="9601200" cy="4233960"/>
          </a:xfrm>
          <a:prstGeom prst="rect">
            <a:avLst/>
          </a:prstGeom>
          <a:ln w="0">
            <a:noFill/>
          </a:ln>
        </p:spPr>
      </p:pic>
      <p:sp>
        <p:nvSpPr>
          <p:cNvPr id="18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drell Bank -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Jodrell_Bank"/>
          <p:cNvPicPr/>
          <p:nvPr/>
        </p:nvPicPr>
        <p:blipFill>
          <a:blip r:embed="rId1"/>
          <a:stretch/>
        </p:blipFill>
        <p:spPr>
          <a:xfrm>
            <a:off x="914400" y="1274760"/>
            <a:ext cx="7467480" cy="5583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efr-Tele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70102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the telesco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lileo used to see the mo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Jupiter, the mo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V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 Lens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RAO – Greenbank, W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radiotel[1]"/>
          <p:cNvPicPr/>
          <p:nvPr/>
        </p:nvPicPr>
        <p:blipFill>
          <a:blip r:embed="rId1"/>
          <a:stretch/>
        </p:blipFill>
        <p:spPr>
          <a:xfrm>
            <a:off x="4078440" y="1219320"/>
            <a:ext cx="4684680" cy="5562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40page[1]"/>
          <p:cNvPicPr/>
          <p:nvPr/>
        </p:nvPicPr>
        <p:blipFill>
          <a:blip r:embed="rId2"/>
          <a:stretch/>
        </p:blipFill>
        <p:spPr>
          <a:xfrm>
            <a:off x="304920" y="1905120"/>
            <a:ext cx="3047760" cy="3657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63880" y="5683320"/>
            <a:ext cx="323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0 foot telescope used b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and a few othe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Including Mr.B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100m_dish[1]"/>
          <p:cNvPicPr/>
          <p:nvPr/>
        </p:nvPicPr>
        <p:blipFill>
          <a:blip r:embed="rId1"/>
          <a:stretch/>
        </p:blipFill>
        <p:spPr>
          <a:xfrm>
            <a:off x="2733840" y="0"/>
            <a:ext cx="6410160" cy="7162920"/>
          </a:xfrm>
          <a:prstGeom prst="rect">
            <a:avLst/>
          </a:prstGeom>
          <a:ln w="0">
            <a:noFill/>
          </a:ln>
        </p:spPr>
      </p:pic>
      <p:sp>
        <p:nvSpPr>
          <p:cNvPr id="1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ld’s Largest - Arecib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arecibo[1]"/>
          <p:cNvPicPr/>
          <p:nvPr/>
        </p:nvPicPr>
        <p:blipFill>
          <a:blip r:embed="rId1"/>
          <a:stretch/>
        </p:blipFill>
        <p:spPr>
          <a:xfrm>
            <a:off x="800280" y="1238400"/>
            <a:ext cx="7543800" cy="5619600"/>
          </a:xfrm>
          <a:prstGeom prst="rect">
            <a:avLst/>
          </a:prstGeom>
          <a:ln w="0">
            <a:noFill/>
          </a:ln>
        </p:spPr>
      </p:pic>
      <p:sp>
        <p:nvSpPr>
          <p:cNvPr id="20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 – Socorro, 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Socorro VLA"/>
          <p:cNvPicPr/>
          <p:nvPr/>
        </p:nvPicPr>
        <p:blipFill>
          <a:blip r:embed="rId1"/>
          <a:stretch/>
        </p:blipFill>
        <p:spPr>
          <a:xfrm>
            <a:off x="609480" y="1447920"/>
            <a:ext cx="8001000" cy="533376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ble and Infr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Ground and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rkes –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 inch refra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yerkes40[1]"/>
          <p:cNvPicPr/>
          <p:nvPr/>
        </p:nvPicPr>
        <p:blipFill>
          <a:blip r:embed="rId1"/>
          <a:stretch/>
        </p:blipFill>
        <p:spPr>
          <a:xfrm>
            <a:off x="276120" y="1981080"/>
            <a:ext cx="3305160" cy="4876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faculty_img11_lrg[1]"/>
          <p:cNvPicPr/>
          <p:nvPr/>
        </p:nvPicPr>
        <p:blipFill>
          <a:blip r:embed="rId2"/>
          <a:stretch/>
        </p:blipFill>
        <p:spPr>
          <a:xfrm>
            <a:off x="3943440" y="0"/>
            <a:ext cx="5200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ker – Mt Wil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hooker[1]"/>
          <p:cNvPicPr/>
          <p:nvPr/>
        </p:nvPicPr>
        <p:blipFill>
          <a:blip r:embed="rId1"/>
          <a:stretch/>
        </p:blipFill>
        <p:spPr>
          <a:xfrm>
            <a:off x="3129120" y="1592280"/>
            <a:ext cx="6014880" cy="3589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hooker[1]"/>
          <p:cNvPicPr/>
          <p:nvPr/>
        </p:nvPicPr>
        <p:blipFill>
          <a:blip r:embed="rId2"/>
          <a:srcRect l="4351" t="5102" r="4351" b="20392"/>
          <a:stretch/>
        </p:blipFill>
        <p:spPr>
          <a:xfrm>
            <a:off x="0" y="3581280"/>
            <a:ext cx="3733920" cy="259884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1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e – Mt. Palom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inc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met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glas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001[1]"/>
          <p:cNvPicPr/>
          <p:nvPr/>
        </p:nvPicPr>
        <p:blipFill>
          <a:blip r:embed="rId1"/>
          <a:stretch/>
        </p:blipFill>
        <p:spPr>
          <a:xfrm>
            <a:off x="3429000" y="1636560"/>
            <a:ext cx="5562720" cy="50691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ck I and II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distantkecks[1]"/>
          <p:cNvPicPr/>
          <p:nvPr/>
        </p:nvPicPr>
        <p:blipFill>
          <a:blip r:embed="rId1"/>
          <a:srcRect l="0" t="19555" r="0" b="0"/>
          <a:stretch/>
        </p:blipFill>
        <p:spPr>
          <a:xfrm>
            <a:off x="0" y="1893960"/>
            <a:ext cx="9144000" cy="4965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keck_litepath[1]"/>
          <p:cNvPicPr/>
          <p:nvPr/>
        </p:nvPicPr>
        <p:blipFill>
          <a:blip r:embed="rId1"/>
          <a:stretch/>
        </p:blipFill>
        <p:spPr>
          <a:xfrm>
            <a:off x="1219320" y="685800"/>
            <a:ext cx="6400800" cy="5800680"/>
          </a:xfrm>
          <a:prstGeom prst="rect">
            <a:avLst/>
          </a:prstGeom>
          <a:ln w="0">
            <a:noFill/>
          </a:ln>
        </p:spPr>
      </p:pic>
      <p:sp>
        <p:nvSpPr>
          <p:cNvPr id="2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ileo’s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galileoscopes[1]"/>
          <p:cNvPicPr/>
          <p:nvPr/>
        </p:nvPicPr>
        <p:blipFill>
          <a:blip r:embed="rId1"/>
          <a:stretch/>
        </p:blipFill>
        <p:spPr>
          <a:xfrm>
            <a:off x="1828800" y="2666880"/>
            <a:ext cx="7010280" cy="3872160"/>
          </a:xfrm>
          <a:prstGeom prst="rect">
            <a:avLst/>
          </a:prstGeom>
          <a:ln w="0">
            <a:noFill/>
          </a:ln>
        </p:spPr>
      </p:pic>
      <p:sp>
        <p:nvSpPr>
          <p:cNvPr id="12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baru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una K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m10m_subaru_tel_8m[1]"/>
          <p:cNvPicPr/>
          <p:nvPr/>
        </p:nvPicPr>
        <p:blipFill>
          <a:blip r:embed="rId1"/>
          <a:stretch/>
        </p:blipFill>
        <p:spPr>
          <a:xfrm>
            <a:off x="4172040" y="0"/>
            <a:ext cx="4971960" cy="7077240"/>
          </a:xfrm>
          <a:prstGeom prst="rect">
            <a:avLst/>
          </a:prstGeom>
          <a:ln w="0">
            <a:noFill/>
          </a:ln>
        </p:spPr>
      </p:pic>
      <p:sp>
        <p:nvSpPr>
          <p:cNvPr id="23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preview_hstlitho60[1]"/>
          <p:cNvPicPr/>
          <p:nvPr/>
        </p:nvPicPr>
        <p:blipFill>
          <a:blip r:embed="rId1"/>
          <a:stretch/>
        </p:blipFill>
        <p:spPr>
          <a:xfrm>
            <a:off x="380880" y="2743200"/>
            <a:ext cx="5156280" cy="3898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hst2[1]"/>
          <p:cNvPicPr/>
          <p:nvPr/>
        </p:nvPicPr>
        <p:blipFill>
          <a:blip r:embed="rId2"/>
          <a:stretch/>
        </p:blipFill>
        <p:spPr>
          <a:xfrm>
            <a:off x="4952880" y="380880"/>
            <a:ext cx="3915000" cy="400068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R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ronom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el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I08-24-IRAS[1]"/>
          <p:cNvPicPr/>
          <p:nvPr/>
        </p:nvPicPr>
        <p:blipFill>
          <a:blip r:embed="rId1"/>
          <a:srcRect l="0" t="3701" r="0" b="2467"/>
          <a:stretch/>
        </p:blipFill>
        <p:spPr>
          <a:xfrm>
            <a:off x="4038480" y="609480"/>
            <a:ext cx="4114800" cy="5791320"/>
          </a:xfrm>
          <a:prstGeom prst="rect">
            <a:avLst/>
          </a:prstGeom>
          <a:ln w="0">
            <a:noFill/>
          </a:ln>
        </p:spPr>
      </p:pic>
      <p:sp>
        <p:nvSpPr>
          <p:cNvPr id="2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RTF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IRTF"/>
          <p:cNvPicPr/>
          <p:nvPr/>
        </p:nvPicPr>
        <p:blipFill>
          <a:blip r:embed="rId1"/>
          <a:srcRect l="11828" t="0" r="5376" b="0"/>
          <a:stretch/>
        </p:blipFill>
        <p:spPr>
          <a:xfrm>
            <a:off x="0" y="1905120"/>
            <a:ext cx="5867280" cy="4671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awaii_irtf_telescope[1]"/>
          <p:cNvPicPr/>
          <p:nvPr/>
        </p:nvPicPr>
        <p:blipFill>
          <a:blip r:embed="rId2"/>
          <a:stretch/>
        </p:blipFill>
        <p:spPr>
          <a:xfrm>
            <a:off x="5589720" y="914400"/>
            <a:ext cx="3554280" cy="54561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gene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 telescope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SIRTF_ir_1small[1]"/>
          <p:cNvPicPr/>
          <p:nvPr/>
        </p:nvPicPr>
        <p:blipFill>
          <a:blip r:embed="rId1"/>
          <a:stretch/>
        </p:blipFill>
        <p:spPr>
          <a:xfrm>
            <a:off x="4191120" y="380880"/>
            <a:ext cx="4829040" cy="6438960"/>
          </a:xfrm>
          <a:prstGeom prst="rect">
            <a:avLst/>
          </a:prstGeom>
          <a:ln w="0">
            <a:noFill/>
          </a:ln>
        </p:spPr>
      </p:pic>
      <p:sp>
        <p:nvSpPr>
          <p:cNvPr id="25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limeter and Sub-millimeter Telesco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CMT – Mauna K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jcmt[1]"/>
          <p:cNvPicPr/>
          <p:nvPr/>
        </p:nvPicPr>
        <p:blipFill>
          <a:blip r:embed="rId1"/>
          <a:stretch/>
        </p:blipFill>
        <p:spPr>
          <a:xfrm>
            <a:off x="2421000" y="1563840"/>
            <a:ext cx="6723000" cy="52941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wel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ub-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 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ly High Energy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 Cherenkov Radiation in the atmosphere to prove gamma rays are coming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mam - Haleak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gamma-haleakala"/>
          <p:cNvPicPr/>
          <p:nvPr/>
        </p:nvPicPr>
        <p:blipFill>
          <a:blip r:embed="rId1"/>
          <a:stretch/>
        </p:blipFill>
        <p:spPr>
          <a:xfrm>
            <a:off x="3029040" y="2343240"/>
            <a:ext cx="6114960" cy="4303800"/>
          </a:xfrm>
          <a:prstGeom prst="rect">
            <a:avLst/>
          </a:prstGeom>
          <a:ln w="0">
            <a:noFill/>
          </a:ln>
        </p:spPr>
      </p:pic>
      <p:sp>
        <p:nvSpPr>
          <p:cNvPr id="27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pple – Gamma-ray tele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whipple-gamma"/>
          <p:cNvPicPr/>
          <p:nvPr/>
        </p:nvPicPr>
        <p:blipFill>
          <a:blip r:embed="rId1"/>
          <a:stretch/>
        </p:blipFill>
        <p:spPr>
          <a:xfrm>
            <a:off x="2590920" y="1600200"/>
            <a:ext cx="6172200" cy="4835520"/>
          </a:xfrm>
          <a:prstGeom prst="rect">
            <a:avLst/>
          </a:prstGeom>
          <a:ln w="0">
            <a:noFill/>
          </a:ln>
        </p:spPr>
      </p:pic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50 foot long refracting telescop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2438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by Johannes Heve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50ft-tel2[1]"/>
          <p:cNvPicPr/>
          <p:nvPr/>
        </p:nvPicPr>
        <p:blipFill>
          <a:blip r:embed="rId1"/>
          <a:stretch/>
        </p:blipFill>
        <p:spPr>
          <a:xfrm>
            <a:off x="2895480" y="1558800"/>
            <a:ext cx="6248520" cy="529920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dra X-Ray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4" descr="chandracraft_med[1]"/>
          <p:cNvPicPr/>
          <p:nvPr/>
        </p:nvPicPr>
        <p:blipFill>
          <a:blip r:embed="rId1"/>
          <a:stretch/>
        </p:blipFill>
        <p:spPr>
          <a:xfrm>
            <a:off x="2286000" y="1447920"/>
            <a:ext cx="6858000" cy="5486400"/>
          </a:xfrm>
          <a:prstGeom prst="rect">
            <a:avLst/>
          </a:prstGeom>
          <a:ln w="0">
            <a:noFill/>
          </a:ln>
        </p:spPr>
      </p:pic>
      <p:sp>
        <p:nvSpPr>
          <p:cNvPr id="28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-Ray Telescope (HEA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xray_telescope[1]"/>
          <p:cNvPicPr/>
          <p:nvPr/>
        </p:nvPicPr>
        <p:blipFill>
          <a:blip r:embed="rId1"/>
          <a:stretch/>
        </p:blipFill>
        <p:spPr>
          <a:xfrm>
            <a:off x="3048120" y="1981080"/>
            <a:ext cx="5181480" cy="4770720"/>
          </a:xfrm>
          <a:prstGeom prst="rect">
            <a:avLst/>
          </a:prstGeom>
          <a:ln w="0">
            <a:noFill/>
          </a:ln>
        </p:spPr>
      </p:pic>
      <p:sp>
        <p:nvSpPr>
          <p:cNvPr id="28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ng Incidence X-Ray Mi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4" descr="xray_focus2[1]"/>
          <p:cNvPicPr/>
          <p:nvPr/>
        </p:nvPicPr>
        <p:blipFill>
          <a:blip r:embed="rId1"/>
          <a:stretch/>
        </p:blipFill>
        <p:spPr>
          <a:xfrm>
            <a:off x="380880" y="2286000"/>
            <a:ext cx="8686800" cy="4502160"/>
          </a:xfrm>
          <a:prstGeom prst="rect">
            <a:avLst/>
          </a:prstGeom>
          <a:ln w="0">
            <a:noFill/>
          </a:ln>
        </p:spPr>
      </p:pic>
      <p:sp>
        <p:nvSpPr>
          <p:cNvPr id="290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interesting Tele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tt Peak – Solar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02170a[1]"/>
          <p:cNvPicPr/>
          <p:nvPr/>
        </p:nvPicPr>
        <p:blipFill>
          <a:blip r:embed="rId1"/>
          <a:stretch/>
        </p:blipFill>
        <p:spPr>
          <a:xfrm>
            <a:off x="1295280" y="1703520"/>
            <a:ext cx="7848720" cy="5154480"/>
          </a:xfrm>
          <a:prstGeom prst="rect">
            <a:avLst/>
          </a:prstGeom>
          <a:ln w="0">
            <a:noFill/>
          </a:ln>
        </p:spPr>
      </p:pic>
      <p:sp>
        <p:nvSpPr>
          <p:cNvPr id="29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amanda-pengi[1]"/>
          <p:cNvPicPr/>
          <p:nvPr/>
        </p:nvPicPr>
        <p:blipFill>
          <a:blip r:embed="rId1"/>
          <a:stretch/>
        </p:blipFill>
        <p:spPr>
          <a:xfrm>
            <a:off x="4267080" y="1371600"/>
            <a:ext cx="4616640" cy="54864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anda – Looking through the Earth for Neutri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Bef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300ft_before_med[1]"/>
          <p:cNvPicPr/>
          <p:nvPr/>
        </p:nvPicPr>
        <p:blipFill>
          <a:blip r:embed="rId1"/>
          <a:stretch/>
        </p:blipFill>
        <p:spPr>
          <a:xfrm>
            <a:off x="1371600" y="1600200"/>
            <a:ext cx="7772400" cy="5297400"/>
          </a:xfrm>
          <a:prstGeom prst="rect">
            <a:avLst/>
          </a:prstGeom>
          <a:ln w="0">
            <a:noFill/>
          </a:ln>
        </p:spPr>
      </p:pic>
      <p:sp>
        <p:nvSpPr>
          <p:cNvPr id="3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00 foot – NRAO - Af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300ft_after_med[1]"/>
          <p:cNvPicPr/>
          <p:nvPr/>
        </p:nvPicPr>
        <p:blipFill>
          <a:blip r:embed="rId1"/>
          <a:stretch/>
        </p:blipFill>
        <p:spPr>
          <a:xfrm>
            <a:off x="533520" y="3095640"/>
            <a:ext cx="9219960" cy="62006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8839080" y="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-1143000" y="0"/>
            <a:ext cx="11430000" cy="8163000"/>
          </a:xfrm>
          <a:prstGeom prst="rect">
            <a:avLst/>
          </a:prstGeom>
          <a:ln w="0">
            <a:noFill/>
          </a:ln>
        </p:spPr>
      </p:pic>
      <p:sp>
        <p:nvSpPr>
          <p:cNvPr id="31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ld Refractor with guide 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140[1]"/>
          <p:cNvPicPr/>
          <p:nvPr/>
        </p:nvPicPr>
        <p:blipFill>
          <a:blip r:embed="rId1"/>
          <a:stretch/>
        </p:blipFill>
        <p:spPr>
          <a:xfrm>
            <a:off x="4133880" y="1523880"/>
            <a:ext cx="5010120" cy="541044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phot-02c-04-preview[1]"/>
          <p:cNvPicPr/>
          <p:nvPr/>
        </p:nvPicPr>
        <p:blipFill>
          <a:blip r:embed="rId1"/>
          <a:stretch/>
        </p:blipFill>
        <p:spPr>
          <a:xfrm>
            <a:off x="685800" y="501480"/>
            <a:ext cx="7848720" cy="6356520"/>
          </a:xfrm>
          <a:prstGeom prst="rect">
            <a:avLst/>
          </a:prstGeom>
          <a:ln w="0">
            <a:noFill/>
          </a:ln>
        </p:spPr>
      </p:pic>
      <p:sp>
        <p:nvSpPr>
          <p:cNvPr id="3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telescopes[1]"/>
          <p:cNvPicPr/>
          <p:nvPr/>
        </p:nvPicPr>
        <p:blipFill>
          <a:blip r:embed="rId1"/>
          <a:stretch/>
        </p:blipFill>
        <p:spPr>
          <a:xfrm>
            <a:off x="609480" y="423720"/>
            <a:ext cx="8077320" cy="6357960"/>
          </a:xfrm>
          <a:prstGeom prst="rect">
            <a:avLst/>
          </a:prstGeom>
          <a:ln w="0">
            <a:noFill/>
          </a:ln>
        </p:spPr>
      </p:pic>
      <p:sp>
        <p:nvSpPr>
          <p:cNvPr id="32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oh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put together these power points for use in my science classe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ay use them in your classe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images are public domain, some are used under the fair-use provisions of the copyright law, some are mine. Copyright is retained by the owne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d Brattst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lenses absorbed some of the faint light, caused the colors to focus at different points, and could only be made to a certain si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is the 40 inch refracting telescope at Yerkes observatory. Glass bigger than that would not be able to hold itself up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Newt-Tele"/>
          <p:cNvPicPr/>
          <p:nvPr/>
        </p:nvPicPr>
        <p:blipFill>
          <a:blip r:embed="rId1"/>
          <a:stretch/>
        </p:blipFill>
        <p:spPr>
          <a:xfrm>
            <a:off x="4332240" y="0"/>
            <a:ext cx="481176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b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aac Newton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designed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condary mirr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eyepiece. You ju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your eye nea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and looked 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pieces and camer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t all easier to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newtonscope1[1]"/>
          <p:cNvPicPr/>
          <p:nvPr/>
        </p:nvPicPr>
        <p:blipFill>
          <a:blip r:embed="rId1"/>
          <a:stretch/>
        </p:blipFill>
        <p:spPr>
          <a:xfrm>
            <a:off x="4343400" y="685800"/>
            <a:ext cx="4410000" cy="60199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Newtonian telesc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ould make a g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T bigger than 40 inches – and it didn’t distort the 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5 meter mirror (the Hale telescope at Mt. Palomar) was the largest for a long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, the largest Single Piece of glass telescope is 8 meters (Subaru and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1T05:34:00Z</dcterms:created>
  <dc:creator>Ted Brattstrom</dc:creator>
  <dc:description/>
  <dc:language>en-US</dc:language>
  <cp:lastModifiedBy>LEGION</cp:lastModifiedBy>
  <dcterms:modified xsi:type="dcterms:W3CDTF">2018-03-22T10:29:45Z</dcterms:modified>
  <cp:revision>35</cp:revision>
  <dc:subject/>
  <dc:title>Telescopes</dc:title>
</cp:coreProperties>
</file>