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png" ContentType="image/pn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32.png" ContentType="image/png"/>
  <Override PartName="/ppt/media/image25.jpeg" ContentType="image/jpeg"/>
  <Override PartName="/ppt/media/image4.jpeg" ContentType="image/jpeg"/>
  <Override PartName="/ppt/media/image61.jpeg" ContentType="image/jpeg"/>
  <Override PartName="/ppt/media/image36.jpeg" ContentType="image/jpeg"/>
  <Override PartName="/ppt/media/image38.jpeg" ContentType="image/jpeg"/>
  <Override PartName="/ppt/media/image7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64.png" ContentType="image/png"/>
  <Override PartName="/ppt/media/image15.jpeg" ContentType="image/jpeg"/>
  <Override PartName="/ppt/media/image24.gif" ContentType="image/gif"/>
  <Override PartName="/ppt/media/image16.jpeg" ContentType="image/jpeg"/>
  <Override PartName="/ppt/media/image21.jpeg" ContentType="image/jpeg"/>
  <Override PartName="/ppt/media/image22.png" ContentType="image/png"/>
  <Override PartName="/ppt/media/image19.jpeg" ContentType="image/jpeg"/>
  <Override PartName="/ppt/media/image20.jpeg" ContentType="image/jpeg"/>
  <Override PartName="/ppt/media/image1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55.jpeg" ContentType="image/jpeg"/>
  <Override PartName="/ppt/media/image13.jpeg" ContentType="image/jpeg"/>
  <Override PartName="/ppt/media/image1.wmf" ContentType="image/x-wmf"/>
  <Override PartName="/ppt/media/image40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3.jpeg" ContentType="image/jpeg"/>
  <Override PartName="/ppt/media/image34.jpeg" ContentType="image/jpeg"/>
  <Override PartName="/ppt/media/image35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65.jpeg" ContentType="image/jpeg"/>
  <Override PartName="/ppt/media/image4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0840" y="93960"/>
            <a:ext cx="24710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unar and Planetary Institu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17000" y="8896680"/>
            <a:ext cx="8798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F29527-31AD-422B-ABD4-10D5A043BA6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241320" y="8896680"/>
            <a:ext cx="9957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EF1C4C-765A-4EFA-807C-0C52225B92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s and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ace Science for Middle School at HC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eated by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unar and Planetary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Educational Use On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PI is not responsible for the way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which this powerpoint may be used or alte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9/07/image/g/results/50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star cluster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formed together at sam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may be gravitationally bound toge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types:  open (galactic) and glob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2007/18/image/a/format/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zens to thousand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 stars!  only a few million years 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still be surrounded by nebula from which they form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ted in the spiral arms of 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:  Plei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open/2004/2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open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open/2006/17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bul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ions to hundreds of m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d!  6 to 13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red giants and dwar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re clumped closely together, especially near the center of the cluster (densel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rround our disk as a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1999/2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nebula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cloud in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have stars insi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of the ones we see are inside our Milky Way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rge, massive, bright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Nebu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hot gas is emitting ligh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der, darker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dust blocking the hot gas behind i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 from http://hubblesite.org/newscenter/archive/releases/nebula/dark/2001/12/image/c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ftovers from an Explo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 remn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maller, less gas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galaxy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arge group of stars outside of our own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billions to tr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so may have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, or elliptical, or irregular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lcom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complete the pre-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’s for us—it’s not abou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let us know how much YOU know, not how much your friends sitting next to you kn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Galaxy: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about 200 billion stars, and lots of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a barred-spiral (we thin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0,000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halfway to the edge, revolving at half a million miles per hour around the center of th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our Solar System about 200 million years to revolve once around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news.nationalgeographic.com/news/bigphotos/194537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pping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can see 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try to Map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 what our Galaxy looks lik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llax (let’s model i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Earth orbits the Sun, we see nearby stars move relative to more distant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many degrees did the plate move, relative to the backgroun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you calculate the distance to the pla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e of the parallax (angle) x Earth’s distance to the Sun = Distance to the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Light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ight year is the distance light travels in a year. Light moves at a velocity of about 300,000 kilometers (km) each second; how far would it move in a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 trillion km (or about 6 trillion mile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y do we use light ye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me how far 5 centimeters 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show me 50 centimet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tell me (without thinking about it, or calculating it in meters) how far 500 centemeters is.  2000?  20,000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eed numbers that make sense to us in relationship to objects; we scale up and use meters and kilometers for large numb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for a Break!  Next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check your knowl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draw an electromagnetic spectrum on a sheet of paper, and label the par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 work in grou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lots of types of light (radiation), including visible and invisi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omagnetic spectru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oolcosmos.ipac.caltech.edu/cosmic_classroom/ir_tutorial/what_is_ir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re we going to cov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Observe A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ill the spectrum look like with a red filter in front of your eyes?  A blue filt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pothesize and test your hypothe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let’s examine the invisible parts—using our cell phones and a solar cel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different types of spec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or Bright Line (from ionized gas, like a nebula or a neon sig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sorption or dark line (from sta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lustration at http://imagine.gsfc.nasa.gov/docs/science/how_l1/spectr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tars emit 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o, infrared, visible, ultraviolet, x-ray and even some gamma r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sunlight is yellow-green visible light or close to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at X-ray waveleng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imagine.gsfc.nasa.gov/docs/science/know_l1/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nd info at http://imagine.gsfc.nasa.gov/docs/teachers/gammaraybursts/imagine/page18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ing a Star’s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 can use a star’s spectrum to classify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AO/AURA/NSF image at http://antwrp.gsfc.nasa.gov/apod/ap010530.html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tellar 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to Create a Stellar Gra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one will receive several “star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hem on the large paper, according to their color and their bright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 version of the Hertzsprung-Russell diagra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tzsprung-Russell Dia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from http://www.nasa.gov/centers/goddard/news/topstory/2007/spectrum_plants.html and http://sunearthday.gsfc.nasa.gov/2009/TTT/65_surfacetemp.ph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ng stars form in nebulae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rom Small Magellanic Clo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7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-forming region in the Large Magellanic Cloud: http://hubblesite.org/newscenter/archive/releases/2008/3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st up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big are things?  How far away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stellar “egg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vie at http://www.stsci.edu/EPA/PR/95/44/M16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a Regular/ Small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sfc.nasa.gov/topstory/20011210inside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 few Billion years… Red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1997/26/image/a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’s Habitable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llions of years ago, things may have been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was cooler (by up to 30%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rth’s atmosphere was different (thicker, carbon diox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ditions will be different in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 many accounts, increases in the Sun’s temperature will make Earth uninhabitable in 1 billion years or l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changes will also affect other planets… M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 at http://www.nasa.gov/97994main_BHabitableZone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y 5 billion years… White Dwar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mage at http://hubblesite.org/newscenter/archive/releases/nebula/planetary/1998/39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mall, but very ho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0/28/image/a/format/web_print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4/27/image/a/format/large_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sive Stars are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nebula/emission/1997/33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 b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for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/massive%20star/1996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elgeuse—Red Super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—Massive Star Expl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hubblesite.org/newscenter/archive/releases/star/supernova/2004/09/results/50/ 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handra.harvard.edu/photo/2009/casa/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nd plan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 thing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as in your drawing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galileo.rice.edu/lib/student_work/astronomy95/orionpleiades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utron Star or Puls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2/2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2/3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izes (dwarf, large, gi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hapes and class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close together, relative to their siz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flat disk, spiral arms, central bulge, and a surrounding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have a “barred” bul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large (no dwarf spira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ots of gas and dust and younger stars in their arms, but older stars and little gas or dust in their halos and central bul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5/0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 on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6/2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spherical to football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very small to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very little gas or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ol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ilar to the central bulge of a spiral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ity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e Venn diagrams to place the stickers—where does everything g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you’re finished, let’s discus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a disk but no a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ittle or no excess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elliptical/2002/0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y galaxy that isn’t a Spiral, Elliptical, or 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ually have lots of gas and dust and you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have a distorted shape from interaction with anothe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ision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ow think that galaxies in groups and clusters often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 is moving at 300,000 mph toward the Andromed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 may collide in about 5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don’t usually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orbits, gas piles up to form new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ac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galaxy/interacting/2000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tennae or M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tion at http://hubblesite.org/newscenter/archive/releases/galaxy/interacting/1997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ages from http://hubblesite.org/newscenter/archive/releases/galaxy/spiral/2002/21/image/a/results/50/ and http://hubblesite.org/newscenter/archive/releases/galaxy/spiral/1999/1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ccasional results of two galaxies colliding: ringed galax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rious galaxi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can you identify types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1999/3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massive 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most every medium to large galaxy we’ve check has a supermassive black hole at th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arger the galaxy, the more massive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don’t know which comes first, the galaxy or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think that these black holes are responsible for some of the galaxies with jets and lobes which give off radio waves, x-rays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ining the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 (Nebula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0/3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t the center of a large galax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exotic/black-hole/1998/22/results/20/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ttp://hubblesite.org/newscenter/archive/releases/exotic/black%20hole/2000/21/image/a/format/web_print/results/20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y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s the Milky Way, the Andromeda, and over 30 other smalle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Virgo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dreds to thousands of galaxies, 60 million light-years a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ant elliptical at center, formed by galactic cannibal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 is “falling” toward the Virgo Cluster at 60 to 250 miles per secon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a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2008/24/image/a/results/2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cluster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usters are bound together in larger structures, called super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uperclusters have been mapped, and are grouped into long str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 million to a billion light-years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 to 300 million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only 10 to 30 million light-years thi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between these strings are huge voids of galaxies, although some astronomers may have detected hot 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olution of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7-05f_img0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inant scientific theory about the 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curred ~13.7 billion years 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initely dense point not governed by our physical laws or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matter and energy contained in one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newscientist.com/articleimages/dn11799/0-did-antimatter-factory-spark-brightest-supernov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ing a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antaneous filling of space with all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43 seconds - gravity separates from other fo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35 to 10-32 seconds - fundamental particles -  quarks and elec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6 seconds - quarks combine into protons and neu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second - electromagnetic and weak nuclear forces sepa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minutes - protons and neutrons combine into atomic nucl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 years - electrons join nuclei to make atoms; light is emit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-109 years - matter collapses into clouds, making galaxies an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Nebula - http://stardate.utexas.edu/resources/ssguide/planet_form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globular/2003/2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dsc.discovery.com/space/top-10/strange-universe/space-10-weirdest-things-universe-10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er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4-01r_img02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map.gsfc.nasa.gov/universe/bb_theor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15, Albert Einstein concluded that the universe could not be static based on his recently-discovered theory of relativity  and added a "cosmological constant" to the theory of relativity because astronomers assured him that the universe was st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eksandr Friedmann and Abbe George LeMaitre are credited with developing the basics of the Big Bang model between 1922 and 1927; their calculations suggested that universe is expanding, not sta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ars later, Einstein called his cosmological constant the biggest mistake of his car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ding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bble’s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ppler shifting - wavelength emitted by something moving away from us is shifted to a lower frequ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nd of a fire truck siren - pitch of the siren is higher as the fire truck moves towards you, and lower as it moves away from yo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sible wavelengths emitted by objects moving away from us are shifted towards the red part of the visible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aster they move away from us, the more they are redshifted. Thus, redshift is a reasonable way to measure the speed of an obj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we observe the redshift of galaxies, almost every galaxy appears to be moving away from us – the Universe is expandi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ictions for the Big Bang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xpansion of the Univer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win Hubble's 1929 observation that galaxies were generally receding from us provided the first clue that the Big Bang theory might be righ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bundance of the light elements H, He, L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ig Bang theory predicts that these light elements should have been fused from protons and neutrons in the first few minutes after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smic microwave background (CMB) radi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arly universe should have been very hot. The cosmic microwave background radiation is the remnant heat leftover from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idence for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 shift - as light from distant galaxies approach earth there is an increase of space between earth and the galaxy, which leads to wavelengths being stre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64, Arno Penzias and Robert Wilson, discovered a noise of extraterrestrial origin that came from all directions at once - radiation left over from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June 1995, scientists detected helium in the far reaches of the universe - consistent with an important aspect of the Big Bang theory that a mixture of hydrogen (75%) and helium (25%) was created at the beginning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Did the Universe For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13.7 billion years a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eading (Red Shift) - know distances, rates of retreat, relative posi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vasive background radiation of 2.7°C above absolute zero - afterglow of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timeline.aps.org/APS/resources/85_06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mic background radiation temperature on celestial sp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l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rcRect l="21988" t="0" r="0" b="0"/>
          <a:stretch/>
        </p:blipFill>
        <p:spPr>
          <a:xfrm>
            <a:off x="19080" y="52560"/>
            <a:ext cx="141912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ubblesite.org/newscenter/archive/releases/galaxy/spiral/2009/07/image/g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hubblesite.org/newscenter/archive/releases/star%20cluster/globular/2007/18/image/a/format/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hubblesite.org/newscenter/archive/releases/star%20cluster/open/2004/2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hubblesite.org/newscenter/archive/releases/star%20cluster/open/2006/17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hubblesite.org/newscenter/archive/releases/star%20cluster/globular/1999/26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hubblesite.org/newscenter/archive/releases/nebula/dark/2001/12/image/c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hubblesite.org/newscenter/archive/releases/nebula/supernova-remnant/2005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news.nationalgeographic.com/news/bigphotos/1945371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coolcosmos.ipac.caltech.edu/cosmic_classroom/ir_tutorial/what_is_ir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agine.gsfc.nasa.gov/docs/science/how_l1/spectra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science/know_l1/sun.html" TargetMode="External"/><Relationship Id="rId2" Type="http://schemas.openxmlformats.org/officeDocument/2006/relationships/hyperlink" Target="http://imagine.gsfc.nasa.gov/docs/teachers/gammaraybursts/imagine/page18.html" TargetMode="External"/><Relationship Id="rId3" Type="http://schemas.openxmlformats.org/officeDocument/2006/relationships/image" Target="../media/image23.pn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10530.htm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http://www.nasa.gov/centers/goddard/news/topstory/2007/spectrum_plants.html" TargetMode="External"/><Relationship Id="rId4" Type="http://schemas.openxmlformats.org/officeDocument/2006/relationships/hyperlink" Target="http://sunearthday.gsfc.nasa.gov/2009/TTT/65_surfacetemp.ph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hubblesite.org/newscenter/archive/releases/2007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hubblesite.org/newscenter/archive/releases/2008/3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stsci.edu/EPA/PR/95/44/M16.mpg" TargetMode="Externa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gsfc.nasa.gov/topstory/20011210insidesun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hubblesite.org/newscenter/archive/releases/1997/26/image/a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nasa.gov/97994main_BHabitableZone.M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hubblesite.org/newscenter/archive/releases/nebula/planetary/1998/39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hubblesite.org/newscenter/archive/releases/nebula/planetary/2000/28/image/a/format/web_print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hubblesite.org/newscenter/archive/releases/nebula/planetary/2004/27/image/a/format/large_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hubblesite.org/newscenter/archive/releases/nebula/emission/1997/33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hubblesite.org/newscenter/archive/releases/star/massive%20star/1996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hyperlink" Target="http://hubblesite.org/newscenter/archive/releases/star/supernova/2004/09/results/50/" TargetMode="External"/><Relationship Id="rId5" Type="http://schemas.openxmlformats.org/officeDocument/2006/relationships/hyperlink" Target="http://hubblesite.org/newscenter/archive/releases/nebula/supernova-remnant/2005/37/results/50/" TargetMode="External"/><Relationship Id="rId6" Type="http://schemas.openxmlformats.org/officeDocument/2006/relationships/hyperlink" Target="http://chandra.harvard.edu/photo/2009/casa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alileo.rice.edu/lib/student_work/astronomy95/astrogrobs/pleiadesbig.gif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galileo.rice.edu/lib/student_work/astronomy95/orionpleiade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hubblesite.org/newscenter/archive/releases/nebula/supernova-remnant/2002/2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hubblesite.org/newscenter/archive/releases/2002/3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hubblesite.org/newscenter/archive/releases/galaxy/spiral/2005/0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hubblesite.org/newscenter/archive/releases/galaxy/spiral/2006/2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hubblesite.org/newscenter/archive/releases/galaxy/elliptical/2002/0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hyperlink" Target="http://hubblesite.org/newscenter/archive/releases/galaxy/interacting/2000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hyperlink" Target="http://hubblesite.org/newscenter/archive/releases/galaxy/interacting/1997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hubblesite.org/newscenter/archive/releases/galaxy/spiral/2002/21/image/a/results/50/" TargetMode="External"/><Relationship Id="rId3" Type="http://schemas.openxmlformats.org/officeDocument/2006/relationships/hyperlink" Target="http://hubblesite.org/newscenter/archive/releases/galaxy/spiral/1999/16/image/a/results/50/" TargetMode="External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hubblesite.org/newscenter/archive/releases/galaxy/cluster/1999/3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hubblesite.org/newscenter/archive/releases/galaxy/spiral/2000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hyperlink" Target="http://hubblesite.org/newscenter/archive/releases/exotic/black-hole/1998/22/results/20/" TargetMode="External"/><Relationship Id="rId3" Type="http://schemas.openxmlformats.org/officeDocument/2006/relationships/hyperlink" Target="http://hubblesite.org/newscenter/archive/releases/exotic/black%20hole/2000/21/image/a/format/web_print/results/20/" TargetMode="External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hyperlink" Target="http://hubblesite.org/newscenter/archive/releases/galaxy/cluster/2008/24/image/a/results/2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ubblesite.org/newscenter/archive/releases/star%20cluster/globular/2003/2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hs-2009-07-g-large_web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6248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ars and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pace Science for Middle School at HC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ebruary 20,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14600"/>
            <a:ext cx="5638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reated by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unar and Planetary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r Educational Use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LPI is not responsible for the wa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 which this powerpoint may be used or alter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838080" y="658332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9/07/image/g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star cluster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formed together at sam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may be gravitationally bound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types:  open (galactic) and glob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10" descr="hs-2007-18-a-web"/>
          <p:cNvPicPr/>
          <p:nvPr/>
        </p:nvPicPr>
        <p:blipFill>
          <a:blip r:embed="rId1"/>
          <a:stretch/>
        </p:blipFill>
        <p:spPr>
          <a:xfrm>
            <a:off x="5638680" y="2743200"/>
            <a:ext cx="3324240" cy="3333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1"/>
          <p:cNvSpPr/>
          <p:nvPr/>
        </p:nvSpPr>
        <p:spPr>
          <a:xfrm>
            <a:off x="304920" y="6324480"/>
            <a:ext cx="807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7/18/image/a/format/web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hs-2004-20-a-large_web"/>
          <p:cNvPicPr/>
          <p:nvPr/>
        </p:nvPicPr>
        <p:blipFill>
          <a:blip r:embed="rId1"/>
          <a:stretch/>
        </p:blipFill>
        <p:spPr>
          <a:xfrm>
            <a:off x="2819520" y="1752480"/>
            <a:ext cx="6087960" cy="4389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pen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50292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zens to thousand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ng stars!  only a few million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till be surrounded by nebula from which they fo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ed in the spiral arms of a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Plei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04920" y="6553080"/>
            <a:ext cx="830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4/2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open star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Picture 5" descr="Hubble photos of two open star clusters, loosely grouped, with many bright blue stars"/>
          <p:cNvPicPr/>
          <p:nvPr/>
        </p:nvPicPr>
        <p:blipFill>
          <a:blip r:embed="rId1"/>
          <a:stretch/>
        </p:blipFill>
        <p:spPr>
          <a:xfrm>
            <a:off x="990720" y="1295280"/>
            <a:ext cx="7619760" cy="5349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533520" y="65530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6/17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lobular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ons to hundreds of millions of st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ld!  6 to 13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ly red giants and dwar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re clumped closely together, especially near the center of the cluster (dense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round our disk as a ha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6" descr="hs-1999-26-a-web"/>
          <p:cNvPicPr/>
          <p:nvPr/>
        </p:nvPicPr>
        <p:blipFill>
          <a:blip r:embed="rId1"/>
          <a:stretch/>
        </p:blipFill>
        <p:spPr>
          <a:xfrm>
            <a:off x="5334120" y="2362320"/>
            <a:ext cx="3181320" cy="3333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304920" y="6172200"/>
            <a:ext cx="723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1999/2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large_web"/>
          <p:cNvPicPr/>
          <p:nvPr/>
        </p:nvPicPr>
        <p:blipFill>
          <a:blip r:embed="rId1"/>
          <a:srcRect l="0" t="12000" r="0" b="14400"/>
          <a:stretch/>
        </p:blipFill>
        <p:spPr>
          <a:xfrm>
            <a:off x="0" y="152280"/>
            <a:ext cx="8766000" cy="6451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nebula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29714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oud in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gas and du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have stars insi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of the ones we see are inside our Milky Way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133720" y="65833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rge, massive, bright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Picture 5" descr="large_web"/>
          <p:cNvPicPr/>
          <p:nvPr/>
        </p:nvPicPr>
        <p:blipFill>
          <a:blip r:embed="rId1"/>
          <a:stretch/>
        </p:blipFill>
        <p:spPr>
          <a:xfrm>
            <a:off x="4876920" y="2286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1"/>
          <p:cNvSpPr/>
          <p:nvPr/>
        </p:nvSpPr>
        <p:spPr>
          <a:xfrm>
            <a:off x="457200" y="24382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mission Neb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he hot gas is emitting l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der, darker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Picture 5" descr="large_web"/>
          <p:cNvPicPr/>
          <p:nvPr/>
        </p:nvPicPr>
        <p:blipFill>
          <a:blip r:embed="rId1"/>
          <a:stretch/>
        </p:blipFill>
        <p:spPr>
          <a:xfrm>
            <a:off x="3309840" y="1477800"/>
            <a:ext cx="5834160" cy="5380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0" y="2514600"/>
            <a:ext cx="416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Dark dust blocking the hot gas behind 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762120" y="63244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dark/2001/12/image/c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ftovers from an Explo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5" descr="large_web"/>
          <p:cNvPicPr/>
          <p:nvPr/>
        </p:nvPicPr>
        <p:blipFill>
          <a:blip r:embed="rId1"/>
          <a:stretch/>
        </p:blipFill>
        <p:spPr>
          <a:xfrm>
            <a:off x="228600" y="1676520"/>
            <a:ext cx="5410080" cy="4957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5715000" y="2209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upernova remn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maller, less ga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447920" y="6324480"/>
            <a:ext cx="693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large_web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330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galaxy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441972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group of stars outside of our own Milky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billions to trillion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may have gas and du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, or elliptical, or irregular shap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57200" y="647712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9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2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lcome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complete the pre-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’s for us—it’s not about y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let us know how much YOU know, not how much your friends sitting next to you k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Picture 3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Picture 5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8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ur Galaxy: the Milky Wa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about 200 billion stars, and lots of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barred-spiral (we th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100,000 light-years w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Sun is halfway to the edge, revolving at half a million miles per hour around the center of the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s our Solar System about 200 million years to revolve once around ou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5" descr="080603-milky-way_big"/>
          <p:cNvPicPr/>
          <p:nvPr/>
        </p:nvPicPr>
        <p:blipFill>
          <a:blip r:embed="rId1"/>
          <a:stretch/>
        </p:blipFill>
        <p:spPr>
          <a:xfrm>
            <a:off x="1981080" y="1676520"/>
            <a:ext cx="5046840" cy="5046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62120" y="640080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news.nationalgeographic.com/news/bigphotos/1945371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pping 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see sta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’s try to Map our Galax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523880" y="18288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How do we know what our Galaxy looks li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llax (let’s model 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s Earth orbits the Sun, we see nearby stars move relative to more distant sta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ow many degrees did the plate move, relative to the background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n you calculate the distance to the plat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ne of the parallax (angle) x Earth’s distance to the Sun = Distance to the st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Light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light year is the distance light travels in a year. Light moves at a velocity of about 300,000 kilometers (km) each second; how far would it move in a yea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out 10 trillion km (or about 6 trillion mi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we use light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how me how far 5 centimeters 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show me 50 centimet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tell me (without thinking about it, or calculating it in meters) how far 500 centemeters is.  2000?  20,000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 need numbers that make sense to us in relationship to objects; we scale up and use meters and kilometers for large numb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for a Break!  Next 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check your 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draw an electromagnetic spectrum on a sheet of paper, and label the par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work in group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lots of types of light (radiation), including visible and invi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em3"/>
          <p:cNvPicPr/>
          <p:nvPr/>
        </p:nvPicPr>
        <p:blipFill>
          <a:blip r:embed="rId1"/>
          <a:stretch/>
        </p:blipFill>
        <p:spPr>
          <a:xfrm>
            <a:off x="228600" y="3962520"/>
            <a:ext cx="8915400" cy="20383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591640" y="6214320"/>
            <a:ext cx="43228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Electromagnetic spectrum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coolcosmos.ipac.caltech.edu/cosmic_classroom/ir_tutorial/what_is_ir.html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are we going to cov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Observe A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ill the spectrum look like with a red filter in front of your eyes?  A blue fil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thesize and test your hypothe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let’s examine the invisible parts—using our cell phones and a solar c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different types of spec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ssion or Bright Line (from ionized gas, like a nebula or a neon sig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orption or dark line (from sta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Three types of spectra"/>
          <p:cNvPicPr/>
          <p:nvPr/>
        </p:nvPicPr>
        <p:blipFill>
          <a:blip r:embed="rId1"/>
          <a:stretch/>
        </p:blipFill>
        <p:spPr>
          <a:xfrm>
            <a:off x="2133720" y="4191120"/>
            <a:ext cx="4122720" cy="168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762120" y="61722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science/how_l1/spectra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stars emit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io, infrared, visible, ultraviolet, x-ray and even some gamma r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sunlight is yellow-green visible light or close 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28600" y="5638680"/>
            <a:ext cx="26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The Sun at X-ray waveleng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imagine.gsfc.nasa.gov/docs/science/know_l1/sun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048120" y="6210720"/>
            <a:ext cx="6095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nd info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teachers/gammaraybursts/imagine/page18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9" descr="normalized intensity vs. wavelength"/>
          <p:cNvPicPr/>
          <p:nvPr/>
        </p:nvPicPr>
        <p:blipFill>
          <a:blip r:embed="rId3"/>
          <a:stretch/>
        </p:blipFill>
        <p:spPr>
          <a:xfrm>
            <a:off x="2952720" y="3505320"/>
            <a:ext cx="6191280" cy="265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Animation of the Sun in&#10;X-rays"/>
          <p:cNvPicPr/>
          <p:nvPr/>
        </p:nvPicPr>
        <p:blipFill>
          <a:blip r:embed="rId4"/>
          <a:stretch/>
        </p:blipFill>
        <p:spPr>
          <a:xfrm>
            <a:off x="304920" y="35053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ing a Star’s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an use a star’s spectrum to classify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80880" y="6248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antwrp.gsfc.nasa.gov/apod/ap010530.ht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2" descr="obafgkm_noao_big"/>
          <p:cNvPicPr/>
          <p:nvPr/>
        </p:nvPicPr>
        <p:blipFill>
          <a:blip r:embed="rId2"/>
          <a:stretch/>
        </p:blipFill>
        <p:spPr>
          <a:xfrm>
            <a:off x="762120" y="2438280"/>
            <a:ext cx="7619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llar Ev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to Create a Stellar Grap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one will receive several “star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them on the large paper, according to their color and their brigh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a version of the Hertzsprung-Russell dia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rtzsprung-Russell Dia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6" descr="ttt65_image3"/>
          <p:cNvPicPr/>
          <p:nvPr/>
        </p:nvPicPr>
        <p:blipFill>
          <a:blip r:embed="rId1"/>
          <a:stretch/>
        </p:blipFill>
        <p:spPr>
          <a:xfrm>
            <a:off x="5486400" y="2133720"/>
            <a:ext cx="3336840" cy="3951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The Hertzsprung Russell diagram developed by 2 astronomers in 1912, plots some of the characteristics of a large number of stars."/>
          <p:cNvPicPr/>
          <p:nvPr/>
        </p:nvPicPr>
        <p:blipFill>
          <a:blip r:embed="rId2"/>
          <a:stretch/>
        </p:blipFill>
        <p:spPr>
          <a:xfrm>
            <a:off x="304920" y="2362320"/>
            <a:ext cx="4332240" cy="27223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228600" y="6218280"/>
            <a:ext cx="594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asa.gov/centers/goddard/news/topstory/2007/spectrum_plant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sunearthday.gsfc.nasa.gov/2009/TTT/65_surfacetemp.ph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1981080" cy="6019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oung stars form in nebulae</a:t>
            </a:r>
            <a:br>
              <a:rPr sz="4000"/>
            </a:br>
            <a:br>
              <a:rPr sz="40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om Small Magellanic Cloud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A photo by the Hubble Space telescope showing a star forming region, with bright blue stars surrounded by gas"/>
          <p:cNvPicPr/>
          <p:nvPr/>
        </p:nvPicPr>
        <p:blipFill>
          <a:blip r:embed="rId1"/>
          <a:stretch/>
        </p:blipFill>
        <p:spPr>
          <a:xfrm>
            <a:off x="1828800" y="228600"/>
            <a:ext cx="7315200" cy="6684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457200" y="632448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7/0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A star forming region with many colorful gas clouds surrounding reddish stars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600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533520" y="6400800"/>
            <a:ext cx="63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-forming region in the Large Magellanic Cloud: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8/3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 photo mosaic of the Orion nebula taken by the Hubble space telescope showing gas and stars imbedded within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705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up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our Universe made of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big are things?  How far aw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stellar “eggs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04920" y="640080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419720" y="6308640"/>
            <a:ext cx="4724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stsci.edu/EPA/PR/95/44/M16.mp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M16.mpeg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58672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490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9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 is a Regular/ Small S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3" descr="A photo of our Sun with sunspots as a regular-sized star"/>
          <p:cNvPicPr/>
          <p:nvPr/>
        </p:nvPicPr>
        <p:blipFill>
          <a:blip r:embed="rId1"/>
          <a:stretch/>
        </p:blipFill>
        <p:spPr>
          <a:xfrm>
            <a:off x="3657600" y="16765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685800" y="6400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gsfc.nasa.gov/topstory/20011210insidesun.htm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0" y="2514600"/>
            <a:ext cx="41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a few Billion years… Red 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Picture 3" descr="Several images of Mira, a red &quot;blobbish&quot; looking star"/>
          <p:cNvPicPr/>
          <p:nvPr/>
        </p:nvPicPr>
        <p:blipFill>
          <a:blip r:embed="rId1"/>
          <a:stretch/>
        </p:blipFill>
        <p:spPr>
          <a:xfrm>
            <a:off x="3048120" y="1905120"/>
            <a:ext cx="3333600" cy="38862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533520" y="6324480"/>
            <a:ext cx="67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1997/26/image/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’s Habitable Zo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llions of years ago, things may have been diffe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un was cooler (by up to 30%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rth’s atmosphere was different (thicker, carbon dioxid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itions will be different in the fu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y many accounts, increases in the Sun’s temperature will make Earth uninhabitable in 1 billion years or l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se changes will also affect other planets… Mar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324480" y="28954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imation a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nasa.gov/97994main_BHabitableZone.MP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y 5 billion years… White Dwar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" name="Picture 3" descr="A photo of a planetary nebula: a spherical shell of gas surrounding a white hot core (a white dwarf)"/>
          <p:cNvPicPr/>
          <p:nvPr/>
        </p:nvPicPr>
        <p:blipFill>
          <a:blip r:embed="rId1"/>
          <a:stretch/>
        </p:blipFill>
        <p:spPr>
          <a:xfrm>
            <a:off x="762120" y="1560600"/>
            <a:ext cx="7086600" cy="5297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609480" y="632448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1998/3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815080" y="5334120"/>
            <a:ext cx="33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mall, but very h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n elongated sphere of gas surrounding a white dwarf, in this planetary nebula"/>
          <p:cNvPicPr/>
          <p:nvPr/>
        </p:nvPicPr>
        <p:blipFill>
          <a:blip r:embed="rId1"/>
          <a:stretch/>
        </p:blipFill>
        <p:spPr>
          <a:xfrm>
            <a:off x="1523880" y="1440"/>
            <a:ext cx="5484960" cy="68565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685800" y="6126120"/>
            <a:ext cx="76201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0/28/image/a/format/web_print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is planetary nebula, commonly called the &quot;Cat's Eye Nebula&quot; has unusually complex features, but still shows the white dwarf at its center."/>
          <p:cNvPicPr/>
          <p:nvPr/>
        </p:nvPicPr>
        <p:blipFill>
          <a:blip r:embed="rId1"/>
          <a:srcRect l="0" t="9000" r="0" b="0"/>
          <a:stretch/>
        </p:blipFill>
        <p:spPr>
          <a:xfrm>
            <a:off x="762120" y="-76320"/>
            <a:ext cx="7619760" cy="69343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533520" y="64008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4/27/image/a/format/large_web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2438640" cy="4152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ssive Stars are differ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2" name="Picture 3" descr="An infrared image (colored red and bluish-green) showing a cloud of gas surrounding a star--the &quot;Pistol star&quot;."/>
          <p:cNvPicPr/>
          <p:nvPr/>
        </p:nvPicPr>
        <p:blipFill>
          <a:blip r:embed="rId1"/>
          <a:stretch/>
        </p:blipFill>
        <p:spPr>
          <a:xfrm>
            <a:off x="3429000" y="152280"/>
            <a:ext cx="5715000" cy="62769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380880" y="62485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emission/1997/33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5228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 b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not for 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A photo of red supergiant Betelgeuse, along with an illustration of its location in Orion, and a comparison of its size to Jupiter's orbit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5238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762120" y="6248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star/massive%20star/1996/04/image/a/results/50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telgeuse—Red Super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nova—Massive Star Expl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9" name="Picture 3" descr="A ring of &quot;beads&quot; of gas glowing brilliantly from a recent supernova"/>
          <p:cNvPicPr/>
          <p:nvPr/>
        </p:nvPicPr>
        <p:blipFill>
          <a:blip r:embed="rId1"/>
          <a:stretch/>
        </p:blipFill>
        <p:spPr>
          <a:xfrm>
            <a:off x="5943600" y="1447920"/>
            <a:ext cx="2857680" cy="2247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A photo of the supernova remant, the Crab Nebula"/>
          <p:cNvPicPr/>
          <p:nvPr/>
        </p:nvPicPr>
        <p:blipFill>
          <a:blip r:embed="rId2"/>
          <a:stretch/>
        </p:blipFill>
        <p:spPr>
          <a:xfrm>
            <a:off x="6095880" y="38098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assiopeia A--a supernova remnant, taken in x-rays"/>
          <p:cNvPicPr/>
          <p:nvPr/>
        </p:nvPicPr>
        <p:blipFill>
          <a:blip r:embed="rId3"/>
          <a:stretch/>
        </p:blipFill>
        <p:spPr>
          <a:xfrm>
            <a:off x="457200" y="2209680"/>
            <a:ext cx="4000680" cy="34862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152280" y="5638680"/>
            <a:ext cx="693432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s 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http://hubblesite.org/newscenter/archive/releases/star/supernova/2004/0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http://chandra.harvard.edu/photo/2009/cas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our Universe made of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nd pla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thing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lack ho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ener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676520" y="1981080"/>
            <a:ext cx="41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What was in your drawing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pleiad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666880"/>
            <a:ext cx="29718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3962520" y="6248520"/>
            <a:ext cx="495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galileo.rice.edu/lib/student_work/astronomy95/orionpleiade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utron Star or Puls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4" name="Picture 5" descr="large_web"/>
          <p:cNvPicPr/>
          <p:nvPr/>
        </p:nvPicPr>
        <p:blipFill>
          <a:blip r:embed="rId1"/>
          <a:stretch/>
        </p:blipFill>
        <p:spPr>
          <a:xfrm>
            <a:off x="2819520" y="137160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228600" y="640080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supernova-remnant/2002/2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web_print"/>
          <p:cNvPicPr/>
          <p:nvPr/>
        </p:nvPicPr>
        <p:blipFill>
          <a:blip r:embed="rId1"/>
          <a:srcRect l="1435" t="1600" r="1435" b="1600"/>
          <a:stretch/>
        </p:blipFill>
        <p:spPr>
          <a:xfrm>
            <a:off x="2863800" y="853920"/>
            <a:ext cx="6188040" cy="5531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343080"/>
            <a:ext cx="2819520" cy="1180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ck Ho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85800" y="6583320"/>
            <a:ext cx="78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2002/3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ifying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izes (dwarf, large, gia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hapes and class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lipti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ntic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reg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fairly close together, relative to their siz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pir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flat disk, spiral arms, central bulge, and a surrounding h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have a “barred” bul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fairly large (no dwarf spira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lots of gas and dust and younger stars in their arms, but older stars and little gas or dust in their halos and central bul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5" name="Picture 3" descr="web"/>
          <p:cNvPicPr/>
          <p:nvPr/>
        </p:nvPicPr>
        <p:blipFill>
          <a:blip r:embed="rId1"/>
          <a:stretch/>
        </p:blipFill>
        <p:spPr>
          <a:xfrm>
            <a:off x="762120" y="1981080"/>
            <a:ext cx="7305480" cy="41688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609480" y="632448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5/0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8" name="Picture 3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1828800" cy="4419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 on 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2" name="Picture 5" descr="hs-2006-24-a-large_web"/>
          <p:cNvPicPr/>
          <p:nvPr/>
        </p:nvPicPr>
        <p:blipFill>
          <a:blip r:embed="rId1"/>
          <a:stretch/>
        </p:blipFill>
        <p:spPr>
          <a:xfrm>
            <a:off x="3046320" y="-320760"/>
            <a:ext cx="6097680" cy="7178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304920" y="6583320"/>
            <a:ext cx="88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6/2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5" name="Picture 5" descr="hs-2007-41-a-large_web"/>
          <p:cNvPicPr/>
          <p:nvPr/>
        </p:nvPicPr>
        <p:blipFill>
          <a:blip r:embed="rId1"/>
          <a:stretch/>
        </p:blipFill>
        <p:spPr>
          <a:xfrm>
            <a:off x="1828800" y="0"/>
            <a:ext cx="6856560" cy="65991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2860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spherical to football shap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very small to g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very little gas or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ly old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ilar to the central bulge of a spiral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ity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enn diagrams to place the stickers—where does everything g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you’re finished, let’s discus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0" name="Picture 4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nticular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 disk but no a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little or no excess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4" descr="web"/>
          <p:cNvPicPr/>
          <p:nvPr/>
        </p:nvPicPr>
        <p:blipFill>
          <a:blip r:embed="rId1"/>
          <a:stretch/>
        </p:blipFill>
        <p:spPr>
          <a:xfrm>
            <a:off x="5562720" y="327672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0" y="640080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2/0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galaxy that isn’t a Spiral, Elliptical, or Lenti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have lots of gas and dust and you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have a distorted shape from interaction with anothe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0" name="Picture 3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lisions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ow think that galaxies in groups and clusters often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ilky Way is moving at 300,000 mph toward the Andromeda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may collide in about 5 billion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s don’t usually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orbits, gas piles up to form new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teract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1854360" y="1879560"/>
            <a:ext cx="4851360" cy="4572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457200" y="6583320"/>
            <a:ext cx="70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2000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Antennae or Mic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rcRect l="0" t="0" r="0" b="10000"/>
          <a:stretch/>
        </p:blipFill>
        <p:spPr>
          <a:xfrm>
            <a:off x="1219320" y="1384200"/>
            <a:ext cx="7302240" cy="49262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0" y="6583320"/>
            <a:ext cx="739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1997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hs-1999-16-a-large_web"/>
          <p:cNvPicPr/>
          <p:nvPr/>
        </p:nvPicPr>
        <p:blipFill>
          <a:blip r:embed="rId1"/>
          <a:stretch/>
        </p:blipFill>
        <p:spPr>
          <a:xfrm>
            <a:off x="5486400" y="0"/>
            <a:ext cx="3125880" cy="63435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304920" y="6400800"/>
            <a:ext cx="84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2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spiral/1999/1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8" descr="hs-2002-21-a-web"/>
          <p:cNvPicPr/>
          <p:nvPr/>
        </p:nvPicPr>
        <p:blipFill>
          <a:blip r:embed="rId4"/>
          <a:stretch/>
        </p:blipFill>
        <p:spPr>
          <a:xfrm>
            <a:off x="1066680" y="2895480"/>
            <a:ext cx="3333960" cy="3267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9"/>
          <p:cNvSpPr/>
          <p:nvPr/>
        </p:nvSpPr>
        <p:spPr>
          <a:xfrm>
            <a:off x="106668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ccasional results of two galaxies colliding: ringed galax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arious galaxies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(can you identify types?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1917720" y="1784520"/>
            <a:ext cx="4711680" cy="48448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990720" y="6324480"/>
            <a:ext cx="624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1999/3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massive black ho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most every medium to large galaxy we’ve check has a supermassive black hole at the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arger the galaxy, the more massive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don’t know which comes first, the galaxy or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think that these black holes are responsible for some of the galaxies with jets and lobes which give off radio waves, x-ray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ining the Compon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s and dust (Nebula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2286000" cy="1295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105160" cy="54799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838080" y="640080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0/3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t the center of a larg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271680" cy="2232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304920" y="6324480"/>
            <a:ext cx="8381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exotic/black-hole/1998/22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exotic/black%20hole/2000/21/image/a/format/web_print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6" descr="hs-2000-21-a-web_print"/>
          <p:cNvPicPr/>
          <p:nvPr/>
        </p:nvPicPr>
        <p:blipFill>
          <a:blip r:embed="rId4"/>
          <a:stretch/>
        </p:blipFill>
        <p:spPr>
          <a:xfrm>
            <a:off x="3814920" y="2133720"/>
            <a:ext cx="5329080" cy="35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34272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alaxy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ocal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the Milky Way, the Andromeda, and over 30 other smaller galax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irgo Clu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dreds to thousands of galaxies, 60 million light-years a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ant elliptical at center, formed by galactic cannibal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ocal Group is “falling” toward the Virgo Cluster at 60 to 250 miles per secon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a Clu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1" name="Picture 5" descr="hs-2008-24-a-large_web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304920" y="658332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2008/24/image/a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uperclusters!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sters are bound together in larger structures, called superclu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superclusters have been mapped, and are grouped into long st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 million to a billion light-years l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 to 300 million light-years 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only 10 to 30 million light-years th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between these strings are huge voids of galaxies, although some astronomers may have detected hot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volution of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6" name="Picture 5" descr="Portrait of a Galaxy's Life"/>
          <p:cNvPicPr/>
          <p:nvPr/>
        </p:nvPicPr>
        <p:blipFill>
          <a:blip r:embed="rId1"/>
          <a:stretch/>
        </p:blipFill>
        <p:spPr>
          <a:xfrm>
            <a:off x="1523880" y="2179800"/>
            <a:ext cx="5276880" cy="4221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533520" y="640080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7-05f_img01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143000" y="7632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igin of the Unive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600200" y="2057400"/>
            <a:ext cx="6629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 B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ant scientific theory about the origin of the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red ~13.7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Big Ba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Big Bang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800600" y="23320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initely dense point not governed by our physical laws or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matter and energy contained in one 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Picture 8" descr="An artist's view shows the colossal explosion that produced SN 2006gy (Illustration: NASA/CXC/M Weiss)"/>
          <p:cNvPicPr/>
          <p:nvPr/>
        </p:nvPicPr>
        <p:blipFill>
          <a:blip r:embed="rId1"/>
          <a:stretch/>
        </p:blipFill>
        <p:spPr>
          <a:xfrm>
            <a:off x="1371600" y="28954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9"/>
          <p:cNvSpPr/>
          <p:nvPr/>
        </p:nvSpPr>
        <p:spPr>
          <a:xfrm>
            <a:off x="1066680" y="6019920"/>
            <a:ext cx="533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newscientist.com/articleimages/dn11799/0-did-antimatter-factory-spark-brightest-supernova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Hyperactive galaxy"/>
          <p:cNvPicPr/>
          <p:nvPr/>
        </p:nvPicPr>
        <p:blipFill>
          <a:blip r:embed="rId1">
            <a:lum contrast="-5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ilding a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stantaneous filling of space with all mat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03200" y="1943280"/>
            <a:ext cx="8740800" cy="491472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3716280" cy="129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228600" y="1828800"/>
            <a:ext cx="86104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43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gravity separates from other fo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to 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2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fundamental particles -  quarks an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6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quarks combine into protons and neu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 seco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magnetic and weak nuclear forces sepa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3 minut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protons and neutrons combine into atomic nucl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year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ns join nuclei to make atoms; light is e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-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years - matter collapses into clouds, making galaxies and st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2765880" y="6578640"/>
            <a:ext cx="49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Nebula - http://stardate.utexas.edu/resources/ssguide/planet_form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1752480" cy="5410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erent types of sta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Picture 3" descr="large_web"/>
          <p:cNvPicPr/>
          <p:nvPr/>
        </p:nvPicPr>
        <p:blipFill>
          <a:blip r:embed="rId1"/>
          <a:stretch/>
        </p:blipFill>
        <p:spPr>
          <a:xfrm>
            <a:off x="1724040" y="276120"/>
            <a:ext cx="7419960" cy="65818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04920" y="6400800"/>
            <a:ext cx="746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3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4" name="Picture 3" descr="universe cosmos big bang theory"/>
          <p:cNvPicPr/>
          <p:nvPr/>
        </p:nvPicPr>
        <p:blipFill>
          <a:blip r:embed="rId1"/>
          <a:stretch/>
        </p:blipFill>
        <p:spPr>
          <a:xfrm>
            <a:off x="1905120" y="1981080"/>
            <a:ext cx="5952960" cy="42865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4"/>
          <p:cNvSpPr/>
          <p:nvPr/>
        </p:nvSpPr>
        <p:spPr>
          <a:xfrm>
            <a:off x="533520" y="6583320"/>
            <a:ext cx="80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dsc.discovery.com/space/top-10/strange-universe/space-10-weirdest-things-universe-10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er Hist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7" name="Picture 3" descr="Baby Galaxies in an Adult Universe"/>
          <p:cNvPicPr/>
          <p:nvPr/>
        </p:nvPicPr>
        <p:blipFill>
          <a:blip r:embed="rId1"/>
          <a:stretch/>
        </p:blipFill>
        <p:spPr>
          <a:xfrm>
            <a:off x="914400" y="1722600"/>
            <a:ext cx="6137280" cy="49082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4"/>
          <p:cNvSpPr/>
          <p:nvPr/>
        </p:nvSpPr>
        <p:spPr>
          <a:xfrm>
            <a:off x="457200" y="65833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4-01r_img02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g Bang The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0" name="Picture 4" descr="Albert Einstein at the chalkboard"/>
          <p:cNvPicPr/>
          <p:nvPr/>
        </p:nvPicPr>
        <p:blipFill>
          <a:blip r:embed="rId1"/>
          <a:stretch/>
        </p:blipFill>
        <p:spPr>
          <a:xfrm>
            <a:off x="5486400" y="33526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4724280" y="62485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map.gsfc.nasa.gov/universe/bb_theor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15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bert Einstei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ncluded that the universe could not be static based on his recently-discovered theory of relativity  and 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ded a "cosmological constant" to the theory of relativity because astronomers assured him that the universe was sta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eksandr Friedmann and Abbe George LeMaitre are credited with developing the basics of the Big Bang model between 1922 and 1927; their calculations suggested tha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universe is expand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not stati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ears later, Einstein called his cosmological constant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biggest mistake of his care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xpanding Univers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114440" y="2057400"/>
            <a:ext cx="48006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4" descr="Expand Image"/>
          <p:cNvPicPr/>
          <p:nvPr/>
        </p:nvPicPr>
        <p:blipFill>
          <a:blip r:embed="rId1"/>
          <a:stretch/>
        </p:blipFill>
        <p:spPr>
          <a:xfrm>
            <a:off x="228600" y="2362320"/>
            <a:ext cx="3905280" cy="2295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228600" y="6324480"/>
            <a:ext cx="624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4197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ubble’s Evide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3407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ppler shifting - wavelength emitted by something moving away from us is shifted to a lower frequ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nd of a fire truck siren - pitch of the siren is higher as the fire truck moves towards you, and lower as it moves away from yo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sible wavelengths emitted by objects moving away from us are shifted towards the red part of the visible spectr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faster they move away from us, the more they are redshifted. Thus, redshift is a reasonable way to measure the speed of an obj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we observe the redshift of galaxies, almost every galaxy appears to be moving away from us – the Universe is expandi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dictions for the Big Bang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expansion of the Univer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dwin Hubble's 1929 observation that galaxies were generally receding from us provided the first clue that the Big Bang theory might be ri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bundance of the light elements H, He, L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Big Bang theory predicts that these light elements should have been fused from protons and neutrons in the first few minutes after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osmic microwave background (CMB)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early universe should have been very hot. The cosmic microwave background radiation is the remnant heat leftover from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vidence for Big Ba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3407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d shif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as light from distant galaxies approach earth there is an increase of space between earth and the galaxy, which leads to wavelengths being stretc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64, Arno Penzias and Robert Wilson, discovered a noise of extraterrestrial origin that came from all directions at once -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left over from the Big Ba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June 1995, scientists detected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eliu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the far reaches of the universe - consistent with an important aspect of the Big Bang theory that a mixture of hydrogen (75%) and helium (25%) was created at the beginning of the uni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763120" cy="687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Did the Universe Form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9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13.7 billion years ag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know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preading (Red Shif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distances, rates of retreat, relative posi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vasi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ackground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2.7°C abo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lute ze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afterglow of the Big B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5" descr="cosmic_radiation"/>
          <p:cNvPicPr/>
          <p:nvPr/>
        </p:nvPicPr>
        <p:blipFill>
          <a:blip r:embed="rId1"/>
          <a:stretch/>
        </p:blipFill>
        <p:spPr>
          <a:xfrm>
            <a:off x="228600" y="3200400"/>
            <a:ext cx="4495680" cy="23893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6"/>
          <p:cNvSpPr/>
          <p:nvPr/>
        </p:nvSpPr>
        <p:spPr>
          <a:xfrm>
            <a:off x="990720" y="6477120"/>
            <a:ext cx="269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ttp://timeline.aps.org/APS/resources/85_06a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33520" y="213372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smic background radiation temperature on celestial 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S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l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ore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14:04:25Z</dcterms:created>
  <dc:creator>Christine Shupla</dc:creator>
  <dc:description/>
  <dc:language>en-US</dc:language>
  <cp:lastModifiedBy>LEGION</cp:lastModifiedBy>
  <dcterms:modified xsi:type="dcterms:W3CDTF">2018-03-22T10:17:58Z</dcterms:modified>
  <cp:revision>50</cp:revision>
  <dc:subject/>
  <dc:title>Stars and Galaxies</dc:title>
</cp:coreProperties>
</file>