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FDE9-8979-45A2-B51D-6F311FAA4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nstellations of our Galaxy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stellations of our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Y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Y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NO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NO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As Earth orbits the Sun, our perspective chang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all stars appear in different positions at different times of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As Earth orbits the Sun, our perspective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stars appear in different positions at different times of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As Earth orbits the Sun, our perspective chang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all stars appear in different positions at different times of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all stars appear in different positions at different times of the year? All except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is Polaris the only star that appears “fixed”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stars appear in different positions at different times of the year? All except Pol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Polaris the only star that appears “fixed”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all stars appear in different positions at different times of the year? All except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y is Polaris the only star that appears “fixed”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all stars appear in different positions at different times of the year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is Polaris the only star that appears “fixed”? Earth’s axis points to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stars appear in different positions at different times of the y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Polaris the only star that appears “fixed”? Earth’s axis points to Pol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all stars appear in different positions at different times of the year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y is Polaris the only star that appears “fixed”? Earth’s axis points to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rn under the sign of…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Born under the sign of…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under the sign of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k: Scorpio (Oct 23 and 21 Nov 21)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giant scorpion sent forth by Gaia to slay ORION when he threatened to slay all the beasts of the earth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 is “paired” with Orion, which leaves the sky when Scorpio appears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: Scorpio (Oct 23 and 21 Nov 2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iant scorpion sent forth by Gaia to slay ORION when he threatened to slay all the beasts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 is “paired” with Orion, which leaves the sky when Scorpio app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ion the Hunter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on the Hu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kota: The Hand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kota: The H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your own conste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ign your own constell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 Earth’s revolving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 Earth’s revol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 Earth’s revolving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728DF-829C-4A0F-A53A-25196B9FC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E1870-5930-4A44-B14A-B1EDD5C9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8245A-9417-40EE-AC4A-B22335E34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A4AD7-BF79-405C-8D98-852AD607E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8208-04C2-4446-A7D2-A4E4B9EC9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20B3-8891-4642-AB02-44A1F5ED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ED5A-9384-4F67-B3FC-A191670E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4B98-1F8C-4B99-9B07-20216719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852F-1B1A-46B9-A6C3-442C3D42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E6D1-3FEE-4F4E-BF35-3B722CF4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F07F-A418-4DE7-864F-41121642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9F79D-77FB-4332-B86F-D30EC974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47FE-643E-4724-B428-A24E5138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3EEC-1895-40C5-9817-1CBCB705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2B62B-6692-42F4-AD60-3236D62E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06A0-B791-4F00-B582-F8F527325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2DEA-30EB-45F1-86C1-7FF3D250B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97A67-3B37-4B9E-907A-47316729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2F505-1F22-4FCB-B7BD-58142A8F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55CFD-0835-4F07-B2E3-29ED0193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FCAF8-80BB-4BED-B8AD-50AB710A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01DDB-D43F-43A7-A1CE-190C88F0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F9F61-CBB8-4005-A9FE-AE595564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64296-198D-43EF-BE42-5AD253FF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7904-1A41-4592-81A1-94FC84E0C0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DB18-7681-40ED-9575-C463DCD5CB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n.wikipedia.org/wiki/File:Orionurania.jpg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TAR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onstellations of our Galax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Нижний колонтитул 3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Y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As Earth orbits the Sun, our perspective chang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all stars appear in different positions at different times of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all stars appear in different positions at different times of the year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All except Polar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y is Polaris the only star that appears “fixed”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80880" y="14479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all stars appear in different positions at different times of the year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y is Polaris the only star that appears “fixed”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Earth’s axis points to Polar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112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orn under the sign of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Picture 5" descr="Earth, Sun, and constellation Leo in alignment."/>
          <p:cNvPicPr/>
          <p:nvPr/>
        </p:nvPicPr>
        <p:blipFill>
          <a:blip r:embed="rId1"/>
          <a:stretch/>
        </p:blipFill>
        <p:spPr>
          <a:xfrm>
            <a:off x="0" y="2230560"/>
            <a:ext cx="9144000" cy="2341440"/>
          </a:xfrm>
          <a:prstGeom prst="rect">
            <a:avLst/>
          </a:prstGeom>
          <a:ln w="0">
            <a:noFill/>
          </a:ln>
        </p:spPr>
      </p:pic>
      <p:sp>
        <p:nvSpPr>
          <p:cNvPr id="115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reek: Scorpio (</a:t>
            </a: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Oct 23 and 21 Nov 21)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8765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giant scorpion sent forth by Gaia to slay ORION when he threatened to slay all the beasts of the earth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tellation is “paired” with Orion, which leaves the sky when Scorpio appea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5" descr="This is the &lt;a href=&quot;/the_universe/Constellations/summer/scorpio.html&quot;&gt;Greek constellation Scorpius&lt;/a&gt;, the scorpion. It contains a bright star, &lt;a href=&quot;/the_universe/antares.html&quot;&gt;Antares&lt;/a&gt;, that is part of the scorpion's tail.  To the ancient Greeks, Scorpius was related to the death of the hunter &lt;a href=&quot;/mythology/orion.html&quot;&gt;Orion&lt;/a&gt;.&lt;p&gt;&lt;small&gt;&lt;em&gt;&lt;/em&gt;&lt;/small&gt;&lt;/p&gt;"/>
          <p:cNvPicPr/>
          <p:nvPr/>
        </p:nvPicPr>
        <p:blipFill>
          <a:blip r:embed="rId1"/>
          <a:stretch/>
        </p:blipFill>
        <p:spPr>
          <a:xfrm>
            <a:off x="762120" y="236232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119" name="Нижний колонтитул 4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ion the Hunt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5" descr="210px-Orionurani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295280"/>
            <a:ext cx="3824280" cy="5481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File:Orion-guide dark.svg"/>
          <p:cNvPicPr/>
          <p:nvPr/>
        </p:nvPicPr>
        <p:blipFill>
          <a:blip r:embed="rId4"/>
          <a:stretch/>
        </p:blipFill>
        <p:spPr>
          <a:xfrm>
            <a:off x="4572000" y="1447920"/>
            <a:ext cx="4572000" cy="5257800"/>
          </a:xfrm>
          <a:prstGeom prst="rect">
            <a:avLst/>
          </a:prstGeom>
          <a:ln w="0">
            <a:noFill/>
          </a:ln>
        </p:spPr>
      </p:pic>
      <p:sp>
        <p:nvSpPr>
          <p:cNvPr id="124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akota: The Han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91120" y="1447920"/>
            <a:ext cx="4952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5" descr="orion_hand_big"/>
          <p:cNvPicPr/>
          <p:nvPr/>
        </p:nvPicPr>
        <p:blipFill>
          <a:blip r:embed="rId1"/>
          <a:stretch/>
        </p:blipFill>
        <p:spPr>
          <a:xfrm>
            <a:off x="380880" y="1600200"/>
            <a:ext cx="3524400" cy="4952880"/>
          </a:xfrm>
          <a:prstGeom prst="rect">
            <a:avLst/>
          </a:prstGeom>
          <a:ln w="0">
            <a:noFill/>
          </a:ln>
        </p:spPr>
      </p:pic>
      <p:sp>
        <p:nvSpPr>
          <p:cNvPr id="128" name="Нижний колонтитул 4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sign your own constell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Earth’s revolv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17:03:08Z</dcterms:created>
  <dc:creator>QuarkNet</dc:creator>
  <dc:description/>
  <dc:language>en-US</dc:language>
  <cp:lastModifiedBy>LEGION</cp:lastModifiedBy>
  <dcterms:modified xsi:type="dcterms:W3CDTF">2018-03-22T10:12:07Z</dcterms:modified>
  <cp:revision>8</cp:revision>
  <dc:subject/>
  <dc:title>STARS</dc:title>
</cp:coreProperties>
</file>