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D678-AB13-49DE-BCBB-884E607A8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6C24-319D-4503-AB3D-9C693EF03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27543-4EB8-483B-B3FA-632404A7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AB2B-CAEE-476D-8A07-0C7D35A7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6FDD1-6783-49EF-AFF5-CFC321BA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931B-C766-4E0B-96C2-43AF13F8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CE05-13DF-4043-9FA0-876B612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17F8-C169-4CA9-8B2F-ED97A46B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284D-D159-48AB-856F-C5F58D56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7795-D94A-4148-93E5-462D34BB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2FAF-3F87-4A0C-BB46-444AFD6D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F83F-6271-4262-B097-A2291D3B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F69CB-6549-448F-AA61-FE98811E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9185-B1B8-4C1B-897F-32EDE18C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1305-74AB-430A-8554-D93FB17A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3B40-2BD9-4684-80FA-5533B66D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F976-6AD6-4139-8B9C-0F92E913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9A2B-FA85-4643-B95E-197A91D8A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679DC-FD32-4CAB-B3DC-32A9B04F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7123-6498-4481-B045-7989535D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D8E04-FD5A-4D44-B5A8-6637519D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F5C5D-4F6F-45B1-A874-37125BB7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CF211-4E98-4027-A79F-F975AC2E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5B652-7104-4D2D-90AD-0D653CB2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A87A-7C63-4EC1-BFBB-91373103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51D9-4DE4-476C-A1EF-09BA095057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20AC-B49C-4639-A0FA-4CCDB7DBD0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8-03-22T10:12:07Z</dcterms:modified>
  <cp:revision>8</cp:revision>
  <dc:subject/>
  <dc:title>STARS</dc:title>
</cp:coreProperties>
</file>