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12F7-71E9-4281-8945-AB4391CF49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ellation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Y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NO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As Earth orbits the Sun, our perspective chang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 All except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constellations themselves moving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this apparent change in positio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Are the constellations themselves moving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causes this apparent change in positions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all stars appear in different positions at different times of the year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y is Polaris the only star that appears “fixed”? Earth’s axis points to Polar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Born under the sign of…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under the sign of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k: Scorpio (Oct 23 and 21 Nov 2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iant scorpion sent forth by Gaia to slay ORION when he threatened to slay all the beasts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 is “paired” with Orion, which leaves the sky when Scorpio 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ion the Hunt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the Hu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kota: The H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sign your own constellati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el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Constellation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hat is changing at the same (annual) timescale that we are observing the changing zodiac? Earth’s revolving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Do the constellations appear to change positions in the night sky as Earth travels around our Sun throughout the year?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MS PGothic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41C07-3AF9-4233-9B37-3C1AAB08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F970A-1892-4568-B09F-42222983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147BA-8510-4903-9037-815D9B69A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6E074-2CBB-49C6-A73E-DCDA5323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9040-0D26-42DA-BDA3-7C011ED09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54089-9E2B-4607-8B4C-B1ADFE8F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4703-AEB6-4848-B1A8-F8F2BA4D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4FAD-8D94-4280-800A-28209F3F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AC4A-16B4-4E3D-A191-6A7D1B61F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E6D3-02B4-43E9-BB7A-C344F724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82DF-5E72-4ED4-9CD8-B3B8DE5B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0E5B-D34B-4FF9-99F8-29AF2A05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510A-33E2-489B-9BA1-B9C5B3E02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8A4B0-CFCF-4D94-B66D-CD16166E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BA22-2920-4787-94F0-65357E16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82D0-D4F6-4411-AF82-7E8498502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4D21-7B2A-4F04-9A90-CAAC16996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2E167-9329-4F90-87F4-36C2BC22D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9150-4A90-464A-B4D2-1F27B02F0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FD17A-F64C-47B3-B58E-77747DEA7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9283C-1847-45CE-A2D6-7E143861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28D72-238B-4009-AA44-6E7BC741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34BDE-D74A-4B06-B5EB-FFFBE54B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C5FF0-9157-4790-A9A7-33D39E89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0F9D-C8DB-48C5-BEFD-96A7D48A862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B3C5-CD9C-4DA9-A4F7-3B24F926DDF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n.wikipedia.org/wiki/File:Orionurania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TA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Constellations of our Galax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Нижний колонтитул 3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Y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N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s Earth orbits the Sun, our perspective chan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All except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808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re the constellations themselves moving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causes this apparent change in positions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all stars appear in different positions at different times of the yea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y is Polaris the only star that appears “fixed”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axis points to Polar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172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112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rn under the sign of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4" name="Picture 5" descr="Earth, Sun, and constellation Leo in alignment."/>
          <p:cNvPicPr/>
          <p:nvPr/>
        </p:nvPicPr>
        <p:blipFill>
          <a:blip r:embed="rId1"/>
          <a:stretch/>
        </p:blipFill>
        <p:spPr>
          <a:xfrm>
            <a:off x="0" y="2230560"/>
            <a:ext cx="9144000" cy="2341440"/>
          </a:xfrm>
          <a:prstGeom prst="rect">
            <a:avLst/>
          </a:prstGeom>
          <a:ln w="0">
            <a:noFill/>
          </a:ln>
        </p:spPr>
      </p:pic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eek: Scorpio (</a:t>
            </a: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Oct 23 and 21 Nov 21)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765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 giant scorpion sent forth by Gaia to slay ORION when he threatened to slay all the beasts of the earth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ellation is “paired” with Orion, which leaves the sky when Scorpio appear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5" descr="This is the &lt;a href=&quot;/the_universe/Constellations/summer/scorpio.html&quot;&gt;Greek constellation Scorpius&lt;/a&gt;, the scorpion. It contains a bright star, &lt;a href=&quot;/the_universe/antares.html&quot;&gt;Antares&lt;/a&gt;, that is part of the scorpion's tail.  To the ancient Greeks, Scorpius was related to the death of the hunter &lt;a href=&quot;/mythology/orion.html&quot;&gt;Orion&lt;/a&gt;.&lt;p&gt;&lt;small&gt;&lt;em&gt;&lt;/em&gt;&lt;/small&gt;&lt;/p&gt;"/>
          <p:cNvPicPr/>
          <p:nvPr/>
        </p:nvPicPr>
        <p:blipFill>
          <a:blip r:embed="rId1"/>
          <a:stretch/>
        </p:blipFill>
        <p:spPr>
          <a:xfrm>
            <a:off x="762120" y="23623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119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rion the Hunt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210px-Orionurani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295280"/>
            <a:ext cx="3824280" cy="5481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File:Orion-guide dark.svg"/>
          <p:cNvPicPr/>
          <p:nvPr/>
        </p:nvPicPr>
        <p:blipFill>
          <a:blip r:embed="rId4"/>
          <a:stretch/>
        </p:blipFill>
        <p:spPr>
          <a:xfrm>
            <a:off x="4572000" y="1447920"/>
            <a:ext cx="4572000" cy="5257800"/>
          </a:xfrm>
          <a:prstGeom prst="rect">
            <a:avLst/>
          </a:prstGeom>
          <a:ln w="0">
            <a:noFill/>
          </a:ln>
        </p:spPr>
      </p:pic>
      <p:sp>
        <p:nvSpPr>
          <p:cNvPr id="124" name="Нижний колонтитул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akota: The Ha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447920"/>
            <a:ext cx="4952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5" descr="orion_hand_big"/>
          <p:cNvPicPr/>
          <p:nvPr/>
        </p:nvPicPr>
        <p:blipFill>
          <a:blip r:embed="rId1"/>
          <a:stretch/>
        </p:blipFill>
        <p:spPr>
          <a:xfrm>
            <a:off x="380880" y="1600200"/>
            <a:ext cx="3524400" cy="4952880"/>
          </a:xfrm>
          <a:prstGeom prst="rect">
            <a:avLst/>
          </a:prstGeom>
          <a:ln w="0">
            <a:noFill/>
          </a:ln>
        </p:spPr>
      </p:pic>
      <p:sp>
        <p:nvSpPr>
          <p:cNvPr id="128" name="Нижний колонтитул 4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ign your own constell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nstell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is changing at the same (annual) timescale that we are observing the changing zodiac? </a:t>
            </a:r>
            <a:r>
              <a:rPr b="0" lang="en-US" sz="2800" spc="-1" strike="noStrike">
                <a:solidFill>
                  <a:srgbClr val="ffff00"/>
                </a:solidFill>
                <a:latin typeface="Garamond"/>
              </a:rPr>
              <a:t>Earth’s revolv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 the constellations appear to change positions in the night sky as Earth travels around our Sun throughout the year?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Нижний колонтитул 3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0T17:03:08Z</dcterms:created>
  <dc:creator>QuarkNet</dc:creator>
  <dc:description/>
  <dc:language>en-US</dc:language>
  <cp:lastModifiedBy>LEGION</cp:lastModifiedBy>
  <dcterms:modified xsi:type="dcterms:W3CDTF">2018-03-22T10:12:07Z</dcterms:modified>
  <cp:revision>8</cp:revision>
  <dc:subject/>
  <dc:title>STARS</dc:title>
</cp:coreProperties>
</file>