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A201A-C25A-4199-9C58-50871E2620D9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PAC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star (our sun )is part of a galaxy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planet (earth) orbits a star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moon (our moon) orbits a planet (earth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star (our sun )is part of a galax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planet (earth) orbits a st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 moon (our moon) orbits a planet (eart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PAC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adio waves are detected by large curved dishes similar to the dish aerials in T.V. system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adio waves are detected by large curved dishes similar to the dish aerials in T.V. system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PAC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ne light year is the distance travelled by light in a year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t takes light from the sun 8 minutes to get to the earth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light year is the distance travelled by light in a yea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takes light from the sun 8 minutes to get to the eart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PAC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t takes 4 light years for light to reach the nearest star (alpha centauri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t takes light 100,000 light years to get to the edge of our galaxy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takes 4 light years for light to reach the nearest star (alpha centaur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takes light 100,000 light years to get to the edge of our galax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PAC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re are two types of telescope ,the refractor and the reflector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two types of telescope ,the refractor and the reflec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PAC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refractor works by light bending or refracting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reflector works by light reflecting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fractor works by light bending or refrac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flector works by light reflect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Refracting Telescop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refracting telescope consist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f  two convex lense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objective lens collects ligh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rom distant objects such as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lanets and stars.  It forms an image of them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eyepiece lens then magnifies this image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fracting Telescop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fracting telescope consis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  two convex len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bjective lens collects l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distant objects such a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ets and stars.  It forms an image of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eyepiece lens then magnifies this im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PAC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PACE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Use can be made of  light ,radio and micro waves from the electromagnetic spectrum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A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 can be made of  light ,radio and micro waves from the electromagnetic spectru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0DA6F-AF04-40AB-82E9-3D780ADB2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56DEA-F905-450E-BE84-3B7756D60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ADC90-DED3-443F-84F3-2DB7A59CB7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8DF71-E98E-4F5D-93C3-3957B97EB0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73629E-EB66-412E-8FD2-1E2250401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601DD-D578-487E-8760-A13AE3CC14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E299DB-33E4-40AC-B5AF-86258374F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0E877-55B9-4C53-8EA5-2E633BFD3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3FC6F-1D7C-40F5-ACA5-874A1DE8F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382F2-5BA3-4110-8DCE-2951C32DF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34E2A-B4E1-4C52-876E-2393B095B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63EC9-BCB8-475B-8CCB-7129B1A8C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4E007-15F8-4C7A-809F-5C155F302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84778-1D80-4560-B1AB-F8E43B22B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64077-497E-4A3C-AF98-EBCFF25B4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2F237-9E31-46C3-8D9D-A81D8F5AC2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85DF1-9AE3-4D03-9CAE-08084169B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17512-DB11-4444-BB07-9805666DE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7AC16-4188-4B18-811C-71FD9C1C2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82254-65CB-491B-9760-70BD041B4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52908-8A3E-405E-8812-C3C5EB7B7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09695-0755-4F72-8A99-CED449F52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5DDEF-2F74-4F06-B4E0-516D4200D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4F789-8FC4-4471-A2FE-ECBF7F82E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D2153-FD80-4C1B-BB6B-81804E81BAC6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80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AE1A2-AF61-4D7A-97A1-82FD1E3472A3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5"/>
          <p:cNvSpPr/>
          <p:nvPr/>
        </p:nvSpPr>
        <p:spPr>
          <a:xfrm flipV="1">
            <a:off x="1066680" y="640440"/>
            <a:ext cx="662940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f515"/>
                </a:solidFill>
                <a:latin typeface="Tahoma"/>
              </a:rPr>
              <a:t>SPAC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66ff"/>
                </a:solidFill>
                <a:latin typeface="Tahoma"/>
              </a:rPr>
              <a:t>A star (our sun )is part of a galaxy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66ff"/>
                </a:solidFill>
                <a:latin typeface="Tahoma"/>
              </a:rPr>
              <a:t>A planet (earth) orbits a star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66ff"/>
                </a:solidFill>
                <a:latin typeface="Tahoma"/>
              </a:rPr>
              <a:t>A moon (our moon) orbits a planet (earth)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Нижний колонтитул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2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8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3" dur="2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8" dur="20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3" dur="20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f515"/>
                </a:solidFill>
                <a:latin typeface="Tahoma"/>
              </a:rPr>
              <a:t>SPAC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66ff"/>
                </a:solidFill>
                <a:latin typeface="Tahoma"/>
              </a:rPr>
              <a:t>Radio waves are detected by large curved dishes similar to the dish aerials in T.V. system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3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f515"/>
                </a:solidFill>
                <a:latin typeface="Tahoma"/>
              </a:rPr>
              <a:t>SPAC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 algn="ctr"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66ff"/>
                </a:solidFill>
                <a:latin typeface="Tahoma"/>
              </a:rPr>
              <a:t>One light year is the distance travelled by light in a year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 algn="ctr"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66ff"/>
                </a:solidFill>
                <a:latin typeface="Tahoma"/>
              </a:rPr>
              <a:t>It takes light from the sun 8 minutes to get to the earth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7" dur="5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f515"/>
                </a:solidFill>
                <a:latin typeface="Tahoma"/>
              </a:rPr>
              <a:t>SPAC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66ff"/>
                </a:solidFill>
                <a:latin typeface="Tahoma"/>
              </a:rPr>
              <a:t>It takes 4 light years for light to reach the nearest star (alpha centauri)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90000"/>
              </a:lnSpc>
              <a:spcBef>
                <a:spcPts val="11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800" spc="-1" strike="noStrike">
                <a:solidFill>
                  <a:srgbClr val="0066ff"/>
                </a:solidFill>
                <a:latin typeface="Tahoma"/>
              </a:rPr>
              <a:t>It takes light 100,000 light years to get to the edge of our galaxy.</a:t>
            </a:r>
            <a:endParaRPr b="0" lang="en-US" sz="4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9" dur="2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4" dur="2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9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4" dur="2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9" dur="2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4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9" dur="2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4" dur="2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f515"/>
                </a:solidFill>
                <a:latin typeface="Tahoma"/>
              </a:rPr>
              <a:t>SPAC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5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000" spc="-1" strike="noStrike">
                <a:solidFill>
                  <a:srgbClr val="0066ff"/>
                </a:solidFill>
                <a:latin typeface="Tahoma"/>
              </a:rPr>
              <a:t>There are two types of telescope ,the refractor and the reflector.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nodeType="clickEffect" fill="hold">
                      <p:stCondLst>
                        <p:cond delay="indefinite"/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0" dur="2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5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0" dur="2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f515"/>
                </a:solidFill>
                <a:latin typeface="Tahoma"/>
              </a:rPr>
              <a:t>SPAC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66ff"/>
                </a:solidFill>
                <a:latin typeface="Tahoma"/>
              </a:rPr>
              <a:t>The refractor works by light bending or refracting.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spcBef>
                <a:spcPts val="1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66ff"/>
                </a:solidFill>
                <a:latin typeface="Tahoma"/>
              </a:rPr>
              <a:t>The reflector works by light reflecting.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7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2" dur="2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7" dur="20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32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37" dur="2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42" dur="20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566640"/>
                <a:tab algn="l" pos="1133640"/>
                <a:tab algn="l" pos="1700280"/>
                <a:tab algn="l" pos="2266920"/>
                <a:tab algn="l" pos="2833560"/>
                <a:tab algn="l" pos="3400560"/>
                <a:tab algn="l" pos="3967200"/>
                <a:tab algn="l" pos="4533840"/>
                <a:tab algn="l" pos="5100480"/>
                <a:tab algn="l" pos="5667480"/>
                <a:tab algn="l" pos="6234120"/>
                <a:tab algn="l" pos="6800760"/>
                <a:tab algn="l" pos="7367760"/>
                <a:tab algn="l" pos="7934400"/>
                <a:tab algn="l" pos="8501040"/>
                <a:tab algn="l" pos="9067680"/>
                <a:tab algn="l" pos="9634680"/>
                <a:tab algn="l" pos="10201320"/>
                <a:tab algn="l" pos="10767960"/>
              </a:tabLst>
            </a:pPr>
            <a:r>
              <a:rPr b="0" lang="en-GB" sz="4400" spc="-1" strike="noStrike">
                <a:solidFill>
                  <a:srgbClr val="ff9900"/>
                </a:solidFill>
                <a:latin typeface="Tahoma"/>
              </a:rPr>
              <a:t>The Refracting Telescop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Text Box 4"/>
          <p:cNvSpPr/>
          <p:nvPr/>
        </p:nvSpPr>
        <p:spPr>
          <a:xfrm>
            <a:off x="0" y="1295280"/>
            <a:ext cx="8915400" cy="801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4000" spc="-1" strike="noStrike">
                <a:solidFill>
                  <a:srgbClr val="0066ff"/>
                </a:solidFill>
                <a:latin typeface="Tahoma"/>
              </a:rPr>
              <a:t>The refracting telescope consist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4000" spc="-1" strike="noStrike">
                <a:solidFill>
                  <a:srgbClr val="0066ff"/>
                </a:solidFill>
                <a:latin typeface="Tahoma"/>
              </a:rPr>
              <a:t>of  two convex lenses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4000" spc="-1" strike="noStrike">
                <a:solidFill>
                  <a:srgbClr val="0066ff"/>
                </a:solidFill>
                <a:latin typeface="Tahoma"/>
              </a:rPr>
              <a:t>The objective lens collects ligh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4000" spc="-1" strike="noStrike">
                <a:solidFill>
                  <a:srgbClr val="0066ff"/>
                </a:solidFill>
                <a:latin typeface="Tahoma"/>
              </a:rPr>
              <a:t>from distant objects such as 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4000" spc="-1" strike="noStrike">
                <a:solidFill>
                  <a:srgbClr val="0066ff"/>
                </a:solidFill>
                <a:latin typeface="Tahoma"/>
              </a:rPr>
              <a:t>planets and stars.  It forms an image of them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r>
              <a:rPr b="0" lang="en-GB" sz="4000" spc="-1" strike="noStrike">
                <a:solidFill>
                  <a:srgbClr val="0066ff"/>
                </a:solidFill>
                <a:latin typeface="Tahoma"/>
              </a:rPr>
              <a:t>The eyepiece lens then magnifies this image.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nodeType="clickEffect" fill="hold">
                      <p:stCondLst>
                        <p:cond delay="indefinite"/>
                      </p:stCondLst>
                      <p:childTnLst>
                        <p:par>
                          <p:cTn id="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f515"/>
                </a:solidFill>
                <a:latin typeface="Tahoma"/>
              </a:rPr>
              <a:t>SPAC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15" name="Picture 4" descr=""/>
          <p:cNvPicPr/>
          <p:nvPr/>
        </p:nvPicPr>
        <p:blipFill>
          <a:blip r:embed="rId1"/>
          <a:stretch/>
        </p:blipFill>
        <p:spPr>
          <a:xfrm>
            <a:off x="2255760" y="2567160"/>
            <a:ext cx="4632480" cy="2560320"/>
          </a:xfrm>
          <a:prstGeom prst="rect">
            <a:avLst/>
          </a:prstGeom>
          <a:ln w="57240">
            <a:solidFill>
              <a:srgbClr val="ff9900"/>
            </a:solidFill>
            <a:miter/>
          </a:ln>
        </p:spPr>
      </p:pic>
      <p:sp>
        <p:nvSpPr>
          <p:cNvPr id="116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0f515"/>
                </a:solidFill>
                <a:latin typeface="Tahoma"/>
              </a:rPr>
              <a:t>SPAC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34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400" spc="-1" strike="noStrike">
                <a:solidFill>
                  <a:srgbClr val="0066ff"/>
                </a:solidFill>
                <a:latin typeface="Tahoma"/>
              </a:rPr>
              <a:t>Use can be made of  light ,radio and micro waves from the electromagnetic spectrum.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Нижний колонтитул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2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2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20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1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0T17:42:04Z</dcterms:created>
  <dc:creator>wallan</dc:creator>
  <dc:description/>
  <dc:language>en-US</dc:language>
  <cp:lastModifiedBy>LEGION</cp:lastModifiedBy>
  <dcterms:modified xsi:type="dcterms:W3CDTF">2018-03-22T10:10:33Z</dcterms:modified>
  <cp:revision>33</cp:revision>
  <dc:subject/>
  <dc:title>basic space</dc:title>
</cp:coreProperties>
</file>