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6FB3-6AB1-4802-99F0-5C99665E41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93D-06F3-4740-88BF-DA61769B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82A-441C-4207-8467-C1408287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986-16FB-43CA-837A-1A35CEB0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E8D-7BC1-48FF-B87D-49F48E90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F6DB-F0E2-4EE3-B84F-F70A2B7C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9F16-F6D1-47F3-A802-04759778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220C-BE1C-40E9-AFB8-1147145C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1F6E-671B-47B9-8053-70F98F85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A3F5-38BF-47ED-98D4-0E2F7595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48E9-71F6-4255-8FBE-05C6C91C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4F36-9597-4D49-821B-7F9B84E4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E0B-FE7B-4DBA-B266-FC4A5396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5368-157C-4A96-9268-01224ACF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EEA6-84BE-41DD-A7C0-09C2B318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3D3A-1DE3-41BA-8C7B-4CFD1E5B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6054-5F69-4A16-867D-A33D4BFA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66B5-8B09-4F50-BCFD-0EF77153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D2F-9B14-4262-8F08-B1B3E51E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DAB-6C3F-42B5-848F-194D6B02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891-A31D-4E74-A45D-87E72B2B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FCA-0643-4112-8CF3-59FCF04B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376-CA28-4D99-AA49-F133824D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F4A-91F7-40DD-A97C-63E5411E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9B7-379E-445A-9188-C3230218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3189-8FB7-4CB6-8ED4-09877070DC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57B3-20BC-4DCC-9089-EE0855BF9D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8-03-22T10:10:33Z</dcterms:modified>
  <cp:revision>33</cp:revision>
  <dc:subject/>
  <dc:title>basic space</dc:title>
</cp:coreProperties>
</file>