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5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6BEA-0C38-4B24-A9EC-2714E55A11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2DA-C1EC-4C29-95CC-3D2E9767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67A-D80A-48DE-BF83-BA53EE34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29F-2654-4C06-8E1E-15AEF65E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07C-F05B-4B5C-9A4C-D21C9146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93BF-F6B4-4DF9-BF1F-F7A6C5B8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C676-F21A-4E5A-955B-80099C2A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B2E3-E57C-49EA-8D68-68463658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CC41-AB02-49C6-8EDA-89AEA2B8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E710-B22A-407B-8897-9FBE4AB0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461D-5AFF-4FA4-9D77-AC912DA7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2197-9C98-45F3-8D32-32847631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EB7-7B74-46F5-898E-FB5B2715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6650-E85B-49EB-9C2E-897FBFB0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FBEF-8DBB-4186-97B8-DEFF9350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5F6E-A3B0-4470-92F1-94626610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C171-4505-4721-A1EB-C1E76D5C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0AC4-1709-4292-A227-E31C85D7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530-6BBC-4A32-A233-CFB302C7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E49-5F39-4B32-BBCA-C8C2D338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7BD-4F40-4084-9176-12F45B9C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645-064E-4DCA-AC07-E7C81A6D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114-A7FD-4BBA-8E02-46F82B0E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DEB-BC8D-4092-B627-2B4C2F3C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909-A827-4645-BC55-1384408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EA7B-18FA-49FC-A0BE-501C5AABE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415C-F53E-4C03-997E-C5AD4E0A6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3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LEGION</cp:lastModifiedBy>
  <dcterms:modified xsi:type="dcterms:W3CDTF">2018-03-22T10:05:18Z</dcterms:modified>
  <cp:revision>12</cp:revision>
  <dc:subject>Part 2 of Solar System</dc:subject>
  <dc:title>Part 2 of Solar System</dc:title>
</cp:coreProperties>
</file>