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7821-3253-44C6-A0E0-2FA1C5E5A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94AE-D054-4C26-BE74-23A21B9A3A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cture was prepared on 1/23/2005 (Sund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me 5 hours (from 8:00pm to 1:00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090E-A76E-4ABD-8EFE-CDB6AAC776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07C1-7AE0-4A16-9BA8-E72F652E3C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7BAF-BBB7-49A5-AA49-24B500278C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7D2F-8712-49F7-A6AD-56450381E3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0F10-CBF4-4BAD-BB40-96CA176784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F5F3-682B-4CCF-BAD0-D6EF3813F6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F2D2-F186-4790-9659-0AE421F529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7580-5A11-4BD7-A048-5E4A8D3D10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7B10-D958-4975-853E-C5F32165E4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8F56-A64C-4E26-A291-CE8D511AFB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FA45-69D8-4929-A3BC-2C6BD8C0FB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2272-2E74-4015-9E67-472A25631E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D158-3AE5-4F9C-AB2D-49F2C63F3B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6908-20BA-4B24-8878-21EC7D8B8F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FC69-7CBA-46A9-A152-C3B0E9299B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5827-48AE-4B9C-9308-752024D326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816-B714-47B9-9F34-BDCB8D7B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48C-4734-400F-B30B-20C8270E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9A6-6FD8-44F2-9841-30148629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2BD-0B2E-4EF2-8A45-BBBC63D9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E10-8044-4F43-AD50-2AA560F1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BF3-F979-4A2B-A9EE-B8C890EE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413-8C53-4C8A-8289-5D5D9A48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5F5-A275-4ABC-B4DD-0A044883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DE1-8073-4BA3-8BC2-B9AE30EB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6C4-6583-4196-B71F-59EA2A62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2D5-D2C3-40E6-9BB6-A94D6816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672-90C1-442B-99CE-4EDE67FE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1D75-1B31-4396-B3F1-D50917B0F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8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Asus</cp:lastModifiedBy>
  <dcterms:modified xsi:type="dcterms:W3CDTF">2018-03-13T05:32:49Z</dcterms:modified>
  <cp:revision>237</cp:revision>
  <dc:subject/>
  <dc:title>Elements of the Sun; Solar Radiation</dc:title>
</cp:coreProperties>
</file>