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projctor.wav" ContentType="audio/x-wav"/>
  <Override PartName="/ppt/media/image1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glass.wav" ContentType="audio/x-wav"/>
  <Override PartName="/ppt/media/drumroll.wav" ContentType="audio/x-wav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133A-25BD-48E3-B44A-2F492F21E5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EDB-DCC6-4305-897F-20100CB0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9C0-6063-4EBA-987E-5A6C3540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B18-5824-4B52-86C6-DCEA6EEB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C83-F44A-4C92-B16D-E4934776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A73-2687-49AE-995B-78A5F14C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FC5-F29A-4C2B-9E63-4C88FB73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FC0-298E-4420-9CF1-C43D2618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C26-FD1F-4E91-AD4E-3FC8CC5C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F1A-5237-4104-BCC0-150ABF96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7DB-DCE7-4365-BD90-6461D874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5BF-A5E9-40F0-84A5-976848EC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7BB-360D-46AA-865A-E38BB365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17E8-EB5A-42B5-8135-1E2ED6690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un/" TargetMode="External"/><Relationship Id="rId2" Type="http://schemas.openxmlformats.org/officeDocument/2006/relationships/hyperlink" Target="http://www.enchantedlearning.com/subjects/astronomy/planets/mercury/" TargetMode="External"/><Relationship Id="rId3" Type="http://schemas.openxmlformats.org/officeDocument/2006/relationships/hyperlink" Target="http://www.enchantedlearning.com/subjects/astronomy/planets/venus/" TargetMode="External"/><Relationship Id="rId4" Type="http://schemas.openxmlformats.org/officeDocument/2006/relationships/hyperlink" Target="http://www.enchantedlearning.com/subjects/astronomy/planets/earth/" TargetMode="External"/><Relationship Id="rId5" Type="http://schemas.openxmlformats.org/officeDocument/2006/relationships/hyperlink" Target="http://www.enchantedlearning.com/subjects/astronomy/planets/mars/" TargetMode="External"/><Relationship Id="rId6" Type="http://schemas.openxmlformats.org/officeDocument/2006/relationships/hyperlink" Target="http://www.enchantedlearning.com/subjects/dinosaurs/glossary/indexp2.shtml" TargetMode="External"/><Relationship Id="rId7" Type="http://schemas.openxmlformats.org/officeDocument/2006/relationships/hyperlink" Target="http://www.enchantedlearning.com/subjects/dinosaurs/glossary/indexp2.shtml" TargetMode="External"/><Relationship Id="rId8" Type="http://schemas.openxmlformats.org/officeDocument/2006/relationships/hyperlink" Target="http://www.enchantedlearning.com/subjects/astronomy/planets/uranus/" TargetMode="External"/><Relationship Id="rId9" Type="http://schemas.openxmlformats.org/officeDocument/2006/relationships/hyperlink" Target="http://www.enchantedlearning.com/subjects/astronomy/planets/neptune/" TargetMode="External"/><Relationship Id="rId10" Type="http://schemas.openxmlformats.org/officeDocument/2006/relationships/hyperlink" Target="http://www.enchantedlearning.com/subjects/astronomy/planets/pluto/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olarsystem/" TargetMode="External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42800" y="270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The Solar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546200" y="5630760"/>
            <a:ext cx="18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33720" y="4495680"/>
            <a:ext cx="504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Copperplate Gothic Bold"/>
              </a:rPr>
              <a:t>Plan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-18432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93600" y="1031760"/>
            <a:ext cx="913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191120" y="3962520"/>
            <a:ext cx="43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457200" y="3809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ercu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4572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Ven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457200" y="55627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-50760" y="1798560"/>
            <a:ext cx="9247320" cy="3260880"/>
            <a:chOff x="-50760" y="1798560"/>
            <a:chExt cx="9247320" cy="3260880"/>
          </a:xfrm>
        </p:grpSpPr>
        <p:sp>
          <p:nvSpPr>
            <p:cNvPr id="62" name="Rectangle 31"/>
            <p:cNvSpPr/>
            <p:nvPr/>
          </p:nvSpPr>
          <p:spPr>
            <a:xfrm>
              <a:off x="-50760" y="179856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35"/>
            <p:cNvGrpSpPr/>
            <p:nvPr/>
          </p:nvGrpSpPr>
          <p:grpSpPr>
            <a:xfrm>
              <a:off x="-50760" y="1798560"/>
              <a:ext cx="5875200" cy="3260880"/>
              <a:chOff x="-50760" y="1798560"/>
              <a:chExt cx="5875200" cy="3260880"/>
            </a:xfrm>
          </p:grpSpPr>
          <p:sp>
            <p:nvSpPr>
              <p:cNvPr id="64" name="Rectangle 32"/>
              <p:cNvSpPr/>
              <p:nvPr/>
            </p:nvSpPr>
            <p:spPr>
              <a:xfrm>
                <a:off x="-50760" y="179856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33"/>
              <p:cNvSpPr/>
              <p:nvPr/>
            </p:nvSpPr>
            <p:spPr>
              <a:xfrm>
                <a:off x="-50760" y="179856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6" name="Picture 34" descr="http://planetary.org/html/news/articlearchive/headlines/2003/images/mars_shaded-globe.jpg"/>
          <p:cNvPicPr/>
          <p:nvPr/>
        </p:nvPicPr>
        <p:blipFill>
          <a:blip r:embed="rId1"/>
          <a:stretch/>
        </p:blipFill>
        <p:spPr>
          <a:xfrm>
            <a:off x="5791320" y="2438280"/>
            <a:ext cx="281916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7"/>
          <p:cNvSpPr/>
          <p:nvPr/>
        </p:nvSpPr>
        <p:spPr>
          <a:xfrm>
            <a:off x="52419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5927760" y="514656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 flipH="1">
            <a:off x="-720" y="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1680" y="-22320"/>
            <a:ext cx="893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Outer Planets are called ou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planets because they orbit f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from the sun. These planets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called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609480" y="3597120"/>
            <a:ext cx="9247320" cy="3260880"/>
            <a:chOff x="609480" y="3597120"/>
            <a:chExt cx="9247320" cy="3260880"/>
          </a:xfrm>
        </p:grpSpPr>
        <p:sp>
          <p:nvSpPr>
            <p:cNvPr id="77" name="Rectangle 8"/>
            <p:cNvSpPr/>
            <p:nvPr/>
          </p:nvSpPr>
          <p:spPr>
            <a:xfrm>
              <a:off x="609480" y="359712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12"/>
            <p:cNvGrpSpPr/>
            <p:nvPr/>
          </p:nvGrpSpPr>
          <p:grpSpPr>
            <a:xfrm>
              <a:off x="609480" y="3597120"/>
              <a:ext cx="5875200" cy="3260880"/>
              <a:chOff x="609480" y="3597120"/>
              <a:chExt cx="5875200" cy="326088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609480" y="359712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0"/>
              <p:cNvSpPr/>
              <p:nvPr/>
            </p:nvSpPr>
            <p:spPr>
              <a:xfrm>
                <a:off x="609480" y="359712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Text Box 14"/>
          <p:cNvSpPr/>
          <p:nvPr/>
        </p:nvSpPr>
        <p:spPr>
          <a:xfrm>
            <a:off x="436680" y="3371760"/>
            <a:ext cx="16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286000" y="3330720"/>
            <a:ext cx="160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4038480" y="335268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53942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08968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4495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47242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5181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903320" y="4114800"/>
            <a:ext cx="17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2270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175280" y="4029120"/>
            <a:ext cx="50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09480" y="335268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609480" y="3429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57200" y="3429000"/>
            <a:ext cx="569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525780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2765520" y="364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268920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51814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89548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4798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4264560" y="411480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6324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8"/>
          <p:cNvGrpSpPr/>
          <p:nvPr/>
        </p:nvGrpSpPr>
        <p:grpSpPr>
          <a:xfrm>
            <a:off x="-4680" y="3043080"/>
            <a:ext cx="9153360" cy="771480"/>
            <a:chOff x="-4680" y="3043080"/>
            <a:chExt cx="9153360" cy="771480"/>
          </a:xfrm>
        </p:grpSpPr>
        <p:grpSp>
          <p:nvGrpSpPr>
            <p:cNvPr id="105" name="Group 46"/>
            <p:cNvGrpSpPr/>
            <p:nvPr/>
          </p:nvGrpSpPr>
          <p:grpSpPr>
            <a:xfrm>
              <a:off x="0" y="3047760"/>
              <a:ext cx="9144000" cy="762120"/>
              <a:chOff x="0" y="3047760"/>
              <a:chExt cx="9144000" cy="762120"/>
            </a:xfrm>
          </p:grpSpPr>
          <p:sp>
            <p:nvSpPr>
              <p:cNvPr id="106" name="Rectangle 43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45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47"/>
            <p:cNvSpPr/>
            <p:nvPr/>
          </p:nvSpPr>
          <p:spPr>
            <a:xfrm>
              <a:off x="-4680" y="3043080"/>
              <a:ext cx="9153360" cy="77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Picture 44" descr="http://www.enchantedlearning.com/sgifs/Saturntiny.GIF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http://nssdc.gsfc.nasa.gov/image/planetary/asteroid/ida.jpg"/>
          <p:cNvPicPr/>
          <p:nvPr/>
        </p:nvPicPr>
        <p:blipFill>
          <a:blip r:embed="rId1"/>
          <a:stretch/>
        </p:blipFill>
        <p:spPr>
          <a:xfrm>
            <a:off x="1474920" y="1492200"/>
            <a:ext cx="6194160" cy="3875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-4680" y="0"/>
            <a:ext cx="935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295280" y="5562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s area is known as the Asteroid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8381880" y="0"/>
            <a:ext cx="3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teoroids and Meteo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http://www.geoscience.org.za/pmsu/meteorite/handsample8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65040" y="3927600"/>
            <a:ext cx="888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teoroids are loose dust particles that come from Comeroid. Mos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oting star. Most meteoroids break up in the Earth’s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they break up it is called a meteo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082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09480" y="380880"/>
            <a:ext cx="7848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un is a star at the center of our Sola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rcu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ercury is the planet closest to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e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Venus is the second planet from the Sun. It is the hott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ar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Earth is the third planet from the Sun and the planet we live 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a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ars is a red planet and the four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Jupi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Jupiter is the fifth planet from the Sun. This gas giant is the largest pla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atur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Saturn is the sixth planet from the Sun. This gas giant has large, beautiful ring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Ura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Uranus is a gas giant and is the seven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et from the Su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eptu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Neptune is a gas giant and is usually the eigh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lu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Pluto is a rocky planet that is usually the farthest planet from the Sun. It is the small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solar system diagram to label"/>
          <p:cNvPicPr/>
          <p:nvPr/>
        </p:nvPicPr>
        <p:blipFill>
          <a:blip r:embed="rId2"/>
          <a:stretch/>
        </p:blipFill>
        <p:spPr>
          <a:xfrm>
            <a:off x="-990720" y="0"/>
            <a:ext cx="10515600" cy="749448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sh106\Solarsystemsiz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 flipV="1" rot="10800000">
            <a:off x="379440" y="46472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Explore the Universe and expand your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69880" y="56707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0:25:54Z</dcterms:created>
  <dc:creator>RCAS</dc:creator>
  <dc:description/>
  <dc:language>en-US</dc:language>
  <cp:lastModifiedBy>LEGION</cp:lastModifiedBy>
  <dcterms:modified xsi:type="dcterms:W3CDTF">2018-03-22T10:01:29Z</dcterms:modified>
  <cp:revision>63</cp:revision>
  <dc:subject/>
  <dc:title>PowerPoint Presentation</dc:title>
</cp:coreProperties>
</file>