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projctor.wav" ContentType="audio/x-wav"/>
  <Override PartName="/ppt/media/image1.png" ContentType="image/png"/>
  <Override PartName="/ppt/media/explode.wav" ContentType="audio/x-wav"/>
  <Override PartName="/ppt/media/camera.wav" ContentType="audio/x-wav"/>
  <Override PartName="/ppt/media/image6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glass.wav" ContentType="audio/x-wav"/>
  <Override PartName="/ppt/media/drumroll.wav" ContentType="audio/x-wav"/>
  <Override PartName="/ppt/media/image4.jpeg" ContentType="image/jpe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267E-FB4C-4756-998F-E6C580F052B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 Of A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bject in orbit around a star but does not give off its own  light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 it shines by reflecting sun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close to the sun are rocky (inner plane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farthur away from the sun consist mostly of gases and liq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er plane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ine major plan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bject in orbit around a star but does not give off its own  light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it shines by reflecting sun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close to the sun are rocky (inner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farthur away from the sun consist mostly of gases and liqu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uter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ine major 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called inner planets because they orbit close to the sun. These planet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Planets are called inner planets because they orbit close to the sun. These plane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 are called ou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because they orbit f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un. These planet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Planets are called 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because they orbit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sun. These planet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 are sometimes called minor planets because the are ma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ocks and metal. The rocks come in many sizes. Larger rock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. They are found in large areas between the orbits of M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Jupi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rea is known as the Asteroid Be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eroids are sometimes called minor planets because the are ma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ocks and metal. The rocks come in many sizes. Larger rock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eroids. They are found in large areas between the orbits of M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Jup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ea is known as the Asteroid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oids and Meteor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oids are loose dust particles that come from Comeroid. Most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mall. When it enters Earth’s atmosphere it forms a bright light,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oting star. Most meteoroids break up in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y break up it is called a meteor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oroids and Meteo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oroids are loose dust particles that come from Comeroid. Most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mall. When it enters Earth’s atmosphere it forms a bright light,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oting star. Most meteoroids break up in th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break up it is called a meteor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- The Sun is a star at the center of ou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- Mercury is the planet closest to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- Venus is the second planet from the Sun. It is the hottest pla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- Earth is the third planet from the Sun and the planet we live 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- Mars is a red planet and the four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- Jupiter is the fifth planet from the Sun. This gas giant is the larg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- Saturn is the sixth planet from the Sun. This gas giant has large, beautiful r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- Uranus is a gas giant and is the seven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- Neptune is a gas giant and is usually the eigh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 - Pluto is a rocky planet that is usually the farthest planet from the Sun. It is the smallest pla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- The Sun is a star at the center of our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Mercury is the planet closest to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Venus is the second planet from the Sun. It is the hottest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- Earth is the third planet from the Sun and the planet we live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Mars is a red planet and the four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Jupiter is the fifth planet from the Sun. This gas giant is the largest pla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Saturn is the sixth planet from the Sun. This gas giant has large, beautiful ring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Uranus is a gas giant and is the seven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eptune is a gas giant and is usually the eigh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Pluto is a rocky planet that is usually the farthest planet from the Sun. It is the smallest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 the Universe and expand your m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an Hamm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T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 the Universe and expand your m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an Ham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216-18A2-4C5C-B925-63E927D0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EE66-B42A-445C-BE98-DC97943C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DCE2-E53E-4DD8-A2B8-69E0E36A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973-DADC-4EE1-9BFE-A246BA93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5C67-E896-42DB-94A2-653F666D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2B0-E6FC-495D-BF73-6ED29319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EBA-7A5E-463A-B55F-DE0B4E2A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8098-1B24-4FD7-A0C3-9772CC44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DA7-53C4-41E7-9191-84A27C2C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E3C-5390-4145-83D9-758E88E7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5F36-3387-4C9C-BD87-D90DC87D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30F-9695-4CF9-8F12-E9D596DE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68B0-1381-45D2-9F2A-1112F08E8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astronomy/sun/" TargetMode="External"/><Relationship Id="rId2" Type="http://schemas.openxmlformats.org/officeDocument/2006/relationships/hyperlink" Target="http://www.enchantedlearning.com/subjects/astronomy/planets/mercury/" TargetMode="External"/><Relationship Id="rId3" Type="http://schemas.openxmlformats.org/officeDocument/2006/relationships/hyperlink" Target="http://www.enchantedlearning.com/subjects/astronomy/planets/venus/" TargetMode="External"/><Relationship Id="rId4" Type="http://schemas.openxmlformats.org/officeDocument/2006/relationships/hyperlink" Target="http://www.enchantedlearning.com/subjects/astronomy/planets/earth/" TargetMode="External"/><Relationship Id="rId5" Type="http://schemas.openxmlformats.org/officeDocument/2006/relationships/hyperlink" Target="http://www.enchantedlearning.com/subjects/astronomy/planets/mars/" TargetMode="External"/><Relationship Id="rId6" Type="http://schemas.openxmlformats.org/officeDocument/2006/relationships/hyperlink" Target="http://www.enchantedlearning.com/subjects/dinosaurs/glossary/indexp2.shtml" TargetMode="External"/><Relationship Id="rId7" Type="http://schemas.openxmlformats.org/officeDocument/2006/relationships/hyperlink" Target="http://www.enchantedlearning.com/subjects/dinosaurs/glossary/indexp2.shtml" TargetMode="External"/><Relationship Id="rId8" Type="http://schemas.openxmlformats.org/officeDocument/2006/relationships/hyperlink" Target="http://www.enchantedlearning.com/subjects/astronomy/planets/uranus/" TargetMode="External"/><Relationship Id="rId9" Type="http://schemas.openxmlformats.org/officeDocument/2006/relationships/hyperlink" Target="http://www.enchantedlearning.com/subjects/astronomy/planets/neptune/" TargetMode="External"/><Relationship Id="rId10" Type="http://schemas.openxmlformats.org/officeDocument/2006/relationships/hyperlink" Target="http://www.enchantedlearning.com/subjects/astronomy/planets/pluto/" TargetMode="External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astronomy/solarsystem/" TargetMode="External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42800" y="270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The Solar System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546200" y="5630760"/>
            <a:ext cx="18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33720" y="4495680"/>
            <a:ext cx="504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Copperplate Gothic Bold"/>
              </a:rPr>
              <a:t>Plane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133720" y="-184320"/>
            <a:ext cx="47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 Of A Pla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-93600" y="1031760"/>
            <a:ext cx="913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in orbit around a star but does not give off its own  light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ther it shines by reflecting sun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ts close to the sun are rocky (inner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t farthur away from the sun consist mostly of gases and liqui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outer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nine major plan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ner Planets are called inner planets because they orbit close to the sun. These planets ar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191120" y="3962520"/>
            <a:ext cx="432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457200" y="3809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Mercu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457200" y="47242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Venu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0"/>
          <p:cNvSpPr/>
          <p:nvPr/>
        </p:nvSpPr>
        <p:spPr>
          <a:xfrm>
            <a:off x="457200" y="55627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36"/>
          <p:cNvGrpSpPr/>
          <p:nvPr/>
        </p:nvGrpSpPr>
        <p:grpSpPr>
          <a:xfrm>
            <a:off x="-50760" y="1798560"/>
            <a:ext cx="9247320" cy="3260880"/>
            <a:chOff x="-50760" y="1798560"/>
            <a:chExt cx="9247320" cy="3260880"/>
          </a:xfrm>
        </p:grpSpPr>
        <p:sp>
          <p:nvSpPr>
            <p:cNvPr id="62" name="Rectangle 31"/>
            <p:cNvSpPr/>
            <p:nvPr/>
          </p:nvSpPr>
          <p:spPr>
            <a:xfrm>
              <a:off x="-50760" y="1798560"/>
              <a:ext cx="9247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Group 35"/>
            <p:cNvGrpSpPr/>
            <p:nvPr/>
          </p:nvGrpSpPr>
          <p:grpSpPr>
            <a:xfrm>
              <a:off x="-50760" y="1798560"/>
              <a:ext cx="5875200" cy="3260880"/>
              <a:chOff x="-50760" y="1798560"/>
              <a:chExt cx="5875200" cy="3260880"/>
            </a:xfrm>
          </p:grpSpPr>
          <p:sp>
            <p:nvSpPr>
              <p:cNvPr id="64" name="Rectangle 32"/>
              <p:cNvSpPr/>
              <p:nvPr/>
            </p:nvSpPr>
            <p:spPr>
              <a:xfrm>
                <a:off x="-50760" y="1798560"/>
                <a:ext cx="5875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Rectangle 33"/>
              <p:cNvSpPr/>
              <p:nvPr/>
            </p:nvSpPr>
            <p:spPr>
              <a:xfrm>
                <a:off x="-50760" y="1798560"/>
                <a:ext cx="2286000" cy="32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18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6" name="Picture 34" descr="http://planetary.org/html/news/articlearchive/headlines/2003/images/mars_shaded-globe.jpg"/>
          <p:cNvPicPr/>
          <p:nvPr/>
        </p:nvPicPr>
        <p:blipFill>
          <a:blip r:embed="rId1"/>
          <a:stretch/>
        </p:blipFill>
        <p:spPr>
          <a:xfrm>
            <a:off x="5791320" y="2438280"/>
            <a:ext cx="2819160" cy="1828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7"/>
          <p:cNvSpPr/>
          <p:nvPr/>
        </p:nvSpPr>
        <p:spPr>
          <a:xfrm>
            <a:off x="524196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8"/>
          <p:cNvSpPr/>
          <p:nvPr/>
        </p:nvSpPr>
        <p:spPr>
          <a:xfrm>
            <a:off x="5927760" y="514656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 flipH="1">
            <a:off x="-720" y="0"/>
            <a:ext cx="937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11680" y="-22320"/>
            <a:ext cx="893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Outer Planets are called ou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planets because they orbit fa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from the sun. These planets ar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called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609480" y="3597120"/>
            <a:ext cx="9247320" cy="3260880"/>
            <a:chOff x="609480" y="3597120"/>
            <a:chExt cx="9247320" cy="3260880"/>
          </a:xfrm>
        </p:grpSpPr>
        <p:sp>
          <p:nvSpPr>
            <p:cNvPr id="77" name="Rectangle 8"/>
            <p:cNvSpPr/>
            <p:nvPr/>
          </p:nvSpPr>
          <p:spPr>
            <a:xfrm>
              <a:off x="609480" y="3597120"/>
              <a:ext cx="9247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Group 12"/>
            <p:cNvGrpSpPr/>
            <p:nvPr/>
          </p:nvGrpSpPr>
          <p:grpSpPr>
            <a:xfrm>
              <a:off x="609480" y="3597120"/>
              <a:ext cx="5875200" cy="3260880"/>
              <a:chOff x="609480" y="3597120"/>
              <a:chExt cx="5875200" cy="3260880"/>
            </a:xfrm>
          </p:grpSpPr>
          <p:sp>
            <p:nvSpPr>
              <p:cNvPr id="79" name="Rectangle 9"/>
              <p:cNvSpPr/>
              <p:nvPr/>
            </p:nvSpPr>
            <p:spPr>
              <a:xfrm>
                <a:off x="609480" y="3597120"/>
                <a:ext cx="5875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0"/>
              <p:cNvSpPr/>
              <p:nvPr/>
            </p:nvSpPr>
            <p:spPr>
              <a:xfrm>
                <a:off x="609480" y="3597120"/>
                <a:ext cx="2286000" cy="32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4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Text Box 14"/>
          <p:cNvSpPr/>
          <p:nvPr/>
        </p:nvSpPr>
        <p:spPr>
          <a:xfrm>
            <a:off x="436680" y="3371760"/>
            <a:ext cx="16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p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2286000" y="3330720"/>
            <a:ext cx="160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4038480" y="3352680"/>
            <a:ext cx="17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53942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508968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44956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47242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51814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1903320" y="4114800"/>
            <a:ext cx="170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2270160" y="400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4175280" y="4029120"/>
            <a:ext cx="50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8"/>
          <p:cNvSpPr/>
          <p:nvPr/>
        </p:nvSpPr>
        <p:spPr>
          <a:xfrm>
            <a:off x="4413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609480" y="3352680"/>
            <a:ext cx="550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609480" y="34290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457200" y="3429000"/>
            <a:ext cx="569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525780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6"/>
          <p:cNvSpPr/>
          <p:nvPr/>
        </p:nvSpPr>
        <p:spPr>
          <a:xfrm>
            <a:off x="2765520" y="364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7"/>
          <p:cNvSpPr/>
          <p:nvPr/>
        </p:nvSpPr>
        <p:spPr>
          <a:xfrm>
            <a:off x="2689200" y="35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518148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289548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447984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1"/>
          <p:cNvSpPr/>
          <p:nvPr/>
        </p:nvSpPr>
        <p:spPr>
          <a:xfrm>
            <a:off x="4264560" y="4114800"/>
            <a:ext cx="14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4632480" y="392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48"/>
          <p:cNvGrpSpPr/>
          <p:nvPr/>
        </p:nvGrpSpPr>
        <p:grpSpPr>
          <a:xfrm>
            <a:off x="-4680" y="3043080"/>
            <a:ext cx="9153360" cy="771480"/>
            <a:chOff x="-4680" y="3043080"/>
            <a:chExt cx="9153360" cy="771480"/>
          </a:xfrm>
        </p:grpSpPr>
        <p:grpSp>
          <p:nvGrpSpPr>
            <p:cNvPr id="105" name="Group 46"/>
            <p:cNvGrpSpPr/>
            <p:nvPr/>
          </p:nvGrpSpPr>
          <p:grpSpPr>
            <a:xfrm>
              <a:off x="0" y="3047760"/>
              <a:ext cx="9144000" cy="762120"/>
              <a:chOff x="0" y="3047760"/>
              <a:chExt cx="9144000" cy="762120"/>
            </a:xfrm>
          </p:grpSpPr>
          <p:sp>
            <p:nvSpPr>
              <p:cNvPr id="106" name="Rectangle 43"/>
              <p:cNvSpPr/>
              <p:nvPr/>
            </p:nvSpPr>
            <p:spPr>
              <a:xfrm>
                <a:off x="0" y="3047760"/>
                <a:ext cx="91440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45"/>
              <p:cNvSpPr/>
              <p:nvPr/>
            </p:nvSpPr>
            <p:spPr>
              <a:xfrm>
                <a:off x="0" y="3047760"/>
                <a:ext cx="9144000" cy="76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Rectangle 47"/>
            <p:cNvSpPr/>
            <p:nvPr/>
          </p:nvSpPr>
          <p:spPr>
            <a:xfrm>
              <a:off x="-4680" y="3043080"/>
              <a:ext cx="9153360" cy="771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Picture 44" descr="http://www.enchantedlearning.com/sgifs/Saturntiny.GIF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sp>
        <p:nvSpPr>
          <p:cNvPr id="110" name="Нижний колонтитул 4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http://nssdc.gsfc.nasa.gov/image/planetary/asteroid/ida.jpg"/>
          <p:cNvPicPr/>
          <p:nvPr/>
        </p:nvPicPr>
        <p:blipFill>
          <a:blip r:embed="rId1"/>
          <a:stretch/>
        </p:blipFill>
        <p:spPr>
          <a:xfrm>
            <a:off x="1474920" y="1492200"/>
            <a:ext cx="6194160" cy="38750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-4680" y="0"/>
            <a:ext cx="935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teroids are sometimes called minor planets because the are made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rocks and metal. The rocks come in many sizes. Larger rock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teroids. They are found in large areas between the orbits of M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Jupi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295280" y="5562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s area is known as the Asteroid B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8381880" y="0"/>
            <a:ext cx="3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Meteoroids and Meteor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http://www.geoscience.org.za/pmsu/meteorite/handsample8.jp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736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365040" y="3927600"/>
            <a:ext cx="888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eteoroids are loose dust particles that come from Comeroid. Most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ery small. When it enters Earth’s atmosphere it forms a bright light,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ooting star. Most meteoroids break up in the Earth’s atm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en they break up it is called a meteor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1082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09480" y="380880"/>
            <a:ext cx="78487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un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Sun is a star at the center of our Sola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ercur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Mercury is the planet closest to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Venu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Venus is the second planet from the Sun. It is the hottest plan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Ear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Earth is the third planet from the Sun and the planet we live 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ar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Mars is a red planet and the fourth planet from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Jupit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Jupiter is the fifth planet from the Sun. This gas giant is the largest pla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Satur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Saturn is the sixth planet from the Sun. This gas giant has large, beautiful ring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Uranu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Uranus is a gas giant and is the seven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et from the Sun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Neptu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Neptune is a gas giant and is usually the eighth planet from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Plu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Pluto is a rocky planet that is usually the farthest planet from the Sun. It is the smallest plan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9" descr="solar system diagram to label"/>
          <p:cNvPicPr/>
          <p:nvPr/>
        </p:nvPicPr>
        <p:blipFill>
          <a:blip r:embed="rId2"/>
          <a:stretch/>
        </p:blipFill>
        <p:spPr>
          <a:xfrm>
            <a:off x="-990720" y="0"/>
            <a:ext cx="10515600" cy="7494480"/>
          </a:xfrm>
          <a:prstGeom prst="rect">
            <a:avLst/>
          </a:prstGeom>
          <a:ln w="0">
            <a:noFill/>
          </a:ln>
        </p:spPr>
      </p:pic>
      <p:sp>
        <p:nvSpPr>
          <p:cNvPr id="131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F:\sh106\Solarsystemsizes.gif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 flipV="1" rot="10800000">
            <a:off x="379440" y="464724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Explore the Universe and expand your m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869880" y="5670720"/>
            <a:ext cx="22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an Hamm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20:25:54Z</dcterms:created>
  <dc:creator>RCAS</dc:creator>
  <dc:description/>
  <dc:language>en-US</dc:language>
  <cp:lastModifiedBy>LEGION</cp:lastModifiedBy>
  <dcterms:modified xsi:type="dcterms:W3CDTF">2018-03-22T10:01:29Z</dcterms:modified>
  <cp:revision>63</cp:revision>
  <dc:subject/>
  <dc:title>PowerPoint Presentation</dc:title>
</cp:coreProperties>
</file>