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5EF2-25E6-48E6-AA56-69B3C8EBB3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9A03-E8C8-494E-8393-10266519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B2D4-9BBC-42D1-91B0-FE1CCD0D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653D-F4B1-481E-908D-8A091B1B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ADA1-4F99-4A6F-9745-418F6F2B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07F-0219-4372-9D4B-3D640944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78A-7D15-4087-BDDA-2C8DD0AA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85F-0B51-483A-8D3D-8463001A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9A01-67BD-48CE-AE9C-743CE5E0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2F6-A5A4-471A-8DB8-FC50E8BE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BD2-7958-4471-BCC6-3DE52A50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0524-ED45-4E90-8056-BF294054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5D0A-FCCE-4215-AE21-AA363873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50CD-A8A6-482C-A38E-8077487BD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l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(Last)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sing/Meridian/Setting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371600"/>
          <a:ext cx="8610480" cy="4664160"/>
        </p:xfrm>
        <a:graphic>
          <a:graphicData uri="http://schemas.openxmlformats.org/drawingml/2006/table">
            <a:tbl>
              <a:tblPr/>
              <a:tblGrid>
                <a:gridCol w="3048120"/>
                <a:gridCol w="1904760"/>
                <a:gridCol w="1828800"/>
                <a:gridCol w="18288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i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Gibb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499"/>
          <p:cNvSpPr/>
          <p:nvPr/>
        </p:nvSpPr>
        <p:spPr>
          <a:xfrm>
            <a:off x="609480" y="6095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5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Peri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dereal Period – 27.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a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rue orbital period of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nodic Period – 29.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riod of the cycle of lunar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entire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partial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numbr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inside the Earth’s pen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complete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partial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ular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Tides – strong tides when the moon and sun are al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19:17:11Z</dcterms:created>
  <dc:creator>Preferred Customer</dc:creator>
  <dc:description/>
  <dc:language>en-US</dc:language>
  <cp:lastModifiedBy>LEGION</cp:lastModifiedBy>
  <dcterms:modified xsi:type="dcterms:W3CDTF">2018-03-22T10:00:08Z</dcterms:modified>
  <cp:revision>22</cp:revision>
  <dc:subject/>
  <dc:title>Phases of the Moon</dc:title>
</cp:coreProperties>
</file>