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007D-CB9D-459D-BE58-F62DAD1DC4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ew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0% Illumin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xing Crescent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25% Illuminated on R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rst Quarter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50% Illuminated on R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xing Gibbous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75% Illuminated on R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ull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0% Illumin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ning Gibbous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75% Illuminated on L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ird (Last) Quarter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50% Illuminated on L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aning Crescent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25% Illuminated on L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ases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0% Illum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xing Crescen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25% Illuminated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rst Quarte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50% Illuminated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xing Gibbous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75% Illuminated on R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0% Illum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ning Gibbous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75% Illuminated on L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rd (Last) Quarte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50% Illuminated on L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ning Crescen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25% Illuminated on L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ases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sing/Meridian/Setting Ti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Assuming the moon is always on the celestial equator and above the horizon 12 hours per da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ing/Meridian/Setting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ssuming the moon is always on the celestial equator and above the horizon 12 hours per d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Peri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real Period – 27.3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between successive alignments of the earth, moon, and a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ue orbital period of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nodic Period – 29.5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between successive alignments of the earth, moon, and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 of the cycle of lunar ph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Peri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real Period – 27.3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between successive alignments of the earth, moon, and a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ue orbital period of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odic Period – 29.5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between successive alignments of the earth, moon, a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od of the cycle of lunar 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Lun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entirely inside the earth’s um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Lun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partially inside the earth’s um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umbral Lun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inside the Earth’s penum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happen regularly and no one notices.  The brightness of the moon only decreases by 10% to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Lun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entirely inside the earth’s um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al Lun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partially inside the earth’s um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umbral Lun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inside the Earth’s penum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happen regularly and no one notices.  The brightness of the moon only decreases by 10% to 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Sol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complete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Sol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partial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ular Solar Ecli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near apogee and its angular diameter is insufficient to completely cover the sun.  An observer for whom the moon and sun are aligned will see a ring of the sun around the mo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Ec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ol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complete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al Sol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partially obscures the sun for an observer at this location on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lar Solar Ecli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is near apogee and its angular diameter is insufficient to completely cover the sun.  An observer for whom the moon and sun are aligned will see a ring of the sun around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 caused by differential gravitational forces exerted by the moon (the moon pulls more on one side of the earth than the oth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 though the sun’s gravitational force is much larger than the moon’s, its differential force is smaller (since the size of the earth is small compared to the earth-sun distan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oon’s differential force causes “water bulges” on the earth on both sides of the line to the moon.  Tides are caused by the Earth’s rotation carrying observers through a water bulge.  Thus, typically high tide occurs twice a da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p Tides – weak tides which occur when the moon’s and sun’s pull are perpend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ing Tides – strong tides when the moon and sun are align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caused by differential gravitational forces exerted by the moon (the moon pulls more on one side of the earth than the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 the sun’s gravitational force is much larger than the moon’s, its differential force is smaller (since the size of the earth is small compared to the earth-sun dist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oon’s differential force causes “water bulges” on the earth on both sides of the line to the moon.  Tides are caused by the Earth’s rotation carrying observers through a water bulge.  Thus, typically high tide occurs twice a d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p Tides – weak tides which occur when the moon’s and sun’s pull are perpendi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 Tides – strong tides when the moon and sun are align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2146-89F3-46AC-AF68-3955399C2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ACC2-B0EE-4A13-A277-E2FA856F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1D0D-FEFB-42D5-96CA-B9AE73055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FA01-7D74-4D34-9A1D-7BACB58A1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FE0A-0C4F-41A5-A7D3-0320082B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4562-AD81-43CD-86A8-21C899D5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EA79-2561-44C7-B8AC-6F7BEDD5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875C-741C-4745-9167-11C78E57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443B-B4A3-4B7A-A496-47C32F03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BB35-59AF-400E-A9B4-8A446090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B2F3-8AD5-4850-ADAF-662F171F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9A7B-1A0D-4EEE-900E-202DDB75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1E72-0163-426D-8F10-C7FBDD5A6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3160" y="13712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w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0% Illu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xing Cresc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25% Illuminated on R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Quar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50% Illuminated on R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xing Gibbo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75% Illuminated on R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l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0% Illu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ning Gibbo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75% Illuminated on L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(Last) Quarte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50% Illuminated on L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ning Cresce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25% Illuminated on L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676160" y="45720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hases of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ising/Meridian/Setting T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28600" y="1371600"/>
          <a:ext cx="8610480" cy="4664160"/>
        </p:xfrm>
        <a:graphic>
          <a:graphicData uri="http://schemas.openxmlformats.org/drawingml/2006/table">
            <a:tbl>
              <a:tblPr/>
              <a:tblGrid>
                <a:gridCol w="3048120"/>
                <a:gridCol w="1904760"/>
                <a:gridCol w="1828800"/>
                <a:gridCol w="1828800"/>
              </a:tblGrid>
              <a:tr h="51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s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ridi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xing Cres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rst Quar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n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xing Cres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n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ning Gibb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rd Quar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dn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ning Cres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Text Box 499"/>
          <p:cNvSpPr/>
          <p:nvPr/>
        </p:nvSpPr>
        <p:spPr>
          <a:xfrm>
            <a:off x="609480" y="60958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Assuming the moon is always on the celestial equator and above the horizon 12 hours per da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ижний колонтитул 5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unar Peri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dereal Period – 27.3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ime between successive alignments of the earth, moon, and a 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rue orbital period of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nodic Period – 29.5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ime between successive alignments of the earth, moon, and the 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eriod of the cycle of lunar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unar Ec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tal Lun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entirely inside the earth’s um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al Lun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partially inside the earth’s um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numbral Lun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inside the Earth’s penum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se happen regularly and no one notices.  The brightness of the moon only decreases by 10% to 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olar Ec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tal Sol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completely obscures the sun for an observer at this location on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tial Sol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partially obscures the sun for an observer at this location on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nular Solar Eclip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moon is near apogee and its angular diameter is insufficient to completely cover the sun.  An observer for whom the moon and sun are aligned will see a ring of the sun around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 caused by differential gravitational forces exerted by the moon (the moon pulls more on one side of the earth than the oth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though the sun’s gravitational force is much larger than the moon’s, its differential force is smaller (since the size of the earth is small compared to the earth-sun dist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oon’s differential force causes “water bulges” on the earth on both sides of the line to the moon.  Tides are caused by the Earth’s rotation carrying observers through a water bulge.  Thus, typically high tide occurs twice a da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p Tides – weak tides which occur when the moon’s and sun’s pull are perpendi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ring Tides – strong tides when the moon and sun are align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19:17:11Z</dcterms:created>
  <dc:creator>Preferred Customer</dc:creator>
  <dc:description/>
  <dc:language>en-US</dc:language>
  <cp:lastModifiedBy>LEGION</cp:lastModifiedBy>
  <dcterms:modified xsi:type="dcterms:W3CDTF">2018-03-22T10:00:08Z</dcterms:modified>
  <cp:revision>22</cp:revision>
  <dc:subject/>
  <dc:title>Phases of the Moon</dc:title>
</cp:coreProperties>
</file>