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2912-8F2C-4BD0-BF06-F07A7FBC1B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897-1889-4AB6-9726-3BDF9E63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191-2991-47EC-8A1E-71699982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51F-450E-4EE1-8802-10B17748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EA4-089C-47C9-8264-886B6DF7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C7C-4F98-4767-B3E8-2AA388B4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00F-7FB4-4B5F-B1C3-B32F9551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BB5-51DA-44A8-90E7-05458678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55A-47F6-4D91-A2B3-8DA2BC58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102-6F8F-498C-8FDC-843B842E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83F-8AEF-4119-BB28-BC26573E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D1A-A506-4F2F-B2EC-9549D93A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C09-9637-4CF1-B327-E39B89A7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0BFA-3469-40A6-A472-B6982013B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(Last)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ing/Meridian/Sett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8610480" cy="4664160"/>
        </p:xfrm>
        <a:graphic>
          <a:graphicData uri="http://schemas.openxmlformats.org/drawingml/2006/table">
            <a:tbl>
              <a:tblPr/>
              <a:tblGrid>
                <a:gridCol w="3048120"/>
                <a:gridCol w="1904760"/>
                <a:gridCol w="1828800"/>
                <a:gridCol w="18288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i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Gib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499"/>
          <p:cNvSpPr/>
          <p:nvPr/>
        </p:nvSpPr>
        <p:spPr>
          <a:xfrm>
            <a:off x="60948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5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real Period – 27.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orbital period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dic Period – 29.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iod of the cycle of lunar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entire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partial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umbr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inside the Earth’s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complete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partial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ular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Tides – strong tides when the moon and sun are al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17:11Z</dcterms:created>
  <dc:creator>Preferred Customer</dc:creator>
  <dc:description/>
  <dc:language>en-US</dc:language>
  <cp:lastModifiedBy>LEGION</cp:lastModifiedBy>
  <dcterms:modified xsi:type="dcterms:W3CDTF">2018-03-22T10:00:08Z</dcterms:modified>
  <cp:revision>22</cp:revision>
  <dc:subject/>
  <dc:title>Phases of the Moon</dc:title>
</cp:coreProperties>
</file>