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98BC-BF2F-44C4-BDC7-C8304098E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ian Jan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School Astronomy Cl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ian Jan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School Astronomy Cl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 is a very unusual planet because it sits on its side with north and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es sticking out the sides. It rotates around this axis, making it look like a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ing around in a circle around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Uranus’s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ck r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ranus is a very unusual planet because it sits on its side with north and so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les sticking out the sides. It rotates around this axis, making it look like a b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ling around in a circle around the Su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of Uranus’s mo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Dark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, usually the eighth planet from the Sun, is a very cold pl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asionally, Pluto crosses Neptune’s orbit and becomes the eight plan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bluish color comes from its atmosphere of methane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ny Dark Mo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ptune, usually the eighth planet from the Sun, is a very cold plac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casionally, Pluto crosses Neptune’s orbit and becomes the eight plane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s bluish color comes from its atmosphere of methane g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est view to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Pluto and Cha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, usually the ninth planet from the Sun, is the small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cientists believe that Pluto once was one of Neptune’s moons, and that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led out away from Neptune and made its own orb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U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rest view to 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luto and Cha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uto, usually the ninth planet from the Sun, is the smallest planet in our solar 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scientists believe that Pluto once was one of Neptune’s moons, and that i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lled out away from Neptune and made its own orbi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 Halley in 1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are sometimes called dirty snowballs or "icy mudballs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mixture of ices (both water and frozen gases) and dust that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son didn't get incorporated into planets when the solar system wa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them very interesting as samples of the early history of the solar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iptical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see a comet, 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eeing the tail of the co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comes close to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 Halley in 1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are sometimes called dirty snowballs or "icy mudballs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mixture of ices (both water and frozen gases) and dust that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son didn't get incorporated into planets when the solar system wa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them very interesting as samples of the early history of the solar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iptical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see a comet, 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eeing the tail of the co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comes close to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f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f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the planet nearest the Sun, is the second small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nly slightly larger than the Earth's moon. The surface is covered with cra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ny planet does not have any rings or m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the planet nearest the Sun, is the second small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nly slightly larger than the Earth's moon. The surface is covered with cra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ny planet does not have any rings or m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va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 is one of the brightest objects in our sk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t is clearly visible to the naked ey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tricky to spot because it is al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ises and sets with the Sun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civilizations believed Venus w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ly two different objec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y called the one that ros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 Star, and the one that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vening St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va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 is one of the brightest objects in our sk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t is clearly visible to the naked ey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tricky to spot because it is al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ises and sets with the Sun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civilizations believed Venus w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ly two different objec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y called the one that ros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 Star, and the one that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vening St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and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milariti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do you no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Earth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have s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surface fea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and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milariti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do you no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Earth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have s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surface fea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us Mons is the largest volcano in our solar syst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cr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is very bright, which makes it easy to spot in the night sky. It was named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god of war because its reddish color reminded the people of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people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landed on Ma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sent rob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rs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us Mons is the largest volcano in our solar syst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cr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is very bright, which makes it easy to spot in the night sky. It was named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god of war because its reddish color reminded the people of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people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landed on Ma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sent rob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rs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steroids can be found in the Asteroid Belt, which is located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and Jupiter.  Asteroids are rocky and metallic objects that orbit the Su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too small to be considered planets. They are known as minor plan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s range in size from Ceres, which has a diameter of about 1000 k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 to the size of pebb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steroids can be found in the Asteroid Belt, which is located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and Jupiter.  Asteroids are rocky and metallic objects that orbit the Su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too small to be considered planets. They are known as minor plan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s range in size from Ceres, which has a diameter of about 1000 k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 to the size of pebb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a few of Jupiter’s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, the fifth planet from the Sun, is the larg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 is so big that over 1,000 planets the size of Earth could fit in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over 60 moons and 2 rings.  Can life exist on Jupiter's moon, Europa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Great Red Spo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ctually a hu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m syst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re are a few of Jupiter’s mo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piter, the fifth planet from the Sun, is the largest planet in our solar syste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piter is so big that over 1,000 planets the size of Earth could fit into 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t has over 60 moons and 2 rings.  Can life exist on Jupiter's moon, Europa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“Great Red Spot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actually a hu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rm system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, the sixth planet from the Sun, is the second larg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called the ringed planet because many rings of dust and rocks surroun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also has over 31 m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Saturn’s 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with som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 is a moon of Saturn that may have s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necessary for life! The picture 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hows an artist’s drawing of how Ti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ht have looked when the Cassini-Huygen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e dropped into its atmosphere in Dec.,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, the sixth planet from the Sun, is the second largest planet in our solar syste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is often called the ringed planet because many rings of dust and rocks surround i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 also has over 31 moon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me of Saturn’s rin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 with som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s mo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tan is a moon of Saturn that may have som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itions necessary for life! The picture 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right shows an artist’s drawing of how Tit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ght have looked when the Cassini-Huygen’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be dropped into its atmosphere in Dec., 200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EEE2-DC74-4987-B8F2-30123F73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506B-2AB3-42EE-9A39-856A573C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87AD-D59E-4A50-873D-C8C363F5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1613-4B8D-491F-AD4F-251699C4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1BB5-4CAC-4BD9-923F-84F7E91E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09D4-E8E3-4A3F-9049-3B9689E3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CB29-7DF1-4181-A242-D0BA70BA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1F01-532B-461A-802F-065ED807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EAAB-3F73-43BE-95EB-6D660723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6991-B1E4-430F-8582-B2CE6A00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F680-490D-4DFC-904E-420CB1C3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424D-C474-4236-85AE-D9837ED9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320F-F735-401E-80D9-9131C8A4A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r So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rian Jan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chool Astronomy Clu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5486400" y="228600"/>
            <a:ext cx="3276720" cy="2023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362320" cy="2308320"/>
          </a:xfrm>
          <a:prstGeom prst="rect">
            <a:avLst/>
          </a:prstGeom>
          <a:ln w="0">
            <a:noFill/>
          </a:ln>
        </p:spPr>
      </p:pic>
      <p:sp>
        <p:nvSpPr>
          <p:cNvPr id="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533520" y="51814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459720" y="47242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47120" y="1179360"/>
            <a:ext cx="812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anus is a very unusual planet because it sits on its side with north and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es sticking out the sides. It rotates around this axis, making it look like a 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ing around in a circle around the Su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2550960" cy="3276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3"/>
          <a:stretch/>
        </p:blipFill>
        <p:spPr>
          <a:xfrm>
            <a:off x="1143000" y="220968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4"/>
          <a:stretch/>
        </p:blipFill>
        <p:spPr>
          <a:xfrm>
            <a:off x="3200400" y="4800600"/>
            <a:ext cx="2057400" cy="14907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2975400" y="4343400"/>
            <a:ext cx="27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Uranus’s mo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5"/>
          <a:stretch/>
        </p:blipFill>
        <p:spPr>
          <a:xfrm>
            <a:off x="3048120" y="2286000"/>
            <a:ext cx="2286000" cy="1459080"/>
          </a:xfrm>
          <a:prstGeom prst="rect">
            <a:avLst/>
          </a:prstGeom>
          <a:ln w="0">
            <a:noFill/>
          </a:ln>
        </p:spPr>
      </p:pic>
      <p:sp>
        <p:nvSpPr>
          <p:cNvPr id="129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4343400" cy="422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5334120" y="4572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4955400" y="571500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 Dark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00840" y="1179360"/>
            <a:ext cx="775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ptune, usually the eighth planet from the Sun, is a very cold pl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asionally, Pluto crosses Neptune’s orbit and becomes the eight plan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bluish color comes from its atmosphere of methane g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3"/>
          <a:stretch/>
        </p:blipFill>
        <p:spPr>
          <a:xfrm>
            <a:off x="6248520" y="2362320"/>
            <a:ext cx="1942920" cy="1942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4"/>
          <a:stretch/>
        </p:blipFill>
        <p:spPr>
          <a:xfrm>
            <a:off x="6858000" y="4952880"/>
            <a:ext cx="2057400" cy="1341720"/>
          </a:xfrm>
          <a:prstGeom prst="rect">
            <a:avLst/>
          </a:prstGeom>
          <a:ln w="0">
            <a:noFill/>
          </a:ln>
        </p:spPr>
      </p:pic>
      <p:sp>
        <p:nvSpPr>
          <p:cNvPr id="13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6019920" y="30481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5791320" y="5029200"/>
            <a:ext cx="231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est view to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luto and Cha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58040" y="1219320"/>
            <a:ext cx="88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to, usually the ninth planet from the Sun, is the small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cientists believe that Pluto once was one of Neptune’s moons, and that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ed out away from Neptune and made its own orb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"/>
          <p:cNvPicPr/>
          <p:nvPr/>
        </p:nvPicPr>
        <p:blipFill>
          <a:blip r:embed="rId2"/>
          <a:stretch/>
        </p:blipFill>
        <p:spPr>
          <a:xfrm>
            <a:off x="838080" y="2362320"/>
            <a:ext cx="2971800" cy="2292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1295280" y="4800600"/>
            <a:ext cx="2210040" cy="1566720"/>
          </a:xfrm>
          <a:prstGeom prst="rect">
            <a:avLst/>
          </a:prstGeom>
          <a:ln w="0">
            <a:noFill/>
          </a:ln>
        </p:spPr>
      </p:pic>
      <p:sp>
        <p:nvSpPr>
          <p:cNvPr id="144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228600" y="3733920"/>
            <a:ext cx="2286000" cy="23461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232560" y="617220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t Halley in 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600200" cy="1251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tretch/>
        </p:blipFill>
        <p:spPr>
          <a:xfrm>
            <a:off x="6781680" y="228600"/>
            <a:ext cx="2114640" cy="1400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4"/>
          <a:stretch/>
        </p:blipFill>
        <p:spPr>
          <a:xfrm>
            <a:off x="3124080" y="4724280"/>
            <a:ext cx="2347920" cy="1765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5867280" y="3733920"/>
            <a:ext cx="2772000" cy="184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"/>
          <p:cNvSpPr/>
          <p:nvPr/>
        </p:nvSpPr>
        <p:spPr>
          <a:xfrm>
            <a:off x="292680" y="209376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ts are sometimes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ty snowba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"icy mudballs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re a mixture of ices (both water and frozen gases) and dust that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eason didn't get incorporated into planets when the solar system was form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kes them very interesting as samples of the early history of the solar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3264120" y="3693960"/>
            <a:ext cx="16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t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tical orb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5778360" y="5599080"/>
            <a:ext cx="33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we see a comet, 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seeing the tail of the co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comes close to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1876320" cy="1876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6172200" y="1295280"/>
            <a:ext cx="2181240" cy="1710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6631920" y="31240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f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4879080" y="53341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"/>
          <p:cNvPicPr/>
          <p:nvPr/>
        </p:nvPicPr>
        <p:blipFill>
          <a:blip r:embed="rId4"/>
          <a:stretch/>
        </p:blipFill>
        <p:spPr>
          <a:xfrm>
            <a:off x="6934320" y="3733920"/>
            <a:ext cx="1838160" cy="18111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2"/>
          <p:cNvSpPr/>
          <p:nvPr/>
        </p:nvSpPr>
        <p:spPr>
          <a:xfrm>
            <a:off x="7378920" y="552276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52280" y="2971800"/>
            <a:ext cx="3581640" cy="3687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5791320" y="3276720"/>
            <a:ext cx="2628720" cy="1971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4114800" y="3352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227880" y="1523880"/>
            <a:ext cx="89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ury, the planet nearest the Sun, is the second small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only slightly larger than the Earth's moon. The surface is covered with cra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iny planet does not have any rings or mo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4269960" y="464832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3581280" cy="3992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7238880" y="3808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380880" y="160020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 cra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241760" y="17524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a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114800" y="2362320"/>
            <a:ext cx="1830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us is one of the brightest objects in our sk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it is clearly visible to the naked ey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be tricky to spot because it is a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ises and sets with the Sun each 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ient civilizations believed Venus w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ly two different objec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y called the one that ros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ning Star, and the one that 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vening St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 and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1903680" cy="2057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2"/>
          <a:stretch/>
        </p:blipFill>
        <p:spPr>
          <a:xfrm>
            <a:off x="3657600" y="4114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2435040" cy="29718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2"/>
          <p:cNvSpPr/>
          <p:nvPr/>
        </p:nvSpPr>
        <p:spPr>
          <a:xfrm>
            <a:off x="2898720" y="1600200"/>
            <a:ext cx="2856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imilar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do you no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the Earth an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o they have s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urface featu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"/>
          <p:cNvPicPr/>
          <p:nvPr/>
        </p:nvPicPr>
        <p:blipFill>
          <a:blip r:embed="rId4"/>
          <a:stretch/>
        </p:blipFill>
        <p:spPr>
          <a:xfrm>
            <a:off x="6019920" y="4419720"/>
            <a:ext cx="2666880" cy="1927080"/>
          </a:xfrm>
          <a:prstGeom prst="rect">
            <a:avLst/>
          </a:prstGeom>
          <a:ln w="0">
            <a:noFill/>
          </a:ln>
        </p:spPr>
      </p:pic>
      <p:sp>
        <p:nvSpPr>
          <p:cNvPr id="83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886200" cy="3992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4952880" y="3352680"/>
            <a:ext cx="1362240" cy="1257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4800600" y="2133720"/>
            <a:ext cx="17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ympus Mons is the largest volcano in our solar syst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5029200" y="4876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4802760" y="60199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ian cr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6629400" y="18288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308160" y="1066680"/>
            <a:ext cx="85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s is very bright, which makes it easy to spot in the night sky. It was named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man god of war because its reddish color reminded the people of bl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6404400" y="3733920"/>
            <a:ext cx="24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people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er landed on Ma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sent rob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rs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"/>
          <p:cNvPicPr/>
          <p:nvPr/>
        </p:nvPicPr>
        <p:blipFill>
          <a:blip r:embed="rId5"/>
          <a:stretch/>
        </p:blipFill>
        <p:spPr>
          <a:xfrm>
            <a:off x="6781680" y="4952880"/>
            <a:ext cx="1724040" cy="1724040"/>
          </a:xfrm>
          <a:prstGeom prst="rect">
            <a:avLst/>
          </a:prstGeom>
          <a:ln w="0">
            <a:noFill/>
          </a:ln>
        </p:spPr>
      </p:pic>
      <p:sp>
        <p:nvSpPr>
          <p:cNvPr id="94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EROID B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228600" y="5029200"/>
            <a:ext cx="2743200" cy="1549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6477120" y="4876920"/>
            <a:ext cx="2523960" cy="18399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371520" y="1255680"/>
            <a:ext cx="79686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asteroids can be found in the Asteroid Belt, which is located betw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s and Jupiter.  Asteroids are rocky and metallic objects that orbit the Su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are too small to be considered planets. They are known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nor plan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eroids range in size from Ceres, which has a diameter of about 1000 k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to the size of pebb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3"/>
          <a:stretch/>
        </p:blipFill>
        <p:spPr>
          <a:xfrm>
            <a:off x="3429000" y="2971800"/>
            <a:ext cx="2666880" cy="206532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741840" cy="384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5257800" y="2286000"/>
            <a:ext cx="2438280" cy="16160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4499640" y="63244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are a few of Jupiter’s mo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89760" y="1219320"/>
            <a:ext cx="794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piter, the fifth planet from the Sun, is the larg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piter is so big that over 1,000 planets the size of Earth could fit in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has over 60 moons and 2 rings.  Can life exist on Jupiter's moon, Europ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5336280" y="380988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Great Red Spo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ctually a h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m syst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"/>
          <p:cNvPicPr/>
          <p:nvPr/>
        </p:nvPicPr>
        <p:blipFill>
          <a:blip r:embed="rId3"/>
          <a:stretch/>
        </p:blipFill>
        <p:spPr>
          <a:xfrm>
            <a:off x="4572000" y="5029200"/>
            <a:ext cx="3657600" cy="124128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190760" cy="3992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1571760" cy="1152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157320" y="1066680"/>
            <a:ext cx="883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n, the sixth planet from the Sun, is the second larg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often called the ringed planet because many rings of dust and rocks surround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n also has over 31 mo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6781680" y="2209680"/>
            <a:ext cx="1952640" cy="1468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4"/>
          <a:stretch/>
        </p:blipFill>
        <p:spPr>
          <a:xfrm>
            <a:off x="4876920" y="41911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5"/>
          <a:stretch/>
        </p:blipFill>
        <p:spPr>
          <a:xfrm>
            <a:off x="6400800" y="3809880"/>
            <a:ext cx="2209680" cy="1743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4719240" y="3048120"/>
            <a:ext cx="198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of Saturn’s r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6930000" y="1752480"/>
            <a:ext cx="175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urn with some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s mo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4718880" y="5562720"/>
            <a:ext cx="4054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tan is a moon of Saturn that may have so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ditions necessary for life! The picture 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ight shows an artist’s drawing of how Tit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ht have looked when the Cassini-Huygen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e dropped into its atmosphere in Dec.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9T19:56:38Z</dcterms:created>
  <dc:creator>justin</dc:creator>
  <dc:description/>
  <dc:language>en-US</dc:language>
  <cp:lastModifiedBy>LEGION</cp:lastModifiedBy>
  <dcterms:modified xsi:type="dcterms:W3CDTF">2018-03-22T09:53:36Z</dcterms:modified>
  <cp:revision>11</cp:revision>
  <dc:subject/>
  <dc:title>Slide 1</dc:title>
</cp:coreProperties>
</file>