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89A5-CD3D-4FAE-9789-721123C38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sometimes called dirty snowballs or "icy mudballs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minor plan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850-F3B5-4E75-8656-F6F01A99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72F9-DD06-4F30-A8D9-0521AB8D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860-4395-4F9D-90E2-B0129816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B80-0A6C-4B91-8380-55BA50EB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3B0-5C15-463F-9726-DAC73B69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2F2-9CF3-449D-A82C-BB5E7450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269-5E68-473F-A4CD-BBAFDBAB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3C0-ECC4-4CB2-9A05-FC218991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C08-0ACC-43D3-A5F4-6FFBBDFA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CA3-527A-4746-9314-DC44A486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E7B-41DE-4427-9654-D292B5CE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B5C-E850-4479-A16D-E7510C45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5D5C-9324-47FD-BDC1-336A33ACD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rian Jan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School Astronomy Cl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276720" cy="20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362320" cy="23083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533520" y="5181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59720" y="4724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47120" y="1179360"/>
            <a:ext cx="812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anus is a very unusual planet because it sits on its side with north and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s sticking out the sides. It rotates around this axis, making it look like a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ing around in a circle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255096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4"/>
          <a:stretch/>
        </p:blipFill>
        <p:spPr>
          <a:xfrm>
            <a:off x="3200400" y="4800600"/>
            <a:ext cx="2057400" cy="14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2975400" y="434340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Uranus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3048120" y="2286000"/>
            <a:ext cx="2286000" cy="145908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343400" cy="422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955400" y="571500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Dark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00840" y="1179360"/>
            <a:ext cx="77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tune, usually the eighth planet from the Sun, is a very cold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asionally, Pluto crosses Neptune’s orbit and becomes the eight plan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bluish color comes from its atmosphere of methane g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3"/>
          <a:stretch/>
        </p:blipFill>
        <p:spPr>
          <a:xfrm>
            <a:off x="6248520" y="236232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4"/>
          <a:stretch/>
        </p:blipFill>
        <p:spPr>
          <a:xfrm>
            <a:off x="6858000" y="4952880"/>
            <a:ext cx="2057400" cy="13417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19920" y="3048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5791320" y="502920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est view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luto and Cha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58040" y="1219320"/>
            <a:ext cx="88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to, usually the ninth planet from the Sun, is the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cientists believe that Pluto once was one of Neptune’s moons, and that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d out away from Neptune and made its own orb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2971800" cy="229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2210040" cy="1566720"/>
          </a:xfrm>
          <a:prstGeom prst="rect">
            <a:avLst/>
          </a:prstGeom>
          <a:ln w="0">
            <a:noFill/>
          </a:ln>
        </p:spPr>
      </p:pic>
      <p:sp>
        <p:nvSpPr>
          <p:cNvPr id="144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2286000" cy="2346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232560" y="61722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 Halley in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25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6781680" y="228600"/>
            <a:ext cx="2114640" cy="1400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4"/>
          <a:stretch/>
        </p:blipFill>
        <p:spPr>
          <a:xfrm>
            <a:off x="3124080" y="4724280"/>
            <a:ext cx="2347920" cy="1765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867280" y="373392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292680" y="2093760"/>
            <a:ext cx="87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are sometime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ty snowb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"icy mudball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a mixture of ices (both water and frozen gases) and dust that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ason didn't get incorporated into planets when the solar system was form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them very interesting as samples of the early history of the solar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3264120" y="3693960"/>
            <a:ext cx="167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e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tical or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778360" y="559908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we see a comet, 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eeing the tail of the co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comes close to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6172200" y="1295280"/>
            <a:ext cx="2181240" cy="171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6631920" y="31240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f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879080" y="53341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"/>
          <p:cNvPicPr/>
          <p:nvPr/>
        </p:nvPicPr>
        <p:blipFill>
          <a:blip r:embed="rId4"/>
          <a:stretch/>
        </p:blipFill>
        <p:spPr>
          <a:xfrm>
            <a:off x="6934320" y="3733920"/>
            <a:ext cx="1838160" cy="1811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2"/>
          <p:cNvSpPr/>
          <p:nvPr/>
        </p:nvSpPr>
        <p:spPr>
          <a:xfrm>
            <a:off x="7378920" y="55227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3581640" cy="368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791320" y="3276720"/>
            <a:ext cx="26287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114800" y="3352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227880" y="1523880"/>
            <a:ext cx="89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ury, the planet nearest the Sun, is the second small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nly slightly larger than the Earth's moon. The surface is covered with cra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ny planet does not have any rings or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269960" y="46483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3581280" cy="39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80880" y="16002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cra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241760" y="1752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va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114800" y="2362320"/>
            <a:ext cx="183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is one of the brightest objects in our s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it is clearly visible to the naked ey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tricky to spot because it i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ises and sets with the Sun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ient civilizations believed Venus w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ly two different objec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y called the one that ros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ning Star, and the one that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vening St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and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190368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3"/>
          <a:stretch/>
        </p:blipFill>
        <p:spPr>
          <a:xfrm>
            <a:off x="304920" y="2514600"/>
            <a:ext cx="2435040" cy="2971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2"/>
          <p:cNvSpPr/>
          <p:nvPr/>
        </p:nvSpPr>
        <p:spPr>
          <a:xfrm>
            <a:off x="2898720" y="1600200"/>
            <a:ext cx="285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similariti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do you 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Earth a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they have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urface fea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666880" cy="1927080"/>
          </a:xfrm>
          <a:prstGeom prst="rect">
            <a:avLst/>
          </a:prstGeom>
          <a:ln w="0">
            <a:noFill/>
          </a:ln>
        </p:spPr>
      </p:pic>
      <p:sp>
        <p:nvSpPr>
          <p:cNvPr id="83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86200" cy="39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1362240" cy="1257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800600" y="2133720"/>
            <a:ext cx="17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ympus Mons is the largest volcano in our solar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5029200" y="4876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4802760" y="60199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an cr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6629400" y="18288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308160" y="1066680"/>
            <a:ext cx="85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is very bright, which makes it easy to spot in the night sky. It was named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oman god of war because its reddish color reminded the people of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404400" y="3733920"/>
            <a:ext cx="24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people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landed on Ma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ent rob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r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"/>
          <p:cNvPicPr/>
          <p:nvPr/>
        </p:nvPicPr>
        <p:blipFill>
          <a:blip r:embed="rId5"/>
          <a:stretch/>
        </p:blipFill>
        <p:spPr>
          <a:xfrm>
            <a:off x="6781680" y="4952880"/>
            <a:ext cx="1724040" cy="172404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2743200" cy="154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6477120" y="4876920"/>
            <a:ext cx="2523960" cy="1839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371520" y="1255680"/>
            <a:ext cx="79686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asteroids can be found in the Asteroid Belt, which is located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s and Jupiter.  Asteroids are rocky and metallic objects that orbit the Su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are too small to be considered planets. They are known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or plan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eroids range in size from Ceres, which has a diameter of about 1000 k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o the size of pebb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3429000" y="2971800"/>
            <a:ext cx="2666880" cy="206532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41840" cy="384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438280" cy="1616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4499640" y="63244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are a few of Jupiter’s mo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89760" y="1219320"/>
            <a:ext cx="79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, the fifth planet from the Sun, is the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piter is so big that over 1,000 planets the size of Earth could fit in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over 60 moons and 2 rings.  Can life exist on Jupiter's moon, Europ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6280" y="3809880"/>
            <a:ext cx="23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Great Red Spo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ctually a h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m syst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3657600" cy="124128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190760" cy="39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1571760" cy="115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57320" y="1066680"/>
            <a:ext cx="883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, the sixth planet from the Sun, is the second largest planet in our sola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often called the ringed planet because many rings of dust and rocks surroun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urn also has over 31 mo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1680" y="2209680"/>
            <a:ext cx="1952640" cy="1468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5"/>
          <a:stretch/>
        </p:blipFill>
        <p:spPr>
          <a:xfrm>
            <a:off x="6400800" y="3809880"/>
            <a:ext cx="220968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4719240" y="304812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Saturn’s 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930000" y="1752480"/>
            <a:ext cx="175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n with som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s mo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4718880" y="5562720"/>
            <a:ext cx="405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an is a moon of Saturn that may have so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itions necessary for life! The picture 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ght shows an artist’s drawing of how Ti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ht have looked when the Cassini-Huygen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e dropped into its atmosphere in Dec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9:56:38Z</dcterms:created>
  <dc:creator>justin</dc:creator>
  <dc:description/>
  <dc:language>en-US</dc:language>
  <cp:lastModifiedBy>LEGION</cp:lastModifiedBy>
  <dcterms:modified xsi:type="dcterms:W3CDTF">2018-03-22T09:53:36Z</dcterms:modified>
  <cp:revision>11</cp:revision>
  <dc:subject/>
  <dc:title>Slide 1</dc:title>
</cp:coreProperties>
</file>