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7409-153D-409C-A405-839381FBD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3BB1E-0029-4E9B-B0F5-F015F5A86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42171-8CF4-451A-94EF-19937A6D6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F653D-1358-4558-B329-82A3CD418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35233-DBBD-4EDE-9930-678A79C74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A1F07-EA5C-4FD8-83C0-ACFE4F011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99D4A-CC00-4EB9-B417-B1E9E6644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1CF00-CC71-4804-B81C-2A74D38B6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2A236-825D-4BF3-BC6A-DBFA9EC22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76C99-C73A-4CC4-8DA2-AD45FEAB4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5E9A9-28EA-4C52-BC4D-474FC2885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0D4EB-3ADE-4E06-A8FA-BB6251585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A3002-9D8D-493A-83A9-FCD20AA42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D311-5454-40E1-8461-716E84A879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Нижний колонтитул 3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Нижний колонтитул 2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8-03-22T09:51:53Z</dcterms:modified>
  <cp:revision>3</cp:revision>
  <dc:subject/>
  <dc:title>Chapter 6  Our Solar System and Its Origin</dc:title>
</cp:coreProperties>
</file>