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21.gif" ContentType="image/gif"/>
  <Override PartName="/ppt/media/image14.png" ContentType="image/png"/>
  <Override PartName="/ppt/media/image20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7.jpeg" ContentType="image/jpeg"/>
  <Override PartName="/ppt/media/image5.gif" ContentType="image/gif"/>
  <Override PartName="/ppt/media/image1.wmf" ContentType="image/x-wmf"/>
  <Override PartName="/ppt/media/image2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D6DB-D2E7-4D8B-B3DF-66DC157A8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10 August 19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10 August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 Zalewski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 Zalewski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73 -- 154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73 -- 15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s of  the  Pla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of  the 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ulf of Californ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lf of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 &amp;  Moon  from  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 &amp;  Moon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mi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mi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ernicus  Crater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  Crater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w  Moon        10 June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 Moon        10 June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it  time:  3  hours  in  Lusaka,  Zamb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tal  eclipse:  2 sec.  short  of  3  minu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  time:  3  hours  in  Lusaka,  Za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 eclipse:  2 sec.  short  of  3 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r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ry   with   Sun   behind 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  with   Sun   behind 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s  of  the  surface  of             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 of  the  surface  of            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EBF-3460-4670-8D7A-F90EE7E7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70F-40CF-4FB8-B20B-2888F083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553-AE17-4203-AE39-0C4590D2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A70-0695-40CA-B70F-47C935AE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BFF8-7D56-48EF-985D-6F0B69BF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2723-9799-4893-826E-18A78153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3785-8F14-4E7D-B2C6-8590AE0B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5E86-93CD-4297-A13D-2AB92057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E9CD-BB90-4647-9DEC-45BD33B5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49FD-1933-47CF-B71E-CB417007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A38F-7CA5-4884-9C94-A54200F4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2B4-8136-4B5C-85B1-3A35ECFA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C0A8-EB9D-4188-9D1A-8B686D61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BFFF-FA3E-413D-A67F-F8CE624B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7DDC-497A-4F91-A490-D5EA45C5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ECE1-7D99-4EA1-A541-E0C77DA6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FC78-4615-46A4-A6A9-5E5D82D1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910-BF83-448F-A225-E8A3644B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C36-88E2-4192-AF4A-D9E6AB5B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821-8100-4064-A109-CA8651F0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6A3-5289-4E52-9AF0-E8376BD1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4AA-C8E4-428D-BD37-A2CCF294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E92-E270-43D7-825F-A4EDE066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825-4387-4C03-987F-769547EA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A8FB-512C-4BDD-A0D8-A4A20F9F92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CD75-A610-4F8E-B3F8-94BF22717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Rounded MT Bold"/>
              </a:rPr>
              <a:t>Our  Solar  Syste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MCj02151860000[1]"/>
          <p:cNvPicPr/>
          <p:nvPr/>
        </p:nvPicPr>
        <p:blipFill>
          <a:blip r:embed="rId1"/>
          <a:stretch/>
        </p:blipFill>
        <p:spPr>
          <a:xfrm rot="1918200">
            <a:off x="914040" y="4876920"/>
            <a:ext cx="182880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2507900000[1]"/>
          <p:cNvPicPr/>
          <p:nvPr/>
        </p:nvPicPr>
        <p:blipFill>
          <a:blip r:embed="rId2"/>
          <a:stretch/>
        </p:blipFill>
        <p:spPr>
          <a:xfrm>
            <a:off x="5105520" y="3657600"/>
            <a:ext cx="290484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3010780000[1]"/>
          <p:cNvPicPr/>
          <p:nvPr/>
        </p:nvPicPr>
        <p:blipFill>
          <a:blip r:embed="rId3"/>
          <a:stretch/>
        </p:blipFill>
        <p:spPr>
          <a:xfrm rot="575400">
            <a:off x="1752480" y="2282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76920" y="3805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ellan  Spacecraf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10 August 199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Magellan"/>
          <p:cNvPicPr/>
          <p:nvPr/>
        </p:nvPicPr>
        <p:blipFill>
          <a:blip r:embed="rId1"/>
          <a:stretch/>
        </p:blipFill>
        <p:spPr>
          <a:xfrm>
            <a:off x="950760" y="1066680"/>
            <a:ext cx="3513240" cy="449604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Venus from Magellan"/>
          <p:cNvPicPr/>
          <p:nvPr/>
        </p:nvPicPr>
        <p:blipFill>
          <a:blip r:embed="rId1"/>
          <a:stretch/>
        </p:blipFill>
        <p:spPr>
          <a:xfrm>
            <a:off x="3048120" y="1066680"/>
            <a:ext cx="5371920" cy="5486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  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ltraviolet  photograp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pvo_uv_Venus"/>
          <p:cNvPicPr/>
          <p:nvPr/>
        </p:nvPicPr>
        <p:blipFill>
          <a:blip r:embed="rId1"/>
          <a:stretch/>
        </p:blipFill>
        <p:spPr>
          <a:xfrm>
            <a:off x="3621240" y="914400"/>
            <a:ext cx="5522760" cy="594360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64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sketch was taken from the Jet Propulsion Lab’s 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otojournal.jpl.nasa.gov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Ben Zalewski  Nov.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MMj03363800000[1]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photojournal"/>
          <p:cNvPicPr/>
          <p:nvPr/>
        </p:nvPicPr>
        <p:blipFill>
          <a:blip r:embed="rId1"/>
          <a:stretch/>
        </p:blipFill>
        <p:spPr>
          <a:xfrm>
            <a:off x="152280" y="20520"/>
            <a:ext cx="8686800" cy="669924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las  Copernicus  published  the  theory  that  planets  revolve  around  the 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3" descr="copernic2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265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73 -- 15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MCj00831850000[1]"/>
          <p:cNvPicPr/>
          <p:nvPr/>
        </p:nvPicPr>
        <p:blipFill>
          <a:blip r:embed="rId2"/>
          <a:stretch/>
        </p:blipFill>
        <p:spPr>
          <a:xfrm rot="875400">
            <a:off x="6248160" y="2209680"/>
            <a:ext cx="2057400" cy="2038320"/>
          </a:xfrm>
          <a:prstGeom prst="rect">
            <a:avLst/>
          </a:prstGeom>
          <a:ln w="0">
            <a:noFill/>
          </a:ln>
        </p:spPr>
      </p:pic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olar sys"/>
          <p:cNvPicPr/>
          <p:nvPr/>
        </p:nvPicPr>
        <p:blipFill>
          <a:blip r:embed="rId1"/>
          <a:stretch/>
        </p:blipFill>
        <p:spPr>
          <a:xfrm>
            <a:off x="0" y="0"/>
            <a:ext cx="5694480" cy="7086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6172200" y="3657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hotographs of  the  Pl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553080" y="609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r M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525744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th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  from Apollo 1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pollo16_earth"/>
          <p:cNvPicPr/>
          <p:nvPr/>
        </p:nvPicPr>
        <p:blipFill>
          <a:blip r:embed="rId1"/>
          <a:stretch/>
        </p:blipFill>
        <p:spPr>
          <a:xfrm>
            <a:off x="3995640" y="0"/>
            <a:ext cx="477036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1676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Gulf of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3733920" y="32767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MMj03369990000[1]"/>
          <p:cNvPicPr/>
          <p:nvPr/>
        </p:nvPicPr>
        <p:blipFill>
          <a:blip r:embed="rId2"/>
          <a:stretch/>
        </p:blipFill>
        <p:spPr>
          <a:xfrm rot="4350000">
            <a:off x="1142280" y="4647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Picture 3" descr="480px-Galileo_prep"/>
          <p:cNvPicPr/>
          <p:nvPr/>
        </p:nvPicPr>
        <p:blipFill>
          <a:blip r:embed="rId1"/>
          <a:stretch/>
        </p:blipFill>
        <p:spPr>
          <a:xfrm>
            <a:off x="2514600" y="1828800"/>
            <a:ext cx="3780000" cy="4724280"/>
          </a:xfrm>
          <a:prstGeom prst="rect">
            <a:avLst/>
          </a:prstGeom>
          <a:ln w="0">
            <a:noFill/>
          </a:ln>
        </p:spPr>
      </p:pic>
      <p:sp>
        <p:nvSpPr>
          <p:cNvPr id="1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stralia  from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gal_australia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>
            <a:off x="2895480" y="990720"/>
            <a:ext cx="1067040" cy="2361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hotographs are taken from the NASA space mis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nssdc.gsfc.nasa.gov/photo_galler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Cj00832270000[1]"/>
          <p:cNvPicPr/>
          <p:nvPr/>
        </p:nvPicPr>
        <p:blipFill>
          <a:blip r:embed="rId1"/>
          <a:stretch/>
        </p:blipFill>
        <p:spPr>
          <a:xfrm rot="20208600">
            <a:off x="6324120" y="3276360"/>
            <a:ext cx="182268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globerotation"/>
          <p:cNvPicPr/>
          <p:nvPr/>
        </p:nvPicPr>
        <p:blipFill>
          <a:blip r:embed="rId2"/>
          <a:stretch/>
        </p:blipFill>
        <p:spPr>
          <a:xfrm>
            <a:off x="1295280" y="33526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 &amp;  Moon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6" name="Picture 3" descr="gal_earth_moon"/>
          <p:cNvPicPr/>
          <p:nvPr/>
        </p:nvPicPr>
        <p:blipFill>
          <a:blip r:embed="rId1"/>
          <a:stretch/>
        </p:blipFill>
        <p:spPr>
          <a:xfrm>
            <a:off x="1676520" y="838080"/>
            <a:ext cx="5607000" cy="682020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rise – Apollo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9" name="Picture 3" descr="apollo08_earthrise"/>
          <p:cNvPicPr/>
          <p:nvPr/>
        </p:nvPicPr>
        <p:blipFill>
          <a:blip r:embed="rId1"/>
          <a:stretch/>
        </p:blipFill>
        <p:spPr>
          <a:xfrm>
            <a:off x="2057400" y="1501920"/>
            <a:ext cx="7086600" cy="5356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MCj0082981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99540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6622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r  Mo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" name="Picture 3" descr="gal_moon_color"/>
          <p:cNvPicPr/>
          <p:nvPr/>
        </p:nvPicPr>
        <p:blipFill>
          <a:blip r:embed="rId1"/>
          <a:stretch/>
        </p:blipFill>
        <p:spPr>
          <a:xfrm>
            <a:off x="3029040" y="533520"/>
            <a:ext cx="6114960" cy="6324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3979310000[1]"/>
          <p:cNvPicPr/>
          <p:nvPr/>
        </p:nvPicPr>
        <p:blipFill>
          <a:blip r:embed="rId2"/>
          <a:stretch/>
        </p:blipFill>
        <p:spPr>
          <a:xfrm rot="21393000">
            <a:off x="829800" y="4491000"/>
            <a:ext cx="1197000" cy="1482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7621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olor  photogra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lo 1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8" name="Picture 3" descr="apollo17_schmitt"/>
          <p:cNvPicPr/>
          <p:nvPr/>
        </p:nvPicPr>
        <p:blipFill>
          <a:blip r:embed="rId1"/>
          <a:stretch/>
        </p:blipFill>
        <p:spPr>
          <a:xfrm>
            <a:off x="2438280" y="1801800"/>
            <a:ext cx="6705720" cy="50371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1066680" y="5181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Rounded MT Bold"/>
              </a:rPr>
              <a:t>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ernicus  Crater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Hu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hstCopernicus"/>
          <p:cNvPicPr/>
          <p:nvPr/>
        </p:nvPicPr>
        <p:blipFill>
          <a:blip r:embed="rId1"/>
          <a:stretch/>
        </p:blipFill>
        <p:spPr>
          <a:xfrm>
            <a:off x="990720" y="2048040"/>
            <a:ext cx="7924680" cy="47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3" name="Line 4"/>
          <p:cNvSpPr/>
          <p:nvPr/>
        </p:nvSpPr>
        <p:spPr>
          <a:xfrm>
            <a:off x="1523880" y="57150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on:  dark sid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 Russian  Luna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Luna3-dark sid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5784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 Moon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 June 200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Picture 3" descr="newmoon10Jun02"/>
          <p:cNvPicPr/>
          <p:nvPr/>
        </p:nvPicPr>
        <p:blipFill>
          <a:blip r:embed="rId1"/>
          <a:stretch/>
        </p:blipFill>
        <p:spPr>
          <a:xfrm>
            <a:off x="1905120" y="1568520"/>
            <a:ext cx="5638680" cy="528948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3" descr="MPj04012310000[1]"/>
          <p:cNvPicPr/>
          <p:nvPr/>
        </p:nvPicPr>
        <p:blipFill>
          <a:blip r:embed="rId1"/>
          <a:stretch/>
        </p:blipFill>
        <p:spPr>
          <a:xfrm>
            <a:off x="228600" y="2819520"/>
            <a:ext cx="3914640" cy="313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MPj04075090000[1]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51460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icrosoft Clip 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ar  Eclipse  200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eclipse2001Zambia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209680" y="52578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  time:  3  hours  in  Lusaka,  Zamb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  eclipse:  2 sec.  short  of  3 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  of  sun  taken  at  4  different  wavelengths  of ultraviolet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sun-Fe1"/>
          <p:cNvPicPr/>
          <p:nvPr/>
        </p:nvPicPr>
        <p:blipFill>
          <a:blip r:embed="rId1"/>
          <a:stretch/>
        </p:blipFill>
        <p:spPr>
          <a:xfrm>
            <a:off x="6400800" y="43434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sun-He"/>
          <p:cNvPicPr/>
          <p:nvPr/>
        </p:nvPicPr>
        <p:blipFill>
          <a:blip r:embed="rId2"/>
          <a:stretch/>
        </p:blipFill>
        <p:spPr>
          <a:xfrm>
            <a:off x="16002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sun-Fe3"/>
          <p:cNvPicPr/>
          <p:nvPr/>
        </p:nvPicPr>
        <p:blipFill>
          <a:blip r:embed="rId3"/>
          <a:stretch/>
        </p:blipFill>
        <p:spPr>
          <a:xfrm>
            <a:off x="380880" y="17524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sun-Fe2"/>
          <p:cNvPicPr/>
          <p:nvPr/>
        </p:nvPicPr>
        <p:blipFill>
          <a:blip r:embed="rId4"/>
          <a:stretch/>
        </p:blipFill>
        <p:spPr>
          <a:xfrm>
            <a:off x="5257800" y="1828800"/>
            <a:ext cx="2338560" cy="23385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ner 10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 Venus  &amp;  Mercu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mariner10b"/>
          <p:cNvPicPr/>
          <p:nvPr/>
        </p:nvPicPr>
        <p:blipFill>
          <a:blip r:embed="rId1"/>
          <a:stretch/>
        </p:blipFill>
        <p:spPr>
          <a:xfrm>
            <a:off x="457200" y="2438280"/>
            <a:ext cx="4876920" cy="3586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Atlas-Mar10"/>
          <p:cNvPicPr/>
          <p:nvPr/>
        </p:nvPicPr>
        <p:blipFill>
          <a:blip r:embed="rId2"/>
          <a:stretch/>
        </p:blipFill>
        <p:spPr>
          <a:xfrm>
            <a:off x="6934320" y="3657600"/>
            <a:ext cx="1593720" cy="21337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2666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ic mosa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mercuryglobe2"/>
          <p:cNvPicPr/>
          <p:nvPr/>
        </p:nvPicPr>
        <p:blipFill>
          <a:blip r:embed="rId1"/>
          <a:stretch/>
        </p:blipFill>
        <p:spPr>
          <a:xfrm>
            <a:off x="4265640" y="0"/>
            <a:ext cx="463536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hind  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3" descr="mercury on sun"/>
          <p:cNvPicPr/>
          <p:nvPr/>
        </p:nvPicPr>
        <p:blipFill>
          <a:blip r:embed="rId1"/>
          <a:stretch/>
        </p:blipFill>
        <p:spPr>
          <a:xfrm>
            <a:off x="838080" y="179064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132" name="Line 4"/>
          <p:cNvSpPr/>
          <p:nvPr/>
        </p:nvSpPr>
        <p:spPr>
          <a:xfrm flipV="1">
            <a:off x="2362320" y="3885840"/>
            <a:ext cx="7596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1800" y="431280"/>
            <a:ext cx="73404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otographs  of  the  surface  of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venera9-10"/>
          <p:cNvPicPr/>
          <p:nvPr/>
        </p:nvPicPr>
        <p:blipFill>
          <a:blip r:embed="rId1"/>
          <a:stretch/>
        </p:blipFill>
        <p:spPr>
          <a:xfrm>
            <a:off x="-190440" y="2057400"/>
            <a:ext cx="9334440" cy="462924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2:31Z</dcterms:created>
  <dc:creator>Ben Zalewski</dc:creator>
  <dc:description>Our Solar System</dc:description>
  <cp:keywords>Our Solar System</cp:keywords>
  <dc:language>en-US</dc:language>
  <cp:lastModifiedBy>LEGION</cp:lastModifiedBy>
  <dcterms:modified xsi:type="dcterms:W3CDTF">2018-03-22T09:50:12Z</dcterms:modified>
  <cp:revision>10</cp:revision>
  <dc:subject>Our Solar System</dc:subject>
  <dc:title>Our Solar System</dc:title>
</cp:coreProperties>
</file>