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3.png" ContentType="image/png"/>
  <Override PartName="/ppt/media/image27.gif" ContentType="image/gif"/>
  <Override PartName="/ppt/media/image28.jpeg" ContentType="image/jpeg"/>
  <Override PartName="/ppt/media/image22.jpeg" ContentType="image/jpeg"/>
  <Override PartName="/ppt/media/image21.gif" ContentType="image/gif"/>
  <Override PartName="/ppt/media/image14.png" ContentType="image/png"/>
  <Override PartName="/ppt/media/image20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34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32.wmf" ContentType="image/x-wmf"/>
  <Override PartName="/ppt/media/image2.wmf" ContentType="image/x-wmf"/>
  <Override PartName="/ppt/media/image38.jpeg" ContentType="image/jpeg"/>
  <Override PartName="/ppt/media/image7.jpeg" ContentType="image/jpeg"/>
  <Override PartName="/ppt/media/image5.gif" ContentType="image/gif"/>
  <Override PartName="/ppt/media/image1.wmf" ContentType="image/x-wmf"/>
  <Override PartName="/ppt/media/image24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45A4-4D8C-40A9-8531-F88E13B1B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Solar 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10 August 19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10 August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 Zalewski  Nov.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 Zalewski  Nov.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73 -- 154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73 -- 15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s of  the  Plane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of  the 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ulf of Californ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lf of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 &amp;  Moon  from  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 &amp;  Moon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mi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mi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ernicus  Crater  from  Hub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  Crater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w  Moon        10 June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 Moon        10 June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oft Clip 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Clip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it  time:  3  hours  in  Lusaka,  Zamb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tal  eclipse:  2 sec.  short  of  3  minu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  time:  3  hours  in  Lusaka,  Za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 eclipse:  2 sec.  short  of  3 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r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rcury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ry   with   Sun   behind 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  with   Sun   behind 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s  of  the  surface  of             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 of  the  surface  of            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9F2-0DE3-41F8-8323-05DE49F2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239-8692-44D0-9F37-C8D1926A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F6B-6AF4-4B3A-9C11-FF4C6A0B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632-6A76-456E-980A-CA483C26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BB0F-99DF-4137-A883-2A89A1FD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519E-9F6C-460D-95B3-B5B33B1C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60D2-E578-4775-B867-D298A59E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7982-CF35-4E06-8DFE-F1AD6391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2F76-2892-4B8D-8772-A085D716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6875-E53D-45B0-970D-938322B5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40D0-FB74-4671-9BFA-BDD1BDEC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EB9-B55C-4224-9851-1616FA3D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6F77-8B0A-4A2F-BF54-231CD75E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E2E9-969A-4856-91C2-C5D6665E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FD0F-85A5-47BD-8AAE-6B636EFC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16F0-A0C2-4C27-97E8-B55B3B7A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9C3D-874A-4283-80A5-C432A28B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17F-5E74-4326-882A-AC5880FF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EC3-308E-4B56-8B6C-5B3F6224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76F-B35B-4E09-AE69-1863A340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AF2-3019-4EF0-B124-F8691A48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1AC-3E89-4FA6-9595-7A5D7727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122-08B0-4D06-9ABD-0CD19FD5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CE08-A43D-4F51-BECE-3474A588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02AA-4999-47A6-B001-2CFA7F115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6341-9187-4674-B504-F1295A08E1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 Rounded MT Bold"/>
              </a:rPr>
              <a:t>Our  Solar  Syste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3" descr="MCj02151860000[1]"/>
          <p:cNvPicPr/>
          <p:nvPr/>
        </p:nvPicPr>
        <p:blipFill>
          <a:blip r:embed="rId1"/>
          <a:stretch/>
        </p:blipFill>
        <p:spPr>
          <a:xfrm rot="1918200">
            <a:off x="914040" y="4876920"/>
            <a:ext cx="1828800" cy="126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Cj02507900000[1]"/>
          <p:cNvPicPr/>
          <p:nvPr/>
        </p:nvPicPr>
        <p:blipFill>
          <a:blip r:embed="rId2"/>
          <a:stretch/>
        </p:blipFill>
        <p:spPr>
          <a:xfrm>
            <a:off x="5105520" y="3657600"/>
            <a:ext cx="2904840" cy="190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3010780000[1]"/>
          <p:cNvPicPr/>
          <p:nvPr/>
        </p:nvPicPr>
        <p:blipFill>
          <a:blip r:embed="rId3"/>
          <a:stretch/>
        </p:blipFill>
        <p:spPr>
          <a:xfrm rot="575400">
            <a:off x="1752480" y="2282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76920" y="38052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ellan  Spacecraf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10 August 1990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3" descr="Magellan"/>
          <p:cNvPicPr/>
          <p:nvPr/>
        </p:nvPicPr>
        <p:blipFill>
          <a:blip r:embed="rId1"/>
          <a:stretch/>
        </p:blipFill>
        <p:spPr>
          <a:xfrm>
            <a:off x="950760" y="1066680"/>
            <a:ext cx="3513240" cy="449604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Venus from Magellan"/>
          <p:cNvPicPr/>
          <p:nvPr/>
        </p:nvPicPr>
        <p:blipFill>
          <a:blip r:embed="rId1"/>
          <a:stretch/>
        </p:blipFill>
        <p:spPr>
          <a:xfrm>
            <a:off x="3048120" y="1066680"/>
            <a:ext cx="5371920" cy="54864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  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ltraviolet  photograp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3" descr="pvo_uv_Venus"/>
          <p:cNvPicPr/>
          <p:nvPr/>
        </p:nvPicPr>
        <p:blipFill>
          <a:blip r:embed="rId1"/>
          <a:stretch/>
        </p:blipFill>
        <p:spPr>
          <a:xfrm>
            <a:off x="3621240" y="914400"/>
            <a:ext cx="5522760" cy="594360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64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sketch was taken from the Jet Propulsion Lab’s 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photojournal.jpl.nasa.gov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860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Ben Zalewski  Nov.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MMj03363800000[1]"/>
          <p:cNvPicPr/>
          <p:nvPr/>
        </p:nvPicPr>
        <p:blipFill>
          <a:blip r:embed="rId1"/>
          <a:stretch/>
        </p:blipFill>
        <p:spPr>
          <a:xfrm>
            <a:off x="3581280" y="4038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photojournal"/>
          <p:cNvPicPr/>
          <p:nvPr/>
        </p:nvPicPr>
        <p:blipFill>
          <a:blip r:embed="rId1"/>
          <a:stretch/>
        </p:blipFill>
        <p:spPr>
          <a:xfrm>
            <a:off x="152280" y="20520"/>
            <a:ext cx="8686800" cy="669924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las  Copernicus  published  the  theory  that  planets  revolve  around  the 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3" descr="copernic2"/>
          <p:cNvPicPr/>
          <p:nvPr/>
        </p:nvPicPr>
        <p:blipFill>
          <a:blip r:embed="rId1"/>
          <a:stretch/>
        </p:blipFill>
        <p:spPr>
          <a:xfrm>
            <a:off x="685800" y="3048120"/>
            <a:ext cx="4419720" cy="3265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54100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473 -- 154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MCj00831850000[1]"/>
          <p:cNvPicPr/>
          <p:nvPr/>
        </p:nvPicPr>
        <p:blipFill>
          <a:blip r:embed="rId2"/>
          <a:stretch/>
        </p:blipFill>
        <p:spPr>
          <a:xfrm rot="875400">
            <a:off x="6248160" y="2209680"/>
            <a:ext cx="2057400" cy="2038320"/>
          </a:xfrm>
          <a:prstGeom prst="rect">
            <a:avLst/>
          </a:prstGeom>
          <a:ln w="0">
            <a:noFill/>
          </a:ln>
        </p:spPr>
      </p:pic>
      <p:sp>
        <p:nvSpPr>
          <p:cNvPr id="1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solar sys"/>
          <p:cNvPicPr/>
          <p:nvPr/>
        </p:nvPicPr>
        <p:blipFill>
          <a:blip r:embed="rId1"/>
          <a:stretch/>
        </p:blipFill>
        <p:spPr>
          <a:xfrm>
            <a:off x="0" y="0"/>
            <a:ext cx="5694480" cy="7086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6172200" y="36576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hotographs of  the  Pla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553080" y="609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r M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 flipH="1">
            <a:off x="525744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04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arth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  from Apollo 1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pollo16_earth"/>
          <p:cNvPicPr/>
          <p:nvPr/>
        </p:nvPicPr>
        <p:blipFill>
          <a:blip r:embed="rId1"/>
          <a:stretch/>
        </p:blipFill>
        <p:spPr>
          <a:xfrm>
            <a:off x="3995640" y="0"/>
            <a:ext cx="477036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16765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Gulf of Califor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>
            <a:off x="3733920" y="327672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MMj03369990000[1]"/>
          <p:cNvPicPr/>
          <p:nvPr/>
        </p:nvPicPr>
        <p:blipFill>
          <a:blip r:embed="rId2"/>
          <a:stretch/>
        </p:blipFill>
        <p:spPr>
          <a:xfrm rot="4350000">
            <a:off x="1142280" y="4647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9" name="Picture 3" descr="480px-Galileo_prep"/>
          <p:cNvPicPr/>
          <p:nvPr/>
        </p:nvPicPr>
        <p:blipFill>
          <a:blip r:embed="rId1"/>
          <a:stretch/>
        </p:blipFill>
        <p:spPr>
          <a:xfrm>
            <a:off x="2514600" y="1828800"/>
            <a:ext cx="3780000" cy="4724280"/>
          </a:xfrm>
          <a:prstGeom prst="rect">
            <a:avLst/>
          </a:prstGeom>
          <a:ln w="0">
            <a:noFill/>
          </a:ln>
        </p:spPr>
      </p:pic>
      <p:sp>
        <p:nvSpPr>
          <p:cNvPr id="1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stralia  from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Picture 3" descr="gal_australia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>
            <a:off x="2895480" y="990720"/>
            <a:ext cx="1067040" cy="2361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hotographs are taken from the NASA space mis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nssdc.gsfc.nasa.gov/photo_gallery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MCj00832270000[1]"/>
          <p:cNvPicPr/>
          <p:nvPr/>
        </p:nvPicPr>
        <p:blipFill>
          <a:blip r:embed="rId1"/>
          <a:stretch/>
        </p:blipFill>
        <p:spPr>
          <a:xfrm rot="20208600">
            <a:off x="6324120" y="3276360"/>
            <a:ext cx="1822680" cy="180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globerotation"/>
          <p:cNvPicPr/>
          <p:nvPr/>
        </p:nvPicPr>
        <p:blipFill>
          <a:blip r:embed="rId2"/>
          <a:stretch/>
        </p:blipFill>
        <p:spPr>
          <a:xfrm>
            <a:off x="1295280" y="33526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  &amp;  Moon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6" name="Picture 3" descr="gal_earth_moon"/>
          <p:cNvPicPr/>
          <p:nvPr/>
        </p:nvPicPr>
        <p:blipFill>
          <a:blip r:embed="rId1"/>
          <a:stretch/>
        </p:blipFill>
        <p:spPr>
          <a:xfrm>
            <a:off x="1676520" y="838080"/>
            <a:ext cx="5607000" cy="682020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rise – Apollo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9" name="Picture 3" descr="apollo08_earthrise"/>
          <p:cNvPicPr/>
          <p:nvPr/>
        </p:nvPicPr>
        <p:blipFill>
          <a:blip r:embed="rId1"/>
          <a:stretch/>
        </p:blipFill>
        <p:spPr>
          <a:xfrm>
            <a:off x="2057400" y="1501920"/>
            <a:ext cx="7086600" cy="5356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MCj00829810000[1]"/>
          <p:cNvPicPr/>
          <p:nvPr/>
        </p:nvPicPr>
        <p:blipFill>
          <a:blip r:embed="rId2"/>
          <a:stretch/>
        </p:blipFill>
        <p:spPr>
          <a:xfrm>
            <a:off x="762120" y="4191120"/>
            <a:ext cx="99540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26622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r  Mo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" name="Picture 3" descr="gal_moon_color"/>
          <p:cNvPicPr/>
          <p:nvPr/>
        </p:nvPicPr>
        <p:blipFill>
          <a:blip r:embed="rId1"/>
          <a:stretch/>
        </p:blipFill>
        <p:spPr>
          <a:xfrm>
            <a:off x="3029040" y="533520"/>
            <a:ext cx="6114960" cy="6324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3979310000[1]"/>
          <p:cNvPicPr/>
          <p:nvPr/>
        </p:nvPicPr>
        <p:blipFill>
          <a:blip r:embed="rId2"/>
          <a:stretch/>
        </p:blipFill>
        <p:spPr>
          <a:xfrm rot="21393000">
            <a:off x="829800" y="4491000"/>
            <a:ext cx="1197000" cy="14828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7621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Color  photogra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ollo 1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8" name="Picture 3" descr="apollo17_schmitt"/>
          <p:cNvPicPr/>
          <p:nvPr/>
        </p:nvPicPr>
        <p:blipFill>
          <a:blip r:embed="rId1"/>
          <a:stretch/>
        </p:blipFill>
        <p:spPr>
          <a:xfrm>
            <a:off x="2438280" y="1801800"/>
            <a:ext cx="6705720" cy="50371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1066680" y="5181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 Rounded MT Bold"/>
              </a:rPr>
              <a:t>Schmi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pernicus  Crater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Hub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hstCopernicus"/>
          <p:cNvPicPr/>
          <p:nvPr/>
        </p:nvPicPr>
        <p:blipFill>
          <a:blip r:embed="rId1"/>
          <a:stretch/>
        </p:blipFill>
        <p:spPr>
          <a:xfrm>
            <a:off x="990720" y="2048040"/>
            <a:ext cx="7924680" cy="47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3" name="Line 4"/>
          <p:cNvSpPr/>
          <p:nvPr/>
        </p:nvSpPr>
        <p:spPr>
          <a:xfrm>
            <a:off x="1523880" y="5715000"/>
            <a:ext cx="70866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3434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on:  dark side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 Russian  Luna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3" descr="Luna3-dark side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4578480"/>
          </a:xfrm>
          <a:prstGeom prst="rect">
            <a:avLst/>
          </a:prstGeom>
          <a:ln w="0">
            <a:noFill/>
          </a:ln>
        </p:spPr>
      </p:pic>
      <p:sp>
        <p:nvSpPr>
          <p:cNvPr id="19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  Moon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 June 200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0" name="Picture 3" descr="newmoon10Jun02"/>
          <p:cNvPicPr/>
          <p:nvPr/>
        </p:nvPicPr>
        <p:blipFill>
          <a:blip r:embed="rId1"/>
          <a:stretch/>
        </p:blipFill>
        <p:spPr>
          <a:xfrm>
            <a:off x="1905120" y="1568520"/>
            <a:ext cx="5638680" cy="5289480"/>
          </a:xfrm>
          <a:prstGeom prst="rect">
            <a:avLst/>
          </a:prstGeom>
          <a:ln w="0">
            <a:noFill/>
          </a:ln>
        </p:spPr>
      </p:pic>
      <p:sp>
        <p:nvSpPr>
          <p:cNvPr id="2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2514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 Su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3" descr="MPj04012310000[1]"/>
          <p:cNvPicPr/>
          <p:nvPr/>
        </p:nvPicPr>
        <p:blipFill>
          <a:blip r:embed="rId1"/>
          <a:stretch/>
        </p:blipFill>
        <p:spPr>
          <a:xfrm>
            <a:off x="228600" y="2819520"/>
            <a:ext cx="3914640" cy="3132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MPj04075090000[1]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2514600" y="6172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icrosoft Clip 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ar  Eclipse  200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eclipse2001Zambia"/>
          <p:cNvPicPr/>
          <p:nvPr/>
        </p:nvPicPr>
        <p:blipFill>
          <a:blip r:embed="rId1"/>
          <a:stretch/>
        </p:blipFill>
        <p:spPr>
          <a:xfrm>
            <a:off x="2743200" y="14479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209680" y="5257800"/>
            <a:ext cx="51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it  time:  3  hours  in  Lusaka,  Zamb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tal  eclipse:  2 sec.  short  of  3 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s  of  sun  taken  at  4  different  wavelengths  of ultraviolet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sun-Fe1"/>
          <p:cNvPicPr/>
          <p:nvPr/>
        </p:nvPicPr>
        <p:blipFill>
          <a:blip r:embed="rId1"/>
          <a:stretch/>
        </p:blipFill>
        <p:spPr>
          <a:xfrm>
            <a:off x="6400800" y="434340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sun-He"/>
          <p:cNvPicPr/>
          <p:nvPr/>
        </p:nvPicPr>
        <p:blipFill>
          <a:blip r:embed="rId2"/>
          <a:stretch/>
        </p:blipFill>
        <p:spPr>
          <a:xfrm>
            <a:off x="1600200" y="4419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sun-Fe3"/>
          <p:cNvPicPr/>
          <p:nvPr/>
        </p:nvPicPr>
        <p:blipFill>
          <a:blip r:embed="rId3"/>
          <a:stretch/>
        </p:blipFill>
        <p:spPr>
          <a:xfrm>
            <a:off x="380880" y="175248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sun-Fe2"/>
          <p:cNvPicPr/>
          <p:nvPr/>
        </p:nvPicPr>
        <p:blipFill>
          <a:blip r:embed="rId4"/>
          <a:stretch/>
        </p:blipFill>
        <p:spPr>
          <a:xfrm>
            <a:off x="5257800" y="1828800"/>
            <a:ext cx="2338560" cy="233856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riner 10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 Venus  &amp;  Mercu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mariner10b"/>
          <p:cNvPicPr/>
          <p:nvPr/>
        </p:nvPicPr>
        <p:blipFill>
          <a:blip r:embed="rId1"/>
          <a:stretch/>
        </p:blipFill>
        <p:spPr>
          <a:xfrm>
            <a:off x="457200" y="2438280"/>
            <a:ext cx="4876920" cy="3586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Atlas-Mar10"/>
          <p:cNvPicPr/>
          <p:nvPr/>
        </p:nvPicPr>
        <p:blipFill>
          <a:blip r:embed="rId2"/>
          <a:stretch/>
        </p:blipFill>
        <p:spPr>
          <a:xfrm>
            <a:off x="6934320" y="3657600"/>
            <a:ext cx="1593720" cy="213372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2666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ic mosa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mercuryglobe2"/>
          <p:cNvPicPr/>
          <p:nvPr/>
        </p:nvPicPr>
        <p:blipFill>
          <a:blip r:embed="rId1"/>
          <a:stretch/>
        </p:blipFill>
        <p:spPr>
          <a:xfrm>
            <a:off x="4265640" y="0"/>
            <a:ext cx="463536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u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hind  i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3" descr="mercury on sun"/>
          <p:cNvPicPr/>
          <p:nvPr/>
        </p:nvPicPr>
        <p:blipFill>
          <a:blip r:embed="rId1"/>
          <a:stretch/>
        </p:blipFill>
        <p:spPr>
          <a:xfrm>
            <a:off x="838080" y="179064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132" name="Line 4"/>
          <p:cNvSpPr/>
          <p:nvPr/>
        </p:nvSpPr>
        <p:spPr>
          <a:xfrm flipV="1">
            <a:off x="2362320" y="3885840"/>
            <a:ext cx="7596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1800" y="431280"/>
            <a:ext cx="734040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otographs  of  the  surface  of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venera9-10"/>
          <p:cNvPicPr/>
          <p:nvPr/>
        </p:nvPicPr>
        <p:blipFill>
          <a:blip r:embed="rId1"/>
          <a:stretch/>
        </p:blipFill>
        <p:spPr>
          <a:xfrm>
            <a:off x="-190440" y="2057400"/>
            <a:ext cx="9334440" cy="462924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2:31Z</dcterms:created>
  <dc:creator>Ben Zalewski</dc:creator>
  <dc:description>Our Solar System</dc:description>
  <cp:keywords>Our Solar System</cp:keywords>
  <dc:language>en-US</dc:language>
  <cp:lastModifiedBy>LEGION</cp:lastModifiedBy>
  <dcterms:modified xsi:type="dcterms:W3CDTF">2018-03-22T09:50:12Z</dcterms:modified>
  <cp:revision>10</cp:revision>
  <dc:subject>Our Solar System</dc:subject>
  <dc:title>Our Solar System</dc:title>
</cp:coreProperties>
</file>