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3.png" ContentType="image/png"/>
  <Override PartName="/ppt/media/image27.gif" ContentType="image/gif"/>
  <Override PartName="/ppt/media/image28.jpeg" ContentType="image/jpeg"/>
  <Override PartName="/ppt/media/image22.jpeg" ContentType="image/jpeg"/>
  <Override PartName="/ppt/media/image21.gif" ContentType="image/gif"/>
  <Override PartName="/ppt/media/image14.png" ContentType="image/png"/>
  <Override PartName="/ppt/media/image20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png" ContentType="image/png"/>
  <Override PartName="/ppt/media/image12.jpeg" ContentType="image/jpeg"/>
  <Override PartName="/ppt/media/image37.jpeg" ContentType="image/jpeg"/>
  <Override PartName="/ppt/media/image30.jpeg" ContentType="image/jpeg"/>
  <Override PartName="/ppt/media/image31.jpeg" ContentType="image/jpeg"/>
  <Override PartName="/ppt/media/image34.wmf" ContentType="image/x-wmf"/>
  <Override PartName="/ppt/media/image4.wmf" ContentType="image/x-wmf"/>
  <Override PartName="/ppt/media/image29.jpeg" ContentType="image/jpeg"/>
  <Override PartName="/ppt/media/image3.wmf" ContentType="image/x-wmf"/>
  <Override PartName="/ppt/media/image15.jpeg" ContentType="image/jpeg"/>
  <Override PartName="/ppt/media/image32.wmf" ContentType="image/x-wmf"/>
  <Override PartName="/ppt/media/image2.wmf" ContentType="image/x-wmf"/>
  <Override PartName="/ppt/media/image38.jpeg" ContentType="image/jpeg"/>
  <Override PartName="/ppt/media/image7.jpeg" ContentType="image/jpeg"/>
  <Override PartName="/ppt/media/image5.gif" ContentType="image/gif"/>
  <Override PartName="/ppt/media/image1.wmf" ContentType="image/x-wmf"/>
  <Override PartName="/ppt/media/image24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3913-2AA1-4113-AB66-B6AA72E40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ur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ellan  Spacecraft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10 August 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nus   -- ultraviolet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sketch was taken from the Jet Propulsion Lab’s 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otojournal.jpl.nasa.gov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 Zalewski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s  Copernicus  published  the  theory  that  planets  revolve  around  the 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73 -- 15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of  the 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  from Apollo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lf of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stralia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hotographs are taken from the NASA space 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hoto_gallery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 &amp;  Moon  from 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thrise – Apollo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ollo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m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ernicus  Crater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:  dark si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Russian  Lun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 Moon        10 June 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oft Clip 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 Eclipse 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  time:  3  hours  in  Lusaka,  Za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 eclipse:  2 sec.  short  of  3 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  of  sun  taken  at  4  different  wavelengths  of ultraviole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iner 10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 Venus  &amp;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rcu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graphic mosa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  with   Sun   behind 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s  of  the  surface  of             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448D-677E-4BD9-A973-CD3354C1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CF7F-5261-4EFB-9E62-0854CFBA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E54-3856-4127-913A-A34D25D5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E85-3896-4734-93C6-914C6512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DAC3-B86B-432F-9DBD-B9FFA4EA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033A-9775-41A4-8852-E827A4DE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237C-F3DC-4ED8-A636-CDD12070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F730-FCEF-405B-ABAD-8326C0F1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5886-EA58-4195-AEA8-163D1E94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9AAA-5D9A-4BEC-8EB2-C91DA81B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0497-C461-47ED-B3C8-7207CC47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D4A-9D65-4ED1-8497-2EF02E19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601E-92A8-496F-BA0F-1E365EEC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3E1C-564F-4475-93C5-1F19911B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30B6-AF15-4B64-B20C-02FDF629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A7FE-CA6C-420F-A7AC-F7F241F2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3B3B-1586-45E3-B10A-F15E7FD6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302D-7BD2-4278-A9FD-67CD4519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DFD-E34F-4EBD-A394-837693A0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71C4-79AF-4688-8111-4A17D4AF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756-FC9A-4E38-AAB7-027FA008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9F4B-99FF-4B90-907B-D4355A332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461-514E-4861-92A7-32CD3022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961-0297-4887-A23C-FC1AF7F2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FB0E-B384-462C-A407-9DDEC41329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61D4-EA63-49FF-A944-8C1F036FD9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2096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 Rounded MT Bold"/>
              </a:rPr>
              <a:t>Our  Solar  System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3" descr="MCj02151860000[1]"/>
          <p:cNvPicPr/>
          <p:nvPr/>
        </p:nvPicPr>
        <p:blipFill>
          <a:blip r:embed="rId1"/>
          <a:stretch/>
        </p:blipFill>
        <p:spPr>
          <a:xfrm rot="1918200">
            <a:off x="914040" y="4876920"/>
            <a:ext cx="1828800" cy="126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Cj02507900000[1]"/>
          <p:cNvPicPr/>
          <p:nvPr/>
        </p:nvPicPr>
        <p:blipFill>
          <a:blip r:embed="rId2"/>
          <a:stretch/>
        </p:blipFill>
        <p:spPr>
          <a:xfrm>
            <a:off x="5105520" y="3657600"/>
            <a:ext cx="2904840" cy="190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MCj03010780000[1]"/>
          <p:cNvPicPr/>
          <p:nvPr/>
        </p:nvPicPr>
        <p:blipFill>
          <a:blip r:embed="rId3"/>
          <a:stretch/>
        </p:blipFill>
        <p:spPr>
          <a:xfrm rot="575400">
            <a:off x="1752480" y="22824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76920" y="380520"/>
            <a:ext cx="39621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gellan  Spacecraft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10 August 1990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Magellan"/>
          <p:cNvPicPr/>
          <p:nvPr/>
        </p:nvPicPr>
        <p:blipFill>
          <a:blip r:embed="rId1"/>
          <a:stretch/>
        </p:blipFill>
        <p:spPr>
          <a:xfrm>
            <a:off x="950760" y="1066680"/>
            <a:ext cx="3513240" cy="449604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Venus from Magellan"/>
          <p:cNvPicPr/>
          <p:nvPr/>
        </p:nvPicPr>
        <p:blipFill>
          <a:blip r:embed="rId1"/>
          <a:stretch/>
        </p:blipFill>
        <p:spPr>
          <a:xfrm>
            <a:off x="3048120" y="1066680"/>
            <a:ext cx="5371920" cy="548640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enus  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ultraviolet  photograph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pvo_uv_Venus"/>
          <p:cNvPicPr/>
          <p:nvPr/>
        </p:nvPicPr>
        <p:blipFill>
          <a:blip r:embed="rId1"/>
          <a:stretch/>
        </p:blipFill>
        <p:spPr>
          <a:xfrm>
            <a:off x="3621240" y="914400"/>
            <a:ext cx="5522760" cy="594360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6840" y="1142640"/>
            <a:ext cx="8364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following sketch was taken from the Jet Propulsion Lab’s 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photojournal.jpl.nasa.gov/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2860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Ben Zalewski  Nov.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MMj03363800000[1]"/>
          <p:cNvPicPr/>
          <p:nvPr/>
        </p:nvPicPr>
        <p:blipFill>
          <a:blip r:embed="rId1"/>
          <a:stretch/>
        </p:blipFill>
        <p:spPr>
          <a:xfrm>
            <a:off x="3581280" y="40384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photojournal"/>
          <p:cNvPicPr/>
          <p:nvPr/>
        </p:nvPicPr>
        <p:blipFill>
          <a:blip r:embed="rId1"/>
          <a:stretch/>
        </p:blipFill>
        <p:spPr>
          <a:xfrm>
            <a:off x="152280" y="20520"/>
            <a:ext cx="8686800" cy="6699240"/>
          </a:xfrm>
          <a:prstGeom prst="rect">
            <a:avLst/>
          </a:prstGeom>
          <a:ln w="0">
            <a:noFill/>
          </a:ln>
        </p:spPr>
      </p:pic>
      <p:sp>
        <p:nvSpPr>
          <p:cNvPr id="15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colas  Copernicus  published  the  theory  that  planets  revolve  around  the 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3" descr="copernic2"/>
          <p:cNvPicPr/>
          <p:nvPr/>
        </p:nvPicPr>
        <p:blipFill>
          <a:blip r:embed="rId1"/>
          <a:stretch/>
        </p:blipFill>
        <p:spPr>
          <a:xfrm>
            <a:off x="685800" y="3048120"/>
            <a:ext cx="4419720" cy="3265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5410080" y="59436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1473 -- 154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MCj00831850000[1]"/>
          <p:cNvPicPr/>
          <p:nvPr/>
        </p:nvPicPr>
        <p:blipFill>
          <a:blip r:embed="rId2"/>
          <a:stretch/>
        </p:blipFill>
        <p:spPr>
          <a:xfrm rot="875400">
            <a:off x="6248160" y="2209680"/>
            <a:ext cx="2057400" cy="203832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solar sys"/>
          <p:cNvPicPr/>
          <p:nvPr/>
        </p:nvPicPr>
        <p:blipFill>
          <a:blip r:embed="rId1"/>
          <a:stretch/>
        </p:blipFill>
        <p:spPr>
          <a:xfrm>
            <a:off x="0" y="0"/>
            <a:ext cx="5694480" cy="7086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6172200" y="365760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hotographs of  the  Plane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553080" y="609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Our Mo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 flipH="1">
            <a:off x="5257440" y="8380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304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arth</a:t>
            </a:r>
            <a:br>
              <a:rPr sz="48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  from Apollo 16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pollo16_earth"/>
          <p:cNvPicPr/>
          <p:nvPr/>
        </p:nvPicPr>
        <p:blipFill>
          <a:blip r:embed="rId1"/>
          <a:stretch/>
        </p:blipFill>
        <p:spPr>
          <a:xfrm>
            <a:off x="3995640" y="0"/>
            <a:ext cx="47703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1676520" y="3048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Gulf of Californ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>
            <a:off x="3733920" y="3276720"/>
            <a:ext cx="1981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MMj03369990000[1]"/>
          <p:cNvPicPr/>
          <p:nvPr/>
        </p:nvPicPr>
        <p:blipFill>
          <a:blip r:embed="rId2"/>
          <a:stretch/>
        </p:blipFill>
        <p:spPr>
          <a:xfrm rot="4350000">
            <a:off x="1142280" y="464796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9" name="Picture 3" descr="480px-Galileo_prep"/>
          <p:cNvPicPr/>
          <p:nvPr/>
        </p:nvPicPr>
        <p:blipFill>
          <a:blip r:embed="rId1"/>
          <a:stretch/>
        </p:blipFill>
        <p:spPr>
          <a:xfrm>
            <a:off x="2514600" y="1828800"/>
            <a:ext cx="3780000" cy="4724280"/>
          </a:xfrm>
          <a:prstGeom prst="rect">
            <a:avLst/>
          </a:prstGeom>
          <a:ln w="0">
            <a:noFill/>
          </a:ln>
        </p:spPr>
      </p:pic>
      <p:sp>
        <p:nvSpPr>
          <p:cNvPr id="17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ustralia  from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2" name="Picture 3" descr="gal_australia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2895480" y="990720"/>
            <a:ext cx="1067040" cy="23619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212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photographs are taken from the NASA space miss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nssdc.gsfc.nasa.gov/photo_gallery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Cj00832270000[1]"/>
          <p:cNvPicPr/>
          <p:nvPr/>
        </p:nvPicPr>
        <p:blipFill>
          <a:blip r:embed="rId1"/>
          <a:stretch/>
        </p:blipFill>
        <p:spPr>
          <a:xfrm rot="20208600">
            <a:off x="6324120" y="3276360"/>
            <a:ext cx="1822680" cy="180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globerotation"/>
          <p:cNvPicPr/>
          <p:nvPr/>
        </p:nvPicPr>
        <p:blipFill>
          <a:blip r:embed="rId2"/>
          <a:stretch/>
        </p:blipFill>
        <p:spPr>
          <a:xfrm>
            <a:off x="1295280" y="33526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  &amp;  Moon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Galile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6" name="Picture 3" descr="gal_earth_moon"/>
          <p:cNvPicPr/>
          <p:nvPr/>
        </p:nvPicPr>
        <p:blipFill>
          <a:blip r:embed="rId1"/>
          <a:stretch/>
        </p:blipFill>
        <p:spPr>
          <a:xfrm>
            <a:off x="1676520" y="838080"/>
            <a:ext cx="5607000" cy="6820200"/>
          </a:xfrm>
          <a:prstGeom prst="rect">
            <a:avLst/>
          </a:prstGeom>
          <a:ln w="0">
            <a:noFill/>
          </a:ln>
        </p:spPr>
      </p:pic>
      <p:sp>
        <p:nvSpPr>
          <p:cNvPr id="17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arthrise – Apollo 8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9" name="Picture 3" descr="apollo08_earthrise"/>
          <p:cNvPicPr/>
          <p:nvPr/>
        </p:nvPicPr>
        <p:blipFill>
          <a:blip r:embed="rId1"/>
          <a:stretch/>
        </p:blipFill>
        <p:spPr>
          <a:xfrm>
            <a:off x="2057400" y="1501920"/>
            <a:ext cx="7086600" cy="5356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MCj0082981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995400" cy="1143000"/>
          </a:xfrm>
          <a:prstGeom prst="rect">
            <a:avLst/>
          </a:prstGeom>
          <a:ln w="0">
            <a:noFill/>
          </a:ln>
        </p:spPr>
      </p:pic>
      <p:sp>
        <p:nvSpPr>
          <p:cNvPr id="18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2662200" cy="82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r  Mo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3" name="Picture 3" descr="gal_moon_color"/>
          <p:cNvPicPr/>
          <p:nvPr/>
        </p:nvPicPr>
        <p:blipFill>
          <a:blip r:embed="rId1"/>
          <a:stretch/>
        </p:blipFill>
        <p:spPr>
          <a:xfrm>
            <a:off x="3029040" y="533520"/>
            <a:ext cx="6114960" cy="6324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3979310000[1]"/>
          <p:cNvPicPr/>
          <p:nvPr/>
        </p:nvPicPr>
        <p:blipFill>
          <a:blip r:embed="rId2"/>
          <a:stretch/>
        </p:blipFill>
        <p:spPr>
          <a:xfrm rot="21393000">
            <a:off x="829800" y="4491000"/>
            <a:ext cx="1197000" cy="14828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62120" y="25146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Color  photograp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4800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pollo 17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8" name="Picture 3" descr="apollo17_schmitt"/>
          <p:cNvPicPr/>
          <p:nvPr/>
        </p:nvPicPr>
        <p:blipFill>
          <a:blip r:embed="rId1"/>
          <a:stretch/>
        </p:blipFill>
        <p:spPr>
          <a:xfrm>
            <a:off x="2438280" y="1801800"/>
            <a:ext cx="6705720" cy="50371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066680" y="5181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 Rounded MT Bold"/>
              </a:rPr>
              <a:t>Schmit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pernicus  Crater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rom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Hubb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hstCopernicus"/>
          <p:cNvPicPr/>
          <p:nvPr/>
        </p:nvPicPr>
        <p:blipFill>
          <a:blip r:embed="rId1"/>
          <a:stretch/>
        </p:blipFill>
        <p:spPr>
          <a:xfrm>
            <a:off x="990720" y="2048040"/>
            <a:ext cx="7924680" cy="47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3" name="Line 4"/>
          <p:cNvSpPr/>
          <p:nvPr/>
        </p:nvSpPr>
        <p:spPr>
          <a:xfrm>
            <a:off x="1523880" y="5715000"/>
            <a:ext cx="7086600" cy="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343400" y="5867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9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on:  dark side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om  Russian  Luna3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Luna3-dark side"/>
          <p:cNvPicPr/>
          <p:nvPr/>
        </p:nvPicPr>
        <p:blipFill>
          <a:blip r:embed="rId1"/>
          <a:stretch/>
        </p:blipFill>
        <p:spPr>
          <a:xfrm>
            <a:off x="762120" y="1981080"/>
            <a:ext cx="7696080" cy="45784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w  Moon    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0 June 200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0" name="Picture 3" descr="newmoon10Jun02"/>
          <p:cNvPicPr/>
          <p:nvPr/>
        </p:nvPicPr>
        <p:blipFill>
          <a:blip r:embed="rId1"/>
          <a:stretch/>
        </p:blipFill>
        <p:spPr>
          <a:xfrm>
            <a:off x="1905120" y="1568520"/>
            <a:ext cx="5638680" cy="528948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2514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 Su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3" descr="MPj04012310000[1]"/>
          <p:cNvPicPr/>
          <p:nvPr/>
        </p:nvPicPr>
        <p:blipFill>
          <a:blip r:embed="rId1"/>
          <a:stretch/>
        </p:blipFill>
        <p:spPr>
          <a:xfrm>
            <a:off x="228600" y="2819520"/>
            <a:ext cx="3914640" cy="313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MPj04075090000[1]"/>
          <p:cNvPicPr/>
          <p:nvPr/>
        </p:nvPicPr>
        <p:blipFill>
          <a:blip r:embed="rId2"/>
          <a:stretch/>
        </p:blipFill>
        <p:spPr>
          <a:xfrm>
            <a:off x="4570560" y="0"/>
            <a:ext cx="457344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2514600" y="6172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Rounded MT Bold"/>
              </a:rPr>
              <a:t>Microsoft Clip A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ar  Eclipse  200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eclipse2001Zambia"/>
          <p:cNvPicPr/>
          <p:nvPr/>
        </p:nvPicPr>
        <p:blipFill>
          <a:blip r:embed="rId1"/>
          <a:stretch/>
        </p:blipFill>
        <p:spPr>
          <a:xfrm>
            <a:off x="2743200" y="14479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209680" y="5257800"/>
            <a:ext cx="5181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it  time:  3  hours  in  Lusaka,  Zamb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tal  eclipse:  2 sec.  short  of  3  minu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hotos  of  sun  taken  at  4  different  wavelengths  of ultraviolet 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sun-Fe1"/>
          <p:cNvPicPr/>
          <p:nvPr/>
        </p:nvPicPr>
        <p:blipFill>
          <a:blip r:embed="rId1"/>
          <a:stretch/>
        </p:blipFill>
        <p:spPr>
          <a:xfrm>
            <a:off x="6400800" y="434340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sun-He"/>
          <p:cNvPicPr/>
          <p:nvPr/>
        </p:nvPicPr>
        <p:blipFill>
          <a:blip r:embed="rId2"/>
          <a:stretch/>
        </p:blipFill>
        <p:spPr>
          <a:xfrm>
            <a:off x="1600200" y="44197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sun-Fe3"/>
          <p:cNvPicPr/>
          <p:nvPr/>
        </p:nvPicPr>
        <p:blipFill>
          <a:blip r:embed="rId3"/>
          <a:stretch/>
        </p:blipFill>
        <p:spPr>
          <a:xfrm>
            <a:off x="380880" y="1752480"/>
            <a:ext cx="2338560" cy="2338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sun-Fe2"/>
          <p:cNvPicPr/>
          <p:nvPr/>
        </p:nvPicPr>
        <p:blipFill>
          <a:blip r:embed="rId4"/>
          <a:stretch/>
        </p:blipFill>
        <p:spPr>
          <a:xfrm>
            <a:off x="5257800" y="1828800"/>
            <a:ext cx="2338560" cy="23385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ariner 10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o  Venus  &amp;  Mercu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mariner10b"/>
          <p:cNvPicPr/>
          <p:nvPr/>
        </p:nvPicPr>
        <p:blipFill>
          <a:blip r:embed="rId1"/>
          <a:stretch/>
        </p:blipFill>
        <p:spPr>
          <a:xfrm>
            <a:off x="457200" y="2438280"/>
            <a:ext cx="4876920" cy="3586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Atlas-Mar10"/>
          <p:cNvPicPr/>
          <p:nvPr/>
        </p:nvPicPr>
        <p:blipFill>
          <a:blip r:embed="rId2"/>
          <a:stretch/>
        </p:blipFill>
        <p:spPr>
          <a:xfrm>
            <a:off x="6934320" y="3657600"/>
            <a:ext cx="1593720" cy="213372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685800"/>
            <a:ext cx="2666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br>
              <a:rPr sz="4800"/>
            </a:b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hotographic mosai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8" name="Picture 3" descr="mercuryglobe2"/>
          <p:cNvPicPr/>
          <p:nvPr/>
        </p:nvPicPr>
        <p:blipFill>
          <a:blip r:embed="rId1"/>
          <a:stretch/>
        </p:blipFill>
        <p:spPr>
          <a:xfrm>
            <a:off x="4265640" y="0"/>
            <a:ext cx="463536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th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u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hind  i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1" name="Picture 3" descr="mercury on sun"/>
          <p:cNvPicPr/>
          <p:nvPr/>
        </p:nvPicPr>
        <p:blipFill>
          <a:blip r:embed="rId1"/>
          <a:stretch/>
        </p:blipFill>
        <p:spPr>
          <a:xfrm>
            <a:off x="838080" y="1790640"/>
            <a:ext cx="7620120" cy="506736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 flipV="1">
            <a:off x="2362320" y="3885840"/>
            <a:ext cx="75960" cy="1219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1800" y="431280"/>
            <a:ext cx="73404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hotographs  of  the  surface  of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rcu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venera9-10"/>
          <p:cNvPicPr/>
          <p:nvPr/>
        </p:nvPicPr>
        <p:blipFill>
          <a:blip r:embed="rId1"/>
          <a:stretch/>
        </p:blipFill>
        <p:spPr>
          <a:xfrm>
            <a:off x="-190440" y="2057400"/>
            <a:ext cx="9334440" cy="462924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2:31Z</dcterms:created>
  <dc:creator>Ben Zalewski</dc:creator>
  <dc:description>Our Solar System</dc:description>
  <cp:keywords>Our Solar System</cp:keywords>
  <dc:language>en-US</dc:language>
  <cp:lastModifiedBy>LEGION</cp:lastModifiedBy>
  <dcterms:modified xsi:type="dcterms:W3CDTF">2018-03-22T09:50:12Z</dcterms:modified>
  <cp:revision>10</cp:revision>
  <dc:subject>Our Solar System</dc:subject>
  <dc:title>Our Solar System</dc:title>
</cp:coreProperties>
</file>