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7928-2C5A-4296-AA27-64A702AFE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7EA5-BF9C-4967-BA1C-42717585603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BD09-A9F3-4F67-9B8E-A1BDFA47F54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6C2F-297D-4C44-A201-51A314346FC1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22B5-9FD0-4623-9CED-BCB8E670BA3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her end of the ladel point to Regul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le curves to Arcturus then Sp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E70A-4C48-4DD7-8CC4-263A83E5AA5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24A5-0CAA-468C-AF40-E46003D1177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A9C3-F339-4DD1-94F9-B0C8BDF0F24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10B3-2316-4E65-8944-0C58559D3BF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0B98-5184-488B-86A6-2ECB837728B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FFFD-35D7-4F07-ACF4-BE6207C0471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AB85-4951-4C97-A424-6FF1428BEC0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22D6-862A-4B29-A140-B91FC96AB04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399E-D7FE-43B6-A495-48D8D9DD26C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1388-42F6-4554-B194-2A8625DE095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A1A8-F91F-4AB1-A839-DF31D34AFB1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5637-948B-4B99-86CF-C9773A1BDE0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9B6B-F916-491D-AA89-34E7725D5D4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9D2F-07D4-4349-A2B4-2BA72BCFC3A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2F85-3BE7-437D-A93A-4E8FB0B6A3F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620F-FFF1-417A-BEF7-F1C6719FD94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9E3B-8C6A-418B-8191-DFF779FE523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55B2-2FF2-4039-A643-E04A4AE148CF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5E30-8125-4153-9A5B-68F45A7A884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5C28-C41F-4254-AA9A-71DFFB8DFB7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6875-036E-45B0-8F3C-390DBFDB7B7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44B1-337D-4748-BB89-32DF826A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4031-4D76-4C00-9E44-ACDD25DB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AD5-51FB-4A93-A563-E31A0C84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15B-95D4-4EF8-9EE1-48482C98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2120-1AD2-4AE9-9311-6433667D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EF9E-1855-4402-9759-FD6A0D53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A138-7AA0-4984-B0EC-5ABF0AEE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437A-FAF9-48F8-BCD1-972B1CE2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D5F3-28BF-4ED9-AE3D-7F77DEC8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46E2-66CF-4BF1-93F4-85EAA528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D130-33A2-4211-9E0A-4A98135B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CBF-02BA-4683-BE09-B8CB4729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B759-D800-46C8-8ED3-49A5FC62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5E97-ECE6-47B4-A3B1-BB4B83B2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FBA8-0520-4324-A873-E8F3CFDF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9B69-44F6-447F-B92F-8452D502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313E-D021-46BB-BE14-57AA2DF7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C53-A489-4045-8451-00305F6D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12DB-F9DB-4C54-B8F1-9F7AB10B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C7BF-880E-449B-8338-67825BF1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7438-1ACF-441B-8997-CB7B9226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69B-18D7-46FB-8D6D-056BD1DC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1E3-2EA3-405C-A089-AEACF6C2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EC4F-B7C4-4ABB-B24F-B13F1F6C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0D36-8E2D-480A-9FD0-C6F06DD10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80B8-C6EF-44FE-ABD7-5367AA0E041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90627.html" TargetMode="External"/><Relationship Id="rId2" Type="http://schemas.openxmlformats.org/officeDocument/2006/relationships/hyperlink" Target="http://antwrp.gsfc.nasa.gov/apod/ap090912.html" TargetMode="External"/><Relationship Id="rId3" Type="http://schemas.openxmlformats.org/officeDocument/2006/relationships/hyperlink" Target="http://antwrp.gsfc.nasa.gov/apod/ap021106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stropix.com/HTML/C_SPRING/URSAS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earth-and-moon-from-mars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477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Night Sky Watching (Basics)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care about finding Polari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direction of Polaris is due No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angle between Polaris and the horizon is </a:t>
            </a:r>
            <a:r>
              <a:rPr b="1" lang="en-US" sz="4400" spc="-1" strike="noStrike">
                <a:solidFill>
                  <a:srgbClr val="cc0099"/>
                </a:solidFill>
                <a:latin typeface="Verdana"/>
              </a:rPr>
              <a:t>YOUR LATITUDE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can I measure angle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9" name="Picture 4" descr="handdiagrams"/>
          <p:cNvPicPr/>
          <p:nvPr/>
        </p:nvPicPr>
        <p:blipFill>
          <a:blip r:embed="rId1"/>
          <a:stretch/>
        </p:blipFill>
        <p:spPr>
          <a:xfrm>
            <a:off x="-1066680" y="990720"/>
            <a:ext cx="11048760" cy="472428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ig Dipper as Star Gui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4" descr="dipper_guide"/>
          <p:cNvPicPr/>
          <p:nvPr/>
        </p:nvPicPr>
        <p:blipFill>
          <a:blip r:embed="rId1"/>
          <a:stretch/>
        </p:blipFill>
        <p:spPr>
          <a:xfrm>
            <a:off x="990720" y="415800"/>
            <a:ext cx="7238880" cy="644220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4" descr="viewfromathens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stronomy Picture of the Day (APOD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antwrp.gsfc.nasa.gov/apod/ap090627.htm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mmer Triang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antwrp.gsfc.nasa.gov/apod/ap090912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nter Hexag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antwrp.gsfc.nasa.gov/apod/ap021106.htm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ummer Triang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summertriangle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616104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2590920" cy="658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nter Hexag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Picture 3" descr="winterhexagon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Fac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oup of stars all in roughly the same direction from Earth, BUT …. Each has its own different distance from the Ear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refore, NOT grouped together is spa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rom Greek astronomers have inherited the names of the constellations: mythological figures or anim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fferent cultures on Earth each have different names for the constell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 Stars at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fferent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Distances from Earth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4" name="Picture 4" descr="orion_2d_3d"/>
          <p:cNvPicPr/>
          <p:nvPr/>
        </p:nvPicPr>
        <p:blipFill>
          <a:blip r:embed="rId1"/>
          <a:stretch/>
        </p:blipFill>
        <p:spPr>
          <a:xfrm>
            <a:off x="3505320" y="0"/>
            <a:ext cx="5960880" cy="7086600"/>
          </a:xfrm>
          <a:prstGeom prst="rect">
            <a:avLst/>
          </a:prstGeom>
          <a:ln w="0">
            <a:noFill/>
          </a:ln>
        </p:spPr>
      </p:pic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Visible Constellations change over a yea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y have heard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ion is a winter constellatio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 can see Cygnus most of the summ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ve comments arise because you cannot see the Constellations near where  the Sun is in the sk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n so bright it washes out rest of sta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ce Sun moves along the Ecliptic over a year the constellations “away” from the Sun change over a year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rs Pivot around a Poi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Picture 4" descr="04a-021"/>
          <p:cNvPicPr/>
          <p:nvPr/>
        </p:nvPicPr>
        <p:blipFill>
          <a:blip r:embed="rId1"/>
          <a:stretch/>
        </p:blipFill>
        <p:spPr>
          <a:xfrm>
            <a:off x="2362320" y="533520"/>
            <a:ext cx="4356000" cy="63244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on opposite side of Sun (Opposition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Picture 4" descr="season_const"/>
          <p:cNvPicPr/>
          <p:nvPr/>
        </p:nvPicPr>
        <p:blipFill>
          <a:blip r:embed="rId1"/>
          <a:stretch/>
        </p:blipFill>
        <p:spPr>
          <a:xfrm>
            <a:off x="5073480" y="0"/>
            <a:ext cx="40705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Zodia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and of constellations closest to the Ecliptic (Sun’s yearly path across the sky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orrespond to Horoscope “Signs”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646200" indent="-2484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trology used to make predictions (not science!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ful for backyard astronomy: Planets and the Moon can </a:t>
            </a:r>
            <a:r>
              <a:rPr b="0" lang="en-US" sz="3600" spc="-1" strike="noStrike" u="sng">
                <a:solidFill>
                  <a:srgbClr val="eaeaea"/>
                </a:solidFill>
                <a:uFillTx/>
                <a:latin typeface="Verdana"/>
              </a:rPr>
              <a:t>always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be found in the Zodiac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98440" indent="-29844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Width of the Zodiac belt ~ 18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  <a:ea typeface="Times New Roman"/>
              </a:rPr>
              <a:t>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8" name="Picture 1029" descr="zodiac_ba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2" name="Picture 4" descr="Westlake3Planets061905"/>
          <p:cNvPicPr/>
          <p:nvPr/>
        </p:nvPicPr>
        <p:blipFill>
          <a:blip r:embed="rId1"/>
          <a:stretch/>
        </p:blipFill>
        <p:spPr>
          <a:xfrm>
            <a:off x="-581040" y="0"/>
            <a:ext cx="10258560" cy="6862680"/>
          </a:xfrm>
          <a:prstGeom prst="rect">
            <a:avLst/>
          </a:prstGeom>
          <a:ln w="0">
            <a:noFill/>
          </a:ln>
        </p:spPr>
      </p:pic>
      <p:sp>
        <p:nvSpPr>
          <p:cNvPr id="203" name="Oval 5"/>
          <p:cNvSpPr/>
          <p:nvPr/>
        </p:nvSpPr>
        <p:spPr>
          <a:xfrm>
            <a:off x="6400800" y="5562720"/>
            <a:ext cx="228600" cy="228600"/>
          </a:xfrm>
          <a:prstGeom prst="ellipse">
            <a:avLst/>
          </a:prstGeom>
          <a:noFill/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7" name="Picture 4" descr="ecliptic_clem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ercu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991800" y="4419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Ma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22096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Satur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38120" y="-3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ming Sta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4191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rightest star in constellation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eek name: </a:t>
            </a:r>
            <a:r>
              <a:rPr b="0" lang="el-GR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 Tauru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rabic name: Aldebara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Al Debarren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The Follower”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  <a:ea typeface="Times New Roman"/>
              </a:rPr>
              <a:t>(of the Pleiad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Picture 4" descr="taurus"/>
          <p:cNvPicPr/>
          <p:nvPr/>
        </p:nvPicPr>
        <p:blipFill>
          <a:blip r:embed="rId1"/>
          <a:stretch/>
        </p:blipFill>
        <p:spPr>
          <a:xfrm>
            <a:off x="0" y="0"/>
            <a:ext cx="4951440" cy="3809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pleiades-20960"/>
          <p:cNvPicPr/>
          <p:nvPr/>
        </p:nvPicPr>
        <p:blipFill>
          <a:blip r:embed="rId2"/>
          <a:stretch/>
        </p:blipFill>
        <p:spPr>
          <a:xfrm>
            <a:off x="304920" y="365760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orth Celestial Pole (NCP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ecial spot on the sky that the Earth’s rotation axis points t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y special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279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Verdana"/>
              </a:rPr>
              <a:t>During the night the stars appear to rotate around this spot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lso special (and useful) in other ways 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ching Stars from the North Po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SouthPole"/>
          <p:cNvPicPr/>
          <p:nvPr/>
        </p:nvPicPr>
        <p:blipFill>
          <a:blip r:embed="rId1"/>
          <a:stretch/>
        </p:blipFill>
        <p:spPr>
          <a:xfrm>
            <a:off x="838080" y="1128600"/>
            <a:ext cx="7162920" cy="572940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tellations are Bi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4" descr="polaris"/>
          <p:cNvPicPr/>
          <p:nvPr/>
        </p:nvPicPr>
        <p:blipFill>
          <a:blip r:embed="rId1"/>
          <a:stretch/>
        </p:blipFill>
        <p:spPr>
          <a:xfrm>
            <a:off x="0" y="71424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: Points to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astropix.com/HTML/C_SPRING/URSAS.HT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nding Polari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northstar01"/>
          <p:cNvPicPr/>
          <p:nvPr/>
        </p:nvPicPr>
        <p:blipFill>
          <a:blip r:embed="rId1"/>
          <a:stretch/>
        </p:blipFill>
        <p:spPr>
          <a:xfrm>
            <a:off x="228600" y="909720"/>
            <a:ext cx="8915400" cy="594828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ucky Breaks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tar Polaris is amazing close to NCP (now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“pointer stars” in the Big Dipper line up directly with Polaris!!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g Dipper is circumpolar constell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e it all night and all ye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laris also called Pole Star, North Sta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ig Dipp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Picture 4" descr="04a-021a"/>
          <p:cNvPicPr/>
          <p:nvPr/>
        </p:nvPicPr>
        <p:blipFill>
          <a:blip r:embed="rId1"/>
          <a:stretch/>
        </p:blipFill>
        <p:spPr>
          <a:xfrm>
            <a:off x="838080" y="60948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8-03-13T05:31:25Z</dcterms:modified>
  <cp:revision>185</cp:revision>
  <dc:subject/>
  <dc:title>PowerPoint Presentation</dc:title>
</cp:coreProperties>
</file>