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8660-71AE-42BC-B453-B0A086561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9106-3AA3-471B-A277-95CC237E976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C254-AB31-45BE-A922-641696E1892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B541-8F47-48BF-9803-48B02812DBA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4BC4-F53F-4454-A319-0A3BA320B3C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her end of the ladel point to Regul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le curves to Arcturus then Sp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CBD4-57A7-427E-8BE0-4F571B3A705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AEFF-47B6-4B27-B82B-7543BDF8D11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B9E6-E881-4B67-B8BA-FC244950B17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3FE5-8866-4E87-BDC6-68685340CE1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DDA6-3C05-4172-9F50-04C4AD34D4E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1926-ECA5-4206-A0CF-A1FCE55D095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1581-CA3A-43D7-A67E-C44A971D02F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1703-2044-42EE-B345-73B1D580B1F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996D-DD5E-4BDA-92DF-8CBB7E5D17D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B088-B765-4CFA-8CC8-44188C32828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B7F9-7442-44D2-AE94-28E9E4A5FD3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FD1A-57D5-4A95-8D5F-CE303298711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7D4E-E7BA-45FB-ABBD-8D1358FBA3B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EDB1-8760-4C03-8561-765F84558FB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AF2D-E10E-46CF-BC66-BF22C3A4524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2CE3-1CA1-4139-9085-9862CA7713D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1877-FCB9-4395-8992-FDCC8EB8E8E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68F7-82CD-46F3-9FBE-C2575B1EA29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8F06-CE21-415C-96DB-9AB744578F5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6FB1-AD00-4608-B689-1770BE81FC5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701E-919A-4E10-8D39-BFA18EC8703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E05-0B6A-4278-BF16-EB3A4654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488B-CD89-4E38-B150-E7B12846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EA0-73BF-436E-854D-E97D148D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6458-F71B-4F35-BB1A-A3B7AD9A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5CF2-5A68-4AD4-B17E-C2970EA1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1BFE-9333-47C1-A6D9-56261CE4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F3F8-9A1D-47E4-9FBD-2C895B5E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9F02-5B47-4498-9E40-4416D3B6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59A2-9C39-435D-9059-05B344E1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33B3-010C-4B9B-9E73-F5809633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6F3D-367E-4DBB-812D-4FB8FFF7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113-2E69-48C8-8538-1B89ADAA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1359-6938-4E18-93D4-408555BE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4F95-3045-45D6-92F5-67D33129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D974-4CF7-4735-94A2-054770B3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A9D6-A706-45FB-937C-BF1C33AF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0308-8428-41DF-8B9D-3955E159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5E57-FB52-4CDE-848C-75A5161D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2FC-A389-4B1B-AAB6-3211ABD9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FFB0-3889-4DFD-8783-EBA11542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F90-BFDE-46AE-B37C-4A2CB980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6F2-AF2D-4431-BBEE-61E1F585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BFC7-D4EE-4D75-9A24-D761481A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2696-1FE5-4EAA-AD18-676E0E53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7DCC-4311-4FB5-ABAA-CE425FF41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4D66-3563-4574-9964-0FECC141C09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90627.html" TargetMode="External"/><Relationship Id="rId2" Type="http://schemas.openxmlformats.org/officeDocument/2006/relationships/hyperlink" Target="http://antwrp.gsfc.nasa.gov/apod/ap090912.html" TargetMode="External"/><Relationship Id="rId3" Type="http://schemas.openxmlformats.org/officeDocument/2006/relationships/hyperlink" Target="http://antwrp.gsfc.nasa.gov/apod/ap021106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stropix.com/HTML/C_SPRING/URSAS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earth-and-moon-from-mars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477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Night Sky Watching (Basics)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y care about finding Polari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direction of Polaris is due No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angle between Polaris and the horizon is </a:t>
            </a:r>
            <a:r>
              <a:rPr b="1" lang="en-US" sz="4400" spc="-1" strike="noStrike">
                <a:solidFill>
                  <a:srgbClr val="cc0099"/>
                </a:solidFill>
                <a:latin typeface="Verdana"/>
              </a:rPr>
              <a:t>YOUR LATITUDE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can I measure angl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4" descr="handdiagrams"/>
          <p:cNvPicPr/>
          <p:nvPr/>
        </p:nvPicPr>
        <p:blipFill>
          <a:blip r:embed="rId1"/>
          <a:stretch/>
        </p:blipFill>
        <p:spPr>
          <a:xfrm>
            <a:off x="-1066680" y="990720"/>
            <a:ext cx="11048760" cy="472428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Big Dipper as Star Gui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dipper_guide"/>
          <p:cNvPicPr/>
          <p:nvPr/>
        </p:nvPicPr>
        <p:blipFill>
          <a:blip r:embed="rId1"/>
          <a:stretch/>
        </p:blipFill>
        <p:spPr>
          <a:xfrm>
            <a:off x="990720" y="415800"/>
            <a:ext cx="7238880" cy="6442200"/>
          </a:xfrm>
          <a:prstGeom prst="rect">
            <a:avLst/>
          </a:prstGeom>
          <a:ln w="0">
            <a:noFill/>
          </a:ln>
        </p:spPr>
      </p:pic>
      <p:sp>
        <p:nvSpPr>
          <p:cNvPr id="1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4" descr="viewfromathens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stronomy Picture of the Day (APOD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antwrp.gsfc.nasa.gov/apod/ap090627.htm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mmer Triang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antwrp.gsfc.nasa.gov/apod/ap090912.htm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nter Hexag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http://antwrp.gsfc.nasa.gov/apod/ap021106.htm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mmer Triang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summertriangle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6161040"/>
          </a:xfrm>
          <a:prstGeom prst="rect">
            <a:avLst/>
          </a:prstGeom>
          <a:ln w="0">
            <a:noFill/>
          </a:ln>
        </p:spPr>
      </p:pic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2590920" cy="658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ter Hexag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Picture 3" descr="winterhexagon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 Fac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oup of stars all in roughly the same direction from Earth, BUT …. Each has its own different distance from the Ea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refore, NOT grouped together is spa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rom Greek astronomers have inherited the names of the constellations: mythological figures or anim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fferent cultures on Earth each have different names for the constell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 Stars at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fferen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Distances from Eart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4" name="Picture 4" descr="orion_2d_3d"/>
          <p:cNvPicPr/>
          <p:nvPr/>
        </p:nvPicPr>
        <p:blipFill>
          <a:blip r:embed="rId1"/>
          <a:stretch/>
        </p:blipFill>
        <p:spPr>
          <a:xfrm>
            <a:off x="3505320" y="0"/>
            <a:ext cx="5960880" cy="708660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Visible Constellations change over a yea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y have heard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ion is a winter constellatio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You can see Cygnus most of the summe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ove comments arise because you cannot see the Constellations near where  the Sun is in the sk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n so bright it washes out rest of sta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ce Sun moves along the Ecliptic over a year the constellations “away” from the Sun change over a ye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rs Pivot around a Poi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04a-021"/>
          <p:cNvPicPr/>
          <p:nvPr/>
        </p:nvPicPr>
        <p:blipFill>
          <a:blip r:embed="rId1"/>
          <a:stretch/>
        </p:blipFill>
        <p:spPr>
          <a:xfrm>
            <a:off x="2362320" y="533520"/>
            <a:ext cx="4356000" cy="63244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5105520" cy="586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 on opposite side of Sun (Opposition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1" name="Picture 4" descr="season_const"/>
          <p:cNvPicPr/>
          <p:nvPr/>
        </p:nvPicPr>
        <p:blipFill>
          <a:blip r:embed="rId1"/>
          <a:stretch/>
        </p:blipFill>
        <p:spPr>
          <a:xfrm>
            <a:off x="5073480" y="0"/>
            <a:ext cx="407052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Zodia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and of constellations closest to the Ecliptic (Sun’s yearly path across the sky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orrespond to Horoscope “Signs”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trology used to make predictions (not science!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ful for backyard astronomy: Planets and the Moon can 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Verdana"/>
              </a:rPr>
              <a:t>always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be found in the Zodiac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idth of the Zodiac belt ~ 18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1029" descr="zodiac_ba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2" name="Picture 4" descr="Westlake3Planets061905"/>
          <p:cNvPicPr/>
          <p:nvPr/>
        </p:nvPicPr>
        <p:blipFill>
          <a:blip r:embed="rId1"/>
          <a:stretch/>
        </p:blipFill>
        <p:spPr>
          <a:xfrm>
            <a:off x="-581040" y="0"/>
            <a:ext cx="10258560" cy="6862680"/>
          </a:xfrm>
          <a:prstGeom prst="rect">
            <a:avLst/>
          </a:prstGeom>
          <a:ln w="0">
            <a:noFill/>
          </a:ln>
        </p:spPr>
      </p:pic>
      <p:sp>
        <p:nvSpPr>
          <p:cNvPr id="203" name="Oval 5"/>
          <p:cNvSpPr/>
          <p:nvPr/>
        </p:nvSpPr>
        <p:spPr>
          <a:xfrm>
            <a:off x="6400800" y="5562720"/>
            <a:ext cx="228600" cy="228600"/>
          </a:xfrm>
          <a:prstGeom prst="ellipse">
            <a:avLst/>
          </a:prstGeom>
          <a:noFill/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4" descr="ecliptic_clem_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ercu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991800" y="44197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2096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atur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38120" y="-3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ming Sta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4191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rightest star in constellation Taur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eek name: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 Taur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rabic name: Aldebar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l Debarre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The Followe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(of the Pleiad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4" name="Picture 4" descr="taurus"/>
          <p:cNvPicPr/>
          <p:nvPr/>
        </p:nvPicPr>
        <p:blipFill>
          <a:blip r:embed="rId1"/>
          <a:stretch/>
        </p:blipFill>
        <p:spPr>
          <a:xfrm>
            <a:off x="0" y="0"/>
            <a:ext cx="4951440" cy="3809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pleiades-20960"/>
          <p:cNvPicPr/>
          <p:nvPr/>
        </p:nvPicPr>
        <p:blipFill>
          <a:blip r:embed="rId2"/>
          <a:stretch/>
        </p:blipFill>
        <p:spPr>
          <a:xfrm>
            <a:off x="304920" y="36576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North Celestial Pole (NCP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pecial spot on the sky that the Earth’s rotation axis points to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 special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During the night the stars appear to rotate around this spo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so special (and useful) in other ways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ching Stars from the North Po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SouthPole"/>
          <p:cNvPicPr/>
          <p:nvPr/>
        </p:nvPicPr>
        <p:blipFill>
          <a:blip r:embed="rId1"/>
          <a:stretch/>
        </p:blipFill>
        <p:spPr>
          <a:xfrm>
            <a:off x="838080" y="1128600"/>
            <a:ext cx="7162920" cy="572940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 are Bi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polaris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g Dipper: Points to Polar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astropix.com/HTML/C_SPRING/URSAS.HT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nding Polar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4" descr="northstar01"/>
          <p:cNvPicPr/>
          <p:nvPr/>
        </p:nvPicPr>
        <p:blipFill>
          <a:blip r:embed="rId1"/>
          <a:stretch/>
        </p:blipFill>
        <p:spPr>
          <a:xfrm>
            <a:off x="228600" y="909720"/>
            <a:ext cx="8915400" cy="594828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ucky Breaks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tar Polaris is amazing close to NCP (now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“pointer stars” in the Big Dipper line up directly with Polaris!!!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g Dipper is circumpolar constell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e it all night and all ye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laris also called Pole Star, North St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g Dipp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4" descr="04a-021a"/>
          <p:cNvPicPr/>
          <p:nvPr/>
        </p:nvPicPr>
        <p:blipFill>
          <a:blip r:embed="rId1"/>
          <a:stretch/>
        </p:blipFill>
        <p:spPr>
          <a:xfrm>
            <a:off x="838080" y="60948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8-03-13T05:31:25Z</dcterms:modified>
  <cp:revision>185</cp:revision>
  <dc:subject/>
  <dc:title>PowerPoint Presentation</dc:title>
</cp:coreProperties>
</file>