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AD90-1F50-452D-9F23-88394C5B2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9D21-CE83-45F3-BE88-07568C5C4A6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4867-0357-4E36-80B3-F337ED68B5B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6171-DD4F-4C99-9F3D-692FF88D8AD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0085-F73B-40AF-ABAB-27FC86A7692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her end of the ladel point to Regul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ndle curves to Arcturus then Sp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6C5D-B82C-4A65-8563-035105C5BD9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B892-6E72-4F58-8FC7-3AC3C6DBFA3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B27C-6948-4DFE-B077-20369632BF8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10C0-0862-404F-B834-C16BA5D434B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59B0-5640-4D92-8807-248AFE668B8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1F8E-D223-4778-A645-3D06FC56847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D3D9-CFF7-4939-B3B9-05EFC5C67D7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EF01-807A-4985-9C27-3C31B50170B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41DF-062A-4F3A-A5D7-47D8CA4D66F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083C-F281-4C08-9A64-22CCD9E11DD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9FE3-9DC0-408D-984F-151D653628C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0F77-B593-41F3-A279-083373D96CC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138A-8394-4824-A328-927F0796DC3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1451-AE56-47CF-98C1-769EAF26159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1E25-21BC-483D-AAFC-8EF8EC439B0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1AAE-F9E7-42C0-951A-F6521A49CD5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F62A-E8CF-4114-9B04-0628496B005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AC4F-4782-4CC4-819B-2051E389B33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85A8-9DCD-4D6E-89B3-88F313F9584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7D29-4141-4E7E-BF89-F050355B19C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A03F-C88E-4BC7-9D54-829D5AEDDCF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4FEC-721B-442C-AB87-9F186610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EE87-9B37-4457-91BC-0328F804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EE4B-42B1-4F7C-A156-B85B06FE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0ACC-246D-4906-B82F-155E148D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6D8D-44C5-4496-A00A-158141BF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073E-7CEC-48BE-8295-EA15A77B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158C-3CBD-4D57-8766-AB848DCA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81EE-798B-45B1-9408-DCBB9AC4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98CB-2411-4D04-BDBF-32BB45B7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9E1F-9640-466F-A099-568DFBA7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DF49-FE3A-4D05-9713-6B42DD63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709D-1B1A-40D4-9A36-F98854B5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E033-2536-4B32-A357-C418CA23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B80C-8FF5-489C-8985-D23D65AD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7733-5E27-4BDA-BC9B-094AF503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423F-90A2-4155-B389-F918ABF0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D8DD-3E4B-459E-8D29-CFC92C64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0BC9-25EF-4672-9DBA-679F556F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0AF-8591-4D6F-80D6-A967745F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3314-B25B-4EEA-977C-6C7D07E3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39AA-9F16-45DF-A3D3-67027C05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198-CDD1-4814-A5A0-0ACB0C98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8491-64E4-451B-9C3E-71DF0023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CF2A-3BFA-418E-A00F-DBF292CF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7AD9-79AD-409B-8122-2DB920469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3989-288E-4F9E-98B7-7839C86ED1D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90627.html" TargetMode="External"/><Relationship Id="rId2" Type="http://schemas.openxmlformats.org/officeDocument/2006/relationships/hyperlink" Target="http://antwrp.gsfc.nasa.gov/apod/ap090912.html" TargetMode="External"/><Relationship Id="rId3" Type="http://schemas.openxmlformats.org/officeDocument/2006/relationships/hyperlink" Target="http://antwrp.gsfc.nasa.gov/apod/ap021106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stropix.com/HTML/C_SPRING/URSAS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earth-and-moon-from-mars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6477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Night Sky Watching (Basics)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y care about finding Polari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direction of Polaris is due Nor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angle between Polaris and the horizon is </a:t>
            </a:r>
            <a:r>
              <a:rPr b="1" lang="en-US" sz="4400" spc="-1" strike="noStrike">
                <a:solidFill>
                  <a:srgbClr val="cc0099"/>
                </a:solidFill>
                <a:latin typeface="Verdana"/>
              </a:rPr>
              <a:t>YOUR LATITUDE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can I measure angle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4" descr="handdiagrams"/>
          <p:cNvPicPr/>
          <p:nvPr/>
        </p:nvPicPr>
        <p:blipFill>
          <a:blip r:embed="rId1"/>
          <a:stretch/>
        </p:blipFill>
        <p:spPr>
          <a:xfrm>
            <a:off x="-1066680" y="990720"/>
            <a:ext cx="11048760" cy="4724280"/>
          </a:xfrm>
          <a:prstGeom prst="rect">
            <a:avLst/>
          </a:prstGeom>
          <a:ln w="0">
            <a:noFill/>
          </a:ln>
        </p:spPr>
      </p:pic>
      <p:sp>
        <p:nvSpPr>
          <p:cNvPr id="1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Big Dipper as Star Guid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4" descr="dipper_guide"/>
          <p:cNvPicPr/>
          <p:nvPr/>
        </p:nvPicPr>
        <p:blipFill>
          <a:blip r:embed="rId1"/>
          <a:stretch/>
        </p:blipFill>
        <p:spPr>
          <a:xfrm>
            <a:off x="990720" y="415800"/>
            <a:ext cx="7238880" cy="6442200"/>
          </a:xfrm>
          <a:prstGeom prst="rect">
            <a:avLst/>
          </a:prstGeom>
          <a:ln w="0">
            <a:noFill/>
          </a:ln>
        </p:spPr>
      </p:pic>
      <p:sp>
        <p:nvSpPr>
          <p:cNvPr id="1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4" descr="viewfromathens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145200"/>
          </a:xfrm>
          <a:prstGeom prst="rect">
            <a:avLst/>
          </a:prstGeom>
          <a:ln w="0">
            <a:noFill/>
          </a:ln>
        </p:spPr>
      </p:pic>
      <p:sp>
        <p:nvSpPr>
          <p:cNvPr id="1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stronomy Picture of the Day (APOD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antwrp.gsfc.nasa.gov/apod/ap090627.htm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mmer Triang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antwrp.gsfc.nasa.gov/apod/ap090912.htm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inter Hexag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http://antwrp.gsfc.nasa.gov/apod/ap021106.htm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ummer Triang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4" descr="summertriangle"/>
          <p:cNvPicPr/>
          <p:nvPr/>
        </p:nvPicPr>
        <p:blipFill>
          <a:blip r:embed="rId1"/>
          <a:stretch/>
        </p:blipFill>
        <p:spPr>
          <a:xfrm>
            <a:off x="0" y="758880"/>
            <a:ext cx="9144000" cy="6161040"/>
          </a:xfrm>
          <a:prstGeom prst="rect">
            <a:avLst/>
          </a:prstGeom>
          <a:ln w="0">
            <a:noFill/>
          </a:ln>
        </p:spPr>
      </p:pic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2590920" cy="658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ter Hexag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7" name="Picture 3" descr="winterhexagon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 Fac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oup of stars all in roughly the same direction from Earth, BUT …. Each has its own different distance from the Ear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refore, NOT grouped together is spa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rom Greek astronomers have inherited the names of the constellations: mythological figures or anim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fferent cultures on Earth each have different names for the constella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3733920" cy="487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 Stars at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fferent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Distances from Eart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4" name="Picture 4" descr="orion_2d_3d"/>
          <p:cNvPicPr/>
          <p:nvPr/>
        </p:nvPicPr>
        <p:blipFill>
          <a:blip r:embed="rId1"/>
          <a:stretch/>
        </p:blipFill>
        <p:spPr>
          <a:xfrm>
            <a:off x="3505320" y="0"/>
            <a:ext cx="5960880" cy="7086600"/>
          </a:xfrm>
          <a:prstGeom prst="rect">
            <a:avLst/>
          </a:prstGeom>
          <a:ln w="0">
            <a:noFill/>
          </a:ln>
        </p:spPr>
      </p:pic>
      <p:sp>
        <p:nvSpPr>
          <p:cNvPr id="1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Visible Constellations change over a yea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y have heard 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ion is a winter constellatio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You can see Cygnus most of the summer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ove comments arise because you cannot see the Constellations near where  the Sun is in the sk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n so bright it washes out rest of sta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nce Sun moves along the Ecliptic over a year the constellations “away” from the Sun change over a yea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ars Pivot around a Poi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4" descr="04a-021"/>
          <p:cNvPicPr/>
          <p:nvPr/>
        </p:nvPicPr>
        <p:blipFill>
          <a:blip r:embed="rId1"/>
          <a:stretch/>
        </p:blipFill>
        <p:spPr>
          <a:xfrm>
            <a:off x="2362320" y="533520"/>
            <a:ext cx="4356000" cy="632448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5105520" cy="586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 on opposite side of Sun (Opposition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1" name="Picture 4" descr="season_const"/>
          <p:cNvPicPr/>
          <p:nvPr/>
        </p:nvPicPr>
        <p:blipFill>
          <a:blip r:embed="rId1"/>
          <a:stretch/>
        </p:blipFill>
        <p:spPr>
          <a:xfrm>
            <a:off x="5073480" y="0"/>
            <a:ext cx="407052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Zodia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Band of constellations closest to the Ecliptic (Sun’s yearly path across the sky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orrespond to Horoscope “Signs”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-2484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strology used to make predictions (not science!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ful for backyard astronomy: Planets and the Moon can </a:t>
            </a:r>
            <a:r>
              <a:rPr b="0" lang="en-US" sz="3600" spc="-1" strike="noStrike" u="sng">
                <a:solidFill>
                  <a:srgbClr val="eaeaea"/>
                </a:solidFill>
                <a:uFillTx/>
                <a:latin typeface="Verdana"/>
              </a:rPr>
              <a:t>always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be found in the Zodiac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Width of the Zodiac belt ~ 18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  <a:ea typeface="Times New Roman"/>
              </a:rPr>
              <a:t>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Picture 1029" descr="zodiac_ba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2" name="Picture 4" descr="Westlake3Planets061905"/>
          <p:cNvPicPr/>
          <p:nvPr/>
        </p:nvPicPr>
        <p:blipFill>
          <a:blip r:embed="rId1"/>
          <a:stretch/>
        </p:blipFill>
        <p:spPr>
          <a:xfrm>
            <a:off x="-581040" y="0"/>
            <a:ext cx="10258560" cy="6862680"/>
          </a:xfrm>
          <a:prstGeom prst="rect">
            <a:avLst/>
          </a:prstGeom>
          <a:ln w="0">
            <a:noFill/>
          </a:ln>
        </p:spPr>
      </p:pic>
      <p:sp>
        <p:nvSpPr>
          <p:cNvPr id="203" name="Oval 5"/>
          <p:cNvSpPr/>
          <p:nvPr/>
        </p:nvSpPr>
        <p:spPr>
          <a:xfrm>
            <a:off x="6400800" y="5562720"/>
            <a:ext cx="228600" cy="228600"/>
          </a:xfrm>
          <a:prstGeom prst="ellipse">
            <a:avLst/>
          </a:prstGeom>
          <a:noFill/>
          <a:ln w="9360">
            <a:solidFill>
              <a:srgbClr val="5e85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7" name="Picture 4" descr="ecliptic_clem_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0" y="5334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ercu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991800" y="44197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a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22096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atur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38120" y="-3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aming Sta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4191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rightest star in constellation Taur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reek name: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 Taur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Arabic name: Aldebara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Al Debarre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The Follower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(of the Pleiad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4" name="Picture 4" descr="taurus"/>
          <p:cNvPicPr/>
          <p:nvPr/>
        </p:nvPicPr>
        <p:blipFill>
          <a:blip r:embed="rId1"/>
          <a:stretch/>
        </p:blipFill>
        <p:spPr>
          <a:xfrm>
            <a:off x="0" y="0"/>
            <a:ext cx="4951440" cy="3809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pleiades-20960"/>
          <p:cNvPicPr/>
          <p:nvPr/>
        </p:nvPicPr>
        <p:blipFill>
          <a:blip r:embed="rId2"/>
          <a:stretch/>
        </p:blipFill>
        <p:spPr>
          <a:xfrm>
            <a:off x="304920" y="36576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North Celestial Pole (NCP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pecial spot on the sky that the Earth’s rotation axis points to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 special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279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Verdana"/>
              </a:rPr>
              <a:t>During the night the stars appear to rotate around this spo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lso special (and useful) in other ways 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tching Stars from the North Po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SouthPole"/>
          <p:cNvPicPr/>
          <p:nvPr/>
        </p:nvPicPr>
        <p:blipFill>
          <a:blip r:embed="rId1"/>
          <a:stretch/>
        </p:blipFill>
        <p:spPr>
          <a:xfrm>
            <a:off x="838080" y="1128600"/>
            <a:ext cx="7162920" cy="5729400"/>
          </a:xfrm>
          <a:prstGeom prst="rect">
            <a:avLst/>
          </a:prstGeom>
          <a:ln w="0">
            <a:noFill/>
          </a:ln>
        </p:spPr>
      </p:pic>
      <p:sp>
        <p:nvSpPr>
          <p:cNvPr id="13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 are Bi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4" descr="polaris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g Dipper: Points to Polar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astropix.com/HTML/C_SPRING/URSAS.HT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inding Polar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Picture 4" descr="northstar01"/>
          <p:cNvPicPr/>
          <p:nvPr/>
        </p:nvPicPr>
        <p:blipFill>
          <a:blip r:embed="rId1"/>
          <a:stretch/>
        </p:blipFill>
        <p:spPr>
          <a:xfrm>
            <a:off x="228600" y="909720"/>
            <a:ext cx="8915400" cy="594828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ucky Breaks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star Polaris is amazing close to NCP (now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“pointer stars” in the Big Dipper line up directly with Polaris!!!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g Dipper is circumpolar constell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e it all night and all ye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laris also called Pole Star, North St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g Dipp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4" descr="04a-021a"/>
          <p:cNvPicPr/>
          <p:nvPr/>
        </p:nvPicPr>
        <p:blipFill>
          <a:blip r:embed="rId1"/>
          <a:stretch/>
        </p:blipFill>
        <p:spPr>
          <a:xfrm>
            <a:off x="838080" y="60948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18-03-13T05:31:25Z</dcterms:modified>
  <cp:revision>185</cp:revision>
  <dc:subject/>
  <dc:title>PowerPoint Presentation</dc:title>
</cp:coreProperties>
</file>