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5FC-D1A2-4951-A256-D76841827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unar Pha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d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Created by the Lunar and Planetary Institut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For Educational Use Onl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PI is not responsible for the ways in which this powerpoint may be used or altered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unar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solarsystem.nasa.gov/multimedia/gallery/Earth_Moon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d by the Lunar and Planetary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or Education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PI is not responsible for the ways in which this powerpoint may be used or al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reclipse.com/LEphoto/LEgallery1/LEgallery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Moon red during an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atmosphere filters some sunlight and allows it to reach the Moon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 light is removed—scattered down to make a blue sky over those in da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light is red or 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 appearance depends on dust and clouds in the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y is the Moon red during an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Earth’s atmosphere filters some sunlight and allows it to reach the Moon’s surfa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blue light is removed—scattered down to make a blue sky over those in daytim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Remaining light is red or orang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xact appearance depends on dust and clouds in the Earth’s atmospher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l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’s shadow covers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happens at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: Annular, Partial, and Tota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’s shadow covers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happens at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 Annular, Partial, and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ose in “penumbra” see a partial eclipse—not safe to look directly at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lasts a few minut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th of Totality about 10,000 miles long, only 100 miles wid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in “penumbra” see a partial eclipse—not safe to look directly at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asts a few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 of Totality about 10,000 miles long, only 100 miles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 of a Total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a Total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08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nular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 is too far to completely cover the Sun—the umbra doesn’t reach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un appears as a donut arou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 is too far to completely cover the Sun—the umbra doesn’t reach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appears as a donut arou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s of an Annu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of an Annu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10.php; photos taken by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’s gravity tugs on the Earth.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’s gravity does the same thing, but to a lesser exten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’s gravity tugs on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gravity does the same thing, but to a lesser ex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 a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 a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reliminary Topic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fore students can understand the reason for phases, they need to understand: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s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 at an angle with respect         to the Earth’s orbit around the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doesn’t shine on its own; it reflects sunligh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cale of the Moon and Earth’s sizes and distan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tic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iminary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tudents can understand the reason for phases, they need to understa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 at an angle with respect         to the Earth’s orbit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doesn’t shine on its own; it reflects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ale of the Moon and Earth’s sizes and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tic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’s orbital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 Observing and Identifyin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Observing and Ident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pi.usra.edu/education/skytellers/moon_phases/about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--Cau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shines on the Moon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the Moon’s far side, we call it a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on the Moon’s near side, we call it a Full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tween New and Full, we see parts of the daytime side of the Moon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olfball and Blacklight Activit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--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shines on the Mo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the Moon’s far side, we call it a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on the Moon’s near side, we call it a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New and Full, we see parts of the daytime side of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fball and Blackligh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do NOT use this to teach phas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 test for compreh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tarchild.gsfc.nasa.gov/docs/StarChild/questions/question3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ild.gsfc.nasa.gov/docs/StarChild/questions/phas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and Moon occasionally line up so that we have an eclipse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se eclipses happen every year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 see a solar eclipse, you need to be on a particular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nd Moon occasionally line up so that we have an eclip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clipses happen every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a solar eclipse, you need to be on a particular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Earth’s shadow covers the Moon, we have a lun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arth’s shadow covers the Moon, we have a lun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Lun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umbral lunar eclipse—the Moon only passes through the pen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lunar eclipse—part of th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lunar eclipse—the entir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on Earth will be able to see a lun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 of Lun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enumbral lunar eclipse—the Moon only passes through the pen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rtial lunar eclipse—part of th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lunar eclipse—the entir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o on Earth will be able to see a lunar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368-E4EF-478F-97DF-102083D5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D61-0D5E-42FE-9695-11B691E8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7C4-8C32-46B2-BBFA-35584147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E5F-3A2A-44B9-877F-887D2646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C00-3FAD-45EA-A6A3-5269553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682-782D-475C-B968-B4169867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278-3A6A-43BE-AA6D-0C2A0E72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AE1-3602-4B77-A6E0-AA99778B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796-EDA0-41C1-ADC8-0AA6ED36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406-D58F-47EB-9C73-5741F0B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0C9-C4A5-4B28-BB75-8FC27F34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734-4FC6-4E04-9017-97EDAE46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405C-BA49-423D-978D-2FCCF6500846}" type="slidenum">
              <a:rPr b="0" lang="en-US" sz="12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olarsystem.nasa.gov/multimedia/gallery/Earth_Mo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The Earth-Moon System (click to enlarge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457200"/>
            <a:ext cx="3930480" cy="3819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152280" y="1752480"/>
            <a:ext cx="4114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unar Pha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nd Eclip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543560" y="6583320"/>
            <a:ext cx="47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04920" y="495288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d by the Lunar and Planetary Institut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For Educational Use Onl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LPI is not responsible for the ways in which this powerpoint may be used or altered.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TLE1982-205+6w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52280" y="6095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Why is the Moon red during an eclipse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Earth’s atmosphere filters some sunlight and allows it to reach the Moon’s surfac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blue light is removed—scattered down to make a blue sky over those in daytim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Remaining light is red or orang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ome of this remaining light is bent or refracted so that a small fraction of it reaches the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xact appearance depends on dust and clouds in the Earth’s atmospher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ol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Moon’s shadow covers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Only happens at 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ree types: Annular, Partial, and Tota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5" name="Picture 4" descr="SEDiagram1c"/>
          <p:cNvPicPr/>
          <p:nvPr/>
        </p:nvPicPr>
        <p:blipFill>
          <a:blip r:embed="rId1"/>
          <a:stretch/>
        </p:blipFill>
        <p:spPr>
          <a:xfrm>
            <a:off x="1066680" y="1981080"/>
            <a:ext cx="7315200" cy="488628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otal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bservers in the “umbra” shadow see a total eclipse (safe to view the Sun); can see the corona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ose in “penumbra” see a partial eclipse—not safe to look directly at Sun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nly lasts a few minutes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Path of Totality about 10,000 miles long, only 100 miles wide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9" name="Picture 4" descr="SEDiagram3c"/>
          <p:cNvPicPr/>
          <p:nvPr/>
        </p:nvPicPr>
        <p:blipFill>
          <a:blip r:embed="rId1"/>
          <a:stretch/>
        </p:blipFill>
        <p:spPr>
          <a:xfrm>
            <a:off x="1219320" y="2290680"/>
            <a:ext cx="6858000" cy="4567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 of a Total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" descr="totality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70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887000" y="6583320"/>
            <a:ext cx="44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Annular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hen the Moon is too far to completely cover the Sun—the umbra doesn’t reach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un appears as a donut around the Moo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7" name="Picture 4" descr="SEDiagram4c"/>
          <p:cNvPicPr/>
          <p:nvPr/>
        </p:nvPicPr>
        <p:blipFill>
          <a:blip r:embed="rId1"/>
          <a:stretch/>
        </p:blipFill>
        <p:spPr>
          <a:xfrm>
            <a:off x="914400" y="1905120"/>
            <a:ext cx="7086600" cy="471780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s of an Annu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annular eclipse"/>
          <p:cNvPicPr/>
          <p:nvPr/>
        </p:nvPicPr>
        <p:blipFill>
          <a:blip r:embed="rId1"/>
          <a:stretch/>
        </p:blipFill>
        <p:spPr>
          <a:xfrm>
            <a:off x="685800" y="1224000"/>
            <a:ext cx="8077320" cy="563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-64080" y="6400800"/>
            <a:ext cx="66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Moon’s gravity tugs on the Earth.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most on the part of Earth closest, which raises the atmosphere, the oceans, and even the rocks (a little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least on the part of Earth that’s farthest, which allows the oceans and atmosphere to be further from the Moon (and higher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’s gravity does the same thing, but to a lesser exten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 and the Mo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tides"/>
          <p:cNvPicPr/>
          <p:nvPr/>
        </p:nvPicPr>
        <p:blipFill>
          <a:blip r:embed="rId1"/>
          <a:stretch/>
        </p:blipFill>
        <p:spPr>
          <a:xfrm>
            <a:off x="2286000" y="1981080"/>
            <a:ext cx="5000760" cy="404352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52" descr="Mon orbit"/>
          <p:cNvPicPr/>
          <p:nvPr/>
        </p:nvPicPr>
        <p:blipFill>
          <a:blip r:embed="rId1"/>
          <a:stretch/>
        </p:blipFill>
        <p:spPr>
          <a:xfrm>
            <a:off x="5684760" y="2438280"/>
            <a:ext cx="3459240" cy="129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reliminary Topic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efore students can understand the reason for phases, they need to understand: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s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 at an angle with respect         to the Earth’s orbit around the Su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doesn’t shine on its own; it reflects sunlight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scale of the Moon and Earth’s sizes and distance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ease go through Earth and Moon statistics before trying to cover the reason for phases or eclipse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Rectangle 2053"/>
          <p:cNvSpPr/>
          <p:nvPr/>
        </p:nvSpPr>
        <p:spPr>
          <a:xfrm>
            <a:off x="5943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Ecliptic plane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Rectangle 2054"/>
          <p:cNvSpPr/>
          <p:nvPr/>
        </p:nvSpPr>
        <p:spPr>
          <a:xfrm>
            <a:off x="7543800" y="27432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 (couple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Fu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3352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ing and Identifying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-69840" y="6583320"/>
            <a:ext cx="53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Picture 12" descr="aboutmoon1"/>
          <p:cNvPicPr/>
          <p:nvPr/>
        </p:nvPicPr>
        <p:blipFill>
          <a:blip r:embed="rId1"/>
          <a:stretch/>
        </p:blipFill>
        <p:spPr>
          <a:xfrm>
            <a:off x="5943600" y="274680"/>
            <a:ext cx="2243160" cy="658332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--Cau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shines on the Moon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the Moon’s f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on the Moon’s ne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etween New and Full, we see parts of the daytime side of the Moon.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049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Golfball and Blacklight Activity</a:t>
            </a:r>
            <a:endParaRPr b="1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352680" y="304920"/>
            <a:ext cx="56390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Picture 5" descr="Moon Cycle &#10;Diagram looking down on Moon as it orbits Earth with Sun to right"/>
          <p:cNvPicPr/>
          <p:nvPr/>
        </p:nvPicPr>
        <p:blipFill>
          <a:blip r:embed="rId1"/>
          <a:stretch/>
        </p:blipFill>
        <p:spPr>
          <a:xfrm>
            <a:off x="380880" y="1066680"/>
            <a:ext cx="4267440" cy="282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artoon of Moon-Earth Orbit, illustrating the phases of the moon. The &#10;cartoon is labeled Moon-Earth-Sun as viewed from above our solar system.  The &#10;Earth sits in the center of eight images of the moon at different places in &#10;the lunar cycle.  To the right the Sun shines on the Moon Earth system."/>
          <p:cNvPicPr/>
          <p:nvPr/>
        </p:nvPicPr>
        <p:blipFill>
          <a:blip r:embed="rId2"/>
          <a:stretch/>
        </p:blipFill>
        <p:spPr>
          <a:xfrm>
            <a:off x="3733920" y="3124080"/>
            <a:ext cx="5257800" cy="349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228600" y="658332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9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Picture 5" descr="This diagram shows how the Moon always has a lit side (facing the&#10;Sun) and a dark side (facing away from the Sun). At the bottom of the diagram eight phases of the moon are illustrated with the heading: How th e moon appears from Earth."/>
          <p:cNvPicPr/>
          <p:nvPr/>
        </p:nvPicPr>
        <p:blipFill>
          <a:blip r:embed="rId1"/>
          <a:stretch/>
        </p:blipFill>
        <p:spPr>
          <a:xfrm>
            <a:off x="914400" y="533520"/>
            <a:ext cx="6781680" cy="565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0" y="6324480"/>
            <a:ext cx="4572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and Moon occasionally line up so that we have an eclipse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se eclipses happen every year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 see a solar eclipse, you need to be on a particular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EDiagram1c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045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7040" y="6248520"/>
            <a:ext cx="86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Unicode MS"/>
              </a:rPr>
              <a:t>When the Earth’s shadow covers the Moon, we have a lunar eclipse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ree types of Lun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enumbral lunar eclipse—the Moon only passes through the pen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tial lunar eclipse—part of th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tal lunar eclipse—the entir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o on Earth will be able to see a lunar eclipse?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49528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nyone who can see the Moon (anyone who is on the nighttime side of the Earth during the eclipse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1:56:41Z</dcterms:created>
  <dc:creator>shipp</dc:creator>
  <dc:description/>
  <dc:language>en-US</dc:language>
  <cp:lastModifiedBy>LEGION</cp:lastModifiedBy>
  <dcterms:modified xsi:type="dcterms:W3CDTF">2018-03-22T09:38:11Z</dcterms:modified>
  <cp:revision>403</cp:revision>
  <dc:subject/>
  <dc:title>PowerPoint Presentation</dc:title>
</cp:coreProperties>
</file>