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11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E3DED-9C16-4416-96E7-CD5A79DBAC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Lunar Phases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and Eclipses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http://solarsystem.nasa.gov/multimedia/gallery/Earth_Moon.jpg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Created by the Lunar and Planetary Institute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For Educational Use Only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LPI is not responsible for the ways in which this powerpoint may be used or altered.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www.sliderbase.com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Lunar Ph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and Eclip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http://solarsystem.nasa.gov/multimedia/gallery/Earth_Moon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reated by the Lunar and Planetary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For Educational Use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LPI is not responsible for the ways in which this powerpoint may be used or alter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Images from Fred Espenak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http://www.mreclipse.com/LEphoto/LEgallery1/LEgallery1.html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www.sliderbase.com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ages from Fred Espena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mreclipse.com/LEphoto/LEgallery1/LEgallery1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is the Moon red during an eclip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arth’s atmosphere filters some sunlight and allows it to reach the Moon’s su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lue light is removed—scattered down to make a blue sky over those in day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aining light is red or or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of this remaining light is bent or refracted so that a small fraction of it reaches the Mo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ct appearance depends on dust and clouds in the Earth’s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Why is the Moon red during an eclipse?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The Earth’s atmosphere filters some sunlight and allows it to reach the Moon’s surface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The blue light is removed—scattered down to make a blue sky over those in daytime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Remaining light is red or orange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Some of this remaining light is bent or refracted so that a small fraction of it reaches the Moon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Exact appearance depends on dust and clouds in the Earth’s atmosphere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www.sliderbase.com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Solar Eclipses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When the Moon’s shadow covers part of the Earth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Only happens at New Moon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Three types: Annular, Partial, and Total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www.sliderbase.com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Eclip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 Moon’s shadow covers part of the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happens at New Mo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types: Annular, Partial, and To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Total Solar Eclipse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Observers in the “umbra” shadow see a total eclipse (safe to view the Sun); can see the corona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Those in “penumbra” see a partial eclipse—not safe to look directly at Sun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Only lasts a few minutes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Path of Totality about 10,000 miles long, only 100 miles wide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www.sliderbase.com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 Solar Eclip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servers in the “umbra” shadow see a total eclipse (safe to view the Sun); can see the coro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se in “penumbra” see a partial eclipse—not safe to look directly at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lasts a few minu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h of Totality about 10,000 miles long, only 100 miles w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Photo of a Total Eclipse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http://sunearthday.nasa.gov/2006/multimedia/gal_008.php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www.sliderbase.com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 of a Total Eclip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sunearthday.nasa.gov/2006/multimedia/gal_008.ph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Annular Solar Eclipse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When the Moon is too far to completely cover the Sun—the umbra doesn’t reach the Earth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Sun appears as a donut around the Moon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www.sliderbase.com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nular Solar Eclip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 Moon is too far to completely cover the Sun—the umbra doesn’t reach the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 appears as a donut around the Mo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Photos of an Annular Eclipse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http://sunearthday.nasa.gov/2006/multimedia/gal_010.php; photos taken by Fred Espenak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www.sliderbase.com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 of an Annular Eclip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sunearthday.nasa.gov/2006/multimedia/gal_010.php; photos taken by Fred Espena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Tides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The Moon’s gravity tugs on the Earth. 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It pulls the most on the part of Earth closest, which raises the atmosphere, the oceans, and even the rocks (a little)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It pulls the least on the part of Earth that’s farthest, which allows the oceans and atmosphere to be further from the Moon (and higher)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The Sun’s gravity does the same thing, but to a lesser extent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www.sliderbase.com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on’s gravity tugs on the Earth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ulls the most on the part of Earth closest, which raises the atmosphere, the oceans, and even the rocks (a lit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ulls the least on the part of Earth that’s farthest, which allows the oceans and atmosphere to be further from the Moon (and high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’s gravity does the same thing, but to a lesser ex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des and the Mo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Tides and the Moon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www.sliderbase.com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Preliminary Topics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Before students can understand the reason for phases, they need to understand: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The Moon orbits the Earth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The Moon orbit at an angle with respect         to the Earth’s orbit around the Sun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The Moon doesn’t shine on its own; it reflects sunlight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The scale of the Moon and Earth’s sizes and distance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Please go through Earth and Moon statistics before trying to cover the reason for phases or eclipses.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Ecliptic plane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Moon’s orbital plane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www.sliderbase.com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liminary Top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fore students can understand the reason for phases, they need to understa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on orbits the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on orbit at an angle with respect         to the Earth’s orbit around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on doesn’t shine on its own; it reflects sun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cale of the Moon and Earth’s sizes and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ease go through Earth and Moon statistics before trying to cover the reason for phases or eclip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liptic pl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on’s orbital pl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New (couple days)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Waxing Crescent (several days)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1st Quarter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Waxing Gibbous (several days)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 Full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Waning Gibbous (several days)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3rd Quarter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Waning Crescent (several days)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New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Phases:</a:t>
            </a:r>
            <a:br>
              <a:rPr sz="1200"/>
            </a:b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  Observing and Identifying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http://www.lpi.usra.edu/education/skytellers/moon_phases/about.shtml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www.sliderbase.com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(couple days)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xing Crescent (several days)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t Quarter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xing Gibbous (several days)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Full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ning Gibbous (several days)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rd Quarter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ning Crescent (several days)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ases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Observing and Identify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lpi.usra.edu/education/skytellers/moon_phases/about.s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Phases--Causes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The Sun shines on the Moon.  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When the sunlight reflects off the Moon’s far side, we call it a New Moon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When the sunlight reflects off on the Moon’s near side, we call it a Full Moon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Between New and Full, we see parts of the daytime side of the Moon.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Golfball and Blacklight Activity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www.sliderbase.com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ases--Cau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 shines on the Moon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 sunlight reflects off the Moon’s far side, we call it a New Mo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 sunlight reflects off on the Moon’s near side, we call it a Full Mo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tween New and Full, we see parts of the daytime side of the Mo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lfball and Blacklight A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Please do NOT use this to teach phases; 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use to test for comprehension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http://starchild.gsfc.nasa.gov/docs/StarChild/questions/question3.html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www.sliderbase.com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ease do NOT use this to teach phases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o test for comprehen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starchild.gsfc.nasa.gov/docs/StarChild/questions/question3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starchild.gsfc.nasa.gov/docs/StarChild/questions/phases.html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www.sliderbase.com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child.gsfc.nasa.gov/docs/StarChild/questions/phases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Eclipses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The Sun and Moon occasionally line up so that we have an eclipse.  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These eclipses happen every year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To see a solar eclipse, you need to be on a particular part of the Earth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www.sliderbase.com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lip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 and Moon occasionally line up so that we have an eclips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eclipses happen every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ee a solar eclipse, you need to be on a particular part of the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When the Earth’s shadow covers the Moon, we have a lunar eclipse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www.sliderbase.com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 Earth’s shadow covers the Moon, we have a lunar eclip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types of Lunar Eclip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numbral lunar eclipse—the Moon only passes through the penumbra of Earth’s shad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ial lunar eclipse—part of the Moon passes through the umbra of Earth’s shad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 lunar eclipse—the entire Moon passes through the umbra of Earth’s shad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 on Earth will be able to see a lunar eclip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one who can see the Moon (anyone who is on the nighttime side of the Earth during the eclips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Three types of Lunar Eclipses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Penumbral lunar eclipse—the Moon only passes through the penumbra of Earth’s shadow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Partial lunar eclipse—part of the Moon passes through the umbra of Earth’s shadow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Total lunar eclipse—the entire Moon passes through the umbra of Earth’s shadow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Who on Earth will be able to see a lunar eclipse?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Anyone who can see the Moon (anyone who is on the nighttime side of the Earth during the eclipse)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www.sliderbase.com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2A42-587D-4D40-AC6C-BB25568ED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7BCD-4FA8-4BAE-BE24-663A51BE2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4FDE-407C-4F0A-853C-A44BEEDA2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C190-A3B0-4F77-9D9A-195BCF1F0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3531-2AD4-43AB-B754-6FEE048A0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99EB-775B-4C6D-93BA-42C5F52DA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8C47-2E36-490A-AC5E-7C31E344F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5094-1830-4989-9DB5-99F79A953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99E1-47DF-4B34-A357-66C83CF1F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F7B7-45C3-44F9-ACD7-0B2D9BD8F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B0DE-5206-489B-A9E1-DEB3FD352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6EB0-C8E9-4FAE-B1F1-568D9AB08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ffff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ffff66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ffff66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ffff66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ahoma"/>
              </a:rPr>
              <a:t>www.sliderbase.co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66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6B6D7-0CFA-44E2-95BB-F05C5D40E7AA}" type="slidenum">
              <a:rPr b="0" lang="en-US" sz="1200" spc="-1" strike="noStrike">
                <a:solidFill>
                  <a:srgbClr val="ffff66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solarsystem.nasa.gov/multimedia/gallery/Earth_Moon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1" descr="The Earth-Moon System (click to enlarge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114800" y="457200"/>
            <a:ext cx="3930480" cy="38196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3"/>
          <p:cNvSpPr/>
          <p:nvPr/>
        </p:nvSpPr>
        <p:spPr>
          <a:xfrm>
            <a:off x="152280" y="1752480"/>
            <a:ext cx="4114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omic Sans MS"/>
              </a:rPr>
              <a:t>Lunar Phases</a:t>
            </a:r>
            <a:endParaRPr b="1" lang="en-US" sz="4800" spc="-1" strike="noStrike">
              <a:solidFill>
                <a:srgbClr val="ffff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omic Sans MS"/>
              </a:rPr>
              <a:t>and Eclipses</a:t>
            </a:r>
            <a:endParaRPr b="1" lang="en-US" sz="4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0" name="Rectangle 14"/>
          <p:cNvSpPr/>
          <p:nvPr/>
        </p:nvSpPr>
        <p:spPr>
          <a:xfrm>
            <a:off x="4543560" y="6583320"/>
            <a:ext cx="479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Arial Unicode MS"/>
              </a:rPr>
              <a:t>http://solarsystem.nasa.gov/multimedia/gallery/Earth_Moon.jpg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1" name="Rectangle 16"/>
          <p:cNvSpPr/>
          <p:nvPr/>
        </p:nvSpPr>
        <p:spPr>
          <a:xfrm>
            <a:off x="304920" y="4952880"/>
            <a:ext cx="79246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reated by the Lunar and Planetary Institute</a:t>
            </a: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For Educational Use Only</a:t>
            </a: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00"/>
                </a:solidFill>
                <a:latin typeface="Comic Sans MS"/>
              </a:rPr>
              <a:t>LPI is not responsible for the ways in which this powerpoint may be used or altered.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2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ahoma"/>
              </a:rPr>
              <a:t>www.sliderbase.com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3" descr="TLE1982-205+6w"/>
          <p:cNvPicPr/>
          <p:nvPr/>
        </p:nvPicPr>
        <p:blipFill>
          <a:blip r:embed="rId1"/>
          <a:stretch/>
        </p:blipFill>
        <p:spPr>
          <a:xfrm>
            <a:off x="1066680" y="914400"/>
            <a:ext cx="6934320" cy="495288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6"/>
          <p:cNvSpPr/>
          <p:nvPr/>
        </p:nvSpPr>
        <p:spPr>
          <a:xfrm>
            <a:off x="152280" y="6095880"/>
            <a:ext cx="5562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Images from Fred Espenak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http://www.mreclipse.com/LEphoto/LEgallery1/LEgallery1.html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9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ahoma"/>
              </a:rPr>
              <a:t>www.sliderbase.com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Why is the Moon red during an eclipse?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The Earth’s atmosphere filters some sunlight and allows it to reach the Moon’s surface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The blue light is removed—scattered down to make a blue sky over those in daytime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Remaining light is red or orange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Some of this remaining light is bent or refracted so that a small fraction of it reaches the Moon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Exact appearance depends on dust and clouds in the Earth’s atmosphere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92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ahoma"/>
              </a:rPr>
              <a:t>www.sliderbase.com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Solar Eclipses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6854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When the Moon’s shadow covers part of the Earth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Only happens at New Moon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Three types: Annular, Partial, and Total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pic>
        <p:nvPicPr>
          <p:cNvPr id="95" name="Picture 4" descr="SEDiagram1c"/>
          <p:cNvPicPr/>
          <p:nvPr/>
        </p:nvPicPr>
        <p:blipFill>
          <a:blip r:embed="rId1"/>
          <a:stretch/>
        </p:blipFill>
        <p:spPr>
          <a:xfrm>
            <a:off x="1066680" y="1981080"/>
            <a:ext cx="7315200" cy="4886280"/>
          </a:xfrm>
          <a:prstGeom prst="rect">
            <a:avLst/>
          </a:prstGeom>
          <a:ln w="0">
            <a:noFill/>
          </a:ln>
        </p:spPr>
      </p:pic>
      <p:sp>
        <p:nvSpPr>
          <p:cNvPr id="96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ahoma"/>
              </a:rPr>
              <a:t>www.sliderbase.com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Total Solar Eclipse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Tahoma"/>
              </a:rPr>
              <a:t>Observers in the “umbra” shadow see a total eclipse (safe to view the Sun); can see the corona</a:t>
            </a:r>
            <a:endParaRPr b="0" lang="en-US" sz="1800" spc="-1" strike="noStrike">
              <a:solidFill>
                <a:srgbClr val="ffff66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Tahoma"/>
              </a:rPr>
              <a:t>Those in “penumbra” see a partial eclipse—not safe to look directly at Sun</a:t>
            </a:r>
            <a:endParaRPr b="0" lang="en-US" sz="1800" spc="-1" strike="noStrike">
              <a:solidFill>
                <a:srgbClr val="ffff66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Tahoma"/>
              </a:rPr>
              <a:t>Only lasts a few minutes</a:t>
            </a:r>
            <a:endParaRPr b="0" lang="en-US" sz="1800" spc="-1" strike="noStrike">
              <a:solidFill>
                <a:srgbClr val="ffff66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Tahoma"/>
              </a:rPr>
              <a:t>Path of Totality about 10,000 miles long, only 100 miles wide</a:t>
            </a:r>
            <a:endParaRPr b="0" lang="en-US" sz="1800" spc="-1" strike="noStrike">
              <a:solidFill>
                <a:srgbClr val="ffff66"/>
              </a:solidFill>
              <a:latin typeface="Tahoma"/>
            </a:endParaRPr>
          </a:p>
        </p:txBody>
      </p:sp>
      <p:pic>
        <p:nvPicPr>
          <p:cNvPr id="99" name="Picture 4" descr="SEDiagram3c"/>
          <p:cNvPicPr/>
          <p:nvPr/>
        </p:nvPicPr>
        <p:blipFill>
          <a:blip r:embed="rId1"/>
          <a:stretch/>
        </p:blipFill>
        <p:spPr>
          <a:xfrm>
            <a:off x="1219320" y="2290680"/>
            <a:ext cx="6858000" cy="4567320"/>
          </a:xfrm>
          <a:prstGeom prst="rect">
            <a:avLst/>
          </a:prstGeom>
          <a:ln w="0">
            <a:noFill/>
          </a:ln>
        </p:spPr>
      </p:pic>
      <p:sp>
        <p:nvSpPr>
          <p:cNvPr id="100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ahoma"/>
              </a:rPr>
              <a:t>www.sliderbase.com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Photo of a Total Eclipse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Picture 3" descr="totality"/>
          <p:cNvPicPr/>
          <p:nvPr/>
        </p:nvPicPr>
        <p:blipFill>
          <a:blip r:embed="rId1"/>
          <a:stretch/>
        </p:blipFill>
        <p:spPr>
          <a:xfrm>
            <a:off x="1295280" y="1219320"/>
            <a:ext cx="6477120" cy="517032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4"/>
          <p:cNvSpPr/>
          <p:nvPr/>
        </p:nvSpPr>
        <p:spPr>
          <a:xfrm>
            <a:off x="4887000" y="6583320"/>
            <a:ext cx="442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http://sunearthday.nasa.gov/2006/multimedia/gal_008.php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04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ahoma"/>
              </a:rPr>
              <a:t>www.sliderbase.com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Annular Solar Eclipse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6854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ahoma"/>
              </a:rPr>
              <a:t>When the Moon is too far to completely cover the Sun—the umbra doesn’t reach the Earth</a:t>
            </a:r>
            <a:endParaRPr b="0" lang="en-US" sz="2000" spc="-1" strike="noStrike">
              <a:solidFill>
                <a:srgbClr val="ffff66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ahoma"/>
              </a:rPr>
              <a:t>Sun appears as a donut around the Moon</a:t>
            </a:r>
            <a:endParaRPr b="0" lang="en-US" sz="2000" spc="-1" strike="noStrike">
              <a:solidFill>
                <a:srgbClr val="ffff66"/>
              </a:solidFill>
              <a:latin typeface="Tahoma"/>
            </a:endParaRPr>
          </a:p>
        </p:txBody>
      </p:sp>
      <p:pic>
        <p:nvPicPr>
          <p:cNvPr id="107" name="Picture 4" descr="SEDiagram4c"/>
          <p:cNvPicPr/>
          <p:nvPr/>
        </p:nvPicPr>
        <p:blipFill>
          <a:blip r:embed="rId1"/>
          <a:stretch/>
        </p:blipFill>
        <p:spPr>
          <a:xfrm>
            <a:off x="914400" y="1905120"/>
            <a:ext cx="7086600" cy="4717800"/>
          </a:xfrm>
          <a:prstGeom prst="rect">
            <a:avLst/>
          </a:prstGeom>
          <a:ln w="0">
            <a:noFill/>
          </a:ln>
        </p:spPr>
      </p:pic>
      <p:sp>
        <p:nvSpPr>
          <p:cNvPr id="108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ahoma"/>
              </a:rPr>
              <a:t>www.sliderbase.com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Photos of an Annular Eclipse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Picture 3" descr="annular eclipse"/>
          <p:cNvPicPr/>
          <p:nvPr/>
        </p:nvPicPr>
        <p:blipFill>
          <a:blip r:embed="rId1"/>
          <a:stretch/>
        </p:blipFill>
        <p:spPr>
          <a:xfrm>
            <a:off x="685800" y="1224000"/>
            <a:ext cx="8077320" cy="563400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4"/>
          <p:cNvSpPr/>
          <p:nvPr/>
        </p:nvSpPr>
        <p:spPr>
          <a:xfrm>
            <a:off x="-64080" y="6400800"/>
            <a:ext cx="666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http://sunearthday.nasa.gov/2006/multimedia/gal_010.php; photos taken by Fred Espenak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12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ahoma"/>
              </a:rPr>
              <a:t>www.sliderbase.com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Tides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The Moon’s gravity tugs on the Earth. 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It pulls the most on the part of Earth closest, which raises the atmosphere, the oceans, and even the rocks (a little)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It pulls the least on the part of Earth that’s farthest, which allows the oceans and atmosphere to be further from the Moon (and higher)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The Sun’s gravity does the same thing, but to a lesser extent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15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ahoma"/>
              </a:rPr>
              <a:t>www.sliderbase.com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Tides and the Moon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Picture 5" descr="tides"/>
          <p:cNvPicPr/>
          <p:nvPr/>
        </p:nvPicPr>
        <p:blipFill>
          <a:blip r:embed="rId1"/>
          <a:stretch/>
        </p:blipFill>
        <p:spPr>
          <a:xfrm>
            <a:off x="2286000" y="1981080"/>
            <a:ext cx="5000760" cy="4043520"/>
          </a:xfrm>
          <a:prstGeom prst="rect">
            <a:avLst/>
          </a:prstGeom>
          <a:ln w="0">
            <a:noFill/>
          </a:ln>
        </p:spPr>
      </p:pic>
      <p:sp>
        <p:nvSpPr>
          <p:cNvPr id="118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ahoma"/>
              </a:rPr>
              <a:t>www.sliderbase.com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052" descr="Mon orbit"/>
          <p:cNvPicPr/>
          <p:nvPr/>
        </p:nvPicPr>
        <p:blipFill>
          <a:blip r:embed="rId1"/>
          <a:stretch/>
        </p:blipFill>
        <p:spPr>
          <a:xfrm>
            <a:off x="5684760" y="2438280"/>
            <a:ext cx="3459240" cy="129708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Preliminary Topics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59436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Aft>
                <a:spcPts val="24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Before students can understand the reason for phases, they need to understand: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Aft>
                <a:spcPts val="2401"/>
              </a:spcAft>
              <a:buClr>
                <a:srgbClr val="ff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ahoma"/>
              </a:rPr>
              <a:t>The Moon orbits the Earth</a:t>
            </a:r>
            <a:endParaRPr b="0" lang="en-US" sz="2000" spc="-1" strike="noStrike">
              <a:solidFill>
                <a:srgbClr val="ffff66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Aft>
                <a:spcPts val="2401"/>
              </a:spcAft>
              <a:buClr>
                <a:srgbClr val="ff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ahoma"/>
              </a:rPr>
              <a:t>The Moon orbit at an angle with respect         to the Earth’s orbit around the Sun</a:t>
            </a:r>
            <a:endParaRPr b="0" lang="en-US" sz="2000" spc="-1" strike="noStrike">
              <a:solidFill>
                <a:srgbClr val="ffff66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Aft>
                <a:spcPts val="2401"/>
              </a:spcAft>
              <a:buClr>
                <a:srgbClr val="ff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ahoma"/>
              </a:rPr>
              <a:t>The Moon doesn’t shine on its own; it reflects sunlight</a:t>
            </a:r>
            <a:endParaRPr b="0" lang="en-US" sz="2000" spc="-1" strike="noStrike">
              <a:solidFill>
                <a:srgbClr val="ffff66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Aft>
                <a:spcPts val="2401"/>
              </a:spcAft>
              <a:buClr>
                <a:srgbClr val="ff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ahoma"/>
              </a:rPr>
              <a:t>The scale of the Moon and Earth’s sizes and distance</a:t>
            </a:r>
            <a:endParaRPr b="0" lang="en-US" sz="2000" spc="-1" strike="noStrike">
              <a:solidFill>
                <a:srgbClr val="ffff66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Aft>
                <a:spcPts val="24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lease go through Earth and Moon statistics before trying to cover the reason for phases or eclipses.</a:t>
            </a:r>
            <a:endParaRPr b="0" lang="en-US" sz="2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56" name="Rectangle 2053"/>
          <p:cNvSpPr/>
          <p:nvPr/>
        </p:nvSpPr>
        <p:spPr>
          <a:xfrm>
            <a:off x="5943600" y="259092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Ecliptic plane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7" name="Rectangle 2054"/>
          <p:cNvSpPr/>
          <p:nvPr/>
        </p:nvSpPr>
        <p:spPr>
          <a:xfrm>
            <a:off x="7543800" y="2743200"/>
            <a:ext cx="160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Moon’s orbital plane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8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ahoma"/>
              </a:rPr>
              <a:t>www.sliderbase.com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2640" y="1371240"/>
            <a:ext cx="3505320" cy="525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Tahoma"/>
              </a:rPr>
              <a:t>New (couple days)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66"/>
                </a:solidFill>
                <a:latin typeface="Tahoma"/>
              </a:rPr>
              <a:t>Waxing Crescent (several days)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66"/>
                </a:solidFill>
                <a:latin typeface="Tahoma"/>
              </a:rPr>
              <a:t>1</a:t>
            </a:r>
            <a:r>
              <a:rPr b="0" lang="en-US" sz="1800" spc="-1" strike="noStrike" baseline="30000">
                <a:solidFill>
                  <a:srgbClr val="ffff66"/>
                </a:solidFill>
                <a:latin typeface="Tahoma"/>
              </a:rPr>
              <a:t>st</a:t>
            </a:r>
            <a:r>
              <a:rPr b="0" lang="en-US" sz="1800" spc="-1" strike="noStrike">
                <a:solidFill>
                  <a:srgbClr val="ffff66"/>
                </a:solidFill>
                <a:latin typeface="Tahoma"/>
              </a:rPr>
              <a:t> Quarter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66"/>
                </a:solidFill>
                <a:latin typeface="Tahoma"/>
              </a:rPr>
              <a:t>Waxing Gibbous (several days)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66"/>
                </a:solidFill>
                <a:latin typeface="Tahoma"/>
              </a:rPr>
              <a:t> Full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66"/>
                </a:solidFill>
                <a:latin typeface="Tahoma"/>
              </a:rPr>
              <a:t>Waning Gibbous (several days)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66"/>
                </a:solidFill>
                <a:latin typeface="Tahoma"/>
              </a:rPr>
              <a:t>3</a:t>
            </a:r>
            <a:r>
              <a:rPr b="0" lang="en-US" sz="1800" spc="-1" strike="noStrike" baseline="30000">
                <a:solidFill>
                  <a:srgbClr val="ffff66"/>
                </a:solidFill>
                <a:latin typeface="Tahoma"/>
              </a:rPr>
              <a:t>rd</a:t>
            </a:r>
            <a:r>
              <a:rPr b="0" lang="en-US" sz="1800" spc="-1" strike="noStrike">
                <a:solidFill>
                  <a:srgbClr val="ffff66"/>
                </a:solidFill>
                <a:latin typeface="Tahoma"/>
              </a:rPr>
              <a:t> Quarter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66"/>
                </a:solidFill>
                <a:latin typeface="Tahoma"/>
              </a:rPr>
              <a:t>Waning Crescent (several days)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66"/>
                </a:solidFill>
                <a:latin typeface="Tahoma"/>
              </a:rPr>
              <a:t>New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Rectangle 8"/>
          <p:cNvSpPr/>
          <p:nvPr/>
        </p:nvSpPr>
        <p:spPr>
          <a:xfrm>
            <a:off x="533520" y="380880"/>
            <a:ext cx="5562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Phases:</a:t>
            </a:r>
            <a:br>
              <a:rPr sz="3400"/>
            </a:b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bserving and Identifying</a:t>
            </a: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1" name="Rectangle 11"/>
          <p:cNvSpPr/>
          <p:nvPr/>
        </p:nvSpPr>
        <p:spPr>
          <a:xfrm>
            <a:off x="-69840" y="6583320"/>
            <a:ext cx="535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http://www.lpi.usra.edu/education/skytellers/moon_phases/about.shtml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62" name="Picture 12" descr="aboutmoon1"/>
          <p:cNvPicPr/>
          <p:nvPr/>
        </p:nvPicPr>
        <p:blipFill>
          <a:blip r:embed="rId1"/>
          <a:stretch/>
        </p:blipFill>
        <p:spPr>
          <a:xfrm>
            <a:off x="5943600" y="274680"/>
            <a:ext cx="2243160" cy="6583320"/>
          </a:xfrm>
          <a:prstGeom prst="rect">
            <a:avLst/>
          </a:prstGeom>
          <a:ln w="0">
            <a:noFill/>
          </a:ln>
        </p:spPr>
      </p:pic>
      <p:sp>
        <p:nvSpPr>
          <p:cNvPr id="63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ahoma"/>
              </a:rPr>
              <a:t>www.sliderbase.com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Phases--Causes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The Sun shines on the Moon.  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When the sunlight reflects off the Moon’s far side, we call it a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ew Moon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When the sunlight reflects off on the Moon’s near side, we call it a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ull Moon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Between New and Full, we see parts of the daytime side of the Moon.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6" name="Rectangle 5"/>
          <p:cNvSpPr/>
          <p:nvPr/>
        </p:nvSpPr>
        <p:spPr>
          <a:xfrm>
            <a:off x="304920" y="51055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ff9966"/>
                </a:solidFill>
                <a:latin typeface="Tahoma"/>
              </a:rPr>
              <a:t>Golfball and Blacklight Activity</a:t>
            </a:r>
            <a:endParaRPr b="1" lang="en-US" sz="3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7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ahoma"/>
              </a:rPr>
              <a:t>www.sliderbase.com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3"/>
          <p:cNvSpPr/>
          <p:nvPr/>
        </p:nvSpPr>
        <p:spPr>
          <a:xfrm>
            <a:off x="3352680" y="304920"/>
            <a:ext cx="563904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Please do NOT use this to teach phases; </a:t>
            </a: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use to test for comprehension</a:t>
            </a:r>
            <a:endParaRPr b="1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69" name="Picture 5" descr="Moon Cycle &#10;Diagram looking down on Moon as it orbits Earth with Sun to right"/>
          <p:cNvPicPr/>
          <p:nvPr/>
        </p:nvPicPr>
        <p:blipFill>
          <a:blip r:embed="rId1"/>
          <a:stretch/>
        </p:blipFill>
        <p:spPr>
          <a:xfrm>
            <a:off x="380880" y="1066680"/>
            <a:ext cx="4267440" cy="28227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Cartoon of Moon-Earth Orbit, illustrating the phases of the moon. The &#10;cartoon is labeled Moon-Earth-Sun as viewed from above our solar system.  The &#10;Earth sits in the center of eight images of the moon at different places in &#10;the lunar cycle.  To the right the Sun shines on the Moon Earth system."/>
          <p:cNvPicPr/>
          <p:nvPr/>
        </p:nvPicPr>
        <p:blipFill>
          <a:blip r:embed="rId2"/>
          <a:stretch/>
        </p:blipFill>
        <p:spPr>
          <a:xfrm>
            <a:off x="3733920" y="3124080"/>
            <a:ext cx="5257800" cy="349272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8"/>
          <p:cNvSpPr/>
          <p:nvPr/>
        </p:nvSpPr>
        <p:spPr>
          <a:xfrm>
            <a:off x="228600" y="6583320"/>
            <a:ext cx="5105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http://starchild.gsfc.nasa.gov/docs/StarChild/questions/question3.html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2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ahoma"/>
              </a:rPr>
              <a:t>www.sliderbase.com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"/>
          <p:cNvSpPr/>
          <p:nvPr/>
        </p:nvSpPr>
        <p:spPr>
          <a:xfrm>
            <a:off x="0" y="9428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74" name="Picture 5" descr="This diagram shows how the Moon always has a lit side (facing the&#10;Sun) and a dark side (facing away from the Sun). At the bottom of the diagram eight phases of the moon are illustrated with the heading: How th e moon appears from Earth."/>
          <p:cNvPicPr/>
          <p:nvPr/>
        </p:nvPicPr>
        <p:blipFill>
          <a:blip r:embed="rId1"/>
          <a:stretch/>
        </p:blipFill>
        <p:spPr>
          <a:xfrm>
            <a:off x="914400" y="533520"/>
            <a:ext cx="6781680" cy="565128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6"/>
          <p:cNvSpPr/>
          <p:nvPr/>
        </p:nvSpPr>
        <p:spPr>
          <a:xfrm>
            <a:off x="4572000" y="6324480"/>
            <a:ext cx="4572000" cy="8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Arial Unicode MS"/>
              </a:rPr>
              <a:t>starchild.gsfc.nasa.gov/docs/StarChild/questions/phases.html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6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ahoma"/>
              </a:rPr>
              <a:t>www.sliderbase.com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Eclipses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5943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The Sun and Moon occasionally line up so that we have an eclipse.  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These eclipses happen every year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To see a solar eclipse, you need to be on a particular part of the Earth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79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ahoma"/>
              </a:rPr>
              <a:t>www.sliderbase.com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LEDiagram1c"/>
          <p:cNvPicPr/>
          <p:nvPr/>
        </p:nvPicPr>
        <p:blipFill>
          <a:blip r:embed="rId1"/>
          <a:stretch/>
        </p:blipFill>
        <p:spPr>
          <a:xfrm>
            <a:off x="76320" y="0"/>
            <a:ext cx="9067680" cy="604512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3"/>
          <p:cNvSpPr/>
          <p:nvPr/>
        </p:nvSpPr>
        <p:spPr>
          <a:xfrm>
            <a:off x="437040" y="6248520"/>
            <a:ext cx="861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 Unicode MS"/>
              </a:rPr>
              <a:t>When the Earth’s shadow covers the Moon, we have a lunar eclipse</a:t>
            </a: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2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ahoma"/>
              </a:rPr>
              <a:t>www.sliderbase.com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Three types of Lunar Eclipses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Penumbral lunar eclipse—the Moon only passes through the penumbra of Earth’s shadow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Partial lunar eclipse—part of the Moon passes through the umbra of Earth’s shadow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Total lunar eclipse—the entire Moon passes through the umbra of Earth’s shadow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Who on Earth will be able to see a lunar eclipse?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762120" y="4952880"/>
            <a:ext cx="7162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Tahoma"/>
              </a:rPr>
              <a:t>Anyone who can see the Moon (anyone who is on the nighttime side of the Earth during the eclipse)</a:t>
            </a: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6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ahoma"/>
              </a:rPr>
              <a:t>www.sliderbase.com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7T11:56:41Z</dcterms:created>
  <dc:creator>shipp</dc:creator>
  <dc:description/>
  <dc:language>en-US</dc:language>
  <cp:lastModifiedBy>LEGION</cp:lastModifiedBy>
  <dcterms:modified xsi:type="dcterms:W3CDTF">2018-03-22T09:38:11Z</dcterms:modified>
  <cp:revision>403</cp:revision>
  <dc:subject/>
  <dc:title>PowerPoint Presentation</dc:title>
</cp:coreProperties>
</file>