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WHOOSH.WAV" ContentType="audio/x-wav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E33A-65C3-4E58-8FB9-A0DCBE9CA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404-4432-4F79-8CC1-2C01E256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C09-E0F8-4201-AA88-8ADA8208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0E9-ECA9-4EB7-B43F-B819D5E5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734-B191-4AD2-B31C-C30145ED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639-4B08-4825-BD36-D94AE8AC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B25-CCA8-4DEF-92DE-7359DC72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609-D9EA-4908-9541-21A184A9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DE9-CF12-46C1-88AD-6E1F9285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B02-A0F7-4AEA-A3B2-1B66E4D5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1DF-CD31-4C8C-B4FA-D2901470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AD9-9533-4D85-ABB6-7E516CE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F17-EBF4-4914-8EA4-CC4F988C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C7E8-F156-44DE-A222-9927B690F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>
                <a:gd name="textAreaLeft" fmla="*/ 0 w 2126160"/>
                <a:gd name="textAreaRight" fmla="*/ 2126520 w 21261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Нижний колонтитул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8-03-22T09:36:21Z</dcterms:modified>
  <cp:revision>53</cp:revision>
  <dc:subject/>
  <dc:title>Foundation 1 - Discovering Astronomy</dc:title>
</cp:coreProperties>
</file>