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0A1D1-B7CD-4770-8A61-C5FEA4E5C3AB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Noble gases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are Noble gases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7B4B-1F4D-4454-AEC3-C0A0798D15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6757-707B-49B6-98C4-C1259D54F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DA450-49C1-4184-A763-80364E0027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65121-7CD4-49BE-9F29-898C40F27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4CA8B-A722-4607-A432-FEFBA24CA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1EE03-A2D2-416E-A77D-8BBF62FF7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1B324-19D7-4006-BB3C-54ECBEB9A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2E7F-E310-49A4-903B-155007483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C36F-C9BB-409B-825D-D80A8C52F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BD93D-5AEE-45C7-9152-E36F5B80F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E49D3-665D-4446-BE5C-831C9A47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3EDC9-DF00-4B19-9CC4-D0BCFE697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2FEC3-3039-4DEC-A0A5-2FE03F70EA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6.xml"/><Relationship Id="rId27" Type="http://schemas.openxmlformats.org/officeDocument/2006/relationships/slide" Target="slide27.xml"/><Relationship Id="rId28" Type="http://schemas.openxmlformats.org/officeDocument/2006/relationships/slide" Target="slide28.xml"/><Relationship Id="rId29" Type="http://schemas.openxmlformats.org/officeDocument/2006/relationships/slide" Target="slide29.xml"/><Relationship Id="rId30" Type="http://schemas.openxmlformats.org/officeDocument/2006/relationships/slide" Target="slide30.xml"/><Relationship Id="rId31" Type="http://schemas.openxmlformats.org/officeDocument/2006/relationships/slide" Target="slide31.xml"/><Relationship Id="rId32" Type="http://schemas.openxmlformats.org/officeDocument/2006/relationships/slide" Target="slide32.xml"/><Relationship Id="rId33" Type="http://schemas.openxmlformats.org/officeDocument/2006/relationships/slide" Target="slide33.xml"/><Relationship Id="rId34" Type="http://schemas.openxmlformats.org/officeDocument/2006/relationships/slide" Target="slide34.xml"/><Relationship Id="rId35" Type="http://schemas.openxmlformats.org/officeDocument/2006/relationships/slide" Target="slide35.xml"/><Relationship Id="rId36" Type="http://schemas.openxmlformats.org/officeDocument/2006/relationships/slide" Target="slide36.xml"/><Relationship Id="rId37" Type="http://schemas.openxmlformats.org/officeDocument/2006/relationships/slide" Target="slide37.xml"/><Relationship Id="rId38" Type="http://schemas.openxmlformats.org/officeDocument/2006/relationships/slide" Target="slide38.xml"/><Relationship Id="rId39" Type="http://schemas.openxmlformats.org/officeDocument/2006/relationships/slide" Target="slide39.xml"/><Relationship Id="rId40" Type="http://schemas.openxmlformats.org/officeDocument/2006/relationships/slide" Target="slide40.xml"/><Relationship Id="rId41" Type="http://schemas.openxmlformats.org/officeDocument/2006/relationships/slide" Target="slide41.xml"/><Relationship Id="rId42" Type="http://schemas.openxmlformats.org/officeDocument/2006/relationships/slide" Target="slide42.xml"/><Relationship Id="rId43" Type="http://schemas.openxmlformats.org/officeDocument/2006/relationships/slide" Target="slide43.xml"/><Relationship Id="rId44" Type="http://schemas.openxmlformats.org/officeDocument/2006/relationships/slide" Target="slide44.xml"/><Relationship Id="rId45" Type="http://schemas.openxmlformats.org/officeDocument/2006/relationships/slide" Target="slide45.xml"/><Relationship Id="rId46" Type="http://schemas.openxmlformats.org/officeDocument/2006/relationships/slideLayout" Target="../slideLayouts/slideLayout1.xml"/><Relationship Id="rId4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1.xml"/><Relationship Id="rId2" Type="http://schemas.openxmlformats.org/officeDocument/2006/relationships/slide" Target="slide1.xm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457200" y="1600200"/>
          <a:ext cx="8381880" cy="4408560"/>
        </p:xfrm>
        <a:graphic>
          <a:graphicData uri="http://schemas.openxmlformats.org/drawingml/2006/table">
            <a:tbl>
              <a:tblPr/>
              <a:tblGrid>
                <a:gridCol w="1676520"/>
                <a:gridCol w="1466640"/>
                <a:gridCol w="1746360"/>
                <a:gridCol w="1455840"/>
                <a:gridCol w="2036520"/>
              </a:tblGrid>
              <a:tr h="557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1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2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3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40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aily Doub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5" action="ppaction://hlinksldjump"/>
                        </a:rPr>
                        <a:t>Gener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9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6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7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8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9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0" action="ppaction://hlinksldjump"/>
                        </a:rPr>
                        <a:t>Charg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5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1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2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3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4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5" action="ppaction://hlinksldjump"/>
                        </a:rPr>
                        <a:t>More Number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49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6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7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8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19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0" action="ppaction://hlinksldjump"/>
                        </a:rPr>
                        <a:t>Lab and Dem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1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2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3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4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5" action="ppaction://hlinksldjump"/>
                        </a:rPr>
                        <a:t>Calciu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6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7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8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29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0" action="ppaction://hlinksldjump"/>
                        </a:rPr>
                        <a:t>Famili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0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1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2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3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4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5" action="ppaction://hlinksldjump"/>
                        </a:rPr>
                        <a:t>Miscellaneou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6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7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8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39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0" action="ppaction://hlinksldjump"/>
                        </a:rPr>
                        <a:t>Metal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10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1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2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3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4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u="sng">
                          <a:solidFill>
                            <a:srgbClr val="009999"/>
                          </a:solidFill>
                          <a:uFillTx/>
                          <a:latin typeface="Arial"/>
                          <a:hlinkClick r:id="rId45" action="ppaction://hlinksldjump"/>
                        </a:rPr>
                        <a:t>Are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tom gains 1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atom loses 2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tassium has how many shel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lence electrons does Potassium ha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otons and 6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6 protons and 5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ore Numbers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 protons and 5 electrons. Atom or I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id we really change the copper pennies to gold? Explai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at happened during the flame test lab to cause col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hy are Noble gases inert?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tomic no. of Carb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do Alkali Metals react with Halogen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ab and Demo– DAILY DOU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ine sketches. Same element? Why? Are they isotopes? Why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in same family as Calci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that has similar characteristics to Calc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me one element in same period as Calcium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alcium – DAILY DOUBLE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valance electrons does Calcium hav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ies are inert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has 1 valence electro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has 7 valence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includes Li and N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ow many protons are in Oxygen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Families – DAILY DOUBLE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family is highly reactiv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: most will ignite or explode in water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8 electrons in the outer shell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has particles found inside an atom which include proton, neutron, and electron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drawn into thin wire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can be hammered into thin sheet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scellaneous– DAILY DOUBLE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verage mass of all the isotope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contain the most elem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good condu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good insula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semi-conductor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mass number of Carbon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etals– DAILY DOUBLE!!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ich metals are malleable, ductile, and shiny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1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rea where neutrons and protons are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2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n area where electrons are likely to be foun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3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are metals located on Periodic Table? Where are the Non-metals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$400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semi-conductors are found on Periodic Tabl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Areas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ere do you find valence electrons in an atom and on Periodic table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$4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atomic mass of Bo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General – DAILY DOUBLE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the number of Protons and Neutrons in Carbon 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1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Prot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2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Elec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4">
            <a:hlinkClick r:id="rId1" action="ppaction://hlinksldjump"/>
          </p:cNvPr>
          <p:cNvSpPr/>
          <p:nvPr/>
        </p:nvSpPr>
        <p:spPr>
          <a:xfrm>
            <a:off x="6705720" y="60958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More Ques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Periodic Table Jeopardy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harge - $30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2971800"/>
            <a:ext cx="82296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a Neutro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10T16:45:39Z</dcterms:created>
  <dc:creator>Risa Weiss</dc:creator>
  <dc:description/>
  <dc:language>en-US</dc:language>
  <cp:lastModifiedBy>RomaK</cp:lastModifiedBy>
  <dcterms:modified xsi:type="dcterms:W3CDTF">2015-09-02T05:59:48Z</dcterms:modified>
  <cp:revision>26</cp:revision>
  <dc:subject/>
  <dc:title>Periodic Table Jeopardy</dc:title>
</cp:coreProperties>
</file>