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FEC35A-3AAF-4B25-84C4-A4CD387C1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0A2A82-6B0A-456C-B1FC-9C24EEF2F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 knowledge of the basic structure of the atom: protons,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D1FFB9-C28E-4313-A681-7111364E4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6E51BD-65E9-48D2-86F6-824E233A6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BE7B44-966F-4B2C-9A02-E67931EB7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95F205-265D-41CE-BD99-59E78A1CB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304469-A4DA-42C9-87F4-E10A7F948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82F510-0883-460A-8820-E0EA4043E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operties of waves:  frequency,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AA7E5F-A8D8-46A0-ADF8-CE5D3326E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149A10-9A43-4E3B-BC10-41EF8027B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232950-1EC6-41BE-BA20-DC7EFA422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290B2E-687A-4A2F-9ADB-931289448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2E1663-696C-4C61-8C9D-516928A4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D3BA76-3833-4AF7-A087-BD4AB832D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93551A-5381-448B-B457-AA86A2F07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66B-0920-4DE6-9EFF-F9E8C108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2B9-DF4E-4439-BDF0-1BA82B07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9F6-279C-4F69-841C-724824CD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DC4-CFC7-4D61-BECB-60181C14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D3014-40DF-44EE-903C-64628A4EA8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255ED-FADF-43F9-89B8-A2AD1D4475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68B88-006E-4326-8187-42F592E773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DECEF-7798-4BCD-9CF7-BB51275DA5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A8A88-4328-4636-BD70-2478591B51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642A9-3713-4FF4-B71D-D5028D9FC2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C2446-34AC-4332-AB4F-CEF3AF4572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FA3-4419-423F-ABBD-112D5DC3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C6C2E-57A1-472F-9F44-84646AAB8A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179D8-BB6F-43AE-80E3-6F4FD5120E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35B05-5446-449D-80B1-7911E9BFA7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4C23A-CCF7-4407-B4D7-7F41BA4073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5BB4F-D446-4E17-8542-E45FE0373DF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BD5A53-6261-4E6E-8D28-5BF669F7BF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3D10BB-2B28-439F-B996-0C4F5D100F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89AA2D-EDED-476C-B6C5-4E38D0D841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F83CCA-8568-43C0-A51D-374784866B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52CDD5-4662-48C2-BFFB-8E183AC019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8BE-9880-4636-A60E-4888E6BC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90AB6D-AEBC-4214-9DEF-F12503BD71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FB0D4C-DEEE-4AA6-990A-A928F7D080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611D71-822D-42FC-B93C-A46D940B27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B818FA-A954-4F9F-8755-55CFAA8DBA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E785EE-B13E-440D-8B96-0F8633B9F6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91D99-3C9C-41C0-8AF9-502F4A86A9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807E36-28D8-411A-9DA9-005D0A788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080-F26F-41B0-9F1D-FA220939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971-B3CC-4019-A005-0D07BE30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D20-EC32-40F1-B369-6F8EA1A2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E689-4D1A-4D1B-B92E-B0B7CCB0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5F21-58E2-423C-AEF7-AF2654C2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3A0-703E-4DEC-A7FF-16317C72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2FCE-EFE2-4D15-A3E4-5ACAF9A18127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DDE2-C014-425C-8342-69D50356821A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3E4E-65D4-4A04-93CA-A7828B66B24E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7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6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Uses of the 21-c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lky Way has over 3 billion solar masses of hydrogen 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ough hydrogen atoms so that the 21-cm line is easily detected by radio telesc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, it is the best way to map the structure of the galax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9"/>
          <p:cNvSpPr/>
          <p:nvPr/>
        </p:nvSpPr>
        <p:spPr>
          <a:xfrm>
            <a:off x="2057400" y="624852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7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10"/>
          <p:cNvSpPr/>
          <p:nvPr/>
        </p:nvSpPr>
        <p:spPr>
          <a:xfrm>
            <a:off x="1828800" y="637524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Asus</cp:lastModifiedBy>
  <dcterms:modified xsi:type="dcterms:W3CDTF">2018-03-13T05:28:54Z</dcterms:modified>
  <cp:revision>32</cp:revision>
  <dc:subject/>
  <dc:title>Hydrogen in the Milky Way</dc:title>
</cp:coreProperties>
</file>