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A62A8E-FAC5-47AE-B95D-DE0BBA334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817CF9-50B4-47CA-BC76-55D4B5607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 knowledge of the basic structure of the atom: protons,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37B0FC-0B06-4532-A001-867D6D37D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1D2E4D-B655-4531-9B31-E3D93EFD9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D06D09-9214-4612-8913-2E5A235CC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7B34D6-76EB-4E60-A7F3-29F75F783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F6A646-0AFE-470F-8D01-C41A2F86F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59A3A0-F444-477A-8EAA-5B935A08D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operties of waves:  frequency,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768720-0BD6-47DA-BA15-68C062F1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176784-970F-4EF7-805B-00922A23A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626992-FBC0-4811-971F-B8D5864B9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1FACDA-EB98-4717-9CD9-97DC56CEE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FEB06B-CDD7-4397-A378-48F51452A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50A4F5-B9A9-4FF0-9023-00736BC43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01DDA4-DBB8-4FF3-9B39-6A240A170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3B9-6371-400A-8B71-096E5AB5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951-C1C5-4B2B-B75E-4675818D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71A-649D-4FB5-A3E9-97B89F44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456-41ED-4272-A272-D7701F12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EB8B3-8DC2-42D2-8031-2CA36F8475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5BCF6-5987-453E-A861-852B5B1350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477CD-BEBB-4087-B210-DEAA961C5A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B7788-D6C5-4026-AF41-78CA72E198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546E7-F190-4357-B206-D981431E17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4267C-C7DC-47DF-9966-77AA390C9D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47C10-8200-4516-994C-0F667187CE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F86-5F5C-4AE5-AC2F-9AB65CFF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A7644-F2BD-4545-9DD0-3A6118443D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5FCEC-ED73-498B-8251-DC5EA7DBA4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C5EFA-B3A8-4C2C-9593-B1E6CB4998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E7891-1424-4D55-8F2B-93E73459F3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9F472-9B63-483A-9A22-7452EBAC8B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29CAB-7CB9-4151-8D3F-535C9D3086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5F449D-BF06-471F-9792-41366AA41D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65338A-091B-4741-A68B-B1B26F40F1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0B6C9-C531-4D06-8E69-2D6652DD59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14D82-4AB5-46D6-881B-4C09962578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B41-F5FF-4ACF-BA03-81D0239E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22074A-E854-418E-976B-E47B64742A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2B38FF-42BF-45BE-8661-F667864300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03001-0938-447C-BBA6-AFB1E5A9BA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5F054-5B0C-45CF-B603-32D143D6F4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E02773-197D-4C80-A5AC-6F63CBE13D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D35CE-864D-4DD6-83E5-E3167049A0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6941A-0EF1-413E-8240-7B3D9DABA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9B1-149C-424B-8190-D7AE971A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974-7034-4CDF-9DE6-8286A915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B89-3B10-4E31-B4D1-96880E21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40D-EA33-4940-A3B9-D8BA0A3B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747-0BF3-498D-84D4-CAA73200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555-6C4D-492E-807B-D6E70522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A50C-560E-4079-848B-A911BFA78CC6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7956-985F-454E-95BB-73B6C6F315AE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B767-B90A-4A19-8AD9-A54818400DFF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7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6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Uses of the 21-c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lky Way has over 3 billion solar masses of hydrogen 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ough hydrogen atoms so that the 21-cm line is easily detected by radio telesc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, it is the best way to map the structure of the galax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9"/>
          <p:cNvSpPr/>
          <p:nvPr/>
        </p:nvSpPr>
        <p:spPr>
          <a:xfrm>
            <a:off x="2057400" y="624852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7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10"/>
          <p:cNvSpPr/>
          <p:nvPr/>
        </p:nvSpPr>
        <p:spPr>
          <a:xfrm>
            <a:off x="1828800" y="637524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Asus</cp:lastModifiedBy>
  <dcterms:modified xsi:type="dcterms:W3CDTF">2018-03-13T05:28:54Z</dcterms:modified>
  <cp:revision>32</cp:revision>
  <dc:subject/>
  <dc:title>Hydrogen in the Milky Way</dc:title>
</cp:coreProperties>
</file>