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4368E2-5517-4F5A-807C-9BC96A239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47A41F-25EE-427E-BC2C-428EE6EE2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 knowledge of the basic structure of the atom: protons,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1DDEAB-7200-4D53-9DBE-D7E1D0D85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BC5665-34AA-4985-B49B-34E2A2E86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0E8AD4-5D70-4DE7-A47E-170C99B29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C80FE6-1CA4-465C-9599-B39350FFA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C5C925-562A-41FA-8C78-9537E617D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8ABF67-73DC-4FA0-8F9C-341C79E1D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operties of waves:  frequency,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AACEB1-A841-4ABD-9E53-45A0108C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6925EC-8003-4580-A066-B6D7F7B28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0CFDFE-285C-452B-8A5E-56EF9851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CDC529-7866-4481-AECE-B1A61B9E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E862B3-1777-4040-A778-F3A41B436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4C8CDD-3230-405E-ABD4-C93EF82FD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BCE96D-6069-43B6-89A1-32E05BB1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862-DE18-44AF-88A7-30B53610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A8D-83D3-48BC-ADF1-6DABDFC4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496-95BA-4B7B-B32B-ADE8CDBC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21D-2E00-4B64-8216-A7A655CB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5DEDC-4818-4966-A31C-7725CB3697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00D89-CBB5-4395-98DC-92A5E704C7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09FFC-8591-4F97-B942-CE646295A2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6B34F-7AC9-4E37-ADAB-AA4D905036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45396-B095-4472-89A0-F68F0150B3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78603-B61E-4EDD-8ADD-6B1DA0354C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172BC-185F-43FF-AB19-8189C6B828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D17-1EB8-4819-9E01-084711F8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5F7A4-BAD6-4676-B196-0D6129596E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72BA7-AACB-4D04-AE65-30A24B6592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9063F-0594-4D51-977D-555B80516E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CE7A2-F4B2-4F56-934A-1A701B8845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AE44A-71EB-4EC0-9FD5-B9330929EC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7AE72-E04B-4025-B70C-10DB51B3A9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D4C69-BCF8-420C-9672-3D9CEDD9E3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AA851-E2BC-4528-A24A-7A37950919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E2562-19DC-4D0A-9A1D-93A1C636BD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01DE9-11BD-41D5-8BB0-2969D7C556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386-ACAD-43C3-AD5B-A62B8978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60FD9-07FB-472D-B655-21E5611E31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436FFB-F80E-4522-8293-A6BB09DC8B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2E9B0-3110-4D5F-B9D3-00DD67D986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D5D38-9C3C-4299-B928-B829AE994F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961BB-9BA8-497E-A7BE-1C97A0D631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977A62-0A48-4E93-9707-B87406DB93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87050C-5539-474C-8BCD-00C7684BB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4F5-AC01-43D7-B32C-A6E71B85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979-3E7D-448F-8D23-D596CA49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0C4-03E7-4660-B1E3-F27E5A78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502-BB16-4E06-9AA7-50220927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8BA-6110-4970-941D-8B706D4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8C8-D5AD-439C-9AAA-E128414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904A-6C3B-40F9-AB01-C58CB5FA08FA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0399-8B06-49CB-996B-3763BE82B5A7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FF0C-1ED4-47EE-8D47-1C4E633EC45C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7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Uses of the 21-c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lky Way has over 3 billion solar masses of hydrogen 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ough hydrogen atoms so that the 21-cm line is easily detected by radio telesc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, it is the best way to map the structure of the galax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9"/>
          <p:cNvSpPr/>
          <p:nvPr/>
        </p:nvSpPr>
        <p:spPr>
          <a:xfrm>
            <a:off x="2057400" y="624852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10"/>
          <p:cNvSpPr/>
          <p:nvPr/>
        </p:nvSpPr>
        <p:spPr>
          <a:xfrm>
            <a:off x="1828800" y="637524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Asus</cp:lastModifiedBy>
  <dcterms:modified xsi:type="dcterms:W3CDTF">2018-03-13T05:28:54Z</dcterms:modified>
  <cp:revision>32</cp:revision>
  <dc:subject/>
  <dc:title>Hydrogen in the Milky Way</dc:title>
</cp:coreProperties>
</file>