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3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1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50.jpeg" ContentType="image/jpeg"/>
  <Override PartName="/ppt/media/image59.png" ContentType="image/png"/>
  <Override PartName="/ppt/media/image24.jpeg" ContentType="image/jpeg"/>
  <Override PartName="/ppt/media/image22.png" ContentType="image/png"/>
  <Override PartName="/ppt/media/image51.jpeg" ContentType="image/jpeg"/>
  <Override PartName="/ppt/media/image60.png" ContentType="image/png"/>
  <Override PartName="/ppt/media/image63.jpeg" ContentType="image/jpeg"/>
  <Override PartName="/ppt/media/image2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0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6DD0-96AF-4B55-8256-763068AC6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001-2323-4A09-BDD9-0C01DBD2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A7B-FE06-48C9-B2EB-3F0C7ACC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1F503-BA78-4D8A-8D7A-D1DA6E69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7048C-206B-40B7-9A16-A9E94E72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99D7D-D3DE-4BCC-B375-A35E0606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D77D4-C5EF-4959-8DBE-AAD3E511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96C60-980F-4AB0-B230-BFFED1FA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7B3C7-39B9-4CBF-8B81-B0E9D3C9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3399C-8F7F-464B-8EA9-C171151D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1CB86-7176-45D6-B952-8248C3F3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6F535-87E3-4792-A966-DA6E7357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DBCA8-AFA4-4CED-A25F-850AF689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2AF-3790-4010-8367-F373D4A4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06CB4-5B64-402E-98BB-155870B4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EED12-0B2B-4464-906D-DBA33A80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A4BA9-1565-4CC5-BFD3-552334A0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C58E6-EC0C-4B9A-83FB-7D17502B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9F7E8-1DA5-4598-84CC-0FB218EC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97A2E-BCDB-4D97-96D2-5FA8E155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A9531-7E0C-4BA1-9D55-8BB97A82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0D86A-0F63-4F49-B58C-EDD27693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9FE81-F667-4647-BED5-8BC6880F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2095F-0C49-4E73-AE59-115FAFD4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68F-B0C2-4DBD-B83D-263383C3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9FB7A-2BE0-49D8-8D93-4330CB54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B6CF9-943D-4044-B8F4-19A62905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5983A-2EFB-44C0-A08F-C27AAEC7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2C435-DBFF-46C4-9A19-8CA1E67C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66C0F-FD24-461D-8694-92720BF5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6F2E2-E8FE-40BD-9E61-FEF754C6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D1F32-0FAD-4842-9B2E-71A3EB15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396D7-919B-4CBB-83DA-C250060B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8F338-77DD-4E5E-AEAC-20ACE05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D58D9-0E83-47FC-A560-7CC1CC8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7CB9-1A65-4BF0-88CD-D7516222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536AB-BEDD-4FC6-9D99-7FF186C7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A2D07-BED8-4839-B1CD-9B963F6C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F536B-97A6-41E5-8BFD-AA64869B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77F62-718D-4692-872E-BEBD62F0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5F4CF-06E4-4242-92B8-AF7E4986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B10C1-2EB7-469E-8271-DAE03EFB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22809-2015-45F3-9D59-94030C88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AF660-0E20-4C0E-BE28-BA51C245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1544E-91EE-42A2-8E78-DA100BD3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E2089-BE8D-40A7-B566-9345F641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92CB-6EC6-436F-A9CD-8D70D080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8CB26-7678-4444-B0C2-6DC40E5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6E15A-4864-44EF-8E71-FA249A7B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887F8-2F2D-4722-818A-2824F961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7FDE5-4B31-470D-A92A-D14D7B60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B6763-4E99-4DFB-9902-1E2F99F0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64C4-6B86-4ADC-8F87-D3F23E58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DF36-4E0A-4D54-B6F0-39E1C6EA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5C5D-1273-4CC8-8971-4513D592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A288-CDC8-48CC-9603-DBD41BAE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1A8E-4038-431C-BCF4-D7F5308E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207-F169-41E8-B09C-C182F0D0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B160-951C-4EDF-A840-34A3506A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8BAF-8DEE-4CDB-98B1-5CADF03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A994-971B-49B8-8EF1-1B5E18C7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520B-C332-4F4D-AA7C-14D2AAA0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E0A0-5067-4713-8567-59910AA1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B4FC-E89D-4933-994B-A3DDF596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29A5-B1E5-4320-A474-BFE824A0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7A33-0921-4D33-AAB9-148201C0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D1B6-6D8E-4077-9D21-EFEAC34B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087A-5491-411F-B2EC-7CBEFC29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C20-6E57-4F97-954D-7DB83E81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CEB8-58B9-4A59-AE56-FF692594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ECEAE-3F20-43E1-8B1B-65C18528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B3F1-08A7-4EB6-8383-D729779F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5E68-347E-4753-A7E6-C9397E76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9B6B-7E2D-4673-94D1-32430096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B531B-577F-40A0-AF23-BF624766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C2245-0679-49A8-BCBD-6EAF7E5D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59E8-C0BC-4714-825D-12E7FEC7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5BDCF-1D6D-46CE-ADE0-B2BD8677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1A63-460F-45F0-9685-01F474D0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51E-3EA4-4016-A9D4-8120D448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4250-4F21-4EB4-804A-990AC1C3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129AB-A6F4-4170-B1BA-3112E4B0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6286-006F-46FB-B38A-431D1410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04615-F0AF-4A92-9EF0-0A025EB7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52712-503D-43BD-B518-47C8E970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F75E8-54D2-44D2-9D52-05D7A611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3F1E2-735E-4B10-8FE1-E75C0E79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59A48-0D16-48BA-AF28-D2F288AE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BB07-2BE7-4014-93CD-22940AD5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2C433-3F83-406B-9710-5C7BC92B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484-5A7A-479D-B0DB-778643B0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B8C9F-8A81-4AC2-87A8-CA60F920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AC6EF-EECE-4CA3-8836-144B9AB8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30493-0B51-4070-973D-65605583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F51F8-55DD-48E9-825C-FF1F956E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849FC-7767-4B3C-A51D-8914B5F9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827E-552E-49AC-8C21-9232F4EC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25A73-49CB-460A-96A4-3C182BE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F1DC1-7B6A-4E47-B5FF-0026574F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F87D-E023-4DA1-A647-5355E363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1EF2C-A505-44BE-B35E-59AC8F33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25D-AD47-4F69-BCEB-86CF250D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4EB6-0F09-4B48-9ED0-5537CCE0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C4F44-143F-4AAF-BB8D-544A5664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A3C88-CFF9-47C2-819F-52E93C71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40906-2AF5-4892-B608-6E84ED0D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FCFCB-EC0D-442A-AB47-62304C96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4FEA8-435F-402D-B791-E2CBF13D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A1025-19EB-4A5E-AB30-CEB4D0C7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FE05F-4BC4-43DF-B92F-0F993B24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07EAA-9488-4FB3-92D4-F8C939B6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02007-EB6D-4FBA-8531-2E67B9F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B28-C2FD-4DF1-B89F-59FF60C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ACB5C-FA45-4209-83CF-513907D2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88743-F6E0-4765-8372-7CDA37A3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FA7B6-2C62-4F91-B69A-08301A41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9C247-4390-4946-B1CD-339297DE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EE0ED-4C74-49FE-BC3B-E782F42F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7123D-4103-4CDC-8A2F-F24AAE9F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69EDF-9C61-4002-8E6C-65443EBF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24177-C2AF-4CFC-B5BC-C2EDCCB9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5430A-CBBE-40CE-8736-A3C0C65B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7A5CF-8D7E-499F-9A88-78DF864F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3F9-946F-414B-A9CB-CCF97023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312DB-761A-4DD5-B153-4315D954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B3BE3-5440-41B6-9848-70D2D872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63764-85C7-4CF3-8539-2F2EDDC1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CDBEF-B31B-4303-867B-C6197622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F37CE-3B32-4A5E-9538-4A7790B4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3D95A-B0A5-49A1-947F-670C94FD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31CB6-C04C-4A87-BF9B-56A95621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AF163-93AC-4E86-8B2E-A997B518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584BB-3139-4890-8A80-6EA37932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DE0BC-6A58-48CC-A145-1A6F0367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472-1EAC-4FE6-83E6-715BB540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B2A7C-3A63-4334-9689-5678A8E6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2AE30-1E4D-4231-A634-06855ECF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6CF81-FB73-4A13-990E-E5CDA0D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0DCA5-49C2-40D3-9F15-8C291035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ECFA0-C721-41D5-A151-DC04C223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3B9C6-DAF4-4255-B9CD-EEC3B66B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1C36D-C608-4DED-A357-11709F44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B5479-D00E-4C20-8F1A-A09EFB29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043F2-DE30-426F-B95C-7365109A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1DB7D-0C44-43AD-AE41-35A2E1C5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7E9F-8447-46D9-9CE6-BBD6AC876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7ABF-344A-493C-9CD0-BB84E178C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5BFD-08CB-4EE9-B7E6-97AB51AD2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B422-41B9-4619-B86D-1E32B9256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2438-96D3-4C37-B40B-8F3B0D33F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6DC6-EBA2-44AB-81A0-997848571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1B75-2A7B-46B9-A77B-8EF8FA959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5D4B-BAF9-4C2A-AEA0-814858E1C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3849-EDAB-4745-A33A-ED8122467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AE90-BE36-4A47-8390-71E4A95C6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8155-9607-4C49-A521-BEFEBAED4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F1D9-A156-4A83-BCBA-BB32756A23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32.jpeg"/><Relationship Id="rId5" Type="http://schemas.openxmlformats.org/officeDocument/2006/relationships/image" Target="../media/image52.jpeg"/><Relationship Id="rId6" Type="http://schemas.openxmlformats.org/officeDocument/2006/relationships/image" Target="../media/image58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How Telescopes Changed our Understanding of the Univer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7432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4876920" y="58672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5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ackground of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Distance to the stars reveal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459240" cy="1911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8"/>
          <p:cNvSpPr/>
          <p:nvPr/>
        </p:nvSpPr>
        <p:spPr>
          <a:xfrm>
            <a:off x="5486400" y="5638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riedrich Wilhelm B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143000" y="3429000"/>
            <a:ext cx="2895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Königsberg Observ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18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3"/>
          <p:cNvGrpSpPr/>
          <p:nvPr/>
        </p:nvGrpSpPr>
        <p:grpSpPr>
          <a:xfrm>
            <a:off x="228600" y="4495680"/>
            <a:ext cx="4673520" cy="1678320"/>
            <a:chOff x="228600" y="4495680"/>
            <a:chExt cx="4673520" cy="1678320"/>
          </a:xfrm>
        </p:grpSpPr>
        <p:pic>
          <p:nvPicPr>
            <p:cNvPr id="584" name="Picture 12" descr=""/>
            <p:cNvPicPr/>
            <p:nvPr/>
          </p:nvPicPr>
          <p:blipFill>
            <a:blip r:embed="rId3"/>
            <a:stretch/>
          </p:blipFill>
          <p:spPr>
            <a:xfrm>
              <a:off x="228600" y="4495680"/>
              <a:ext cx="4673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13"/>
            <p:cNvSpPr/>
            <p:nvPr/>
          </p:nvSpPr>
          <p:spPr>
            <a:xfrm>
              <a:off x="685800" y="5049720"/>
              <a:ext cx="373392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4"/>
            <p:cNvSpPr/>
            <p:nvPr/>
          </p:nvSpPr>
          <p:spPr>
            <a:xfrm flipV="1">
              <a:off x="762120" y="5049360"/>
              <a:ext cx="373356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5"/>
            <p:cNvSpPr/>
            <p:nvPr/>
          </p:nvSpPr>
          <p:spPr>
            <a:xfrm>
              <a:off x="2133720" y="5524560"/>
              <a:ext cx="838080" cy="3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9"/>
            <p:cNvSpPr/>
            <p:nvPr/>
          </p:nvSpPr>
          <p:spPr>
            <a:xfrm>
              <a:off x="380880" y="4724280"/>
              <a:ext cx="685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N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20"/>
            <p:cNvSpPr/>
            <p:nvPr/>
          </p:nvSpPr>
          <p:spPr>
            <a:xfrm>
              <a:off x="304920" y="5715000"/>
              <a:ext cx="12189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6 Months L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AutoShape 18"/>
            <p:cNvSpPr/>
            <p:nvPr/>
          </p:nvSpPr>
          <p:spPr>
            <a:xfrm>
              <a:off x="2438280" y="5181480"/>
              <a:ext cx="2286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44" y="6181"/>
                  </a:lnTo>
                  <a:lnTo>
                    <a:pt x="8056" y="10000"/>
                  </a:lnTo>
                  <a:lnTo>
                    <a:pt x="5000" y="7639"/>
                  </a:lnTo>
                  <a:lnTo>
                    <a:pt x="1944" y="10000"/>
                  </a:lnTo>
                  <a:lnTo>
                    <a:pt x="3056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3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stars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371600" y="1600200"/>
            <a:ext cx="1523880" cy="167652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495680" cy="309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9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1666800" cy="1981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99" name="Picture 6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392120" cy="1938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00" name="Text Box 7"/>
          <p:cNvSpPr/>
          <p:nvPr/>
        </p:nvSpPr>
        <p:spPr>
          <a:xfrm>
            <a:off x="457200" y="3200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09480" y="55627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tudying the Rainb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Group 12"/>
          <p:cNvGrpSpPr/>
          <p:nvPr/>
        </p:nvGrpSpPr>
        <p:grpSpPr>
          <a:xfrm>
            <a:off x="2133720" y="4800600"/>
            <a:ext cx="5638680" cy="1145520"/>
            <a:chOff x="2133720" y="4800600"/>
            <a:chExt cx="5638680" cy="1145520"/>
          </a:xfrm>
        </p:grpSpPr>
        <p:pic>
          <p:nvPicPr>
            <p:cNvPr id="604" name="Picture 9" descr="refspecABSORP"/>
            <p:cNvPicPr/>
            <p:nvPr/>
          </p:nvPicPr>
          <p:blipFill>
            <a:blip r:embed="rId4"/>
            <a:srcRect l="14715" t="2671" r="613" b="85469"/>
            <a:stretch/>
          </p:blipFill>
          <p:spPr>
            <a:xfrm>
              <a:off x="2133720" y="4800600"/>
              <a:ext cx="563364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10"/>
            <p:cNvSpPr/>
            <p:nvPr/>
          </p:nvSpPr>
          <p:spPr>
            <a:xfrm>
              <a:off x="2133720" y="5486400"/>
              <a:ext cx="563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rebuchet MS"/>
                </a:rPr>
                <a:t>Simulated Spectrum of the 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3"/>
          <p:cNvSpPr/>
          <p:nvPr/>
        </p:nvSpPr>
        <p:spPr>
          <a:xfrm>
            <a:off x="6553080" y="358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15" descr=""/>
          <p:cNvPicPr/>
          <p:nvPr/>
        </p:nvPicPr>
        <p:blipFill>
          <a:blip r:embed="rId5"/>
          <a:stretch/>
        </p:blipFill>
        <p:spPr>
          <a:xfrm>
            <a:off x="2590920" y="1143000"/>
            <a:ext cx="3733560" cy="246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608" name="Group 20"/>
          <p:cNvGrpSpPr/>
          <p:nvPr/>
        </p:nvGrpSpPr>
        <p:grpSpPr>
          <a:xfrm>
            <a:off x="2209320" y="2057400"/>
            <a:ext cx="5486760" cy="2666880"/>
            <a:chOff x="2209320" y="2057400"/>
            <a:chExt cx="5486760" cy="2666880"/>
          </a:xfrm>
        </p:grpSpPr>
        <p:sp>
          <p:nvSpPr>
            <p:cNvPr id="609" name="Rectangle 17"/>
            <p:cNvSpPr/>
            <p:nvPr/>
          </p:nvSpPr>
          <p:spPr>
            <a:xfrm>
              <a:off x="4343400" y="2057400"/>
              <a:ext cx="533520" cy="152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8"/>
            <p:cNvSpPr/>
            <p:nvPr/>
          </p:nvSpPr>
          <p:spPr>
            <a:xfrm flipH="1">
              <a:off x="2209320" y="2209680"/>
              <a:ext cx="213372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9"/>
            <p:cNvSpPr/>
            <p:nvPr/>
          </p:nvSpPr>
          <p:spPr>
            <a:xfrm>
              <a:off x="4876920" y="2209680"/>
              <a:ext cx="281916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21"/>
          <p:cNvSpPr/>
          <p:nvPr/>
        </p:nvSpPr>
        <p:spPr>
          <a:xfrm>
            <a:off x="3733920" y="5943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is the Sun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3" descr="refspecABSORP"/>
          <p:cNvPicPr/>
          <p:nvPr/>
        </p:nvPicPr>
        <p:blipFill>
          <a:blip r:embed="rId1"/>
          <a:srcRect l="0" t="0" r="0" b="4006"/>
          <a:stretch/>
        </p:blipFill>
        <p:spPr>
          <a:xfrm>
            <a:off x="1295280" y="985680"/>
            <a:ext cx="6654960" cy="5872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178840" y="457200"/>
            <a:ext cx="965160" cy="123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3"/>
          <a:stretch/>
        </p:blipFill>
        <p:spPr>
          <a:xfrm>
            <a:off x="0" y="380880"/>
            <a:ext cx="961920" cy="12193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rchh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807732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n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1295280" y="1447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228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0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1"/>
          <p:cNvSpPr/>
          <p:nvPr/>
        </p:nvSpPr>
        <p:spPr>
          <a:xfrm flipV="1">
            <a:off x="62485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2"/>
          <p:cNvSpPr/>
          <p:nvPr/>
        </p:nvSpPr>
        <p:spPr>
          <a:xfrm flipV="1">
            <a:off x="71629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onfirmed: The Sun is a St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8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9"/>
          <p:cNvSpPr/>
          <p:nvPr/>
        </p:nvSpPr>
        <p:spPr>
          <a:xfrm>
            <a:off x="3809880" y="2438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990720" y="49528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stars are other Su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267080" y="6019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09880" cy="262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33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2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5816520" cy="1823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4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ere is the Sun in our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685800" y="1752480"/>
            <a:ext cx="1447920" cy="1676520"/>
          </a:xfrm>
          <a:prstGeom prst="wedgeRoundRectCallout">
            <a:avLst>
              <a:gd name="adj1" fmla="val 33444"/>
              <a:gd name="adj2" fmla="val 10284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486400" y="1752480"/>
            <a:ext cx="60948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5791320" y="274320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2819520" y="4876920"/>
            <a:ext cx="60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hapley observes dense star clusters . .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1387440" y="1432080"/>
            <a:ext cx="995400" cy="1226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2971800" y="1432080"/>
            <a:ext cx="2016000" cy="3733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438280" cy="16207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7"/>
          <p:cNvSpPr/>
          <p:nvPr/>
        </p:nvSpPr>
        <p:spPr>
          <a:xfrm>
            <a:off x="5562720" y="3733920"/>
            <a:ext cx="24382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lobular Cluster M13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2438280" y="5257800"/>
            <a:ext cx="29718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ount Wilson 60-inch Reflector Telescope (completed in 19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371600" y="2666880"/>
            <a:ext cx="10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arlow Shap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11" descr=""/>
          <p:cNvPicPr/>
          <p:nvPr/>
        </p:nvPicPr>
        <p:blipFill>
          <a:blip r:embed="rId4"/>
          <a:stretch/>
        </p:blipFill>
        <p:spPr>
          <a:xfrm>
            <a:off x="1066680" y="3657600"/>
            <a:ext cx="1386000" cy="13446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2"/>
          <p:cNvSpPr/>
          <p:nvPr/>
        </p:nvSpPr>
        <p:spPr>
          <a:xfrm>
            <a:off x="10666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enrietta Leav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914400" y="480060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f the Sun and planets were at the center, globular clusters would be evenly distributed around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hat did Shapley dis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11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2389320"/>
          </a:xfrm>
          <a:prstGeom prst="rect">
            <a:avLst/>
          </a:prstGeom>
          <a:ln w="0">
            <a:noFill/>
          </a:ln>
        </p:spPr>
      </p:pic>
      <p:sp>
        <p:nvSpPr>
          <p:cNvPr id="6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 establish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838080" y="4757760"/>
            <a:ext cx="74678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Globular clusters are distributed to one side of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he Solar System is nearer the edge of the Gala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1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45320" cy="239724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efore Telesco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847800" y="4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430360" cy="3771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300400" cy="2008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2546280" cy="32767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1297080" y="58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38088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e only had our ey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and a variety of measuring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3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5: One Galaxy or Man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5257800" y="304920"/>
            <a:ext cx="3124080" cy="2562480"/>
            <a:chOff x="5257800" y="304920"/>
            <a:chExt cx="3124080" cy="2562480"/>
          </a:xfrm>
        </p:grpSpPr>
        <p:pic>
          <p:nvPicPr>
            <p:cNvPr id="665" name="Picture 6" descr=""/>
            <p:cNvPicPr/>
            <p:nvPr/>
          </p:nvPicPr>
          <p:blipFill>
            <a:blip r:embed="rId2"/>
            <a:stretch/>
          </p:blipFill>
          <p:spPr>
            <a:xfrm>
              <a:off x="5479920" y="304920"/>
              <a:ext cx="263700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 Box 7"/>
            <p:cNvSpPr/>
            <p:nvPr/>
          </p:nvSpPr>
          <p:spPr>
            <a:xfrm>
              <a:off x="5257800" y="2590920"/>
              <a:ext cx="31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31 - Andromeda  courtesy of G. Spielgel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8"/>
          <p:cNvGrpSpPr/>
          <p:nvPr/>
        </p:nvGrpSpPr>
        <p:grpSpPr>
          <a:xfrm>
            <a:off x="5029200" y="3733920"/>
            <a:ext cx="2514600" cy="2181240"/>
            <a:chOff x="5029200" y="3733920"/>
            <a:chExt cx="2514600" cy="2181240"/>
          </a:xfrm>
        </p:grpSpPr>
        <p:sp>
          <p:nvSpPr>
            <p:cNvPr id="668" name="Text Box 12"/>
            <p:cNvSpPr/>
            <p:nvPr/>
          </p:nvSpPr>
          <p:spPr>
            <a:xfrm>
              <a:off x="5029200" y="5638680"/>
              <a:ext cx="243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NGC 1232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9" name="Picture 17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105520" y="3733920"/>
              <a:ext cx="2438280" cy="190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20"/>
          <p:cNvGrpSpPr/>
          <p:nvPr/>
        </p:nvGrpSpPr>
        <p:grpSpPr>
          <a:xfrm>
            <a:off x="1143000" y="457200"/>
            <a:ext cx="2514240" cy="2264040"/>
            <a:chOff x="1143000" y="457200"/>
            <a:chExt cx="2514240" cy="2264040"/>
          </a:xfrm>
        </p:grpSpPr>
        <p:sp>
          <p:nvSpPr>
            <p:cNvPr id="671" name="Text Box 11"/>
            <p:cNvSpPr/>
            <p:nvPr/>
          </p:nvSpPr>
          <p:spPr>
            <a:xfrm>
              <a:off x="1299960" y="2444760"/>
              <a:ext cx="20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51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Picture 1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1143000" y="457200"/>
              <a:ext cx="2514240" cy="204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AutoShape 22"/>
          <p:cNvSpPr/>
          <p:nvPr/>
        </p:nvSpPr>
        <p:spPr>
          <a:xfrm>
            <a:off x="228600" y="3657600"/>
            <a:ext cx="1447920" cy="1676520"/>
          </a:xfrm>
          <a:prstGeom prst="wedgeRoundRectCallout">
            <a:avLst>
              <a:gd name="adj1" fmla="val 101754"/>
              <a:gd name="adj2" fmla="val 5587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Distance to “nebulae” determin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2133720" y="6095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Edwin Hub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066680" y="320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t Wilson 100-i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6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038480" cy="33544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0" name="Picture 2183569" descr="S21Picture 2183569"/>
          <p:cNvPicPr/>
          <p:nvPr/>
        </p:nvPicPr>
        <p:blipFill>
          <a:blip r:embed="rId2"/>
          <a:stretch/>
        </p:blipFill>
        <p:spPr>
          <a:xfrm>
            <a:off x="2057400" y="3733920"/>
            <a:ext cx="1739880" cy="22860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1" name="Picture 6571662" descr="S21Picture 6571662"/>
          <p:cNvPicPr/>
          <p:nvPr/>
        </p:nvPicPr>
        <p:blipFill>
          <a:blip r:embed="rId3"/>
          <a:stretch/>
        </p:blipFill>
        <p:spPr>
          <a:xfrm>
            <a:off x="1295280" y="1066680"/>
            <a:ext cx="2514600" cy="21592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82" name="Text Box 9"/>
          <p:cNvSpPr/>
          <p:nvPr/>
        </p:nvSpPr>
        <p:spPr>
          <a:xfrm>
            <a:off x="4495680" y="462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One of Hubble’s photographs of the Andromeda “Nebula” with Cepheid variable mar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0"/>
          <p:cNvSpPr/>
          <p:nvPr/>
        </p:nvSpPr>
        <p:spPr>
          <a:xfrm flipV="1">
            <a:off x="6400800" y="3097080"/>
            <a:ext cx="0" cy="1524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54864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Revealing a universe full of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2143080" y="6248520"/>
            <a:ext cx="49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700520" cy="4826160"/>
          </a:xfrm>
          <a:prstGeom prst="rect">
            <a:avLst/>
          </a:prstGeom>
          <a:ln w="0">
            <a:noFill/>
          </a:ln>
        </p:spPr>
      </p:pic>
      <p:sp>
        <p:nvSpPr>
          <p:cNvPr id="68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6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id the universe have a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1" name="Picture 7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8"/>
          <p:cNvSpPr/>
          <p:nvPr/>
        </p:nvSpPr>
        <p:spPr>
          <a:xfrm>
            <a:off x="1143000" y="1295280"/>
            <a:ext cx="1447920" cy="1676520"/>
          </a:xfrm>
          <a:prstGeom prst="wedgeRoundRectCallout">
            <a:avLst>
              <a:gd name="adj1" fmla="val 21050"/>
              <a:gd name="adj2" fmla="val 14015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657600" y="56386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dwin Hubble’s data showed that the more distant galaxies are moving away faster than the closer galax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14"/>
          <p:cNvGrpSpPr/>
          <p:nvPr/>
        </p:nvGrpSpPr>
        <p:grpSpPr>
          <a:xfrm>
            <a:off x="3048120" y="1219320"/>
            <a:ext cx="5715000" cy="4248000"/>
            <a:chOff x="3048120" y="1219320"/>
            <a:chExt cx="5715000" cy="4248000"/>
          </a:xfrm>
        </p:grpSpPr>
        <p:pic>
          <p:nvPicPr>
            <p:cNvPr id="695" name="Picture 12" descr=""/>
            <p:cNvPicPr/>
            <p:nvPr/>
          </p:nvPicPr>
          <p:blipFill>
            <a:blip r:embed="rId2"/>
            <a:srcRect l="0" t="0" r="13819" b="0"/>
            <a:stretch/>
          </p:blipFill>
          <p:spPr>
            <a:xfrm>
              <a:off x="3048120" y="1219320"/>
              <a:ext cx="556236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 Box 13"/>
            <p:cNvSpPr/>
            <p:nvPr/>
          </p:nvSpPr>
          <p:spPr>
            <a:xfrm>
              <a:off x="7086600" y="51814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rebuchet MS"/>
                </a:rPr>
                <a:t>Image Credit: STS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Evidence of Big Bang detec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60199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11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276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4"/>
          <p:cNvGrpSpPr/>
          <p:nvPr/>
        </p:nvGrpSpPr>
        <p:grpSpPr>
          <a:xfrm>
            <a:off x="609480" y="1371600"/>
            <a:ext cx="5334120" cy="4818240"/>
            <a:chOff x="609480" y="1371600"/>
            <a:chExt cx="5334120" cy="4818240"/>
          </a:xfrm>
        </p:grpSpPr>
        <p:pic>
          <p:nvPicPr>
            <p:cNvPr id="702" name="Picture 12" descr=""/>
            <p:cNvPicPr/>
            <p:nvPr/>
          </p:nvPicPr>
          <p:blipFill>
            <a:blip r:embed="rId2"/>
            <a:stretch/>
          </p:blipFill>
          <p:spPr>
            <a:xfrm>
              <a:off x="609480" y="1371600"/>
              <a:ext cx="53341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13"/>
            <p:cNvSpPr/>
            <p:nvPr/>
          </p:nvSpPr>
          <p:spPr>
            <a:xfrm>
              <a:off x="609480" y="5943600"/>
              <a:ext cx="457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Image courtesy of WMAP:  map.gsfc.nasa.g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Age of the Universe calcula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8153280" y="3733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8"/>
          <p:cNvGrpSpPr/>
          <p:nvPr/>
        </p:nvGrpSpPr>
        <p:grpSpPr>
          <a:xfrm>
            <a:off x="1371600" y="1901880"/>
            <a:ext cx="6630840" cy="4956120"/>
            <a:chOff x="1371600" y="1901880"/>
            <a:chExt cx="6630840" cy="4956120"/>
          </a:xfrm>
        </p:grpSpPr>
        <p:pic>
          <p:nvPicPr>
            <p:cNvPr id="708" name="Picture 3" descr=""/>
            <p:cNvPicPr/>
            <p:nvPr/>
          </p:nvPicPr>
          <p:blipFill>
            <a:blip r:embed="rId1"/>
            <a:stretch/>
          </p:blipFill>
          <p:spPr>
            <a:xfrm>
              <a:off x="1371600" y="1901880"/>
              <a:ext cx="663084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Rectangle 7"/>
            <p:cNvSpPr/>
            <p:nvPr/>
          </p:nvSpPr>
          <p:spPr>
            <a:xfrm>
              <a:off x="4724280" y="411156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0" name="Picture 9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0"/>
          <p:cNvSpPr/>
          <p:nvPr/>
        </p:nvSpPr>
        <p:spPr>
          <a:xfrm>
            <a:off x="228600" y="5334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13" descr="hubble"/>
          <p:cNvPicPr/>
          <p:nvPr/>
        </p:nvPicPr>
        <p:blipFill>
          <a:blip r:embed="rId3"/>
          <a:stretch/>
        </p:blipFill>
        <p:spPr>
          <a:xfrm>
            <a:off x="6324480" y="1828800"/>
            <a:ext cx="2286000" cy="18302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1"/>
          <p:cNvSpPr/>
          <p:nvPr/>
        </p:nvSpPr>
        <p:spPr>
          <a:xfrm>
            <a:off x="74674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Telescope-Herschel"/>
          <p:cNvPicPr/>
          <p:nvPr/>
        </p:nvPicPr>
        <p:blipFill>
          <a:blip r:embed="rId1"/>
          <a:stretch/>
        </p:blipFill>
        <p:spPr>
          <a:xfrm>
            <a:off x="2819520" y="2362320"/>
            <a:ext cx="2819160" cy="2076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6" name="Text Box 3"/>
          <p:cNvSpPr/>
          <p:nvPr/>
        </p:nvSpPr>
        <p:spPr>
          <a:xfrm>
            <a:off x="2971800" y="47242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Herschel’s telescope -- used to discover Uranus in 17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5" descr="herschel"/>
          <p:cNvPicPr/>
          <p:nvPr/>
        </p:nvPicPr>
        <p:blipFill>
          <a:blip r:embed="rId2"/>
          <a:stretch/>
        </p:blipFill>
        <p:spPr>
          <a:xfrm>
            <a:off x="6019920" y="2286000"/>
            <a:ext cx="1828800" cy="19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8" name="Text Box 6"/>
          <p:cNvSpPr/>
          <p:nvPr/>
        </p:nvSpPr>
        <p:spPr>
          <a:xfrm>
            <a:off x="6019920" y="42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William Hersch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228600" y="1295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n our own solar system, telescopes found planet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our eyes could not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8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1657440" cy="2209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1" name="Picture 9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10"/>
          <p:cNvSpPr/>
          <p:nvPr/>
        </p:nvSpPr>
        <p:spPr>
          <a:xfrm>
            <a:off x="914400" y="2133720"/>
            <a:ext cx="1600200" cy="1676160"/>
          </a:xfrm>
          <a:prstGeom prst="wedgeRoundRectCallout">
            <a:avLst>
              <a:gd name="adj1" fmla="val -9625"/>
              <a:gd name="adj2" fmla="val 8664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7: Are there other plan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3"/>
          <p:cNvSpPr/>
          <p:nvPr/>
        </p:nvSpPr>
        <p:spPr>
          <a:xfrm>
            <a:off x="5105520" y="358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  <a:ea typeface="ヒラギノ角ゴ Pro W3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4" descr="kecks_overview_sm"/>
          <p:cNvPicPr/>
          <p:nvPr/>
        </p:nvPicPr>
        <p:blipFill>
          <a:blip r:embed="rId1"/>
          <a:srcRect l="0" t="0" r="3573" b="9115"/>
          <a:stretch/>
        </p:blipFill>
        <p:spPr>
          <a:xfrm>
            <a:off x="5410080" y="1523880"/>
            <a:ext cx="2710080" cy="1997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7" name="Picture 6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1587600" cy="2311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8" name="Text Box 7"/>
          <p:cNvSpPr/>
          <p:nvPr/>
        </p:nvSpPr>
        <p:spPr>
          <a:xfrm>
            <a:off x="5486400" y="6324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Geoff M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Other worlds discover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4191120" cy="271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31" name="Text Box 11"/>
          <p:cNvSpPr/>
          <p:nvPr/>
        </p:nvSpPr>
        <p:spPr>
          <a:xfrm>
            <a:off x="609480" y="5029200"/>
            <a:ext cx="4267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11430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90’s through To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057400" cy="116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603440" cy="19047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762120" y="3124080"/>
            <a:ext cx="143964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8" name="Picture 9" descr="kecks_overview_sm"/>
          <p:cNvPicPr/>
          <p:nvPr/>
        </p:nvPicPr>
        <p:blipFill>
          <a:blip r:embed="rId5"/>
          <a:srcRect l="0" t="0" r="3573" b="4545"/>
          <a:stretch/>
        </p:blipFill>
        <p:spPr>
          <a:xfrm>
            <a:off x="6172200" y="4952880"/>
            <a:ext cx="1447920" cy="115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7010280" y="2819520"/>
            <a:ext cx="1752840" cy="15080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have changed our understanding of the universe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Picture 13" descr="hubble"/>
          <p:cNvPicPr/>
          <p:nvPr/>
        </p:nvPicPr>
        <p:blipFill>
          <a:blip r:embed="rId7"/>
          <a:stretch/>
        </p:blipFill>
        <p:spPr>
          <a:xfrm>
            <a:off x="2743200" y="502920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742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0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1"/>
          <p:cNvSpPr/>
          <p:nvPr/>
        </p:nvSpPr>
        <p:spPr>
          <a:xfrm>
            <a:off x="7621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22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23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24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25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26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27"/>
          <p:cNvSpPr/>
          <p:nvPr/>
        </p:nvSpPr>
        <p:spPr>
          <a:xfrm>
            <a:off x="4952880" y="990720"/>
            <a:ext cx="1676520" cy="1904760"/>
          </a:xfrm>
          <a:prstGeom prst="wedgeRoundRectCallout">
            <a:avLst>
              <a:gd name="adj1" fmla="val -181060"/>
              <a:gd name="adj2" fmla="val 11558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S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2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4952880" y="1219320"/>
            <a:ext cx="1524240" cy="1676160"/>
          </a:xfrm>
          <a:prstGeom prst="wedgeRoundRectCallout">
            <a:avLst>
              <a:gd name="adj1" fmla="val -194166"/>
              <a:gd name="adj2" fmla="val 12452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And we had many question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4"/>
          <p:cNvSpPr/>
          <p:nvPr/>
        </p:nvSpPr>
        <p:spPr>
          <a:xfrm>
            <a:off x="685800" y="1447920"/>
            <a:ext cx="1523880" cy="1600200"/>
          </a:xfrm>
          <a:prstGeom prst="wedgeRoundRectCallout">
            <a:avLst>
              <a:gd name="adj1" fmla="val 72500"/>
              <a:gd name="adj2" fmla="val 115875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un is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5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Su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ar aw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illion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7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3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8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9"/>
          <p:cNvSpPr/>
          <p:nvPr/>
        </p:nvSpPr>
        <p:spPr>
          <a:xfrm>
            <a:off x="4952880" y="1066680"/>
            <a:ext cx="1676520" cy="1828800"/>
          </a:xfrm>
          <a:prstGeom prst="wedgeRoundRectCallout">
            <a:avLst>
              <a:gd name="adj1" fmla="val -181060"/>
              <a:gd name="adj2" fmla="val 11831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lfway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ro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0"/>
          <p:cNvSpPr/>
          <p:nvPr/>
        </p:nvSpPr>
        <p:spPr>
          <a:xfrm>
            <a:off x="162000" y="284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anging our understanding of our place in the univers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2635200" y="33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304920" y="2133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From the center of the univer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6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5146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7"/>
          <p:cNvSpPr/>
          <p:nvPr/>
        </p:nvSpPr>
        <p:spPr>
          <a:xfrm>
            <a:off x="4648320" y="56386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o a very small planet in an immense expanding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8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769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nd the more we learn, the more questions emerg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2558880" y="358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9"/>
          <p:cNvSpPr/>
          <p:nvPr/>
        </p:nvSpPr>
        <p:spPr>
          <a:xfrm>
            <a:off x="685800" y="4572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0"/>
          <p:cNvSpPr/>
          <p:nvPr/>
        </p:nvSpPr>
        <p:spPr>
          <a:xfrm>
            <a:off x="609480" y="1600200"/>
            <a:ext cx="1524240" cy="1676520"/>
          </a:xfrm>
          <a:prstGeom prst="wedgeRoundRectCallout">
            <a:avLst>
              <a:gd name="adj1" fmla="val 87500"/>
              <a:gd name="adj2" fmla="val 8106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yond Plu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o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2514600" y="1523880"/>
            <a:ext cx="1600200" cy="1676520"/>
          </a:xfrm>
          <a:prstGeom prst="wedgeRoundRectCallout">
            <a:avLst>
              <a:gd name="adj1" fmla="val -29166"/>
              <a:gd name="adj2" fmla="val 8863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2"/>
          <p:cNvSpPr/>
          <p:nvPr/>
        </p:nvSpPr>
        <p:spPr>
          <a:xfrm>
            <a:off x="6934320" y="1905120"/>
            <a:ext cx="1600200" cy="1676160"/>
          </a:xfrm>
          <a:prstGeom prst="wedgeRoundRectCallout">
            <a:avLst>
              <a:gd name="adj1" fmla="val -300990"/>
              <a:gd name="adj2" fmla="val 6846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3"/>
          <p:cNvSpPr/>
          <p:nvPr/>
        </p:nvSpPr>
        <p:spPr>
          <a:xfrm>
            <a:off x="6553080" y="3886200"/>
            <a:ext cx="1447920" cy="1676520"/>
          </a:xfrm>
          <a:prstGeom prst="wedgeRoundRectCallout">
            <a:avLst>
              <a:gd name="adj1" fmla="val -305263"/>
              <a:gd name="adj2" fmla="val -4621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pand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14"/>
          <p:cNvSpPr/>
          <p:nvPr/>
        </p:nvSpPr>
        <p:spPr>
          <a:xfrm>
            <a:off x="4648320" y="4876920"/>
            <a:ext cx="1447560" cy="1676160"/>
          </a:xfrm>
          <a:prstGeom prst="wedgeRoundRectCallout">
            <a:avLst>
              <a:gd name="adj1" fmla="val -173685"/>
              <a:gd name="adj2" fmla="val -10530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rbor lif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5"/>
          <p:cNvSpPr/>
          <p:nvPr/>
        </p:nvSpPr>
        <p:spPr>
          <a:xfrm>
            <a:off x="4800600" y="1447920"/>
            <a:ext cx="1600200" cy="1676160"/>
          </a:xfrm>
          <a:prstGeom prst="wedgeRoundRectCallout">
            <a:avLst>
              <a:gd name="adj1" fmla="val -168254"/>
              <a:gd name="adj2" fmla="val 9270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are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the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galax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19"/>
          <p:cNvGrpSpPr/>
          <p:nvPr/>
        </p:nvGrpSpPr>
        <p:grpSpPr>
          <a:xfrm>
            <a:off x="533520" y="1981080"/>
            <a:ext cx="2666880" cy="2357640"/>
            <a:chOff x="533520" y="1981080"/>
            <a:chExt cx="2666880" cy="2357640"/>
          </a:xfrm>
        </p:grpSpPr>
        <p:pic>
          <p:nvPicPr>
            <p:cNvPr id="782" name="Picture 12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2666880" cy="20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Rectangle 13"/>
            <p:cNvSpPr/>
            <p:nvPr/>
          </p:nvSpPr>
          <p:spPr>
            <a:xfrm>
              <a:off x="809640" y="4092480"/>
              <a:ext cx="199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Chandra Illustration: CXC/NG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0"/>
          <p:cNvGrpSpPr/>
          <p:nvPr/>
        </p:nvGrpSpPr>
        <p:grpSpPr>
          <a:xfrm>
            <a:off x="3581280" y="1981080"/>
            <a:ext cx="2178000" cy="1993320"/>
            <a:chOff x="3581280" y="1981080"/>
            <a:chExt cx="2178000" cy="1993320"/>
          </a:xfrm>
        </p:grpSpPr>
        <p:pic>
          <p:nvPicPr>
            <p:cNvPr id="785" name="Picture 14" descr=""/>
            <p:cNvPicPr/>
            <p:nvPr/>
          </p:nvPicPr>
          <p:blipFill>
            <a:blip r:embed="rId2"/>
            <a:stretch/>
          </p:blipFill>
          <p:spPr>
            <a:xfrm>
              <a:off x="3581280" y="1981080"/>
              <a:ext cx="2107800" cy="16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Rectangle 15"/>
            <p:cNvSpPr/>
            <p:nvPr/>
          </p:nvSpPr>
          <p:spPr>
            <a:xfrm>
              <a:off x="3641400" y="3728160"/>
              <a:ext cx="211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Spitzer Credit: NASA/JPL-Caltec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27"/>
          <p:cNvGrpSpPr/>
          <p:nvPr/>
        </p:nvGrpSpPr>
        <p:grpSpPr>
          <a:xfrm>
            <a:off x="5488560" y="3962520"/>
            <a:ext cx="2831040" cy="2440080"/>
            <a:chOff x="5488560" y="3962520"/>
            <a:chExt cx="2831040" cy="2440080"/>
          </a:xfrm>
        </p:grpSpPr>
        <p:pic>
          <p:nvPicPr>
            <p:cNvPr id="788" name="Picture 16" descr=""/>
            <p:cNvPicPr/>
            <p:nvPr/>
          </p:nvPicPr>
          <p:blipFill>
            <a:blip r:embed="rId3"/>
            <a:stretch/>
          </p:blipFill>
          <p:spPr>
            <a:xfrm>
              <a:off x="6100920" y="3962520"/>
              <a:ext cx="15667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17"/>
            <p:cNvSpPr/>
            <p:nvPr/>
          </p:nvSpPr>
          <p:spPr>
            <a:xfrm>
              <a:off x="5488560" y="6156360"/>
              <a:ext cx="28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GLAST Credit: General Dynamics C4 System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24"/>
          <p:cNvGrpSpPr/>
          <p:nvPr/>
        </p:nvGrpSpPr>
        <p:grpSpPr>
          <a:xfrm>
            <a:off x="6324480" y="1600200"/>
            <a:ext cx="2590920" cy="2151000"/>
            <a:chOff x="6324480" y="1600200"/>
            <a:chExt cx="2590920" cy="2151000"/>
          </a:xfrm>
        </p:grpSpPr>
        <p:pic>
          <p:nvPicPr>
            <p:cNvPr id="791" name="Picture 22" descr="arecibo"/>
            <p:cNvPicPr/>
            <p:nvPr/>
          </p:nvPicPr>
          <p:blipFill>
            <a:blip r:embed="rId4"/>
            <a:stretch/>
          </p:blipFill>
          <p:spPr>
            <a:xfrm>
              <a:off x="6324480" y="1600200"/>
              <a:ext cx="2590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23"/>
            <p:cNvSpPr/>
            <p:nvPr/>
          </p:nvSpPr>
          <p:spPr>
            <a:xfrm>
              <a:off x="6629400" y="350496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Arecibo Image Courtesy of the NA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will continue to expand our understanding of our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Group 33"/>
          <p:cNvGrpSpPr/>
          <p:nvPr/>
        </p:nvGrpSpPr>
        <p:grpSpPr>
          <a:xfrm>
            <a:off x="685800" y="4419720"/>
            <a:ext cx="3048120" cy="2227320"/>
            <a:chOff x="685800" y="4419720"/>
            <a:chExt cx="3048120" cy="2227320"/>
          </a:xfrm>
        </p:grpSpPr>
        <p:pic>
          <p:nvPicPr>
            <p:cNvPr id="795" name="Picture 31" descr=""/>
            <p:cNvPicPr/>
            <p:nvPr/>
          </p:nvPicPr>
          <p:blipFill>
            <a:blip r:embed="rId5"/>
            <a:stretch/>
          </p:blipFill>
          <p:spPr>
            <a:xfrm>
              <a:off x="685800" y="4419720"/>
              <a:ext cx="30481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2"/>
            <p:cNvSpPr/>
            <p:nvPr/>
          </p:nvSpPr>
          <p:spPr>
            <a:xfrm>
              <a:off x="762120" y="6400800"/>
              <a:ext cx="297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Keck Image courtesy of NASA/JPL/Calte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9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3"/>
          <p:cNvSpPr/>
          <p:nvPr/>
        </p:nvSpPr>
        <p:spPr>
          <a:xfrm>
            <a:off x="762120" y="1371600"/>
            <a:ext cx="1600200" cy="1676520"/>
          </a:xfrm>
          <a:prstGeom prst="wedgeRoundRectCallout">
            <a:avLst>
              <a:gd name="adj1" fmla="val 5754"/>
              <a:gd name="adj2" fmla="val 12102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444844" descr="S7Picture 444844"/>
          <p:cNvPicPr/>
          <p:nvPr/>
        </p:nvPicPr>
        <p:blipFill>
          <a:blip r:embed="rId2"/>
          <a:stretch/>
        </p:blipFill>
        <p:spPr>
          <a:xfrm>
            <a:off x="5638680" y="914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718501" descr="S7Picture 5718501"/>
          <p:cNvPicPr/>
          <p:nvPr/>
        </p:nvPicPr>
        <p:blipFill>
          <a:blip r:embed="rId3"/>
          <a:stretch/>
        </p:blipFill>
        <p:spPr>
          <a:xfrm>
            <a:off x="5638680" y="4089240"/>
            <a:ext cx="2895840" cy="2683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2819520" y="4876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Copernicus said “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895480" y="2286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Aristotle said “Eart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1: Is  Earth or Sun at the cen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Galileo observes Ve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7010280" y="1981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Earth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086600" y="4756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Sun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23"/>
          <p:cNvGrpSpPr/>
          <p:nvPr/>
        </p:nvGrpSpPr>
        <p:grpSpPr>
          <a:xfrm>
            <a:off x="304920" y="4648320"/>
            <a:ext cx="2057400" cy="1371600"/>
            <a:chOff x="304920" y="4648320"/>
            <a:chExt cx="2057400" cy="1371600"/>
          </a:xfrm>
        </p:grpSpPr>
        <p:sp>
          <p:nvSpPr>
            <p:cNvPr id="533" name="Text Box 6"/>
            <p:cNvSpPr/>
            <p:nvPr/>
          </p:nvSpPr>
          <p:spPr>
            <a:xfrm>
              <a:off x="304920" y="472428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rebuchet MS"/>
                </a:rPr>
                <a:t>What Galileo ob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>
              <a:off x="1828800" y="5257800"/>
              <a:ext cx="533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8"/>
            <p:cNvSpPr/>
            <p:nvPr/>
          </p:nvSpPr>
          <p:spPr>
            <a:xfrm>
              <a:off x="457200" y="4648320"/>
              <a:ext cx="137160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Picture 938792" descr="S8Picture 938792"/>
          <p:cNvPicPr/>
          <p:nvPr/>
        </p:nvPicPr>
        <p:blipFill>
          <a:blip r:embed="rId1"/>
          <a:stretch/>
        </p:blipFill>
        <p:spPr>
          <a:xfrm>
            <a:off x="7391520" y="512640"/>
            <a:ext cx="1752480" cy="993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38280" cy="1952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1"/>
          <p:cNvSpPr/>
          <p:nvPr/>
        </p:nvSpPr>
        <p:spPr>
          <a:xfrm>
            <a:off x="3019680" y="660096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0" y="2362320"/>
            <a:ext cx="2133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Ven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ph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reveal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3" descr=""/>
          <p:cNvPicPr/>
          <p:nvPr/>
        </p:nvPicPr>
        <p:blipFill>
          <a:blip r:embed="rId3"/>
          <a:stretch/>
        </p:blipFill>
        <p:spPr>
          <a:xfrm>
            <a:off x="2362320" y="3886200"/>
            <a:ext cx="4800600" cy="2598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4"/>
          <a:stretch/>
        </p:blipFill>
        <p:spPr>
          <a:xfrm>
            <a:off x="2362320" y="1066680"/>
            <a:ext cx="4724280" cy="2662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"/>
          <p:cNvPicPr/>
          <p:nvPr/>
        </p:nvPicPr>
        <p:blipFill>
          <a:blip r:embed="rId5"/>
          <a:stretch/>
        </p:blipFill>
        <p:spPr>
          <a:xfrm>
            <a:off x="2362320" y="1600200"/>
            <a:ext cx="685800" cy="6523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6"/>
          <p:cNvSpPr/>
          <p:nvPr/>
        </p:nvSpPr>
        <p:spPr>
          <a:xfrm>
            <a:off x="0" y="6521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lay Optional Mov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7"/>
          <p:cNvSpPr/>
          <p:nvPr/>
        </p:nvSpPr>
        <p:spPr>
          <a:xfrm>
            <a:off x="5867280" y="5334120"/>
            <a:ext cx="762120" cy="761760"/>
          </a:xfrm>
          <a:prstGeom prst="ellipse">
            <a:avLst/>
          </a:prstGeom>
          <a:noFill/>
          <a:ln w="9360">
            <a:solidFill>
              <a:srgbClr val="ff99cc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18"/>
          <p:cNvSpPr/>
          <p:nvPr/>
        </p:nvSpPr>
        <p:spPr>
          <a:xfrm>
            <a:off x="5638680" y="5105520"/>
            <a:ext cx="1219320" cy="1218960"/>
          </a:xfrm>
          <a:prstGeom prst="ellipse">
            <a:avLst/>
          </a:prstGeom>
          <a:noFill/>
          <a:ln w="9360">
            <a:solidFill>
              <a:srgbClr val="3366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9"/>
          <p:cNvSpPr/>
          <p:nvPr/>
        </p:nvSpPr>
        <p:spPr>
          <a:xfrm>
            <a:off x="4648320" y="9144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"/>
          <p:cNvSpPr/>
          <p:nvPr/>
        </p:nvSpPr>
        <p:spPr>
          <a:xfrm flipV="1">
            <a:off x="4724280" y="48006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5410080" y="2057400"/>
            <a:ext cx="167652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5486400" y="4800600"/>
            <a:ext cx="1676520" cy="1676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4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2: How far away are the sta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1371600" y="1447920"/>
            <a:ext cx="1523880" cy="167616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w f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17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4876560" cy="3243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55" name="Rectangle 18"/>
          <p:cNvSpPr/>
          <p:nvPr/>
        </p:nvSpPr>
        <p:spPr>
          <a:xfrm>
            <a:off x="4807080" y="5257800"/>
            <a:ext cx="28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59" name="Line 6"/>
          <p:cNvSpPr/>
          <p:nvPr/>
        </p:nvSpPr>
        <p:spPr>
          <a:xfrm>
            <a:off x="678168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64160"/>
          </a:xfrm>
          <a:prstGeom prst="rect">
            <a:avLst/>
          </a:prstGeom>
          <a:ln w="0">
            <a:noFill/>
          </a:ln>
        </p:spPr>
      </p:pic>
      <p:sp>
        <p:nvSpPr>
          <p:cNvPr id="564" name="Line 6"/>
          <p:cNvSpPr/>
          <p:nvPr/>
        </p:nvSpPr>
        <p:spPr>
          <a:xfrm>
            <a:off x="571500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our eyes marking Earth’s Orb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2642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11"/>
          <p:cNvGrpSpPr/>
          <p:nvPr/>
        </p:nvGrpSpPr>
        <p:grpSpPr>
          <a:xfrm>
            <a:off x="4038480" y="2819520"/>
            <a:ext cx="1524240" cy="1523880"/>
            <a:chOff x="4038480" y="2819520"/>
            <a:chExt cx="1524240" cy="1523880"/>
          </a:xfrm>
        </p:grpSpPr>
        <p:sp>
          <p:nvSpPr>
            <p:cNvPr id="570" name="Oval 7"/>
            <p:cNvSpPr/>
            <p:nvPr/>
          </p:nvSpPr>
          <p:spPr>
            <a:xfrm>
              <a:off x="4038480" y="2819520"/>
              <a:ext cx="1524240" cy="15238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0"/>
            <p:cNvSpPr/>
            <p:nvPr/>
          </p:nvSpPr>
          <p:spPr>
            <a:xfrm>
              <a:off x="4724280" y="2819520"/>
              <a:ext cx="152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27:06Z</dcterms:created>
  <dc:creator>Marni Berendsen</dc:creator>
  <dc:description/>
  <dc:language>en-US</dc:language>
  <cp:lastModifiedBy>LEGION</cp:lastModifiedBy>
  <cp:lastPrinted>2005-11-08T18:18:53Z</cp:lastPrinted>
  <dcterms:modified xsi:type="dcterms:W3CDTF">2018-03-22T09:27:52Z</dcterms:modified>
  <cp:revision>139</cp:revision>
  <dc:subject/>
  <dc:title>How Telescopes Changed our Universe</dc:title>
</cp:coreProperties>
</file>