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3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1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50.jpeg" ContentType="image/jpeg"/>
  <Override PartName="/ppt/media/image59.png" ContentType="image/png"/>
  <Override PartName="/ppt/media/image24.jpeg" ContentType="image/jpeg"/>
  <Override PartName="/ppt/media/image22.png" ContentType="image/png"/>
  <Override PartName="/ppt/media/image51.jpeg" ContentType="image/jpeg"/>
  <Override PartName="/ppt/media/image60.png" ContentType="image/png"/>
  <Override PartName="/ppt/media/image63.jpeg" ContentType="image/jpeg"/>
  <Override PartName="/ppt/media/image2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0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E044-A8FF-46B8-AF9E-DF21176E7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331-1A85-4BC0-98C0-F5C3C180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AF7-725E-4925-B1A0-C635E028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4C651-FB49-4CA5-8449-7131BD37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92304-3B41-45A2-94A9-5B478F65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59076-572D-45A1-B1F8-9F6AFA4E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08F81-7925-457A-92D4-B37D47EA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71E46-B2D6-471B-BA96-150D98AE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04A02-C3A6-4842-B072-633A063D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F5C5F-A5C9-4225-8C8C-2BB5E1F5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4BEDB-A846-41E5-95D8-19201262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4916A-3501-4D88-BDCD-713BD5A0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0A121-3B59-4DF0-BDD2-BE6864C4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FDD-9271-42E9-ADBB-40B4C188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773C6-D33C-45B7-AA54-8689A496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BEEB7-E228-4DFD-A25C-E009056D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67879-EE48-45B2-858C-872FC05C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D309D-E462-43A3-BECD-EC5A5A23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E632E-CE88-4152-927F-63932B0A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5FBC3-5684-46E9-BC70-CF229973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66D32-E477-4A6C-80AE-29A39F2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04DCC-DE6C-4991-AF15-5A0925D6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8469A-B0CA-4C84-AEFD-807B09FE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3994C-5798-43C0-89FF-0C05A7F7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D3A-4CCF-46CF-B43C-30E2C1A0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D51C7-CB7E-4EA4-AFFF-B59C48F0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222B8-6598-4C4D-AFDB-7C7A8095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EFCD9-4A22-41A9-8080-FC15F4B1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77D74-63B4-4B6B-B2B7-71146C69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1E7DF-A1D6-47A3-A933-93358B8A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39704-BE09-4A04-8275-8EDCF1CC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9214A-4F6C-4C8A-98E6-BAE01C8D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E7758-9F58-4E34-A7CE-E2E77591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03A11-AC52-49F9-85AF-777D42A5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87B68-DC57-4921-B715-ACE170F8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8641-03A8-4789-8041-99F78474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105FF-78AF-4298-BB20-DC5347DC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44342-E979-41B0-944C-5F325720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9F962-7721-4619-B3C3-36871C00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C6DEA-B9FB-464B-82D7-A11D5F6C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1D561-F01E-4BB4-94A2-850F07BE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68395-3AA2-4417-A76B-3CF4BE09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E6BF8-58CC-4305-9FD3-475C3F2D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2F5AB-4ACC-4DD8-A4C0-01C409D7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0E12D-12D4-45E2-AE29-325C1104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607F9-C9D1-4F18-AD44-E66DAE59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505A-1295-42BD-AA69-DD0C6A19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7C600-328B-4EEB-91DF-70274A60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3D017-EEF9-4E37-978A-82C9AE7B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E8DEA-5C88-49DB-9839-8BBBD34E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36314-B9AA-432A-B897-994C409A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BE703-AAC0-453D-8EFC-ED80B0FA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C3BB-C614-45EF-B0FD-153DA5C6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02CC-61EB-4623-984F-31831751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549B-5B96-4A73-8780-E16C63C0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C360-F4E9-4182-87E3-7462C88E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FC18-497A-42DC-86A6-30E03FD1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90C-6DD3-4627-87A3-E693A085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4EF6-2FF1-4D35-8534-FDA68A75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BA80-FA53-4F14-B0E9-DEC20145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EAF3-0CF7-427D-A016-3CCB55C8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5C22-1D63-4E6F-89D9-881FA09A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9E2E-CE2D-4719-A793-6C2F0DF9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F0344-3EF4-4B53-AD32-1CF8279C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EAB83-8CA9-4C63-A672-D07A30E6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17DBE-FB8A-4F6F-8099-9FA64E7C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73D2-01FE-431D-BADB-5047A960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8FE4-5977-4A2F-A306-EEF975E2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240-AC57-40B6-93BC-BAF96720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8611-01FE-4DD0-9C1D-41FE5A41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7FD8-270B-40A2-B084-727DBE1F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E20E1-1450-4AF3-B85A-73D03255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8B6D7-D121-4E42-81AD-949DF7C3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CD1C1-C151-4E75-AF7E-851BE889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9B9D1-DFB9-4A8E-9B71-973DF1DA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076BF-F63F-4C3F-A162-8F1C5DEF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7D344-CF7B-4023-9BEA-7EEC44CA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68CF-8C25-4129-A108-9E8CC6C7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CB4CD-E9D5-4C17-825A-C53CD703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5B2-9142-4C0E-AC4D-7A4919E3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6D97D-66ED-4285-B9A0-1FABFB8E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2CBC9-BF26-477F-8CC2-0B32FC52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C56B-D4EA-42DD-8A9F-4226747B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A948-B9A6-498F-9C4D-BA892939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5E6A7-A4D9-472C-8500-1C090462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D6E7C-1FE9-4628-93EA-9F10CBF3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42B62-84CA-4283-96FB-61C4C437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4514-238A-4F2E-935F-FAF60F8A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7402E-8CF9-42B6-A6C9-5BF19743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E0D70-7466-4905-A83B-EF8B1D13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6FB-EE46-4D8D-B64F-EB5684F0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29E6A-7674-4BA9-8BEE-77B5CB96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0DD14-A8A2-414C-99B9-E914206D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E43A5-EC36-4C8F-B38E-8FA41FFC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8F1F4-5B8C-4D98-9C72-1978319D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0C44F-ED02-4975-B599-2CC7D29D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DB120-AFA2-4595-B321-5E35770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74346-A0E7-4492-A6FD-1E81BA3F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AC6D4-81FE-498F-8870-1DDEC85C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44799-6B30-4A3B-A859-1451344E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DF701-42A0-47E0-892D-94989495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DB2-3300-4810-9B5C-1CA02F0B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35C16-5C2D-465F-9952-E0C18966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E2BAE-F0F3-4A61-A765-B4C0699C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3C03F-7362-4C43-A07D-F8D033DB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EBB23-92E0-45F6-B56F-A8145CE1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395A4-129C-4195-8065-BA6C450D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71267-FC58-433E-AE54-77795E23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FFFBE-AB73-4BF7-B6FC-7585C5CE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ADAC9-9A5C-4229-9ECD-10BC663F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6332D-32DB-49DE-9BEF-EF1D3582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6F4DA-9E7F-4537-B3AA-A31A421D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58F-84A8-47F0-9CF2-00D9CD08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059CD-6FA8-4D4A-A9F1-C1FE9D48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AF606-5910-4B35-97FB-DB807F2B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DB6AD-E7DB-4684-B28E-F5E3FD44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3BFD0-1D75-4A1B-B2A7-3C8C12B2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15FCA-3314-44B9-A74D-4E3AEF80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09610-51BA-4A84-A8C5-9319219D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A2645-D371-4F8C-98D1-E6E1A155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ADD0B-B41E-4231-96E7-327DDCF3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73B8B-2D24-4762-93D8-6B8C817C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38ED5-E9CD-4B38-836E-517A33FE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FBF-315A-4882-80B4-6174CE5A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0FD89-778B-48E3-98D9-2E0FB8ED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8AB8E-5BCB-408B-BB57-26F7DFD5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16A80-7EF2-44CC-8665-F3571B74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723B7-F943-4D8D-9D5B-CF71B594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E5891-609A-4F04-A447-EC6D63D1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6701D-EE36-4EDB-A62E-876129F6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E2638-67B1-4C3E-840C-B41AAB58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C9DB2-004E-4472-B803-13A80BF0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BE9AD-5E4E-4DB9-8EB4-C8803729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AFFED-E0B4-43AF-8BB0-02C1F24D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C35-918A-4A65-8D0A-C80772C3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043CD-0546-40CA-9007-B3A106CD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44B38-E70A-46D7-9199-D3B26C46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438C5-85DE-42F6-A4E7-D27C1345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2E2B1-99A6-4F01-BFA4-A32813B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6CE3A-10CE-4A52-9D6D-4A59F41E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84DE7-77EB-48D0-AAF8-168A3A3C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FC43D-B44F-4573-93E9-FCE887C6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57A3F-CCC6-423A-8624-15723CE0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C9E58-DAFF-40CA-B78E-547F1FAB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3995B-341F-44C9-9FE2-0A7C79C3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F1E6-E201-4C98-8320-6CCDB9BBD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4F44-CCD2-4036-8CED-8BE2E4244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37B9-ED09-433A-9D98-B21CCA1AE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4C02-4F1B-49E9-857B-703FC07CA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D10B-534B-4CA5-8435-539A7FF45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AB29-B309-4181-BADB-4854888DA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3721-9125-4CF4-A8CE-3D7B8D652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1BA0-DDD8-44BC-B815-11449D125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22E7-6FF3-4E57-84A7-EB7CC443F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752D-CAED-435B-BBFC-F05895C25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6190-432B-4C77-8AF3-58FBEA51F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74C2-CEA6-4A90-837D-D329E895B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32.jpeg"/><Relationship Id="rId5" Type="http://schemas.openxmlformats.org/officeDocument/2006/relationships/image" Target="../media/image52.jpeg"/><Relationship Id="rId6" Type="http://schemas.openxmlformats.org/officeDocument/2006/relationships/image" Target="../media/image58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How Telescopes Changed our Understanding of the Univer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7432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6"/>
          <p:cNvSpPr/>
          <p:nvPr/>
        </p:nvSpPr>
        <p:spPr>
          <a:xfrm>
            <a:off x="4876920" y="586728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5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ackground of st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Distance to the stars reveal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Picture 6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459240" cy="19112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403440" cy="4140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8"/>
          <p:cNvSpPr/>
          <p:nvPr/>
        </p:nvSpPr>
        <p:spPr>
          <a:xfrm>
            <a:off x="5486400" y="5638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riedrich Wilhelm Be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143000" y="3429000"/>
            <a:ext cx="28954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Königsberg Observ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18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23"/>
          <p:cNvGrpSpPr/>
          <p:nvPr/>
        </p:nvGrpSpPr>
        <p:grpSpPr>
          <a:xfrm>
            <a:off x="228600" y="4495680"/>
            <a:ext cx="4673520" cy="1678320"/>
            <a:chOff x="228600" y="4495680"/>
            <a:chExt cx="4673520" cy="1678320"/>
          </a:xfrm>
        </p:grpSpPr>
        <p:pic>
          <p:nvPicPr>
            <p:cNvPr id="584" name="Picture 12" descr=""/>
            <p:cNvPicPr/>
            <p:nvPr/>
          </p:nvPicPr>
          <p:blipFill>
            <a:blip r:embed="rId3"/>
            <a:stretch/>
          </p:blipFill>
          <p:spPr>
            <a:xfrm>
              <a:off x="228600" y="4495680"/>
              <a:ext cx="46735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Line 13"/>
            <p:cNvSpPr/>
            <p:nvPr/>
          </p:nvSpPr>
          <p:spPr>
            <a:xfrm>
              <a:off x="685800" y="5049720"/>
              <a:ext cx="373392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4"/>
            <p:cNvSpPr/>
            <p:nvPr/>
          </p:nvSpPr>
          <p:spPr>
            <a:xfrm flipV="1">
              <a:off x="762120" y="5049360"/>
              <a:ext cx="373356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5"/>
            <p:cNvSpPr/>
            <p:nvPr/>
          </p:nvSpPr>
          <p:spPr>
            <a:xfrm>
              <a:off x="2133720" y="5524560"/>
              <a:ext cx="838080" cy="31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19"/>
            <p:cNvSpPr/>
            <p:nvPr/>
          </p:nvSpPr>
          <p:spPr>
            <a:xfrm>
              <a:off x="380880" y="4724280"/>
              <a:ext cx="685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N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20"/>
            <p:cNvSpPr/>
            <p:nvPr/>
          </p:nvSpPr>
          <p:spPr>
            <a:xfrm>
              <a:off x="304920" y="5715000"/>
              <a:ext cx="12189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6 Months L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AutoShape 18"/>
            <p:cNvSpPr/>
            <p:nvPr/>
          </p:nvSpPr>
          <p:spPr>
            <a:xfrm>
              <a:off x="2438280" y="5181480"/>
              <a:ext cx="2286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44" y="6181"/>
                  </a:lnTo>
                  <a:lnTo>
                    <a:pt x="8056" y="10000"/>
                  </a:lnTo>
                  <a:lnTo>
                    <a:pt x="5000" y="7639"/>
                  </a:lnTo>
                  <a:lnTo>
                    <a:pt x="1944" y="10000"/>
                  </a:lnTo>
                  <a:lnTo>
                    <a:pt x="3056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3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are the stars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371600" y="1600200"/>
            <a:ext cx="1523880" cy="167652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495680" cy="309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9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1666800" cy="1981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99" name="Picture 6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1392120" cy="1938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00" name="Text Box 7"/>
          <p:cNvSpPr/>
          <p:nvPr/>
        </p:nvSpPr>
        <p:spPr>
          <a:xfrm>
            <a:off x="457200" y="3200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09480" y="55627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tudying the Rainb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Group 12"/>
          <p:cNvGrpSpPr/>
          <p:nvPr/>
        </p:nvGrpSpPr>
        <p:grpSpPr>
          <a:xfrm>
            <a:off x="2133720" y="4800600"/>
            <a:ext cx="5638680" cy="1145520"/>
            <a:chOff x="2133720" y="4800600"/>
            <a:chExt cx="5638680" cy="1145520"/>
          </a:xfrm>
        </p:grpSpPr>
        <p:pic>
          <p:nvPicPr>
            <p:cNvPr id="604" name="Picture 9" descr="refspecABSORP"/>
            <p:cNvPicPr/>
            <p:nvPr/>
          </p:nvPicPr>
          <p:blipFill>
            <a:blip r:embed="rId4"/>
            <a:srcRect l="14715" t="2671" r="613" b="85469"/>
            <a:stretch/>
          </p:blipFill>
          <p:spPr>
            <a:xfrm>
              <a:off x="2133720" y="4800600"/>
              <a:ext cx="563364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10"/>
            <p:cNvSpPr/>
            <p:nvPr/>
          </p:nvSpPr>
          <p:spPr>
            <a:xfrm>
              <a:off x="2133720" y="5486400"/>
              <a:ext cx="563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rebuchet MS"/>
                </a:rPr>
                <a:t>Simulated Spectrum of the 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3"/>
          <p:cNvSpPr/>
          <p:nvPr/>
        </p:nvSpPr>
        <p:spPr>
          <a:xfrm>
            <a:off x="6553080" y="358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15" descr=""/>
          <p:cNvPicPr/>
          <p:nvPr/>
        </p:nvPicPr>
        <p:blipFill>
          <a:blip r:embed="rId5"/>
          <a:stretch/>
        </p:blipFill>
        <p:spPr>
          <a:xfrm>
            <a:off x="2590920" y="1143000"/>
            <a:ext cx="3733560" cy="246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grpSp>
        <p:nvGrpSpPr>
          <p:cNvPr id="608" name="Group 20"/>
          <p:cNvGrpSpPr/>
          <p:nvPr/>
        </p:nvGrpSpPr>
        <p:grpSpPr>
          <a:xfrm>
            <a:off x="2209320" y="2057400"/>
            <a:ext cx="5486760" cy="2666880"/>
            <a:chOff x="2209320" y="2057400"/>
            <a:chExt cx="5486760" cy="2666880"/>
          </a:xfrm>
        </p:grpSpPr>
        <p:sp>
          <p:nvSpPr>
            <p:cNvPr id="609" name="Rectangle 17"/>
            <p:cNvSpPr/>
            <p:nvPr/>
          </p:nvSpPr>
          <p:spPr>
            <a:xfrm>
              <a:off x="4343400" y="2057400"/>
              <a:ext cx="533520" cy="152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8"/>
            <p:cNvSpPr/>
            <p:nvPr/>
          </p:nvSpPr>
          <p:spPr>
            <a:xfrm flipH="1">
              <a:off x="2209320" y="2209680"/>
              <a:ext cx="213372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9"/>
            <p:cNvSpPr/>
            <p:nvPr/>
          </p:nvSpPr>
          <p:spPr>
            <a:xfrm>
              <a:off x="4876920" y="2209680"/>
              <a:ext cx="281916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21"/>
          <p:cNvSpPr/>
          <p:nvPr/>
        </p:nvSpPr>
        <p:spPr>
          <a:xfrm>
            <a:off x="3733920" y="59436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is the Sun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3" descr="refspecABSORP"/>
          <p:cNvPicPr/>
          <p:nvPr/>
        </p:nvPicPr>
        <p:blipFill>
          <a:blip r:embed="rId1"/>
          <a:srcRect l="0" t="0" r="0" b="4006"/>
          <a:stretch/>
        </p:blipFill>
        <p:spPr>
          <a:xfrm>
            <a:off x="1295280" y="985680"/>
            <a:ext cx="6654960" cy="5872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178840" y="457200"/>
            <a:ext cx="965160" cy="123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"/>
          <p:cNvPicPr/>
          <p:nvPr/>
        </p:nvPicPr>
        <p:blipFill>
          <a:blip r:embed="rId3"/>
          <a:stretch/>
        </p:blipFill>
        <p:spPr>
          <a:xfrm>
            <a:off x="0" y="380880"/>
            <a:ext cx="961920" cy="12193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6"/>
          <p:cNvSpPr/>
          <p:nvPr/>
        </p:nvSpPr>
        <p:spPr>
          <a:xfrm>
            <a:off x="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irchh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807732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n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1295280" y="1447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228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0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1"/>
          <p:cNvSpPr/>
          <p:nvPr/>
        </p:nvSpPr>
        <p:spPr>
          <a:xfrm flipV="1">
            <a:off x="62485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2"/>
          <p:cNvSpPr/>
          <p:nvPr/>
        </p:nvSpPr>
        <p:spPr>
          <a:xfrm flipV="1">
            <a:off x="71629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onfirmed: The Sun is a Sta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8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9"/>
          <p:cNvSpPr/>
          <p:nvPr/>
        </p:nvSpPr>
        <p:spPr>
          <a:xfrm>
            <a:off x="3809880" y="2438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990720" y="49528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The stars are other Su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267080" y="6019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09880" cy="2625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33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2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5816520" cy="18237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4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ere is the Sun in our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AutoShape 6"/>
          <p:cNvSpPr/>
          <p:nvPr/>
        </p:nvSpPr>
        <p:spPr>
          <a:xfrm>
            <a:off x="685800" y="1752480"/>
            <a:ext cx="1447920" cy="1676520"/>
          </a:xfrm>
          <a:prstGeom prst="wedgeRoundRectCallout">
            <a:avLst>
              <a:gd name="adj1" fmla="val 33444"/>
              <a:gd name="adj2" fmla="val 10284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5486400" y="1752480"/>
            <a:ext cx="60948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8"/>
          <p:cNvSpPr/>
          <p:nvPr/>
        </p:nvSpPr>
        <p:spPr>
          <a:xfrm>
            <a:off x="5791320" y="274320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2819520" y="4876920"/>
            <a:ext cx="60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hapley observes dense star clusters . .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1387440" y="1432080"/>
            <a:ext cx="995400" cy="1226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2"/>
          <a:stretch/>
        </p:blipFill>
        <p:spPr>
          <a:xfrm>
            <a:off x="2971800" y="1432080"/>
            <a:ext cx="2016000" cy="3733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2438280" cy="162072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7"/>
          <p:cNvSpPr/>
          <p:nvPr/>
        </p:nvSpPr>
        <p:spPr>
          <a:xfrm>
            <a:off x="5562720" y="3733920"/>
            <a:ext cx="243828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lobular Cluster M13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2438280" y="5257800"/>
            <a:ext cx="29718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ount Wilson 60-inch Reflector Telescope (completed in 19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1371600" y="2666880"/>
            <a:ext cx="108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arlow Shap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11" descr=""/>
          <p:cNvPicPr/>
          <p:nvPr/>
        </p:nvPicPr>
        <p:blipFill>
          <a:blip r:embed="rId4"/>
          <a:stretch/>
        </p:blipFill>
        <p:spPr>
          <a:xfrm>
            <a:off x="1066680" y="3657600"/>
            <a:ext cx="1386000" cy="13446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12"/>
          <p:cNvSpPr/>
          <p:nvPr/>
        </p:nvSpPr>
        <p:spPr>
          <a:xfrm>
            <a:off x="10666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enrietta Leav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914400" y="480060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f the Sun and planets were at the center, globular clusters would be evenly distributed around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hat did Shapley disc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11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2389320"/>
          </a:xfrm>
          <a:prstGeom prst="rect">
            <a:avLst/>
          </a:prstGeom>
          <a:ln w="0">
            <a:noFill/>
          </a:ln>
        </p:spPr>
      </p:pic>
      <p:sp>
        <p:nvSpPr>
          <p:cNvPr id="6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 establish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838080" y="4757760"/>
            <a:ext cx="74678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Globular clusters are distributed to one side of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he Solar System is nearer the edge of the Gala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13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45320" cy="239724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efore Telesco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847800" y="4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430360" cy="3771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300400" cy="2008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2546280" cy="32767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1297080" y="58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38088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e only had our eye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and a variety of measuring instr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3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5: One Galaxy or Man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" name="Group 24"/>
          <p:cNvGrpSpPr/>
          <p:nvPr/>
        </p:nvGrpSpPr>
        <p:grpSpPr>
          <a:xfrm>
            <a:off x="5257800" y="304920"/>
            <a:ext cx="3124080" cy="2562480"/>
            <a:chOff x="5257800" y="304920"/>
            <a:chExt cx="3124080" cy="2562480"/>
          </a:xfrm>
        </p:grpSpPr>
        <p:pic>
          <p:nvPicPr>
            <p:cNvPr id="665" name="Picture 6" descr=""/>
            <p:cNvPicPr/>
            <p:nvPr/>
          </p:nvPicPr>
          <p:blipFill>
            <a:blip r:embed="rId2"/>
            <a:stretch/>
          </p:blipFill>
          <p:spPr>
            <a:xfrm>
              <a:off x="5479920" y="304920"/>
              <a:ext cx="263700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 Box 7"/>
            <p:cNvSpPr/>
            <p:nvPr/>
          </p:nvSpPr>
          <p:spPr>
            <a:xfrm>
              <a:off x="5257800" y="2590920"/>
              <a:ext cx="31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31 - Andromeda  courtesy of G. Spielgelm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8"/>
          <p:cNvGrpSpPr/>
          <p:nvPr/>
        </p:nvGrpSpPr>
        <p:grpSpPr>
          <a:xfrm>
            <a:off x="5029200" y="3733920"/>
            <a:ext cx="2514600" cy="2181240"/>
            <a:chOff x="5029200" y="3733920"/>
            <a:chExt cx="2514600" cy="2181240"/>
          </a:xfrm>
        </p:grpSpPr>
        <p:sp>
          <p:nvSpPr>
            <p:cNvPr id="668" name="Text Box 12"/>
            <p:cNvSpPr/>
            <p:nvPr/>
          </p:nvSpPr>
          <p:spPr>
            <a:xfrm>
              <a:off x="5029200" y="5638680"/>
              <a:ext cx="243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NGC 1232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9" name="Picture 17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105520" y="3733920"/>
              <a:ext cx="2438280" cy="190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Group 20"/>
          <p:cNvGrpSpPr/>
          <p:nvPr/>
        </p:nvGrpSpPr>
        <p:grpSpPr>
          <a:xfrm>
            <a:off x="1143000" y="457200"/>
            <a:ext cx="2514240" cy="2264040"/>
            <a:chOff x="1143000" y="457200"/>
            <a:chExt cx="2514240" cy="2264040"/>
          </a:xfrm>
        </p:grpSpPr>
        <p:sp>
          <p:nvSpPr>
            <p:cNvPr id="671" name="Text Box 11"/>
            <p:cNvSpPr/>
            <p:nvPr/>
          </p:nvSpPr>
          <p:spPr>
            <a:xfrm>
              <a:off x="1299960" y="2444760"/>
              <a:ext cx="20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51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2" name="Picture 1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1143000" y="457200"/>
              <a:ext cx="2514240" cy="204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AutoShape 22"/>
          <p:cNvSpPr/>
          <p:nvPr/>
        </p:nvSpPr>
        <p:spPr>
          <a:xfrm>
            <a:off x="228600" y="3657600"/>
            <a:ext cx="1447920" cy="1676520"/>
          </a:xfrm>
          <a:prstGeom prst="wedgeRoundRectCallout">
            <a:avLst>
              <a:gd name="adj1" fmla="val 101754"/>
              <a:gd name="adj2" fmla="val 5587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Distance to “nebulae” determin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2133720" y="6095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Edwin Hub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066680" y="320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t Wilson 100-i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6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038480" cy="33544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0" name="Picture 2183569" descr="S21Picture 2183569"/>
          <p:cNvPicPr/>
          <p:nvPr/>
        </p:nvPicPr>
        <p:blipFill>
          <a:blip r:embed="rId2"/>
          <a:stretch/>
        </p:blipFill>
        <p:spPr>
          <a:xfrm>
            <a:off x="2057400" y="3733920"/>
            <a:ext cx="1739880" cy="22860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1" name="Picture 6571662" descr="S21Picture 6571662"/>
          <p:cNvPicPr/>
          <p:nvPr/>
        </p:nvPicPr>
        <p:blipFill>
          <a:blip r:embed="rId3"/>
          <a:stretch/>
        </p:blipFill>
        <p:spPr>
          <a:xfrm>
            <a:off x="1295280" y="1066680"/>
            <a:ext cx="2514600" cy="21592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82" name="Text Box 9"/>
          <p:cNvSpPr/>
          <p:nvPr/>
        </p:nvSpPr>
        <p:spPr>
          <a:xfrm>
            <a:off x="4495680" y="4621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One of Hubble’s photographs of the Andromeda “Nebula” with Cepheid variable mar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0"/>
          <p:cNvSpPr/>
          <p:nvPr/>
        </p:nvSpPr>
        <p:spPr>
          <a:xfrm flipV="1">
            <a:off x="6400800" y="3097080"/>
            <a:ext cx="0" cy="1524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54864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Revealing a universe full of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2143080" y="6248520"/>
            <a:ext cx="49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700520" cy="4826160"/>
          </a:xfrm>
          <a:prstGeom prst="rect">
            <a:avLst/>
          </a:prstGeom>
          <a:ln w="0">
            <a:noFill/>
          </a:ln>
        </p:spPr>
      </p:pic>
      <p:sp>
        <p:nvSpPr>
          <p:cNvPr id="68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6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id the universe have a beg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1" name="Picture 7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8"/>
          <p:cNvSpPr/>
          <p:nvPr/>
        </p:nvSpPr>
        <p:spPr>
          <a:xfrm>
            <a:off x="1143000" y="1295280"/>
            <a:ext cx="1447920" cy="1676520"/>
          </a:xfrm>
          <a:prstGeom prst="wedgeRoundRectCallout">
            <a:avLst>
              <a:gd name="adj1" fmla="val 21050"/>
              <a:gd name="adj2" fmla="val 14015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657600" y="56386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dwin Hubble’s data showed that the more distant galaxies are moving away faster than the closer galax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14"/>
          <p:cNvGrpSpPr/>
          <p:nvPr/>
        </p:nvGrpSpPr>
        <p:grpSpPr>
          <a:xfrm>
            <a:off x="3048120" y="1219320"/>
            <a:ext cx="5715000" cy="4248000"/>
            <a:chOff x="3048120" y="1219320"/>
            <a:chExt cx="5715000" cy="4248000"/>
          </a:xfrm>
        </p:grpSpPr>
        <p:pic>
          <p:nvPicPr>
            <p:cNvPr id="695" name="Picture 12" descr=""/>
            <p:cNvPicPr/>
            <p:nvPr/>
          </p:nvPicPr>
          <p:blipFill>
            <a:blip r:embed="rId2"/>
            <a:srcRect l="0" t="0" r="13819" b="0"/>
            <a:stretch/>
          </p:blipFill>
          <p:spPr>
            <a:xfrm>
              <a:off x="3048120" y="1219320"/>
              <a:ext cx="556236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Text Box 13"/>
            <p:cNvSpPr/>
            <p:nvPr/>
          </p:nvSpPr>
          <p:spPr>
            <a:xfrm>
              <a:off x="7086600" y="51814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rebuchet MS"/>
                </a:rPr>
                <a:t>Image Credit: STS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Evidence of Big Bang detec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60199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11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276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701" name="Group 14"/>
          <p:cNvGrpSpPr/>
          <p:nvPr/>
        </p:nvGrpSpPr>
        <p:grpSpPr>
          <a:xfrm>
            <a:off x="609480" y="1371600"/>
            <a:ext cx="5334120" cy="4818240"/>
            <a:chOff x="609480" y="1371600"/>
            <a:chExt cx="5334120" cy="4818240"/>
          </a:xfrm>
        </p:grpSpPr>
        <p:pic>
          <p:nvPicPr>
            <p:cNvPr id="702" name="Picture 12" descr=""/>
            <p:cNvPicPr/>
            <p:nvPr/>
          </p:nvPicPr>
          <p:blipFill>
            <a:blip r:embed="rId2"/>
            <a:stretch/>
          </p:blipFill>
          <p:spPr>
            <a:xfrm>
              <a:off x="609480" y="1371600"/>
              <a:ext cx="53341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13"/>
            <p:cNvSpPr/>
            <p:nvPr/>
          </p:nvSpPr>
          <p:spPr>
            <a:xfrm>
              <a:off x="609480" y="5943600"/>
              <a:ext cx="457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Image courtesy of WMAP:  map.gsfc.nasa.g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Age of the Universe calcula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8153280" y="37339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8"/>
          <p:cNvGrpSpPr/>
          <p:nvPr/>
        </p:nvGrpSpPr>
        <p:grpSpPr>
          <a:xfrm>
            <a:off x="1371600" y="1901880"/>
            <a:ext cx="6630840" cy="4956120"/>
            <a:chOff x="1371600" y="1901880"/>
            <a:chExt cx="6630840" cy="4956120"/>
          </a:xfrm>
        </p:grpSpPr>
        <p:pic>
          <p:nvPicPr>
            <p:cNvPr id="708" name="Picture 3" descr=""/>
            <p:cNvPicPr/>
            <p:nvPr/>
          </p:nvPicPr>
          <p:blipFill>
            <a:blip r:embed="rId1"/>
            <a:stretch/>
          </p:blipFill>
          <p:spPr>
            <a:xfrm>
              <a:off x="1371600" y="1901880"/>
              <a:ext cx="663084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Rectangle 7"/>
            <p:cNvSpPr/>
            <p:nvPr/>
          </p:nvSpPr>
          <p:spPr>
            <a:xfrm>
              <a:off x="4724280" y="411156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0" name="Picture 9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0"/>
          <p:cNvSpPr/>
          <p:nvPr/>
        </p:nvSpPr>
        <p:spPr>
          <a:xfrm>
            <a:off x="228600" y="5334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13" descr="hubble"/>
          <p:cNvPicPr/>
          <p:nvPr/>
        </p:nvPicPr>
        <p:blipFill>
          <a:blip r:embed="rId3"/>
          <a:stretch/>
        </p:blipFill>
        <p:spPr>
          <a:xfrm>
            <a:off x="6324480" y="1828800"/>
            <a:ext cx="2286000" cy="183024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1"/>
          <p:cNvSpPr/>
          <p:nvPr/>
        </p:nvSpPr>
        <p:spPr>
          <a:xfrm>
            <a:off x="7467480" y="1676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Telescope-Herschel"/>
          <p:cNvPicPr/>
          <p:nvPr/>
        </p:nvPicPr>
        <p:blipFill>
          <a:blip r:embed="rId1"/>
          <a:stretch/>
        </p:blipFill>
        <p:spPr>
          <a:xfrm>
            <a:off x="2819520" y="2362320"/>
            <a:ext cx="2819160" cy="2076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6" name="Text Box 3"/>
          <p:cNvSpPr/>
          <p:nvPr/>
        </p:nvSpPr>
        <p:spPr>
          <a:xfrm>
            <a:off x="2971800" y="47242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Herschel’s telescope -- used to discover Uranus in 17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5" descr="herschel"/>
          <p:cNvPicPr/>
          <p:nvPr/>
        </p:nvPicPr>
        <p:blipFill>
          <a:blip r:embed="rId2"/>
          <a:stretch/>
        </p:blipFill>
        <p:spPr>
          <a:xfrm>
            <a:off x="6019920" y="2286000"/>
            <a:ext cx="1828800" cy="199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8" name="Text Box 6"/>
          <p:cNvSpPr/>
          <p:nvPr/>
        </p:nvSpPr>
        <p:spPr>
          <a:xfrm>
            <a:off x="6019920" y="42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William Hersch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228600" y="1295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n our own solar system, telescopes found planet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our eyes could not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8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1657440" cy="2209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1" name="Picture 9" descr=""/>
          <p:cNvPicPr/>
          <p:nvPr/>
        </p:nvPicPr>
        <p:blipFill>
          <a:blip r:embed="rId4"/>
          <a:stretch/>
        </p:blipFill>
        <p:spPr>
          <a:xfrm>
            <a:off x="457200" y="396252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10"/>
          <p:cNvSpPr/>
          <p:nvPr/>
        </p:nvSpPr>
        <p:spPr>
          <a:xfrm>
            <a:off x="914400" y="2133720"/>
            <a:ext cx="1600200" cy="1676160"/>
          </a:xfrm>
          <a:prstGeom prst="wedgeRoundRectCallout">
            <a:avLst>
              <a:gd name="adj1" fmla="val -9625"/>
              <a:gd name="adj2" fmla="val 8664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7: Are there other plan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3"/>
          <p:cNvSpPr/>
          <p:nvPr/>
        </p:nvSpPr>
        <p:spPr>
          <a:xfrm>
            <a:off x="5105520" y="3581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  <a:ea typeface="ヒラギノ角ゴ Pro W3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4" descr="kecks_overview_sm"/>
          <p:cNvPicPr/>
          <p:nvPr/>
        </p:nvPicPr>
        <p:blipFill>
          <a:blip r:embed="rId1"/>
          <a:srcRect l="0" t="0" r="3573" b="9115"/>
          <a:stretch/>
        </p:blipFill>
        <p:spPr>
          <a:xfrm>
            <a:off x="5410080" y="1523880"/>
            <a:ext cx="2710080" cy="1997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7" name="Picture 6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1587600" cy="2311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8" name="Text Box 7"/>
          <p:cNvSpPr/>
          <p:nvPr/>
        </p:nvSpPr>
        <p:spPr>
          <a:xfrm>
            <a:off x="5486400" y="6324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Geoff M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Other worlds discover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4191120" cy="271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31" name="Text Box 11"/>
          <p:cNvSpPr/>
          <p:nvPr/>
        </p:nvSpPr>
        <p:spPr>
          <a:xfrm>
            <a:off x="609480" y="5029200"/>
            <a:ext cx="4267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114300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90’s through To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057400" cy="116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603440" cy="19047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737" name="Picture 8" descr=""/>
          <p:cNvPicPr/>
          <p:nvPr/>
        </p:nvPicPr>
        <p:blipFill>
          <a:blip r:embed="rId4"/>
          <a:stretch/>
        </p:blipFill>
        <p:spPr>
          <a:xfrm>
            <a:off x="762120" y="3124080"/>
            <a:ext cx="1439640" cy="26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8" name="Picture 9" descr="kecks_overview_sm"/>
          <p:cNvPicPr/>
          <p:nvPr/>
        </p:nvPicPr>
        <p:blipFill>
          <a:blip r:embed="rId5"/>
          <a:srcRect l="0" t="0" r="3573" b="4545"/>
          <a:stretch/>
        </p:blipFill>
        <p:spPr>
          <a:xfrm>
            <a:off x="6172200" y="4952880"/>
            <a:ext cx="1447920" cy="115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9" name="Picture 10" descr=""/>
          <p:cNvPicPr/>
          <p:nvPr/>
        </p:nvPicPr>
        <p:blipFill>
          <a:blip r:embed="rId6"/>
          <a:stretch/>
        </p:blipFill>
        <p:spPr>
          <a:xfrm>
            <a:off x="7010280" y="2819520"/>
            <a:ext cx="1752840" cy="15080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have changed our understanding of the universe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Picture 13" descr="hubble"/>
          <p:cNvPicPr/>
          <p:nvPr/>
        </p:nvPicPr>
        <p:blipFill>
          <a:blip r:embed="rId7"/>
          <a:stretch/>
        </p:blipFill>
        <p:spPr>
          <a:xfrm>
            <a:off x="2743200" y="5029200"/>
            <a:ext cx="1905120" cy="1525680"/>
          </a:xfrm>
          <a:prstGeom prst="rect">
            <a:avLst/>
          </a:prstGeom>
          <a:ln w="0">
            <a:noFill/>
          </a:ln>
        </p:spPr>
      </p:pic>
      <p:sp>
        <p:nvSpPr>
          <p:cNvPr id="742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0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1"/>
          <p:cNvSpPr/>
          <p:nvPr/>
        </p:nvSpPr>
        <p:spPr>
          <a:xfrm>
            <a:off x="76212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22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23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24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25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26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27"/>
          <p:cNvSpPr/>
          <p:nvPr/>
        </p:nvSpPr>
        <p:spPr>
          <a:xfrm>
            <a:off x="4952880" y="990720"/>
            <a:ext cx="1676520" cy="1904760"/>
          </a:xfrm>
          <a:prstGeom prst="wedgeRoundRectCallout">
            <a:avLst>
              <a:gd name="adj1" fmla="val -181060"/>
              <a:gd name="adj2" fmla="val 11558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S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2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3"/>
          <p:cNvSpPr/>
          <p:nvPr/>
        </p:nvSpPr>
        <p:spPr>
          <a:xfrm>
            <a:off x="4952880" y="1219320"/>
            <a:ext cx="1524240" cy="1676160"/>
          </a:xfrm>
          <a:prstGeom prst="wedgeRoundRectCallout">
            <a:avLst>
              <a:gd name="adj1" fmla="val -194166"/>
              <a:gd name="adj2" fmla="val 12452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And we had many question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4"/>
          <p:cNvSpPr/>
          <p:nvPr/>
        </p:nvSpPr>
        <p:spPr>
          <a:xfrm>
            <a:off x="685800" y="1447920"/>
            <a:ext cx="1523880" cy="1600200"/>
          </a:xfrm>
          <a:prstGeom prst="wedgeRoundRectCallout">
            <a:avLst>
              <a:gd name="adj1" fmla="val 72500"/>
              <a:gd name="adj2" fmla="val 115875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un is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5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Su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V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ar aw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illion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7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3.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year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8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ny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9"/>
          <p:cNvSpPr/>
          <p:nvPr/>
        </p:nvSpPr>
        <p:spPr>
          <a:xfrm>
            <a:off x="4952880" y="1066680"/>
            <a:ext cx="1676520" cy="1828800"/>
          </a:xfrm>
          <a:prstGeom prst="wedgeRoundRectCallout">
            <a:avLst>
              <a:gd name="adj1" fmla="val -181060"/>
              <a:gd name="adj2" fmla="val 11831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lfway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rom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Gala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0"/>
          <p:cNvSpPr/>
          <p:nvPr/>
        </p:nvSpPr>
        <p:spPr>
          <a:xfrm>
            <a:off x="162000" y="284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hanging our understanding of our place in the univers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2635200" y="335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304920" y="2133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From the center of the univer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Picture 6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5146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7"/>
          <p:cNvSpPr/>
          <p:nvPr/>
        </p:nvSpPr>
        <p:spPr>
          <a:xfrm>
            <a:off x="4648320" y="56386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o a very small planet in an immense expanding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8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769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And the more we learn, the more questions emerg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2558880" y="358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Picture 8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9"/>
          <p:cNvSpPr/>
          <p:nvPr/>
        </p:nvSpPr>
        <p:spPr>
          <a:xfrm>
            <a:off x="685800" y="4572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0"/>
          <p:cNvSpPr/>
          <p:nvPr/>
        </p:nvSpPr>
        <p:spPr>
          <a:xfrm>
            <a:off x="609480" y="1600200"/>
            <a:ext cx="1524240" cy="1676520"/>
          </a:xfrm>
          <a:prstGeom prst="wedgeRoundRectCallout">
            <a:avLst>
              <a:gd name="adj1" fmla="val 87500"/>
              <a:gd name="adj2" fmla="val 8106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yond Plu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o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2514600" y="1523880"/>
            <a:ext cx="1600200" cy="1676520"/>
          </a:xfrm>
          <a:prstGeom prst="wedgeRoundRectCallout">
            <a:avLst>
              <a:gd name="adj1" fmla="val -29166"/>
              <a:gd name="adj2" fmla="val 8863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2"/>
          <p:cNvSpPr/>
          <p:nvPr/>
        </p:nvSpPr>
        <p:spPr>
          <a:xfrm>
            <a:off x="6934320" y="1905120"/>
            <a:ext cx="1600200" cy="1676160"/>
          </a:xfrm>
          <a:prstGeom prst="wedgeRoundRectCallout">
            <a:avLst>
              <a:gd name="adj1" fmla="val -300990"/>
              <a:gd name="adj2" fmla="val 6846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3"/>
          <p:cNvSpPr/>
          <p:nvPr/>
        </p:nvSpPr>
        <p:spPr>
          <a:xfrm>
            <a:off x="6553080" y="3886200"/>
            <a:ext cx="1447920" cy="1676520"/>
          </a:xfrm>
          <a:prstGeom prst="wedgeRoundRectCallout">
            <a:avLst>
              <a:gd name="adj1" fmla="val -305263"/>
              <a:gd name="adj2" fmla="val -4621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xpand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14"/>
          <p:cNvSpPr/>
          <p:nvPr/>
        </p:nvSpPr>
        <p:spPr>
          <a:xfrm>
            <a:off x="4648320" y="4876920"/>
            <a:ext cx="1447560" cy="1676160"/>
          </a:xfrm>
          <a:prstGeom prst="wedgeRoundRectCallout">
            <a:avLst>
              <a:gd name="adj1" fmla="val -173685"/>
              <a:gd name="adj2" fmla="val -10530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rbor lif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15"/>
          <p:cNvSpPr/>
          <p:nvPr/>
        </p:nvSpPr>
        <p:spPr>
          <a:xfrm>
            <a:off x="4800600" y="1447920"/>
            <a:ext cx="1600200" cy="1676160"/>
          </a:xfrm>
          <a:prstGeom prst="wedgeRoundRectCallout">
            <a:avLst>
              <a:gd name="adj1" fmla="val -168254"/>
              <a:gd name="adj2" fmla="val 9270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are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the 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galax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19"/>
          <p:cNvGrpSpPr/>
          <p:nvPr/>
        </p:nvGrpSpPr>
        <p:grpSpPr>
          <a:xfrm>
            <a:off x="533520" y="1981080"/>
            <a:ext cx="2666880" cy="2357640"/>
            <a:chOff x="533520" y="1981080"/>
            <a:chExt cx="2666880" cy="2357640"/>
          </a:xfrm>
        </p:grpSpPr>
        <p:pic>
          <p:nvPicPr>
            <p:cNvPr id="782" name="Picture 12" descr=""/>
            <p:cNvPicPr/>
            <p:nvPr/>
          </p:nvPicPr>
          <p:blipFill>
            <a:blip r:embed="rId1"/>
            <a:stretch/>
          </p:blipFill>
          <p:spPr>
            <a:xfrm>
              <a:off x="533520" y="1981080"/>
              <a:ext cx="2666880" cy="203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Rectangle 13"/>
            <p:cNvSpPr/>
            <p:nvPr/>
          </p:nvSpPr>
          <p:spPr>
            <a:xfrm>
              <a:off x="809640" y="4092480"/>
              <a:ext cx="199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Chandra Illustration: CXC/NG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20"/>
          <p:cNvGrpSpPr/>
          <p:nvPr/>
        </p:nvGrpSpPr>
        <p:grpSpPr>
          <a:xfrm>
            <a:off x="3581280" y="1981080"/>
            <a:ext cx="2178000" cy="1993320"/>
            <a:chOff x="3581280" y="1981080"/>
            <a:chExt cx="2178000" cy="1993320"/>
          </a:xfrm>
        </p:grpSpPr>
        <p:pic>
          <p:nvPicPr>
            <p:cNvPr id="785" name="Picture 14" descr=""/>
            <p:cNvPicPr/>
            <p:nvPr/>
          </p:nvPicPr>
          <p:blipFill>
            <a:blip r:embed="rId2"/>
            <a:stretch/>
          </p:blipFill>
          <p:spPr>
            <a:xfrm>
              <a:off x="3581280" y="1981080"/>
              <a:ext cx="2107800" cy="16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Rectangle 15"/>
            <p:cNvSpPr/>
            <p:nvPr/>
          </p:nvSpPr>
          <p:spPr>
            <a:xfrm>
              <a:off x="3641400" y="3728160"/>
              <a:ext cx="211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Spitzer Credit: NASA/JPL-Caltec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27"/>
          <p:cNvGrpSpPr/>
          <p:nvPr/>
        </p:nvGrpSpPr>
        <p:grpSpPr>
          <a:xfrm>
            <a:off x="5488560" y="3962520"/>
            <a:ext cx="2831040" cy="2440080"/>
            <a:chOff x="5488560" y="3962520"/>
            <a:chExt cx="2831040" cy="2440080"/>
          </a:xfrm>
        </p:grpSpPr>
        <p:pic>
          <p:nvPicPr>
            <p:cNvPr id="788" name="Picture 16" descr=""/>
            <p:cNvPicPr/>
            <p:nvPr/>
          </p:nvPicPr>
          <p:blipFill>
            <a:blip r:embed="rId3"/>
            <a:stretch/>
          </p:blipFill>
          <p:spPr>
            <a:xfrm>
              <a:off x="6100920" y="3962520"/>
              <a:ext cx="15667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17"/>
            <p:cNvSpPr/>
            <p:nvPr/>
          </p:nvSpPr>
          <p:spPr>
            <a:xfrm>
              <a:off x="5488560" y="6156360"/>
              <a:ext cx="28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GLAST Credit: General Dynamics C4 System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24"/>
          <p:cNvGrpSpPr/>
          <p:nvPr/>
        </p:nvGrpSpPr>
        <p:grpSpPr>
          <a:xfrm>
            <a:off x="6324480" y="1600200"/>
            <a:ext cx="2590920" cy="2151000"/>
            <a:chOff x="6324480" y="1600200"/>
            <a:chExt cx="2590920" cy="2151000"/>
          </a:xfrm>
        </p:grpSpPr>
        <p:pic>
          <p:nvPicPr>
            <p:cNvPr id="791" name="Picture 22" descr="arecibo"/>
            <p:cNvPicPr/>
            <p:nvPr/>
          </p:nvPicPr>
          <p:blipFill>
            <a:blip r:embed="rId4"/>
            <a:stretch/>
          </p:blipFill>
          <p:spPr>
            <a:xfrm>
              <a:off x="6324480" y="1600200"/>
              <a:ext cx="2590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23"/>
            <p:cNvSpPr/>
            <p:nvPr/>
          </p:nvSpPr>
          <p:spPr>
            <a:xfrm>
              <a:off x="6629400" y="3504960"/>
              <a:ext cx="228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Arecibo Image Courtesy of the NA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will continue to expand our understanding of our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Group 33"/>
          <p:cNvGrpSpPr/>
          <p:nvPr/>
        </p:nvGrpSpPr>
        <p:grpSpPr>
          <a:xfrm>
            <a:off x="685800" y="4419720"/>
            <a:ext cx="3048120" cy="2227320"/>
            <a:chOff x="685800" y="4419720"/>
            <a:chExt cx="3048120" cy="2227320"/>
          </a:xfrm>
        </p:grpSpPr>
        <p:pic>
          <p:nvPicPr>
            <p:cNvPr id="795" name="Picture 31" descr=""/>
            <p:cNvPicPr/>
            <p:nvPr/>
          </p:nvPicPr>
          <p:blipFill>
            <a:blip r:embed="rId5"/>
            <a:stretch/>
          </p:blipFill>
          <p:spPr>
            <a:xfrm>
              <a:off x="685800" y="4419720"/>
              <a:ext cx="304812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2"/>
            <p:cNvSpPr/>
            <p:nvPr/>
          </p:nvSpPr>
          <p:spPr>
            <a:xfrm>
              <a:off x="762120" y="6400800"/>
              <a:ext cx="297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Keck Image courtesy of NASA/JPL/Calte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9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3"/>
          <p:cNvSpPr/>
          <p:nvPr/>
        </p:nvSpPr>
        <p:spPr>
          <a:xfrm>
            <a:off x="762120" y="1371600"/>
            <a:ext cx="1600200" cy="1676520"/>
          </a:xfrm>
          <a:prstGeom prst="wedgeRoundRectCallout">
            <a:avLst>
              <a:gd name="adj1" fmla="val 5754"/>
              <a:gd name="adj2" fmla="val 12102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444844" descr="S7Picture 444844"/>
          <p:cNvPicPr/>
          <p:nvPr/>
        </p:nvPicPr>
        <p:blipFill>
          <a:blip r:embed="rId2"/>
          <a:stretch/>
        </p:blipFill>
        <p:spPr>
          <a:xfrm>
            <a:off x="5638680" y="914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718501" descr="S7Picture 5718501"/>
          <p:cNvPicPr/>
          <p:nvPr/>
        </p:nvPicPr>
        <p:blipFill>
          <a:blip r:embed="rId3"/>
          <a:stretch/>
        </p:blipFill>
        <p:spPr>
          <a:xfrm>
            <a:off x="5638680" y="4089240"/>
            <a:ext cx="2895840" cy="2683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6"/>
          <p:cNvSpPr/>
          <p:nvPr/>
        </p:nvSpPr>
        <p:spPr>
          <a:xfrm>
            <a:off x="2819520" y="4876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Copernicus said “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895480" y="2286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Aristotle said “Eart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1: Is  Earth or Sun at the cen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Galileo observes Ve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7010280" y="1981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Earth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086600" y="47563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Sun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23"/>
          <p:cNvGrpSpPr/>
          <p:nvPr/>
        </p:nvGrpSpPr>
        <p:grpSpPr>
          <a:xfrm>
            <a:off x="304920" y="4648320"/>
            <a:ext cx="2057400" cy="1371600"/>
            <a:chOff x="304920" y="4648320"/>
            <a:chExt cx="2057400" cy="1371600"/>
          </a:xfrm>
        </p:grpSpPr>
        <p:sp>
          <p:nvSpPr>
            <p:cNvPr id="533" name="Text Box 6"/>
            <p:cNvSpPr/>
            <p:nvPr/>
          </p:nvSpPr>
          <p:spPr>
            <a:xfrm>
              <a:off x="304920" y="472428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rebuchet MS"/>
                </a:rPr>
                <a:t>What Galileo ob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>
              <a:off x="1828800" y="5257800"/>
              <a:ext cx="533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8"/>
            <p:cNvSpPr/>
            <p:nvPr/>
          </p:nvSpPr>
          <p:spPr>
            <a:xfrm>
              <a:off x="457200" y="4648320"/>
              <a:ext cx="1371600" cy="137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Picture 938792" descr="S8Picture 938792"/>
          <p:cNvPicPr/>
          <p:nvPr/>
        </p:nvPicPr>
        <p:blipFill>
          <a:blip r:embed="rId1"/>
          <a:stretch/>
        </p:blipFill>
        <p:spPr>
          <a:xfrm>
            <a:off x="7391520" y="512640"/>
            <a:ext cx="1752480" cy="9939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38280" cy="19526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1"/>
          <p:cNvSpPr/>
          <p:nvPr/>
        </p:nvSpPr>
        <p:spPr>
          <a:xfrm>
            <a:off x="3019680" y="6600960"/>
            <a:ext cx="361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0" y="2362320"/>
            <a:ext cx="2133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Ven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pha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reveal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3" descr=""/>
          <p:cNvPicPr/>
          <p:nvPr/>
        </p:nvPicPr>
        <p:blipFill>
          <a:blip r:embed="rId3"/>
          <a:stretch/>
        </p:blipFill>
        <p:spPr>
          <a:xfrm>
            <a:off x="2362320" y="3886200"/>
            <a:ext cx="4800600" cy="2598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"/>
          <p:cNvPicPr/>
          <p:nvPr/>
        </p:nvPicPr>
        <p:blipFill>
          <a:blip r:embed="rId4"/>
          <a:stretch/>
        </p:blipFill>
        <p:spPr>
          <a:xfrm>
            <a:off x="2362320" y="1066680"/>
            <a:ext cx="4724280" cy="2662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"/>
          <p:cNvPicPr/>
          <p:nvPr/>
        </p:nvPicPr>
        <p:blipFill>
          <a:blip r:embed="rId5"/>
          <a:stretch/>
        </p:blipFill>
        <p:spPr>
          <a:xfrm>
            <a:off x="2362320" y="1600200"/>
            <a:ext cx="685800" cy="6523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6"/>
          <p:cNvSpPr/>
          <p:nvPr/>
        </p:nvSpPr>
        <p:spPr>
          <a:xfrm>
            <a:off x="0" y="6521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lay Optional Mov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7"/>
          <p:cNvSpPr/>
          <p:nvPr/>
        </p:nvSpPr>
        <p:spPr>
          <a:xfrm>
            <a:off x="5867280" y="5334120"/>
            <a:ext cx="762120" cy="761760"/>
          </a:xfrm>
          <a:prstGeom prst="ellipse">
            <a:avLst/>
          </a:prstGeom>
          <a:noFill/>
          <a:ln w="9360">
            <a:solidFill>
              <a:srgbClr val="ff99cc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18"/>
          <p:cNvSpPr/>
          <p:nvPr/>
        </p:nvSpPr>
        <p:spPr>
          <a:xfrm>
            <a:off x="5638680" y="5105520"/>
            <a:ext cx="1219320" cy="1218960"/>
          </a:xfrm>
          <a:prstGeom prst="ellipse">
            <a:avLst/>
          </a:prstGeom>
          <a:noFill/>
          <a:ln w="9360">
            <a:solidFill>
              <a:srgbClr val="3366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9"/>
          <p:cNvSpPr/>
          <p:nvPr/>
        </p:nvSpPr>
        <p:spPr>
          <a:xfrm>
            <a:off x="4648320" y="9144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20"/>
          <p:cNvSpPr/>
          <p:nvPr/>
        </p:nvSpPr>
        <p:spPr>
          <a:xfrm flipV="1">
            <a:off x="4724280" y="48006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5410080" y="2057400"/>
            <a:ext cx="167652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5486400" y="4800600"/>
            <a:ext cx="1676520" cy="1676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4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2: How far away are the sta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13"/>
          <p:cNvSpPr/>
          <p:nvPr/>
        </p:nvSpPr>
        <p:spPr>
          <a:xfrm>
            <a:off x="1371600" y="1447920"/>
            <a:ext cx="1523880" cy="167616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w f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17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4876560" cy="3243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55" name="Rectangle 18"/>
          <p:cNvSpPr/>
          <p:nvPr/>
        </p:nvSpPr>
        <p:spPr>
          <a:xfrm>
            <a:off x="4807080" y="5257800"/>
            <a:ext cx="28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59" name="Line 6"/>
          <p:cNvSpPr/>
          <p:nvPr/>
        </p:nvSpPr>
        <p:spPr>
          <a:xfrm>
            <a:off x="678168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64160"/>
          </a:xfrm>
          <a:prstGeom prst="rect">
            <a:avLst/>
          </a:prstGeom>
          <a:ln w="0">
            <a:noFill/>
          </a:ln>
        </p:spPr>
      </p:pic>
      <p:sp>
        <p:nvSpPr>
          <p:cNvPr id="564" name="Line 6"/>
          <p:cNvSpPr/>
          <p:nvPr/>
        </p:nvSpPr>
        <p:spPr>
          <a:xfrm>
            <a:off x="571500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Your eyes marking Earth’s Orb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2642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569" name="Group 11"/>
          <p:cNvGrpSpPr/>
          <p:nvPr/>
        </p:nvGrpSpPr>
        <p:grpSpPr>
          <a:xfrm>
            <a:off x="4038480" y="2819520"/>
            <a:ext cx="1524240" cy="1523880"/>
            <a:chOff x="4038480" y="2819520"/>
            <a:chExt cx="1524240" cy="1523880"/>
          </a:xfrm>
        </p:grpSpPr>
        <p:sp>
          <p:nvSpPr>
            <p:cNvPr id="570" name="Oval 7"/>
            <p:cNvSpPr/>
            <p:nvPr/>
          </p:nvSpPr>
          <p:spPr>
            <a:xfrm>
              <a:off x="4038480" y="2819520"/>
              <a:ext cx="1524240" cy="15238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0"/>
            <p:cNvSpPr/>
            <p:nvPr/>
          </p:nvSpPr>
          <p:spPr>
            <a:xfrm>
              <a:off x="4724280" y="2819520"/>
              <a:ext cx="152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27:06Z</dcterms:created>
  <dc:creator>Marni Berendsen</dc:creator>
  <dc:description/>
  <dc:language>en-US</dc:language>
  <cp:lastModifiedBy>LEGION</cp:lastModifiedBy>
  <cp:lastPrinted>2005-11-08T18:18:53Z</cp:lastPrinted>
  <dcterms:modified xsi:type="dcterms:W3CDTF">2018-03-22T09:27:52Z</dcterms:modified>
  <cp:revision>139</cp:revision>
  <dc:subject/>
  <dc:title>How Telescopes Changed our Universe</dc:title>
</cp:coreProperties>
</file>