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9D2C-19A8-4E8E-9876-D7FB1E30A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9BB-9FF7-4B7F-A2BB-9A0F6221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FECD-4EC8-409A-9CC5-80CC2601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EE2-2394-48F4-AC38-DDE17369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FCB-04E4-4920-9F80-67DF55ED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D06-0C23-4CC7-81D4-79A2CC59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682A-4775-4C45-A0F7-607DE4FA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182-E00B-44B3-881E-2D9EE823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846A-7458-43D3-8ECD-85B71839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1512-9316-4102-AF3B-838C543F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692-C6C0-47CF-B08C-B16C6F45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408-3C82-413D-8EF6-F5C508AC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F8A2-5305-46B7-9FF7-D53C7BA1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CB3B-ABAB-43F3-945A-CA63A3672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How did the Solar System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8800" y="210348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457520" y="23623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380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at happens as it collaps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2209680"/>
            <a:ext cx="4191120" cy="419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95680" y="4648320"/>
            <a:ext cx="152640" cy="167616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6200000">
            <a:off x="5715000" y="33523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flipH="1" flipV="1">
            <a:off x="4495680" y="22089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319968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886200" y="16765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</a:t>
            </a:r>
            <a:r>
              <a:rPr b="0" lang="ja-JP" sz="27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0" y="20574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066680" y="148608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657600" y="3048120"/>
            <a:ext cx="32004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51460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495680" y="232416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543800" y="3962520"/>
            <a:ext cx="10666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86600" y="4267080"/>
            <a:ext cx="19051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391520" y="342900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7391520" y="323856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7391520" y="30481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7391520" y="285768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228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124080" y="2362320"/>
            <a:ext cx="2971800" cy="275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95280" y="3048120"/>
            <a:ext cx="6705720" cy="134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1337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41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746240" y="1208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846360" y="1233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90960" cy="57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olar_system_form.mov" descr=""/>
          <p:cNvPicPr/>
          <p:nvPr/>
        </p:nvPicPr>
        <p:blipFill>
          <a:blip r:embed="rId1"/>
          <a:stretch/>
        </p:blipFill>
        <p:spPr>
          <a:xfrm>
            <a:off x="1600200" y="25236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86b6e3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chno"/>
              </a:rPr>
              <a:t>Stars form in Dense 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3200" y="61722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we mean by dust? What do we mean by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rcRect l="0" t="0" r="0" b="16278"/>
          <a:stretch/>
        </p:blipFill>
        <p:spPr>
          <a:xfrm>
            <a:off x="1450800" y="228600"/>
            <a:ext cx="624528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362320" y="441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chno"/>
              </a:rPr>
              <a:t>The Orion Neb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heic0917ab.jpg"/>
          <p:cNvPicPr/>
          <p:nvPr/>
        </p:nvPicPr>
        <p:blipFill>
          <a:blip r:embed="rId1"/>
          <a:stretch/>
        </p:blipFill>
        <p:spPr>
          <a:xfrm>
            <a:off x="380880" y="838080"/>
            <a:ext cx="835992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9200" y="9144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689200" cy="27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762120" y="387972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Young stars have asteroid bel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and Kuiper be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32040" y="2133720"/>
            <a:ext cx="727848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-796320" y="628812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594360" y="22860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9000" y="60958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produce infrared light (just like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286000" y="2819520"/>
            <a:ext cx="40384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multiplanet_systems.jpg"/>
          <p:cNvPicPr/>
          <p:nvPr/>
        </p:nvPicPr>
        <p:blipFill>
          <a:blip r:embed="rId1"/>
          <a:srcRect l="0" t="0" r="0" b="5952"/>
          <a:stretch/>
        </p:blipFill>
        <p:spPr>
          <a:xfrm>
            <a:off x="1447920" y="228600"/>
            <a:ext cx="640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838080" y="6323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kepler_histogram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Why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t we make a huge computer simulation to explain every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1"/>
          <p:cNvGrpSpPr/>
          <p:nvPr/>
        </p:nvGrpSpPr>
        <p:grpSpPr>
          <a:xfrm>
            <a:off x="2895480" y="3048120"/>
            <a:ext cx="1371600" cy="971280"/>
            <a:chOff x="2895480" y="3048120"/>
            <a:chExt cx="1371600" cy="971280"/>
          </a:xfrm>
        </p:grpSpPr>
        <p:sp>
          <p:nvSpPr>
            <p:cNvPr id="208" name="Oval 7"/>
            <p:cNvSpPr/>
            <p:nvPr/>
          </p:nvSpPr>
          <p:spPr>
            <a:xfrm>
              <a:off x="4038480" y="379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2895480" y="3048120"/>
              <a:ext cx="38124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>
              <a:off x="3314520" y="3409920"/>
              <a:ext cx="64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1523880" y="4476600"/>
            <a:ext cx="1371600" cy="1733400"/>
            <a:chOff x="1523880" y="4476600"/>
            <a:chExt cx="1371600" cy="1733400"/>
          </a:xfrm>
        </p:grpSpPr>
        <p:sp>
          <p:nvSpPr>
            <p:cNvPr id="212" name="Oval 6"/>
            <p:cNvSpPr/>
            <p:nvPr/>
          </p:nvSpPr>
          <p:spPr>
            <a:xfrm>
              <a:off x="1790640" y="5981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666880" y="5219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523880" y="4476600"/>
              <a:ext cx="38088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790640" y="5143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2019240" y="4838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2019240" y="54478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829480" y="3352680"/>
            <a:ext cx="2286000" cy="2886120"/>
            <a:chOff x="5829480" y="3352680"/>
            <a:chExt cx="2286000" cy="2886120"/>
          </a:xfrm>
        </p:grpSpPr>
        <p:grpSp>
          <p:nvGrpSpPr>
            <p:cNvPr id="219" name="Group 29"/>
            <p:cNvGrpSpPr/>
            <p:nvPr/>
          </p:nvGrpSpPr>
          <p:grpSpPr>
            <a:xfrm>
              <a:off x="6743880" y="4505400"/>
              <a:ext cx="1371600" cy="1733400"/>
              <a:chOff x="6743880" y="4505400"/>
              <a:chExt cx="1371600" cy="1733400"/>
            </a:xfrm>
          </p:grpSpPr>
          <p:sp>
            <p:nvSpPr>
              <p:cNvPr id="220" name="Oval 30"/>
              <p:cNvSpPr/>
              <p:nvPr/>
            </p:nvSpPr>
            <p:spPr>
              <a:xfrm>
                <a:off x="7010640" y="601020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31"/>
              <p:cNvSpPr/>
              <p:nvPr/>
            </p:nvSpPr>
            <p:spPr>
              <a:xfrm>
                <a:off x="7886880" y="524844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32"/>
              <p:cNvSpPr/>
              <p:nvPr/>
            </p:nvSpPr>
            <p:spPr>
              <a:xfrm>
                <a:off x="6743880" y="4505400"/>
                <a:ext cx="380880" cy="57132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3"/>
              <p:cNvSpPr/>
              <p:nvPr/>
            </p:nvSpPr>
            <p:spPr>
              <a:xfrm>
                <a:off x="7010640" y="5172120"/>
                <a:ext cx="76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7239240" y="486720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35"/>
              <p:cNvSpPr/>
              <p:nvPr/>
            </p:nvSpPr>
            <p:spPr>
              <a:xfrm flipV="1">
                <a:off x="7239240" y="547668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Oval 36"/>
            <p:cNvSpPr/>
            <p:nvPr/>
          </p:nvSpPr>
          <p:spPr>
            <a:xfrm>
              <a:off x="7239240" y="33526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7"/>
            <p:cNvSpPr/>
            <p:nvPr/>
          </p:nvSpPr>
          <p:spPr>
            <a:xfrm>
              <a:off x="5943960" y="4019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>
              <a:off x="5829480" y="5543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6172560" y="4248000"/>
              <a:ext cx="5713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6172560" y="35622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 flipH="1">
              <a:off x="5943600" y="4505400"/>
              <a:ext cx="11412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>
              <a:off x="6172560" y="4248000"/>
              <a:ext cx="838080" cy="16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3"/>
            <p:cNvSpPr/>
            <p:nvPr/>
          </p:nvSpPr>
          <p:spPr>
            <a:xfrm>
              <a:off x="6172560" y="4248000"/>
              <a:ext cx="171432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4"/>
            <p:cNvSpPr/>
            <p:nvPr/>
          </p:nvSpPr>
          <p:spPr>
            <a:xfrm flipH="1">
              <a:off x="6972120" y="3790800"/>
              <a:ext cx="343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7391880" y="3581280"/>
              <a:ext cx="57132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 flipH="1">
              <a:off x="7239240" y="3581280"/>
              <a:ext cx="76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 flipH="1">
              <a:off x="6172200" y="37908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8"/>
            <p:cNvSpPr/>
            <p:nvPr/>
          </p:nvSpPr>
          <p:spPr>
            <a:xfrm flipV="1">
              <a:off x="6172560" y="5371560"/>
              <a:ext cx="171432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6058080" y="4866840"/>
              <a:ext cx="685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>
              <a:off x="6134400" y="5772240"/>
              <a:ext cx="8002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5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How do you design a computer sim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1064880" y="5079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odels would you cre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luster4.avi" descr="/Users/csalyk/Dropbox/tocc/Modules/Origin_Planets_C/cluster4.avi"/>
          <p:cNvPicPr/>
          <p:nvPr/>
        </p:nvPicPr>
        <p:blipFill>
          <a:blip r:embed="rId1"/>
          <a:stretch/>
        </p:blipFill>
        <p:spPr>
          <a:xfrm>
            <a:off x="129528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3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3713040" cy="6629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5158440" y="14479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unarImpact.mov" descr="/Users/csalyk/Dropbox/tocc/Modules/Origin_Planets_C/lunarImpact.mov"/>
          <p:cNvPicPr/>
          <p:nvPr/>
        </p:nvPicPr>
        <p:blipFill>
          <a:blip r:embed="rId1"/>
          <a:stretch/>
        </p:blipFill>
        <p:spPr>
          <a:xfrm>
            <a:off x="868320" y="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0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Solar System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73724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Terrestrial planets closer than gas/water g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Planets get smaller beyond Jup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Most planets orbit in the sam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Some small bodies are ti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rcRect l="0" t="36201" r="0" b="0"/>
          <a:stretch/>
        </p:blipFill>
        <p:spPr>
          <a:xfrm>
            <a:off x="152280" y="1295280"/>
            <a:ext cx="8763120" cy="30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migration.mpg" descr="/Users/csalyk/Dropbox/tocc/Modules/Origin_Planets_C/migration.mpg"/>
          <p:cNvPicPr/>
          <p:nvPr/>
        </p:nvPicPr>
        <p:blipFill>
          <a:blip r:embed="rId1"/>
          <a:stretch/>
        </p:blipFill>
        <p:spPr>
          <a:xfrm>
            <a:off x="1447920" y="355680"/>
            <a:ext cx="6197400" cy="6197400"/>
          </a:xfrm>
          <a:prstGeom prst="rect">
            <a:avLst/>
          </a:prstGeom>
          <a:ln w="0">
            <a:noFill/>
          </a:ln>
        </p:spPr>
      </p:pic>
      <p:sp>
        <p:nvSpPr>
          <p:cNvPr id="25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3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380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-141120" y="274680"/>
            <a:ext cx="92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 learned from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-1016640" y="1378080"/>
            <a:ext cx="1122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get little particles to stick to each other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form planetary systems as flat as 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chno"/>
              </a:rPr>
              <a:t>Solar System Formation: Take-away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Planet cores form in the disk because rocks hit and/or gravitationally attract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87640" y="914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5240" y="4362480"/>
            <a:ext cx="880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generally agree with theory, but it’s hard to see details.  They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how us that stars and disks are all very different from each other.  And,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gave us the surprising observation of outfl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Simul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also agree with theory, but they can’t model everything at o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there are some problems (things take too long, for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295280" y="884160"/>
            <a:ext cx="7315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Summary of Planetary Interi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61976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438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019840" y="3746520"/>
            <a:ext cx="4124160" cy="311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Summary (Things a formation theory must expl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2120" y="1422360"/>
            <a:ext cx="77724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he sun, with most of the system m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Giant planets with solid cores (far from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errestrial planets (close to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ost planets orbit in a flat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any planets have mo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3:55Z</dcterms:created>
  <dc:creator>MeiMei Monkey</dc:creator>
  <dc:description/>
  <dc:language>en-US</dc:language>
  <cp:lastModifiedBy>LEGION</cp:lastModifiedBy>
  <dcterms:modified xsi:type="dcterms:W3CDTF">2018-03-22T09:26:10Z</dcterms:modified>
  <cp:revision>135</cp:revision>
  <dc:subject/>
  <dc:title>PowerPoint Presentation</dc:title>
</cp:coreProperties>
</file>