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8A59-0E24-4C1E-936A-07D7DB7BF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8EAD-A2B1-4676-9883-60768DD3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1B4-FBFF-4ACA-BF86-019FF888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E3B7-C8A5-4E5A-9310-F4ADC018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F349-FC50-4F8C-A68E-45B2D080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94E-7A47-4741-94B8-A498D0A2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F960-BAED-4F9D-86C3-C7F3B7A6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403-DB7C-43B1-A665-FF86FA23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7A1A-1EDF-4AB5-BBF1-E7E26138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BDD-3E48-4711-8EDE-D41C1096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18A-2C18-4A4C-926D-C4B56096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E4BA-615E-4F6C-A5E4-FF8A3E94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D89-34B0-40AE-BC40-A50DB0AA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E38A-0472-44A1-A6CA-9E4B79AFE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Нижний колонтитул 3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8-03-22T09:26:10Z</dcterms:modified>
  <cp:revision>135</cp:revision>
  <dc:subject/>
  <dc:title>PowerPoint Presentation</dc:title>
</cp:coreProperties>
</file>