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12A7-A1CC-4253-A770-D87888F52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0567-AE14-4976-BBE1-C928530B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EA39-D8E7-445D-A266-111DC1FC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5C11-4188-49FD-99BE-0745AB9D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DF70-509B-40CA-BB2C-1F320E60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E78F-2C23-46F9-B116-1487E17F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8C80-76BC-4156-9193-2EF749D3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A61D-FAE8-4329-96E9-491A0B1E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2DDA-4076-4F3A-AEFC-CA5299A9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3625-7AC8-4AAF-ADA7-4FD38FA4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45D2-F997-4B05-9DE1-0C0EB362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7B3A-33EC-4A3F-9100-2D3075B7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3967-F2DC-4C55-8AD0-8E6B7AEA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8B60-6C9B-484D-889D-BC3191C1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9E8D-1AEA-4599-B0C9-54783227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1A26-99BE-4BC8-86A4-81FD8DA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63F6-CAC5-4B28-99A6-5454281E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A0A8-78A0-46BD-B50A-C980715D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8CC5-C515-4428-AD95-BAE619C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7AC5-84BC-40AF-9A0C-3792F60C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EE81-1822-4D22-BDD4-86370F96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5391-A865-4BA2-8981-48CBB71F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E3A5-75A0-4C13-933B-D70CBE4D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9D53-8FCE-4FEA-B9F5-9CD87D7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5021-301C-4974-85BD-3FD29F04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3FAE-D131-45C0-982D-AA1355C134A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FBDB-6ECE-413B-AD7E-40450B54A98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3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6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3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4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2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200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Нижний колонтитул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10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1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8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22T09:24:15Z</dcterms:modified>
  <cp:revision>51</cp:revision>
  <dc:subject/>
  <dc:title>WOW !</dc:title>
</cp:coreProperties>
</file>