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2748-65E4-487F-B800-58A90544D3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1786-4947-4421-BCDB-83274389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B68D-2CC1-417C-857D-D2190DC1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7D9D-F4F8-4095-B0B8-D5B160A0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9046-0335-458B-9DDC-02757B6D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3D7E-F106-4C89-B34A-1856F5B7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3DDD-F82D-4F81-9AE9-517D9351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B40B-2628-437C-A620-E0338B47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328D-9C84-4BEF-AA0E-A320AA8C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67BA-8E61-4CED-97F2-FF9B95AB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E911-D717-47D4-B289-810B45A0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A711-4FE2-49E5-B1C9-A8E59730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434A-3EB7-4D24-8777-46325648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C1A3-AC2C-49C3-97DB-B3D78354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8F72-1610-4690-9596-700F42C0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8FE6-4F6E-4434-A017-BADE417C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8054-ADA2-4398-8952-AD237552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6F3C-6340-4591-B889-D60F2FB9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C66C-0194-420A-9BB6-ABEEE753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A8B0-2AC4-483E-95FC-4BF76243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823A-797A-4F60-BB83-C9032C59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64F9-8C0E-45F9-9F0E-F12D31F7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608D-DA35-44DD-B724-0C13043B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83EE0-026E-45AB-A0E5-1ADCC579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2FB3-F4D9-49E5-8617-DEECD0F3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8FAC-271D-40BA-996A-119C762F3F2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3266-32A6-486A-BE2A-F3F83AB002E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3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6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3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4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2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200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Нижний колонтитул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10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1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8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22T09:24:15Z</dcterms:modified>
  <cp:revision>51</cp:revision>
  <dc:subject/>
  <dc:title>WOW !</dc:title>
</cp:coreProperties>
</file>