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AFD3-0CE1-40CE-B3C3-69EA4048B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BF6-D1D1-43EE-BED8-7CCBEA8C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142-6070-47DA-95B2-2533F20A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85C-FE10-423C-8DB9-87D94B22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27C-208F-44CB-8287-1C857DE8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726-FCD7-4254-96AE-47B155A5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87A-49D1-4ED2-ACFA-9DACCA08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312-E6C8-439C-BCDB-EC9E4DF1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875-D960-46BD-9D42-3F2C9423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68B-DBD5-4A18-976B-09E6F39A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3AE-C076-4929-956F-9925C5D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032-C06B-4B54-8170-C594D783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046-B4CD-4E5D-84F3-4FA09A83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6CF9-A1C3-419D-95EB-E89662802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80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>
                  <a:gd name="textAreaLeft" fmla="*/ 0 w 768240"/>
                  <a:gd name="textAreaRight" fmla="*/ 768600 w 768240"/>
                  <a:gd name="textAreaTop" fmla="*/ 0 h 3886200"/>
                  <a:gd name="textAreaBottom" fmla="*/ 3886560 h 3886200"/>
                </a:gdLst>
                <a:ahLst/>
                <a:rect l="textAreaLeft" t="textAreaTop" r="textAreaRight" b="textAreaBottom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>
              <a:gd name="textAreaLeft" fmla="*/ 0 w 1136880"/>
              <a:gd name="textAreaRight" fmla="*/ 1136880 w 113688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197400"/>
                <a:gd name="textAreaBottom" fmla="*/ 6197760 h 61974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6197760"/>
                <a:gd name="textAreaBottom" fmla="*/ 6198120 h 619776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Нижний колонтитул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Нижний колонтитул 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LEGION</dc:creator>
  <dc:description/>
  <dc:language>en-US</dc:language>
  <cp:lastModifiedBy>LEGION</cp:lastModifiedBy>
  <dcterms:modified xsi:type="dcterms:W3CDTF">2018-03-22T09:20:08Z</dcterms:modified>
  <cp:revision>13</cp:revision>
  <dc:subject/>
  <dc:title>The Sun as an  Energy Source</dc:title>
</cp:coreProperties>
</file>