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FCAA-BA62-4ED8-947F-69A6ACA9A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C33-2422-42CD-B4BD-A66F274F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766-97CB-4780-B10E-35136F05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3D6-AC3C-40BE-8F2B-1176FB16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6C6B-8272-4E9B-89B6-BAB28C41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AA84-6853-4B92-9438-E8C57372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9FE5-21B8-45CA-A158-ECFD3278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F65-9402-4D42-82FD-58889383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F0A-7547-4B66-8356-01990AD6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671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040-CB88-4784-A999-358DBA2F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CCF-2B46-49D4-B2D1-084A9F93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B3A9-057F-4D1B-8624-8FB00774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31A2-8572-47D5-B7AF-239941DB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75D7-1701-4F5E-9447-76B06515D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C:\Documents and Settings\Kevin\My Documents\CLASSES\Sun Surface 02.gif"/>
          <p:cNvPicPr/>
          <p:nvPr/>
        </p:nvPicPr>
        <p:blipFill>
          <a:blip r:embed="rId2"/>
          <a:stretch/>
        </p:blipFill>
        <p:spPr>
          <a:xfrm>
            <a:off x="-12600" y="4718160"/>
            <a:ext cx="9347040" cy="88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73320" y="1617840"/>
            <a:ext cx="70974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CLA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contain Copyrighted Material, DO NOT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25040" y="48560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 Bohr Ato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165240" y="2044800"/>
            <a:ext cx="4622760" cy="2844720"/>
            <a:chOff x="165240" y="2044800"/>
            <a:chExt cx="4622760" cy="2844720"/>
          </a:xfrm>
        </p:grpSpPr>
        <p:sp>
          <p:nvSpPr>
            <p:cNvPr id="92" name="Oval 4"/>
            <p:cNvSpPr/>
            <p:nvPr/>
          </p:nvSpPr>
          <p:spPr>
            <a:xfrm>
              <a:off x="4343400" y="3162240"/>
              <a:ext cx="444600" cy="495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65240" y="2044800"/>
              <a:ext cx="30859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Nucl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Made up of non-charged particles called NEUTRONS and positively charged particles called PR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403440" y="2108160"/>
            <a:ext cx="5524560" cy="2540160"/>
            <a:chOff x="3403440" y="2108160"/>
            <a:chExt cx="5524560" cy="2540160"/>
          </a:xfrm>
        </p:grpSpPr>
        <p:sp>
          <p:nvSpPr>
            <p:cNvPr id="95" name="Text Box 10"/>
            <p:cNvSpPr/>
            <p:nvPr/>
          </p:nvSpPr>
          <p:spPr>
            <a:xfrm>
              <a:off x="5842080" y="2108160"/>
              <a:ext cx="30859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Electr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ELECTRONS are negatively charged particles that orbit the nucleus at a certain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3403440" y="2235240"/>
              <a:ext cx="2438640" cy="2413080"/>
              <a:chOff x="3403440" y="2235240"/>
              <a:chExt cx="2438640" cy="2413080"/>
            </a:xfrm>
          </p:grpSpPr>
          <p:sp>
            <p:nvSpPr>
              <p:cNvPr id="97" name="Oval 5"/>
              <p:cNvSpPr/>
              <p:nvPr/>
            </p:nvSpPr>
            <p:spPr>
              <a:xfrm>
                <a:off x="3936960" y="2768760"/>
                <a:ext cx="1231920" cy="12952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645000" y="2514600"/>
                <a:ext cx="1815840" cy="18543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3403440" y="2235240"/>
                <a:ext cx="2324160" cy="2413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5016600" y="322596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2"/>
              <p:cNvSpPr/>
              <p:nvPr/>
            </p:nvSpPr>
            <p:spPr>
              <a:xfrm>
                <a:off x="5321160" y="337824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3"/>
              <p:cNvSpPr/>
              <p:nvPr/>
            </p:nvSpPr>
            <p:spPr>
              <a:xfrm>
                <a:off x="5575320" y="354348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: Hydrogen (H)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contains one proton and one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803920" y="2692440"/>
            <a:ext cx="1054080" cy="952560"/>
            <a:chOff x="5803920" y="2692440"/>
            <a:chExt cx="1054080" cy="952560"/>
          </a:xfrm>
        </p:grpSpPr>
        <p:sp>
          <p:nvSpPr>
            <p:cNvPr id="107" name="Oval 4"/>
            <p:cNvSpPr/>
            <p:nvPr/>
          </p:nvSpPr>
          <p:spPr>
            <a:xfrm>
              <a:off x="6083280" y="2971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803920" y="2692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6"/>
            <p:cNvSpPr/>
            <p:nvPr/>
          </p:nvSpPr>
          <p:spPr>
            <a:xfrm>
              <a:off x="6603840" y="3035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85800" y="364500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contains two protons, two neutrons, and two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5676840" y="4356000"/>
            <a:ext cx="1295280" cy="1155600"/>
            <a:chOff x="5676840" y="4356000"/>
            <a:chExt cx="1295280" cy="1155600"/>
          </a:xfrm>
        </p:grpSpPr>
        <p:sp>
          <p:nvSpPr>
            <p:cNvPr id="112" name="Oval 9"/>
            <p:cNvSpPr/>
            <p:nvPr/>
          </p:nvSpPr>
          <p:spPr>
            <a:xfrm>
              <a:off x="6134040" y="4673520"/>
              <a:ext cx="27936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286320" y="4825800"/>
              <a:ext cx="27972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019920" y="481320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172200" y="496548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5791320" y="4356000"/>
              <a:ext cx="1041120" cy="11556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80160" y="4825800"/>
              <a:ext cx="291960" cy="292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5676840" y="4813200"/>
              <a:ext cx="292320" cy="29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a chemical reaction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Le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Nuclear Fusion!!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ydrogen atoms are put together to form one Helium at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nergy is called a gamma 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chemical reaction...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517920" y="2476440"/>
            <a:ext cx="1054080" cy="952560"/>
            <a:chOff x="3517920" y="2476440"/>
            <a:chExt cx="1054080" cy="952560"/>
          </a:xfrm>
        </p:grpSpPr>
        <p:sp>
          <p:nvSpPr>
            <p:cNvPr id="128" name="Oval 5"/>
            <p:cNvSpPr/>
            <p:nvPr/>
          </p:nvSpPr>
          <p:spPr>
            <a:xfrm>
              <a:off x="379728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351792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431784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3517920" y="3429000"/>
            <a:ext cx="1054080" cy="952560"/>
            <a:chOff x="3517920" y="3429000"/>
            <a:chExt cx="1054080" cy="952560"/>
          </a:xfrm>
        </p:grpSpPr>
        <p:sp>
          <p:nvSpPr>
            <p:cNvPr id="132" name="Oval 9"/>
            <p:cNvSpPr/>
            <p:nvPr/>
          </p:nvSpPr>
          <p:spPr>
            <a:xfrm>
              <a:off x="379728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351792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431784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572000" y="3429000"/>
            <a:ext cx="1054080" cy="952560"/>
            <a:chOff x="4572000" y="3429000"/>
            <a:chExt cx="1054080" cy="952560"/>
          </a:xfrm>
        </p:grpSpPr>
        <p:sp>
          <p:nvSpPr>
            <p:cNvPr id="136" name="Oval 13"/>
            <p:cNvSpPr/>
            <p:nvPr/>
          </p:nvSpPr>
          <p:spPr>
            <a:xfrm>
              <a:off x="485136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457200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537192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4572000" y="2476440"/>
            <a:ext cx="1054080" cy="952560"/>
            <a:chOff x="4572000" y="2476440"/>
            <a:chExt cx="1054080" cy="952560"/>
          </a:xfrm>
        </p:grpSpPr>
        <p:sp>
          <p:nvSpPr>
            <p:cNvPr id="140" name="Oval 17"/>
            <p:cNvSpPr/>
            <p:nvPr/>
          </p:nvSpPr>
          <p:spPr>
            <a:xfrm>
              <a:off x="485136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457200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537192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2870280" y="2057400"/>
            <a:ext cx="3289320" cy="2705040"/>
            <a:chOff x="2870280" y="2057400"/>
            <a:chExt cx="3289320" cy="2705040"/>
          </a:xfrm>
        </p:grpSpPr>
        <p:sp>
          <p:nvSpPr>
            <p:cNvPr id="144" name="Oval 20"/>
            <p:cNvSpPr/>
            <p:nvPr/>
          </p:nvSpPr>
          <p:spPr>
            <a:xfrm>
              <a:off x="2870280" y="2057400"/>
              <a:ext cx="3289320" cy="270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3581280" y="2654280"/>
              <a:ext cx="8002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4788000" y="2666880"/>
              <a:ext cx="7999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886200" y="2692440"/>
              <a:ext cx="279360" cy="291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>
              <a:off x="5016600" y="2717640"/>
              <a:ext cx="279360" cy="2923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75120" y="3598920"/>
              <a:ext cx="1346040" cy="592200"/>
            </a:xfrm>
            <a:custGeom>
              <a:avLst/>
              <a:gdLst>
                <a:gd name="textAreaLeft" fmla="*/ 0 w 1346040"/>
                <a:gd name="textAreaRight" fmla="*/ 1346040 w 134604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848" h="373">
                  <a:moveTo>
                    <a:pt x="0" y="373"/>
                  </a:moveTo>
                  <a:cubicBezTo>
                    <a:pt x="113" y="191"/>
                    <a:pt x="227" y="10"/>
                    <a:pt x="368" y="5"/>
                  </a:cubicBezTo>
                  <a:cubicBezTo>
                    <a:pt x="509" y="0"/>
                    <a:pt x="771" y="282"/>
                    <a:pt x="848" y="341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28"/>
          <p:cNvSpPr/>
          <p:nvPr/>
        </p:nvSpPr>
        <p:spPr>
          <a:xfrm>
            <a:off x="2324160" y="1727280"/>
            <a:ext cx="4330800" cy="303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9"/>
          <p:cNvGrpSpPr/>
          <p:nvPr/>
        </p:nvGrpSpPr>
        <p:grpSpPr>
          <a:xfrm>
            <a:off x="3549600" y="2355840"/>
            <a:ext cx="2044440" cy="1802880"/>
            <a:chOff x="3549600" y="2355840"/>
            <a:chExt cx="2044440" cy="1802880"/>
          </a:xfrm>
        </p:grpSpPr>
        <p:sp>
          <p:nvSpPr>
            <p:cNvPr id="152" name="Oval 30"/>
            <p:cNvSpPr/>
            <p:nvPr/>
          </p:nvSpPr>
          <p:spPr>
            <a:xfrm>
              <a:off x="4271040" y="2851200"/>
              <a:ext cx="44064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4511520" y="3088800"/>
              <a:ext cx="44136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2"/>
            <p:cNvSpPr/>
            <p:nvPr/>
          </p:nvSpPr>
          <p:spPr>
            <a:xfrm>
              <a:off x="4091040" y="30690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4331520" y="33066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3729960" y="2355840"/>
              <a:ext cx="1643400" cy="1802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5133240" y="3088800"/>
              <a:ext cx="460800" cy="455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3549600" y="3069000"/>
              <a:ext cx="461160" cy="455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664240" y="2136600"/>
            <a:ext cx="3251160" cy="1722600"/>
            <a:chOff x="5664240" y="2136600"/>
            <a:chExt cx="3251160" cy="1722600"/>
          </a:xfrm>
        </p:grpSpPr>
        <p:sp>
          <p:nvSpPr>
            <p:cNvPr id="160" name="Freeform 37"/>
            <p:cNvSpPr/>
            <p:nvPr/>
          </p:nvSpPr>
          <p:spPr>
            <a:xfrm>
              <a:off x="5664240" y="2901960"/>
              <a:ext cx="3251160" cy="95724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957240"/>
                <a:gd name="textAreaBottom" fmla="*/ 957600 h 957240"/>
              </a:gdLst>
              <a:ahLst/>
              <a:rect l="textAreaLeft" t="textAreaTop" r="textAreaRight" b="textAreaBottom"/>
              <a:pathLst>
                <a:path w="1768" h="603">
                  <a:moveTo>
                    <a:pt x="0" y="228"/>
                  </a:moveTo>
                  <a:cubicBezTo>
                    <a:pt x="38" y="114"/>
                    <a:pt x="76" y="0"/>
                    <a:pt x="184" y="52"/>
                  </a:cubicBezTo>
                  <a:cubicBezTo>
                    <a:pt x="292" y="104"/>
                    <a:pt x="503" y="540"/>
                    <a:pt x="648" y="540"/>
                  </a:cubicBezTo>
                  <a:cubicBezTo>
                    <a:pt x="793" y="540"/>
                    <a:pt x="940" y="49"/>
                    <a:pt x="1056" y="52"/>
                  </a:cubicBezTo>
                  <a:cubicBezTo>
                    <a:pt x="1172" y="55"/>
                    <a:pt x="1251" y="509"/>
                    <a:pt x="1344" y="556"/>
                  </a:cubicBezTo>
                  <a:cubicBezTo>
                    <a:pt x="1437" y="603"/>
                    <a:pt x="1545" y="371"/>
                    <a:pt x="1616" y="332"/>
                  </a:cubicBezTo>
                  <a:cubicBezTo>
                    <a:pt x="1687" y="293"/>
                    <a:pt x="1727" y="308"/>
                    <a:pt x="1768" y="324"/>
                  </a:cubicBezTo>
                </a:path>
              </a:pathLst>
            </a:custGeom>
            <a:noFill/>
            <a:ln w="698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9"/>
            <p:cNvSpPr/>
            <p:nvPr/>
          </p:nvSpPr>
          <p:spPr>
            <a:xfrm>
              <a:off x="6260400" y="2136600"/>
              <a:ext cx="172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amma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ENERGY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Нижний колонтитул 3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 thought solar energy was in the form of light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ma rays travel from the core through about 80% of the s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lose energy they form photons (visible l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emitted and reach Earth as ph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: An Energy Machine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action takes 1,000,000,000 years to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6 billion billion megawa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 station for a city makes about 1,000 mega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Energy on Ear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% of the sun’s energy is blocked before it reaches ea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Pa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73" name="Picture 4" descr="C:\Documents and Settings\Kevin\My Documents\BUSINESS\SCHOOL\STARS\whole earth.jpg"/>
          <p:cNvPicPr/>
          <p:nvPr/>
        </p:nvPicPr>
        <p:blipFill>
          <a:blip r:embed="rId1"/>
          <a:srcRect l="11080" t="8213" r="8539" b="10359"/>
          <a:stretch/>
        </p:blipFill>
        <p:spPr>
          <a:xfrm>
            <a:off x="1165320" y="1666800"/>
            <a:ext cx="2597040" cy="26766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5"/>
          <p:cNvSpPr/>
          <p:nvPr/>
        </p:nvSpPr>
        <p:spPr>
          <a:xfrm>
            <a:off x="2725560" y="410220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143000" y="4127400"/>
            <a:ext cx="113284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562040" y="5905440"/>
            <a:ext cx="12280680" cy="1701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 flipH="1" flipV="1">
            <a:off x="6743880" y="5892120"/>
            <a:ext cx="2590560" cy="17017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314280" y="-190440"/>
            <a:ext cx="2800440" cy="6622200"/>
            <a:chOff x="314280" y="-190440"/>
            <a:chExt cx="2800440" cy="6622200"/>
          </a:xfrm>
        </p:grpSpPr>
        <p:pic>
          <p:nvPicPr>
            <p:cNvPr id="180" name="Picture 4" descr="C:\Documents and Settings\Kevin\My Documents\BUSINESS\SCHOOL\STARS\live.gif"/>
            <p:cNvPicPr/>
            <p:nvPr/>
          </p:nvPicPr>
          <p:blipFill>
            <a:blip r:embed="rId1"/>
            <a:stretch/>
          </p:blipFill>
          <p:spPr>
            <a:xfrm>
              <a:off x="314280" y="3492360"/>
              <a:ext cx="2800440" cy="258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42"/>
            <p:cNvGrpSpPr/>
            <p:nvPr/>
          </p:nvGrpSpPr>
          <p:grpSpPr>
            <a:xfrm>
              <a:off x="669960" y="-190440"/>
              <a:ext cx="2012400" cy="6622200"/>
              <a:chOff x="669960" y="-190440"/>
              <a:chExt cx="2012400" cy="6622200"/>
            </a:xfrm>
          </p:grpSpPr>
          <p:sp>
            <p:nvSpPr>
              <p:cNvPr id="182" name="Text Box 9"/>
              <p:cNvSpPr/>
              <p:nvPr/>
            </p:nvSpPr>
            <p:spPr>
              <a:xfrm>
                <a:off x="669960" y="597204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hotosyn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806400" y="-190440"/>
                <a:ext cx="768240" cy="3886200"/>
              </a:xfrm>
              <a:custGeom>
                <a:avLst/>
                <a:gdLst>
                  <a:gd name="textAreaLeft" fmla="*/ 0 w 768240"/>
                  <a:gd name="textAreaRight" fmla="*/ 768600 w 768240"/>
                  <a:gd name="textAreaTop" fmla="*/ 0 h 3886200"/>
                  <a:gd name="textAreaBottom" fmla="*/ 3886560 h 3886200"/>
                </a:gdLst>
                <a:ahLst/>
                <a:rect l="textAreaLeft" t="textAreaTop" r="textAreaRight" b="textAreaBottom"/>
                <a:pathLst>
                  <a:path w="484" h="2448">
                    <a:moveTo>
                      <a:pt x="212" y="0"/>
                    </a:moveTo>
                    <a:cubicBezTo>
                      <a:pt x="106" y="153"/>
                      <a:pt x="0" y="307"/>
                      <a:pt x="28" y="424"/>
                    </a:cubicBezTo>
                    <a:cubicBezTo>
                      <a:pt x="56" y="541"/>
                      <a:pt x="361" y="575"/>
                      <a:pt x="380" y="704"/>
                    </a:cubicBezTo>
                    <a:cubicBezTo>
                      <a:pt x="399" y="833"/>
                      <a:pt x="124" y="1047"/>
                      <a:pt x="140" y="1200"/>
                    </a:cubicBezTo>
                    <a:cubicBezTo>
                      <a:pt x="156" y="1353"/>
                      <a:pt x="468" y="1492"/>
                      <a:pt x="476" y="1624"/>
                    </a:cubicBezTo>
                    <a:cubicBezTo>
                      <a:pt x="484" y="1756"/>
                      <a:pt x="200" y="1907"/>
                      <a:pt x="188" y="1992"/>
                    </a:cubicBezTo>
                    <a:cubicBezTo>
                      <a:pt x="176" y="2077"/>
                      <a:pt x="365" y="2060"/>
                      <a:pt x="404" y="2136"/>
                    </a:cubicBezTo>
                    <a:cubicBezTo>
                      <a:pt x="443" y="2212"/>
                      <a:pt x="431" y="2330"/>
                      <a:pt x="420" y="2448"/>
                    </a:cubicBezTo>
                  </a:path>
                </a:pathLst>
              </a:custGeom>
              <a:noFill/>
              <a:ln w="414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31"/>
          <p:cNvGrpSpPr/>
          <p:nvPr/>
        </p:nvGrpSpPr>
        <p:grpSpPr>
          <a:xfrm>
            <a:off x="4216320" y="2235240"/>
            <a:ext cx="2108160" cy="1155600"/>
            <a:chOff x="4216320" y="2235240"/>
            <a:chExt cx="2108160" cy="1155600"/>
          </a:xfrm>
        </p:grpSpPr>
        <p:sp>
          <p:nvSpPr>
            <p:cNvPr id="185" name="Oval 14"/>
            <p:cNvSpPr/>
            <p:nvPr/>
          </p:nvSpPr>
          <p:spPr>
            <a:xfrm>
              <a:off x="4216320" y="2476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4368960" y="26290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4521240" y="2781360"/>
              <a:ext cx="52056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4673520" y="29336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4546440" y="22478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4699080" y="24004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4851360" y="255276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5003640" y="27050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5041800" y="22352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5194440" y="23878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5346720" y="25401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5499000" y="2692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5308560" y="280692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5460840" y="295920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5613480" y="27687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5651640" y="243864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5803920" y="259092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Freeform 34"/>
          <p:cNvSpPr/>
          <p:nvPr/>
        </p:nvSpPr>
        <p:spPr>
          <a:xfrm>
            <a:off x="1187280" y="-114480"/>
            <a:ext cx="1136880" cy="852840"/>
          </a:xfrm>
          <a:custGeom>
            <a:avLst/>
            <a:gdLst>
              <a:gd name="textAreaLeft" fmla="*/ 0 w 1136880"/>
              <a:gd name="textAreaRight" fmla="*/ 1136880 w 1136880"/>
              <a:gd name="textAreaTop" fmla="*/ 0 h 852840"/>
              <a:gd name="textAreaBottom" fmla="*/ 853200 h 852840"/>
            </a:gdLst>
            <a:ahLst/>
            <a:rect l="textAreaLeft" t="textAreaTop" r="textAreaRight" b="textAreaBottom"/>
            <a:pathLst>
              <a:path w="716" h="537">
                <a:moveTo>
                  <a:pt x="196" y="0"/>
                </a:moveTo>
                <a:cubicBezTo>
                  <a:pt x="98" y="66"/>
                  <a:pt x="0" y="133"/>
                  <a:pt x="12" y="176"/>
                </a:cubicBezTo>
                <a:cubicBezTo>
                  <a:pt x="24" y="219"/>
                  <a:pt x="197" y="196"/>
                  <a:pt x="268" y="256"/>
                </a:cubicBezTo>
                <a:cubicBezTo>
                  <a:pt x="339" y="316"/>
                  <a:pt x="361" y="537"/>
                  <a:pt x="436" y="536"/>
                </a:cubicBezTo>
                <a:cubicBezTo>
                  <a:pt x="511" y="535"/>
                  <a:pt x="613" y="391"/>
                  <a:pt x="716" y="24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4"/>
          <p:cNvGrpSpPr/>
          <p:nvPr/>
        </p:nvGrpSpPr>
        <p:grpSpPr>
          <a:xfrm>
            <a:off x="2901960" y="-101520"/>
            <a:ext cx="2038320" cy="6609600"/>
            <a:chOff x="2901960" y="-101520"/>
            <a:chExt cx="2038320" cy="6609600"/>
          </a:xfrm>
        </p:grpSpPr>
        <p:pic>
          <p:nvPicPr>
            <p:cNvPr id="204" name="Picture 5" descr="C:\Documents and Settings\Kevin\My Documents\BUSINESS\SCHOOL\STARS\MSX20_tn.jpg"/>
            <p:cNvPicPr/>
            <p:nvPr/>
          </p:nvPicPr>
          <p:blipFill>
            <a:blip r:embed="rId2"/>
            <a:srcRect l="5329" t="24679" r="5329" b="34675"/>
            <a:stretch/>
          </p:blipFill>
          <p:spPr>
            <a:xfrm>
              <a:off x="3238560" y="510552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3359880" y="6048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901960" y="-101520"/>
              <a:ext cx="1225440" cy="528300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5283000"/>
                <a:gd name="textAreaBottom" fmla="*/ 5283360 h 52830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45"/>
          <p:cNvGrpSpPr/>
          <p:nvPr/>
        </p:nvGrpSpPr>
        <p:grpSpPr>
          <a:xfrm>
            <a:off x="5535000" y="-101520"/>
            <a:ext cx="1323000" cy="6660360"/>
            <a:chOff x="5535000" y="-101520"/>
            <a:chExt cx="1323000" cy="6660360"/>
          </a:xfrm>
        </p:grpSpPr>
        <p:sp>
          <p:nvSpPr>
            <p:cNvPr id="208" name="Text Box 11"/>
            <p:cNvSpPr/>
            <p:nvPr/>
          </p:nvSpPr>
          <p:spPr>
            <a:xfrm>
              <a:off x="5535000" y="6099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280200" y="-101520"/>
              <a:ext cx="577800" cy="61974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197400"/>
                <a:gd name="textAreaBottom" fmla="*/ 6197760 h 619740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46"/>
          <p:cNvGrpSpPr/>
          <p:nvPr/>
        </p:nvGrpSpPr>
        <p:grpSpPr>
          <a:xfrm>
            <a:off x="7588080" y="-88920"/>
            <a:ext cx="1078560" cy="6660360"/>
            <a:chOff x="7588080" y="-88920"/>
            <a:chExt cx="1078560" cy="6660360"/>
          </a:xfrm>
        </p:grpSpPr>
        <p:sp>
          <p:nvSpPr>
            <p:cNvPr id="211" name="Text Box 12"/>
            <p:cNvSpPr/>
            <p:nvPr/>
          </p:nvSpPr>
          <p:spPr>
            <a:xfrm>
              <a:off x="7909920" y="61117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588080" y="-88920"/>
              <a:ext cx="578160" cy="6197760"/>
            </a:xfrm>
            <a:custGeom>
              <a:avLst/>
              <a:gdLst>
                <a:gd name="textAreaLeft" fmla="*/ 0 w 578160"/>
                <a:gd name="textAreaRight" fmla="*/ 578520 w 578160"/>
                <a:gd name="textAreaTop" fmla="*/ 0 h 6197760"/>
                <a:gd name="textAreaBottom" fmla="*/ 6198120 h 6197760"/>
              </a:gdLst>
              <a:ahLst/>
              <a:rect l="textAreaLeft" t="textAreaTop" r="textAreaRight" b="textAreaBottom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Freeform 38"/>
          <p:cNvSpPr/>
          <p:nvPr/>
        </p:nvSpPr>
        <p:spPr>
          <a:xfrm>
            <a:off x="3900600" y="-152280"/>
            <a:ext cx="1662120" cy="246204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462040"/>
              <a:gd name="textAreaBottom" fmla="*/ 2462400 h 2462040"/>
            </a:gdLst>
            <a:ahLst/>
            <a:rect l="textAreaLeft" t="textAreaTop" r="textAreaRight" b="textAreaBottom"/>
            <a:pathLst>
              <a:path w="1047" h="1551">
                <a:moveTo>
                  <a:pt x="247" y="0"/>
                </a:moveTo>
                <a:cubicBezTo>
                  <a:pt x="123" y="146"/>
                  <a:pt x="0" y="293"/>
                  <a:pt x="15" y="416"/>
                </a:cubicBezTo>
                <a:cubicBezTo>
                  <a:pt x="30" y="539"/>
                  <a:pt x="292" y="607"/>
                  <a:pt x="335" y="736"/>
                </a:cubicBezTo>
                <a:cubicBezTo>
                  <a:pt x="378" y="865"/>
                  <a:pt x="226" y="1060"/>
                  <a:pt x="271" y="1192"/>
                </a:cubicBezTo>
                <a:cubicBezTo>
                  <a:pt x="316" y="1324"/>
                  <a:pt x="478" y="1551"/>
                  <a:pt x="607" y="1528"/>
                </a:cubicBezTo>
                <a:cubicBezTo>
                  <a:pt x="736" y="1505"/>
                  <a:pt x="974" y="1137"/>
                  <a:pt x="1047" y="105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-304920" y="622440"/>
            <a:ext cx="10325160" cy="431640"/>
            <a:chOff x="-304920" y="622440"/>
            <a:chExt cx="10325160" cy="431640"/>
          </a:xfrm>
        </p:grpSpPr>
        <p:sp>
          <p:nvSpPr>
            <p:cNvPr id="215" name="Line 32"/>
            <p:cNvSpPr/>
            <p:nvPr/>
          </p:nvSpPr>
          <p:spPr>
            <a:xfrm>
              <a:off x="-304920" y="800280"/>
              <a:ext cx="10325160" cy="25200"/>
            </a:xfrm>
            <a:prstGeom prst="line">
              <a:avLst/>
            </a:prstGeom>
            <a:ln w="1112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7772400" y="622440"/>
              <a:ext cx="13716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Нижний колонтитул 4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908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The Sun as an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Energy Source</a:t>
            </a:r>
            <a:endParaRPr b="0" lang="en-US" sz="5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the Science Behind Solar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vin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2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219" name="Picture 4" descr="C:\Documents and Settings\Kevin\My Documents\BUSINESS\SCHOOL\STARS\irrigation-photosynthesis.gif"/>
            <p:cNvPicPr/>
            <p:nvPr/>
          </p:nvPicPr>
          <p:blipFill>
            <a:blip r:embed="rId1"/>
            <a:stretch/>
          </p:blipFill>
          <p:spPr>
            <a:xfrm>
              <a:off x="0" y="1576440"/>
              <a:ext cx="914400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4254480" y="1625760"/>
              <a:ext cx="4686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22" name="AutoShape 5"/>
          <p:cNvSpPr/>
          <p:nvPr/>
        </p:nvSpPr>
        <p:spPr>
          <a:xfrm rot="1974000">
            <a:off x="1422000" y="3720960"/>
            <a:ext cx="2908440" cy="520920"/>
          </a:xfrm>
          <a:prstGeom prst="rightArrow">
            <a:avLst>
              <a:gd name="adj1" fmla="val 54880"/>
              <a:gd name="adj2" fmla="val 13715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888840" y="4863960"/>
            <a:ext cx="3683160" cy="330480"/>
          </a:xfrm>
          <a:prstGeom prst="rightArrow">
            <a:avLst>
              <a:gd name="adj1" fmla="val 50000"/>
              <a:gd name="adj2" fmla="val 2786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 rot="20669400">
            <a:off x="1498680" y="6489360"/>
            <a:ext cx="1536480" cy="368280"/>
          </a:xfrm>
          <a:prstGeom prst="rightArrow">
            <a:avLst>
              <a:gd name="adj1" fmla="val 50000"/>
              <a:gd name="adj2" fmla="val 10430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 rot="17965800">
            <a:off x="7059600" y="3756240"/>
            <a:ext cx="1434960" cy="444600"/>
          </a:xfrm>
          <a:prstGeom prst="rightArrow">
            <a:avLst>
              <a:gd name="adj1" fmla="val 50000"/>
              <a:gd name="adj2" fmla="val 80688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003640" y="4419720"/>
            <a:ext cx="1194120" cy="14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ow is this energy used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29" name="Picture 5" descr="C:\Documents and Settings\Kevin\My Documents\BUSINESS\SCHOOL\STARS\cow.gif"/>
          <p:cNvPicPr/>
          <p:nvPr/>
        </p:nvPicPr>
        <p:blipFill>
          <a:blip r:embed="rId1"/>
          <a:stretch/>
        </p:blipFill>
        <p:spPr>
          <a:xfrm>
            <a:off x="488880" y="1897200"/>
            <a:ext cx="2311560" cy="247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Kevin\My Documents\BUSINESS\SCHOOL\STARS\stew.jpg"/>
          <p:cNvPicPr/>
          <p:nvPr/>
        </p:nvPicPr>
        <p:blipFill>
          <a:blip r:embed="rId2"/>
          <a:stretch/>
        </p:blipFill>
        <p:spPr>
          <a:xfrm>
            <a:off x="3220920" y="1946160"/>
            <a:ext cx="254808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Kevin\My Documents\BUSINESS\SCHOOL\STARS\OilDrill1.gif"/>
          <p:cNvPicPr/>
          <p:nvPr/>
        </p:nvPicPr>
        <p:blipFill>
          <a:blip r:embed="rId3"/>
          <a:stretch/>
        </p:blipFill>
        <p:spPr>
          <a:xfrm>
            <a:off x="6402240" y="1787400"/>
            <a:ext cx="1874880" cy="269712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Energy Pyramid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14480" y="1846440"/>
            <a:ext cx="507384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 rot="3273600">
            <a:off x="392400" y="2948760"/>
            <a:ext cx="3229200" cy="1062000"/>
          </a:xfrm>
          <a:prstGeom prst="rightArrow">
            <a:avLst>
              <a:gd name="adj1" fmla="val 50000"/>
              <a:gd name="adj2" fmla="val 76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"/>
          <p:cNvSpPr/>
          <p:nvPr/>
        </p:nvSpPr>
        <p:spPr>
          <a:xfrm rot="10865400">
            <a:off x="304560" y="1065960"/>
            <a:ext cx="2550960" cy="3591000"/>
          </a:xfrm>
          <a:custGeom>
            <a:avLst/>
            <a:gdLst>
              <a:gd name="textAreaLeft" fmla="*/ 0 w 2550960"/>
              <a:gd name="textAreaRight" fmla="*/ 2551320 w 2550960"/>
              <a:gd name="textAreaTop" fmla="*/ 0 h 3591000"/>
              <a:gd name="textAreaBottom" fmla="*/ 3591360 h 35910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 rot="15834600">
            <a:off x="3971880" y="5209920"/>
            <a:ext cx="2130480" cy="546120"/>
          </a:xfrm>
          <a:prstGeom prst="rightArrow">
            <a:avLst>
              <a:gd name="adj1" fmla="val 50000"/>
              <a:gd name="adj2" fmla="val 97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 rot="15834600">
            <a:off x="4186080" y="3520800"/>
            <a:ext cx="1298520" cy="545760"/>
          </a:xfrm>
          <a:prstGeom prst="rightArrow">
            <a:avLst>
              <a:gd name="adj1" fmla="val 50000"/>
              <a:gd name="adj2" fmla="val 594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 rot="15834600">
            <a:off x="4422600" y="2550600"/>
            <a:ext cx="615960" cy="545760"/>
          </a:xfrm>
          <a:prstGeom prst="rightArrow">
            <a:avLst>
              <a:gd name="adj1" fmla="val 50000"/>
              <a:gd name="adj2" fmla="val 28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96160" y="3936960"/>
            <a:ext cx="2031840" cy="660600"/>
          </a:xfrm>
          <a:prstGeom prst="leftArrowCallout">
            <a:avLst>
              <a:gd name="adj1" fmla="val 50005"/>
              <a:gd name="adj2" fmla="val 25000"/>
              <a:gd name="adj3" fmla="val 51177"/>
              <a:gd name="adj4" fmla="val 6667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438960" y="3314880"/>
            <a:ext cx="2031840" cy="507960"/>
          </a:xfrm>
          <a:prstGeom prst="leftArrowCallout">
            <a:avLst>
              <a:gd name="adj1" fmla="val 50005"/>
              <a:gd name="adj2" fmla="val 25000"/>
              <a:gd name="adj3" fmla="val 66556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5854680" y="260352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5410080" y="201924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Transfer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0" y="1646280"/>
            <a:ext cx="9144000" cy="4906800"/>
            <a:chOff x="0" y="1646280"/>
            <a:chExt cx="9144000" cy="490680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5"/>
            <p:cNvSpPr/>
            <p:nvPr/>
          </p:nvSpPr>
          <p:spPr>
            <a:xfrm>
              <a:off x="0" y="5880240"/>
              <a:ext cx="914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1646280"/>
              <a:ext cx="914400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Joule is a way to describe energy.  It is named after this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mes Prescott Jo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takes 4.2 Joules to heat 1 gram of water 1 degree Celsiu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1,000,000 Joules of sunlight hit a field of grass, how is this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red to the ecosyst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7791480" y="2192400"/>
            <a:ext cx="8953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6"/>
          <p:cNvGrpSpPr/>
          <p:nvPr/>
        </p:nvGrpSpPr>
        <p:grpSpPr>
          <a:xfrm>
            <a:off x="0" y="1650960"/>
            <a:ext cx="9144000" cy="4902120"/>
            <a:chOff x="0" y="1650960"/>
            <a:chExt cx="9144000" cy="4902120"/>
          </a:xfrm>
        </p:grpSpPr>
        <p:pic>
          <p:nvPicPr>
            <p:cNvPr id="25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"/>
            <p:cNvSpPr/>
            <p:nvPr/>
          </p:nvSpPr>
          <p:spPr>
            <a:xfrm>
              <a:off x="1371600" y="1650960"/>
              <a:ext cx="7772400" cy="421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0" y="1650960"/>
              <a:ext cx="199404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0" y="1647720"/>
            <a:ext cx="9144000" cy="4908600"/>
            <a:chOff x="0" y="1647720"/>
            <a:chExt cx="9144000" cy="4908600"/>
          </a:xfrm>
        </p:grpSpPr>
        <p:pic>
          <p:nvPicPr>
            <p:cNvPr id="256" name="Picture 17" descr=""/>
            <p:cNvPicPr/>
            <p:nvPr/>
          </p:nvPicPr>
          <p:blipFill>
            <a:blip r:embed="rId4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31"/>
            <p:cNvSpPr/>
            <p:nvPr/>
          </p:nvSpPr>
          <p:spPr>
            <a:xfrm rot="16200000">
              <a:off x="4883040" y="543168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273320" y="1647720"/>
              <a:ext cx="778500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0" y="1657440"/>
            <a:ext cx="9144000" cy="4895640"/>
            <a:chOff x="0" y="1657440"/>
            <a:chExt cx="9144000" cy="4895640"/>
          </a:xfrm>
        </p:grpSpPr>
        <p:grpSp>
          <p:nvGrpSpPr>
            <p:cNvPr id="260" name="Group 23"/>
            <p:cNvGrpSpPr/>
            <p:nvPr/>
          </p:nvGrpSpPr>
          <p:grpSpPr>
            <a:xfrm>
              <a:off x="0" y="1657440"/>
              <a:ext cx="9144000" cy="4895640"/>
              <a:chOff x="0" y="1657440"/>
              <a:chExt cx="9144000" cy="4895640"/>
            </a:xfrm>
          </p:grpSpPr>
          <p:pic>
            <p:nvPicPr>
              <p:cNvPr id="26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657440"/>
                <a:ext cx="9144000" cy="48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22"/>
              <p:cNvSpPr/>
              <p:nvPr/>
            </p:nvSpPr>
            <p:spPr>
              <a:xfrm>
                <a:off x="1397160" y="1663560"/>
                <a:ext cx="7429320" cy="214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4"/>
            <p:cNvSpPr/>
            <p:nvPr/>
          </p:nvSpPr>
          <p:spPr>
            <a:xfrm rot="16200000">
              <a:off x="4838760" y="4533120"/>
              <a:ext cx="736200" cy="6094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 rot="16200000">
              <a:off x="4933800" y="5428800"/>
              <a:ext cx="545760" cy="609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0"/>
          <p:cNvGrpSpPr/>
          <p:nvPr/>
        </p:nvGrpSpPr>
        <p:grpSpPr>
          <a:xfrm>
            <a:off x="0" y="1660680"/>
            <a:ext cx="9144000" cy="4895640"/>
            <a:chOff x="0" y="1660680"/>
            <a:chExt cx="9144000" cy="489564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36"/>
            <p:cNvSpPr/>
            <p:nvPr/>
          </p:nvSpPr>
          <p:spPr>
            <a:xfrm>
              <a:off x="1397160" y="1666800"/>
              <a:ext cx="742932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37"/>
            <p:cNvSpPr/>
            <p:nvPr/>
          </p:nvSpPr>
          <p:spPr>
            <a:xfrm rot="16200000">
              <a:off x="4838760" y="453636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38"/>
            <p:cNvSpPr/>
            <p:nvPr/>
          </p:nvSpPr>
          <p:spPr>
            <a:xfrm rot="16200000">
              <a:off x="4934160" y="5432040"/>
              <a:ext cx="545760" cy="6098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39"/>
            <p:cNvSpPr/>
            <p:nvPr/>
          </p:nvSpPr>
          <p:spPr>
            <a:xfrm rot="16200000">
              <a:off x="4838760" y="346932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0" y="1682640"/>
            <a:ext cx="9144000" cy="4896000"/>
            <a:chOff x="0" y="1682640"/>
            <a:chExt cx="9144000" cy="4896000"/>
          </a:xfrm>
        </p:grpSpPr>
        <p:pic>
          <p:nvPicPr>
            <p:cNvPr id="272" name="Picture 42" descr=""/>
            <p:cNvPicPr/>
            <p:nvPr/>
          </p:nvPicPr>
          <p:blipFill>
            <a:blip r:embed="rId7"/>
            <a:stretch/>
          </p:blipFill>
          <p:spPr>
            <a:xfrm>
              <a:off x="0" y="1682640"/>
              <a:ext cx="914400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4"/>
            <p:cNvSpPr/>
            <p:nvPr/>
          </p:nvSpPr>
          <p:spPr>
            <a:xfrm rot="16200000">
              <a:off x="4838760" y="455940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45"/>
            <p:cNvSpPr/>
            <p:nvPr/>
          </p:nvSpPr>
          <p:spPr>
            <a:xfrm rot="16200000">
              <a:off x="4933800" y="545400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rot="16200000">
              <a:off x="4838760" y="349236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47"/>
            <p:cNvSpPr/>
            <p:nvPr/>
          </p:nvSpPr>
          <p:spPr>
            <a:xfrm rot="16200000">
              <a:off x="4838760" y="246384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il: Fossil Fu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30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 Fuels are made of thousands of years old dead plants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573360" y="1519200"/>
            <a:ext cx="2048040" cy="1533600"/>
          </a:xfrm>
          <a:prstGeom prst="rect">
            <a:avLst/>
          </a:prstGeom>
          <a:ln w="0">
            <a:noFill/>
          </a:ln>
        </p:spPr>
      </p:pic>
      <p:sp>
        <p:nvSpPr>
          <p:cNvPr id="2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Pan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3280" y="156204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used to “collect” sol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65240" y="1816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electricity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structure of an at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simply the flow of electr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177840" y="2603520"/>
            <a:ext cx="8750160" cy="2603520"/>
            <a:chOff x="177840" y="2603520"/>
            <a:chExt cx="8750160" cy="2603520"/>
          </a:xfrm>
        </p:grpSpPr>
        <p:grpSp>
          <p:nvGrpSpPr>
            <p:cNvPr id="289" name="Group 13"/>
            <p:cNvGrpSpPr/>
            <p:nvPr/>
          </p:nvGrpSpPr>
          <p:grpSpPr>
            <a:xfrm>
              <a:off x="177840" y="2603520"/>
              <a:ext cx="4622760" cy="1612800"/>
              <a:chOff x="177840" y="2603520"/>
              <a:chExt cx="4622760" cy="1612800"/>
            </a:xfrm>
          </p:grpSpPr>
          <p:sp>
            <p:nvSpPr>
              <p:cNvPr id="290" name="Oval 14"/>
              <p:cNvSpPr/>
              <p:nvPr/>
            </p:nvSpPr>
            <p:spPr>
              <a:xfrm>
                <a:off x="4356000" y="372096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15"/>
              <p:cNvSpPr/>
              <p:nvPr/>
            </p:nvSpPr>
            <p:spPr>
              <a:xfrm>
                <a:off x="177840" y="26035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3403440" y="2666880"/>
              <a:ext cx="5524560" cy="2540160"/>
              <a:chOff x="3403440" y="2666880"/>
              <a:chExt cx="5524560" cy="2540160"/>
            </a:xfrm>
          </p:grpSpPr>
          <p:sp>
            <p:nvSpPr>
              <p:cNvPr id="293" name="Text Box 17"/>
              <p:cNvSpPr/>
              <p:nvPr/>
            </p:nvSpPr>
            <p:spPr>
              <a:xfrm>
                <a:off x="5842080" y="266688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18"/>
              <p:cNvGrpSpPr/>
              <p:nvPr/>
            </p:nvGrpSpPr>
            <p:grpSpPr>
              <a:xfrm>
                <a:off x="3403440" y="2793960"/>
                <a:ext cx="2438640" cy="2413080"/>
                <a:chOff x="3403440" y="2793960"/>
                <a:chExt cx="2438640" cy="2413080"/>
              </a:xfrm>
            </p:grpSpPr>
            <p:sp>
              <p:nvSpPr>
                <p:cNvPr id="295" name="Oval 19"/>
                <p:cNvSpPr/>
                <p:nvPr/>
              </p:nvSpPr>
              <p:spPr>
                <a:xfrm>
                  <a:off x="3936960" y="332748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20"/>
                <p:cNvSpPr/>
                <p:nvPr/>
              </p:nvSpPr>
              <p:spPr>
                <a:xfrm>
                  <a:off x="3645000" y="307332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21"/>
                <p:cNvSpPr/>
                <p:nvPr/>
              </p:nvSpPr>
              <p:spPr>
                <a:xfrm>
                  <a:off x="3403440" y="279396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22"/>
                <p:cNvSpPr/>
                <p:nvPr/>
              </p:nvSpPr>
              <p:spPr>
                <a:xfrm>
                  <a:off x="5016600" y="378468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23"/>
                <p:cNvSpPr/>
                <p:nvPr/>
              </p:nvSpPr>
              <p:spPr>
                <a:xfrm>
                  <a:off x="5321160" y="393696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24"/>
                <p:cNvSpPr/>
                <p:nvPr/>
              </p:nvSpPr>
              <p:spPr>
                <a:xfrm>
                  <a:off x="5575320" y="41022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1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lectricity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2374920" y="1663560"/>
            <a:ext cx="8750160" cy="2603520"/>
            <a:chOff x="-2374920" y="1663560"/>
            <a:chExt cx="8750160" cy="2603520"/>
          </a:xfrm>
        </p:grpSpPr>
        <p:grpSp>
          <p:nvGrpSpPr>
            <p:cNvPr id="304" name="Group 4"/>
            <p:cNvGrpSpPr/>
            <p:nvPr/>
          </p:nvGrpSpPr>
          <p:grpSpPr>
            <a:xfrm>
              <a:off x="-2374920" y="1663560"/>
              <a:ext cx="4622760" cy="1612800"/>
              <a:chOff x="-2374920" y="1663560"/>
              <a:chExt cx="4622760" cy="1612800"/>
            </a:xfrm>
          </p:grpSpPr>
          <p:sp>
            <p:nvSpPr>
              <p:cNvPr id="305" name="Oval 5"/>
              <p:cNvSpPr/>
              <p:nvPr/>
            </p:nvSpPr>
            <p:spPr>
              <a:xfrm>
                <a:off x="1803240" y="278100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6"/>
              <p:cNvSpPr/>
              <p:nvPr/>
            </p:nvSpPr>
            <p:spPr>
              <a:xfrm>
                <a:off x="-2374920" y="166356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850680" y="1726920"/>
              <a:ext cx="5524560" cy="2540160"/>
              <a:chOff x="850680" y="1726920"/>
              <a:chExt cx="5524560" cy="2540160"/>
            </a:xfrm>
          </p:grpSpPr>
          <p:sp>
            <p:nvSpPr>
              <p:cNvPr id="308" name="Text Box 8"/>
              <p:cNvSpPr/>
              <p:nvPr/>
            </p:nvSpPr>
            <p:spPr>
              <a:xfrm>
                <a:off x="3289320" y="17269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9"/>
              <p:cNvGrpSpPr/>
              <p:nvPr/>
            </p:nvGrpSpPr>
            <p:grpSpPr>
              <a:xfrm>
                <a:off x="850680" y="1854000"/>
                <a:ext cx="2438640" cy="2413080"/>
                <a:chOff x="850680" y="1854000"/>
                <a:chExt cx="2438640" cy="2413080"/>
              </a:xfrm>
            </p:grpSpPr>
            <p:sp>
              <p:nvSpPr>
                <p:cNvPr id="310" name="Oval 10"/>
                <p:cNvSpPr/>
                <p:nvPr/>
              </p:nvSpPr>
              <p:spPr>
                <a:xfrm>
                  <a:off x="1384200" y="238752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1"/>
                <p:cNvSpPr/>
                <p:nvPr/>
              </p:nvSpPr>
              <p:spPr>
                <a:xfrm>
                  <a:off x="1092240" y="213336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2"/>
                <p:cNvSpPr/>
                <p:nvPr/>
              </p:nvSpPr>
              <p:spPr>
                <a:xfrm>
                  <a:off x="850680" y="185400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3"/>
                <p:cNvSpPr/>
                <p:nvPr/>
              </p:nvSpPr>
              <p:spPr>
                <a:xfrm>
                  <a:off x="2463840" y="284472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4"/>
                <p:cNvSpPr/>
                <p:nvPr/>
              </p:nvSpPr>
              <p:spPr>
                <a:xfrm>
                  <a:off x="2768400" y="29970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5"/>
                <p:cNvSpPr/>
                <p:nvPr/>
              </p:nvSpPr>
              <p:spPr>
                <a:xfrm>
                  <a:off x="3022560" y="316224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6" name="Freeform 16"/>
          <p:cNvSpPr/>
          <p:nvPr/>
        </p:nvSpPr>
        <p:spPr>
          <a:xfrm rot="4977000">
            <a:off x="1723320" y="3135960"/>
            <a:ext cx="1039680" cy="16257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625760"/>
              <a:gd name="textAreaBottom" fmla="*/ 1626120 h 162576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4330800" y="3086280"/>
            <a:ext cx="41904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5118120" y="2527200"/>
            <a:ext cx="4191120" cy="1486080"/>
            <a:chOff x="5118120" y="2527200"/>
            <a:chExt cx="4191120" cy="1486080"/>
          </a:xfrm>
        </p:grpSpPr>
        <p:sp>
          <p:nvSpPr>
            <p:cNvPr id="319" name="Rectangle 20"/>
            <p:cNvSpPr/>
            <p:nvPr/>
          </p:nvSpPr>
          <p:spPr>
            <a:xfrm>
              <a:off x="5397480" y="2540160"/>
              <a:ext cx="3911760" cy="147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5118120" y="2527200"/>
              <a:ext cx="596880" cy="1486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2"/>
          <p:cNvSpPr/>
          <p:nvPr/>
        </p:nvSpPr>
        <p:spPr>
          <a:xfrm>
            <a:off x="4952880" y="3162240"/>
            <a:ext cx="293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5929200" y="3363840"/>
            <a:ext cx="2289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009960" y="3162240"/>
            <a:ext cx="393480" cy="31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03920" y="5019840"/>
            <a:ext cx="87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appens millions of times to produce enough electrici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Нижний колонтитул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420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voltaic Cel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0" y="1627200"/>
            <a:ext cx="9321840" cy="5276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0" y="1619280"/>
            <a:ext cx="314964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4000680"/>
            <a:ext cx="314964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52280" y="1663560"/>
            <a:ext cx="2946600" cy="519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9"/>
          <p:cNvGrpSpPr/>
          <p:nvPr/>
        </p:nvGrpSpPr>
        <p:grpSpPr>
          <a:xfrm>
            <a:off x="-2641680" y="4254480"/>
            <a:ext cx="8381520" cy="2208960"/>
            <a:chOff x="-2641680" y="4254480"/>
            <a:chExt cx="8381520" cy="2208960"/>
          </a:xfrm>
        </p:grpSpPr>
        <p:grpSp>
          <p:nvGrpSpPr>
            <p:cNvPr id="332" name="Group 10"/>
            <p:cNvGrpSpPr/>
            <p:nvPr/>
          </p:nvGrpSpPr>
          <p:grpSpPr>
            <a:xfrm>
              <a:off x="-2641680" y="4254480"/>
              <a:ext cx="4428000" cy="1368360"/>
              <a:chOff x="-2641680" y="4254480"/>
              <a:chExt cx="4428000" cy="136836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360440" y="5202720"/>
                <a:ext cx="425880" cy="420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2"/>
              <p:cNvSpPr/>
              <p:nvPr/>
            </p:nvSpPr>
            <p:spPr>
              <a:xfrm>
                <a:off x="-2641680" y="425448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448200" y="4308120"/>
              <a:ext cx="5291640" cy="2155320"/>
              <a:chOff x="448200" y="4308120"/>
              <a:chExt cx="5291640" cy="215532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2783880" y="430812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Group 15"/>
              <p:cNvGrpSpPr/>
              <p:nvPr/>
            </p:nvGrpSpPr>
            <p:grpSpPr>
              <a:xfrm>
                <a:off x="448200" y="4415760"/>
                <a:ext cx="2335320" cy="2047680"/>
                <a:chOff x="448200" y="4415760"/>
                <a:chExt cx="2335320" cy="2047680"/>
              </a:xfrm>
            </p:grpSpPr>
            <p:sp>
              <p:nvSpPr>
                <p:cNvPr id="338" name="Oval 16"/>
                <p:cNvSpPr/>
                <p:nvPr/>
              </p:nvSpPr>
              <p:spPr>
                <a:xfrm>
                  <a:off x="959040" y="4868280"/>
                  <a:ext cx="1179720" cy="1099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7"/>
                <p:cNvSpPr/>
                <p:nvPr/>
              </p:nvSpPr>
              <p:spPr>
                <a:xfrm>
                  <a:off x="679320" y="4652640"/>
                  <a:ext cx="1739160" cy="15735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8"/>
                <p:cNvSpPr/>
                <p:nvPr/>
              </p:nvSpPr>
              <p:spPr>
                <a:xfrm>
                  <a:off x="448200" y="4415760"/>
                  <a:ext cx="2225880" cy="20476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9"/>
                <p:cNvSpPr/>
                <p:nvPr/>
              </p:nvSpPr>
              <p:spPr>
                <a:xfrm>
                  <a:off x="1992960" y="525636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0"/>
                <p:cNvSpPr/>
                <p:nvPr/>
              </p:nvSpPr>
              <p:spPr>
                <a:xfrm>
                  <a:off x="2284920" y="538560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2528280" y="552564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Freeform 22"/>
          <p:cNvSpPr/>
          <p:nvPr/>
        </p:nvSpPr>
        <p:spPr>
          <a:xfrm rot="11354400">
            <a:off x="1760040" y="3771720"/>
            <a:ext cx="1040040" cy="16254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625400"/>
              <a:gd name="textAreaBottom" fmla="*/ 1625760 h 1625400"/>
            </a:gdLst>
            <a:ahLst/>
            <a:rect l="textAreaLeft" t="textAreaTop" r="textAreaRight" b="textAreaBottom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23"/>
          <p:cNvSpPr/>
          <p:nvPr/>
        </p:nvSpPr>
        <p:spPr>
          <a:xfrm>
            <a:off x="2540160" y="5524560"/>
            <a:ext cx="228600" cy="21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2489040" y="5537160"/>
            <a:ext cx="2797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4"/>
          <p:cNvGrpSpPr/>
          <p:nvPr/>
        </p:nvGrpSpPr>
        <p:grpSpPr>
          <a:xfrm>
            <a:off x="2819520" y="6103440"/>
            <a:ext cx="3304080" cy="821160"/>
            <a:chOff x="2819520" y="6103440"/>
            <a:chExt cx="3304080" cy="821160"/>
          </a:xfrm>
        </p:grpSpPr>
        <p:sp>
          <p:nvSpPr>
            <p:cNvPr id="348" name="Line 26"/>
            <p:cNvSpPr/>
            <p:nvPr/>
          </p:nvSpPr>
          <p:spPr>
            <a:xfrm>
              <a:off x="2819520" y="6184800"/>
              <a:ext cx="266760" cy="67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3879720" y="6791400"/>
              <a:ext cx="711360" cy="13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V="1">
              <a:off x="5522400" y="6103440"/>
              <a:ext cx="601200" cy="403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AutoShape 29"/>
          <p:cNvSpPr/>
          <p:nvPr/>
        </p:nvSpPr>
        <p:spPr>
          <a:xfrm>
            <a:off x="6337440" y="2743200"/>
            <a:ext cx="2095200" cy="1689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5"/>
          <p:cNvGrpSpPr/>
          <p:nvPr/>
        </p:nvGrpSpPr>
        <p:grpSpPr>
          <a:xfrm>
            <a:off x="3080880" y="1785600"/>
            <a:ext cx="3297240" cy="3486600"/>
            <a:chOff x="3080880" y="1785600"/>
            <a:chExt cx="3297240" cy="3486600"/>
          </a:xfrm>
        </p:grpSpPr>
        <p:sp>
          <p:nvSpPr>
            <p:cNvPr id="353" name="Line 30"/>
            <p:cNvSpPr/>
            <p:nvPr/>
          </p:nvSpPr>
          <p:spPr>
            <a:xfrm flipH="1" flipV="1">
              <a:off x="5673960" y="5103720"/>
              <a:ext cx="704160" cy="168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 flipH="1" flipV="1">
              <a:off x="4391280" y="3032640"/>
              <a:ext cx="361440" cy="62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 flipH="1" flipV="1">
              <a:off x="3080880" y="1785600"/>
              <a:ext cx="695880" cy="20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2298600" y="0"/>
            <a:ext cx="4953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889600" y="15908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3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0080" y="-89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Oven Cup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9000" y="926640"/>
            <a:ext cx="3809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cup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 inside bottom with black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piece of black construction paper with aluminum foil shiny side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foil into a cone insde top of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bottom inside the cone and tigh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5765400" y="2653920"/>
            <a:ext cx="1587960" cy="1777680"/>
            <a:chOff x="5765400" y="2653920"/>
            <a:chExt cx="1587960" cy="1777680"/>
          </a:xfrm>
        </p:grpSpPr>
        <p:sp>
          <p:nvSpPr>
            <p:cNvPr id="362" name="Line 18"/>
            <p:cNvSpPr/>
            <p:nvPr/>
          </p:nvSpPr>
          <p:spPr>
            <a:xfrm>
              <a:off x="6083280" y="441936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 flipH="1" flipV="1">
              <a:off x="596916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0"/>
            <p:cNvSpPr/>
            <p:nvPr/>
          </p:nvSpPr>
          <p:spPr>
            <a:xfrm flipV="1">
              <a:off x="701028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 flipH="1" flipV="1">
              <a:off x="5829480" y="265392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7149960" y="2679120"/>
              <a:ext cx="203400" cy="888840"/>
              <a:chOff x="7149960" y="2679120"/>
              <a:chExt cx="203400" cy="888840"/>
            </a:xfrm>
          </p:grpSpPr>
          <p:sp>
            <p:nvSpPr>
              <p:cNvPr id="367" name="Line 23"/>
              <p:cNvSpPr/>
              <p:nvPr/>
            </p:nvSpPr>
            <p:spPr>
              <a:xfrm flipV="1">
                <a:off x="7149960" y="2679120"/>
                <a:ext cx="139680" cy="888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7264440" y="2691720"/>
                <a:ext cx="88920" cy="4316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25"/>
            <p:cNvSpPr/>
            <p:nvPr/>
          </p:nvSpPr>
          <p:spPr>
            <a:xfrm flipH="1" flipV="1">
              <a:off x="5765400" y="266652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0"/>
          <p:cNvGrpSpPr/>
          <p:nvPr/>
        </p:nvGrpSpPr>
        <p:grpSpPr>
          <a:xfrm>
            <a:off x="5803920" y="2666880"/>
            <a:ext cx="1549440" cy="1727280"/>
            <a:chOff x="5803920" y="2666880"/>
            <a:chExt cx="1549440" cy="1727280"/>
          </a:xfrm>
        </p:grpSpPr>
        <p:sp>
          <p:nvSpPr>
            <p:cNvPr id="371" name="AutoShape 28"/>
            <p:cNvSpPr/>
            <p:nvPr/>
          </p:nvSpPr>
          <p:spPr>
            <a:xfrm>
              <a:off x="5803920" y="2666880"/>
              <a:ext cx="1549440" cy="1727280"/>
            </a:xfrm>
            <a:custGeom>
              <a:avLst/>
              <a:gdLst>
                <a:gd name="textAreaLeft" fmla="*/ 284040 w 1549440"/>
                <a:gd name="textAreaRight" fmla="*/ 1265400 w 1549440"/>
                <a:gd name="textAreaTop" fmla="*/ 317520 h 1727280"/>
                <a:gd name="textAreaBottom" fmla="*/ 140976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338" y="21600"/>
                  </a:lnTo>
                  <a:lnTo>
                    <a:pt x="1726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5803920" y="30988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31"/>
          <p:cNvSpPr/>
          <p:nvPr/>
        </p:nvSpPr>
        <p:spPr>
          <a:xfrm>
            <a:off x="5613480" y="3543480"/>
            <a:ext cx="193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5257800" y="2031840"/>
            <a:ext cx="2387520" cy="1473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5969160" y="3479760"/>
            <a:ext cx="1193760" cy="939960"/>
          </a:xfrm>
          <a:custGeom>
            <a:avLst/>
            <a:gdLst>
              <a:gd name="textAreaLeft" fmla="*/ 191520 w 1193760"/>
              <a:gd name="textAreaRight" fmla="*/ 1002240 w 1193760"/>
              <a:gd name="textAreaTop" fmla="*/ 150840 h 939960"/>
              <a:gd name="textAreaBottom" fmla="*/ 789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34" y="21600"/>
                </a:lnTo>
                <a:lnTo>
                  <a:pt x="182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7"/>
          <p:cNvGrpSpPr/>
          <p:nvPr/>
        </p:nvGrpSpPr>
        <p:grpSpPr>
          <a:xfrm>
            <a:off x="5702040" y="2298600"/>
            <a:ext cx="1778400" cy="889200"/>
            <a:chOff x="5702040" y="2298600"/>
            <a:chExt cx="1778400" cy="889200"/>
          </a:xfrm>
        </p:grpSpPr>
        <p:sp>
          <p:nvSpPr>
            <p:cNvPr id="377" name="Line 38"/>
            <p:cNvSpPr/>
            <p:nvPr/>
          </p:nvSpPr>
          <p:spPr>
            <a:xfrm flipH="1" flipV="1">
              <a:off x="576612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727740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 flipV="1">
              <a:off x="7391520" y="23112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1"/>
            <p:cNvSpPr/>
            <p:nvPr/>
          </p:nvSpPr>
          <p:spPr>
            <a:xfrm flipH="1" flipV="1">
              <a:off x="5702040" y="23238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AutoShape 42"/>
          <p:cNvSpPr/>
          <p:nvPr/>
        </p:nvSpPr>
        <p:spPr>
          <a:xfrm>
            <a:off x="5587920" y="1181160"/>
            <a:ext cx="2006640" cy="2006640"/>
          </a:xfrm>
          <a:custGeom>
            <a:avLst/>
            <a:gdLst>
              <a:gd name="textAreaLeft" fmla="*/ 343440 w 2006640"/>
              <a:gd name="textAreaRight" fmla="*/ 1663200 w 2006640"/>
              <a:gd name="textAreaTop" fmla="*/ 343440 h 2006640"/>
              <a:gd name="textAreaBottom" fmla="*/ 16632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5" y="21600"/>
                </a:lnTo>
                <a:lnTo>
                  <a:pt x="1780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53"/>
          <p:cNvGrpSpPr/>
          <p:nvPr/>
        </p:nvGrpSpPr>
        <p:grpSpPr>
          <a:xfrm>
            <a:off x="-2692440" y="4812840"/>
            <a:ext cx="1181160" cy="888840"/>
            <a:chOff x="-2692440" y="4812840"/>
            <a:chExt cx="1181160" cy="888840"/>
          </a:xfrm>
        </p:grpSpPr>
        <p:sp>
          <p:nvSpPr>
            <p:cNvPr id="383" name="Line 54"/>
            <p:cNvSpPr/>
            <p:nvPr/>
          </p:nvSpPr>
          <p:spPr>
            <a:xfrm>
              <a:off x="-2578320" y="56894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 flipH="1" flipV="1">
              <a:off x="-269244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 flipV="1">
              <a:off x="-165096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57"/>
          <p:cNvGrpSpPr/>
          <p:nvPr/>
        </p:nvGrpSpPr>
        <p:grpSpPr>
          <a:xfrm>
            <a:off x="-3048480" y="3048120"/>
            <a:ext cx="1892880" cy="2031840"/>
            <a:chOff x="-3048480" y="3048120"/>
            <a:chExt cx="1892880" cy="2031840"/>
          </a:xfrm>
        </p:grpSpPr>
        <p:sp>
          <p:nvSpPr>
            <p:cNvPr id="387" name="Line 58"/>
            <p:cNvSpPr/>
            <p:nvPr/>
          </p:nvSpPr>
          <p:spPr>
            <a:xfrm flipH="1" flipV="1">
              <a:off x="-3048480" y="3073320"/>
              <a:ext cx="33012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 flipV="1">
              <a:off x="-1486080" y="3048120"/>
              <a:ext cx="33048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60"/>
          <p:cNvGrpSpPr/>
          <p:nvPr/>
        </p:nvGrpSpPr>
        <p:grpSpPr>
          <a:xfrm>
            <a:off x="-2997720" y="4165560"/>
            <a:ext cx="1778400" cy="889200"/>
            <a:chOff x="-2997720" y="4165560"/>
            <a:chExt cx="1778400" cy="889200"/>
          </a:xfrm>
        </p:grpSpPr>
        <p:sp>
          <p:nvSpPr>
            <p:cNvPr id="390" name="Line 61"/>
            <p:cNvSpPr/>
            <p:nvPr/>
          </p:nvSpPr>
          <p:spPr>
            <a:xfrm flipH="1" flipV="1">
              <a:off x="-293364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62"/>
            <p:cNvSpPr/>
            <p:nvPr/>
          </p:nvSpPr>
          <p:spPr>
            <a:xfrm flipV="1">
              <a:off x="-142236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3"/>
            <p:cNvSpPr/>
            <p:nvPr/>
          </p:nvSpPr>
          <p:spPr>
            <a:xfrm flipV="1">
              <a:off x="-1308240" y="41781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4"/>
            <p:cNvSpPr/>
            <p:nvPr/>
          </p:nvSpPr>
          <p:spPr>
            <a:xfrm flipH="1" flipV="1">
              <a:off x="-2997720" y="41907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67"/>
          <p:cNvGrpSpPr/>
          <p:nvPr/>
        </p:nvGrpSpPr>
        <p:grpSpPr>
          <a:xfrm>
            <a:off x="5321160" y="1028880"/>
            <a:ext cx="2451240" cy="3581280"/>
            <a:chOff x="5321160" y="1028880"/>
            <a:chExt cx="2451240" cy="3581280"/>
          </a:xfrm>
        </p:grpSpPr>
        <p:sp>
          <p:nvSpPr>
            <p:cNvPr id="395" name="Rectangle 43"/>
            <p:cNvSpPr/>
            <p:nvPr/>
          </p:nvSpPr>
          <p:spPr>
            <a:xfrm>
              <a:off x="5321160" y="1028880"/>
              <a:ext cx="245124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5"/>
            <p:cNvGrpSpPr/>
            <p:nvPr/>
          </p:nvGrpSpPr>
          <p:grpSpPr>
            <a:xfrm>
              <a:off x="5689080" y="1238400"/>
              <a:ext cx="1892880" cy="2228400"/>
              <a:chOff x="5689080" y="1238400"/>
              <a:chExt cx="1892880" cy="2228400"/>
            </a:xfrm>
          </p:grpSpPr>
          <p:sp>
            <p:nvSpPr>
              <p:cNvPr id="397" name="Line 8"/>
              <p:cNvSpPr/>
              <p:nvPr/>
            </p:nvSpPr>
            <p:spPr>
              <a:xfrm flipH="1" flipV="1">
                <a:off x="5689080" y="1265760"/>
                <a:ext cx="33012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 flipV="1">
                <a:off x="7251480" y="1238400"/>
                <a:ext cx="33048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6"/>
            <p:cNvGrpSpPr/>
            <p:nvPr/>
          </p:nvGrpSpPr>
          <p:grpSpPr>
            <a:xfrm>
              <a:off x="5740560" y="2463480"/>
              <a:ext cx="1777320" cy="975960"/>
              <a:chOff x="5740560" y="2463480"/>
              <a:chExt cx="1777320" cy="975960"/>
            </a:xfrm>
          </p:grpSpPr>
          <p:sp>
            <p:nvSpPr>
              <p:cNvPr id="400" name="Line 10"/>
              <p:cNvSpPr/>
              <p:nvPr/>
            </p:nvSpPr>
            <p:spPr>
              <a:xfrm flipH="1" flipV="1">
                <a:off x="580356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V="1">
                <a:off x="731520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V="1">
                <a:off x="7429320" y="247788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"/>
              <p:cNvSpPr/>
              <p:nvPr/>
            </p:nvSpPr>
            <p:spPr>
              <a:xfrm flipH="1" flipV="1">
                <a:off x="5740560" y="249156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4"/>
          <p:cNvGrpSpPr/>
          <p:nvPr/>
        </p:nvGrpSpPr>
        <p:grpSpPr>
          <a:xfrm>
            <a:off x="6045120" y="3227040"/>
            <a:ext cx="1181160" cy="974520"/>
            <a:chOff x="6045120" y="3227040"/>
            <a:chExt cx="1181160" cy="974520"/>
          </a:xfrm>
        </p:grpSpPr>
        <p:sp>
          <p:nvSpPr>
            <p:cNvPr id="405" name="Line 5"/>
            <p:cNvSpPr/>
            <p:nvPr/>
          </p:nvSpPr>
          <p:spPr>
            <a:xfrm>
              <a:off x="6159240" y="41882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 flipV="1">
              <a:off x="604512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V="1">
              <a:off x="708660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Нижний колонтитул 5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55" name="Picture 4" descr="C:\Documents and Settings\Kevin\My Documents\BUSINESS\SCHOOL\STARS\Sunset over the Pacific.jpg"/>
          <p:cNvPicPr/>
          <p:nvPr/>
        </p:nvPicPr>
        <p:blipFill>
          <a:blip r:embed="rId1"/>
          <a:stretch/>
        </p:blipFill>
        <p:spPr>
          <a:xfrm>
            <a:off x="5170320" y="1627200"/>
            <a:ext cx="3453120" cy="507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Kevin\My Documents\BUSINESS\SCHOOL\STARS\starry_sky.jpg"/>
          <p:cNvPicPr/>
          <p:nvPr/>
        </p:nvPicPr>
        <p:blipFill>
          <a:blip r:embed="rId2"/>
          <a:stretch/>
        </p:blipFill>
        <p:spPr>
          <a:xfrm>
            <a:off x="749160" y="1625760"/>
            <a:ext cx="312444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3240" y="4803840"/>
            <a:ext cx="32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ar that is very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425680" y="2120760"/>
            <a:ext cx="4178160" cy="1816200"/>
            <a:chOff x="2425680" y="2120760"/>
            <a:chExt cx="4178160" cy="1816200"/>
          </a:xfrm>
        </p:grpSpPr>
        <p:sp>
          <p:nvSpPr>
            <p:cNvPr id="59" name="Oval 8"/>
            <p:cNvSpPr/>
            <p:nvPr/>
          </p:nvSpPr>
          <p:spPr>
            <a:xfrm>
              <a:off x="2425680" y="3606840"/>
              <a:ext cx="380880" cy="3301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5143680" y="2120760"/>
              <a:ext cx="1460160" cy="13082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2793960" y="2793600"/>
              <a:ext cx="2374920" cy="90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is is not a new concept…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has been used for centur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clot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m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fossil fuels are solar energy stored for billion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urney to the center of 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67" name="Picture 4" descr="C:\Documents and Settings\Kevin\My Documents\CLASSES\Layers.gif"/>
          <p:cNvPicPr/>
          <p:nvPr/>
        </p:nvPicPr>
        <p:blipFill>
          <a:blip r:embed="rId1"/>
          <a:stretch/>
        </p:blipFill>
        <p:spPr>
          <a:xfrm>
            <a:off x="692280" y="2008080"/>
            <a:ext cx="5143320" cy="367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02400" y="1981080"/>
            <a:ext cx="294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9724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19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292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48400" y="25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08720" y="216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11560" y="364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72200" y="5410080"/>
            <a:ext cx="1117440" cy="520920"/>
          </a:xfrm>
          <a:prstGeom prst="rect">
            <a:avLst/>
          </a:prstGeom>
          <a:noFill/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Birth of Solar Energy: The Co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 energy is “made” in the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15.6 million degrees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6,000 times boiling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250 million atmo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million times the pressure at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produc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clear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Nuclear Fusio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ial chemical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, when two atomic nucleii are joined to form a larger nucleu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given off or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is fused to form Helium in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s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de up of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the building block of the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s of atom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(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(what we breathe and the other 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(what makes balloons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(what makes some water st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de (these two make up table sa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07:06Z</dcterms:created>
  <dc:creator>LEGION</dc:creator>
  <dc:description/>
  <dc:language>en-US</dc:language>
  <cp:lastModifiedBy>LEGION</cp:lastModifiedBy>
  <dcterms:modified xsi:type="dcterms:W3CDTF">2018-03-22T09:20:08Z</dcterms:modified>
  <cp:revision>13</cp:revision>
  <dc:subject/>
  <dc:title>The Sun as an  Energy Source</dc:title>
</cp:coreProperties>
</file>