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7B03-2513-46CF-A74B-143E128EECF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4EF7-289C-46DC-B66E-0C78EF1CB739}"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16CF-D779-4358-9916-B32905A697A8}"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8-03-22T09:10:11Z</dcterms:modified>
  <cp:revision>21</cp:revision>
  <dc:subject/>
  <dc:title>Claudius Ptolemy</dc:title>
</cp:coreProperties>
</file>