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8197-9B14-48CF-9779-BA020DCAE21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6B01-13A7-47E5-9317-F9D164D1820B}"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EE86-31F0-4457-A665-F412BD12F86D}"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8-03-22T09:10:11Z</dcterms:modified>
  <cp:revision>21</cp:revision>
  <dc:subject/>
  <dc:title>Claudius Ptolemy</dc:title>
</cp:coreProperties>
</file>