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925A-CAF9-486A-9586-79F1ACF55DD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AB32-E4F9-4F2D-8AF5-30857980741E}"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8650-86DB-48E8-BCF1-2E85CE77F47B}"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8-03-22T09:10:11Z</dcterms:modified>
  <cp:revision>21</cp:revision>
  <dc:subject/>
  <dc:title>Claudius Ptolemy</dc:title>
</cp:coreProperties>
</file>