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D6616-A289-477A-97D3-936A05B334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D7741-961E-4AD5-A2F2-E7FD7E3CD9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WESOME AND 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ston University PHO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reach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’ spots on the Sun's surface that are cooler than the surrounding a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of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= 3800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area= 5800 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about Sun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can be about the size of Earth or even bigger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ome in pai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still really hot, just not as hot as the rest of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move across Sun’s surface as it rotates_x0010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Activity on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spots are caused by strong magnetic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“ropes” break through the Sun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each end of the rop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a sunsp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un’s magnetic activity that causes solar storm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all of this about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e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look at the Sun through a telescope with special fil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ell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also several spacecraft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bserving the Sun: SOHO, TRACE, STERE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satellites look at the Sun in 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kinds of light (ultraviolet, visibl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, X-ray) to see everything that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ing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cameras on telescopes need to u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aronagraph, where a disk is used to blo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 the Sun’s surface so we can see all the di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ff that the Sun’s brightness would drown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verage-size yellow star, just like billions of other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 of the solar system, Earth orbits aroun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ed about 4.6 billion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has a mass of 2x1030 kg or  330,000 Earths, that’s 99.8% of the mass in the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Energy &amp;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the source of all of the energy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feel this energy in the form of heat on your skin on a sunny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is produced in the Sun’s core through a process known as nuclear fu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’s nuclear fusion occurs when four hydrogen nuclei combine to make helium and releas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oes the Sun’s Energy Come Fro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uch energy does the Sun mak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know how much energy the Sun emits by measuring the amount of energy that reaches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the amount of hydrogen the Sun consumes per second and the mass of the Sun, we estimate its lifetime to be 50 billion y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usion Hydrogen Bomb—50 mega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inside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s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e of the sun alone is the size of 13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ative Z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from the core radiates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ve Lay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vection cells move energy through this part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part of the sun we s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art of the Sun’s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bright halo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of the Sun = Diameter of 56 Earth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Escapes the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occurs in the Sun’s core, the hottest pa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ergy released by the fusion in the Sun’s core is in the form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8 minutes for light from the surface of the Sun to reac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ing S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rface of the Sun is constantly chan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is shooting particles off it all the time called the Solar Wi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an 11-year “Solar Cycle” when the Sun goes from being very active (solar maximum) to not not very active (solar minim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Sun 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cycle is characterized by the rising and falling of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maximum is the period of greatest sola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solar maximum the Sun is more active meaning there are more sunspots and solar fl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C71-BB6F-4B22-85FF-265818B9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973-D722-4F39-99E1-219E376D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6F3-8A12-47BA-AB9A-A4667058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8D2-71CD-40A1-AC82-7F19ED8B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AC16E-49C0-4434-92C9-7B605FD7F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5ABDD-8ED5-4171-9AAE-F752A1E4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C658-C09E-4EC8-AF63-001D4665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59941-5169-437C-AE78-57B141B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28CC-C735-4711-AAC3-AA492158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74BA-B4F0-49A4-864C-11E5C2D6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5AA2-4450-4588-A3EB-12F518B8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D6B-B380-4228-B79C-BC72C3E6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B5A5-13E5-4EF6-8AF2-9518020A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A5E71-74C8-405A-AB81-8619DC70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7CE11-B7C1-4981-BE4C-77FDB17F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3B35D-4C97-4FC6-BCCD-B889C731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D739-50C9-4979-B8A9-FA7A63C37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281-5F3C-4DB9-872B-7E483398B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88ED-3352-4010-840D-05D4A98D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A168-3CE7-4E7D-9EBC-8AC91A25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0E99-551D-495D-8DFB-EC1F5A32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4199-3388-4B6C-84DA-513C801C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C401-1CD7-4692-8A98-20AC1156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47A-7812-4640-88CA-5F5D261E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C3420-27B6-48F4-8071-369945D520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013BCE-681B-4661-BC28-DFFDD8C706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167F99-5069-44B9-8CED-F3AEB960969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1870E1-0C04-44A7-B3EB-8B2798419F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THE SUN: </a:t>
            </a:r>
            <a:br>
              <a:rPr sz="4400"/>
            </a:br>
            <a:r>
              <a:rPr b="0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AWESOME AND A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Boston University PHO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bfbfbf"/>
                </a:solidFill>
                <a:latin typeface="Calibri"/>
              </a:rPr>
              <a:t>Outreach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52280" y="129528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ark’ spots on the Sun's surface that are cooler than the surrounding ar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emperature of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nspot= 3800 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Surrounding area= 5800 K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trong magnetic field in that area stops the area from being able to transfer energy so the temperature isn’t as hig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027" descr="Swedish%20sunspots1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5287680"/>
          </a:xfrm>
          <a:prstGeom prst="rect">
            <a:avLst/>
          </a:prstGeom>
          <a:ln w="0">
            <a:noFill/>
          </a:ln>
        </p:spPr>
      </p:pic>
      <p:sp>
        <p:nvSpPr>
          <p:cNvPr id="149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ore about Sunspo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28600" y="12193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can be about the size of Earth or even bigger!!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come in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ey are still really hot, just not as hot as the rest of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unspots move across Sun’s surface as it rotates_x0010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3" descr="800px-Sunspot_with_Earth_Comparison.jpg"/>
          <p:cNvPicPr/>
          <p:nvPr/>
        </p:nvPicPr>
        <p:blipFill>
          <a:blip r:embed="rId1"/>
          <a:stretch/>
        </p:blipFill>
        <p:spPr>
          <a:xfrm>
            <a:off x="0" y="4286160"/>
            <a:ext cx="9144000" cy="2571840"/>
          </a:xfrm>
          <a:prstGeom prst="rect">
            <a:avLst/>
          </a:prstGeom>
          <a:ln w="0">
            <a:noFill/>
          </a:ln>
        </p:spPr>
      </p:pic>
      <p:sp>
        <p:nvSpPr>
          <p:cNvPr id="153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Magnetic Activity on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038120" y="167652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Sunspots are caused by strong magnetic fiel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Magnetic “ropes” break through the Sun’s surf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At each end of the rop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s a sunspo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It is the Sun’s magnetic activity that causes solar storm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5" descr="flare.jpg"/>
          <p:cNvPicPr/>
          <p:nvPr/>
        </p:nvPicPr>
        <p:blipFill>
          <a:blip r:embed="rId1"/>
          <a:stretch/>
        </p:blipFill>
        <p:spPr>
          <a:xfrm>
            <a:off x="457200" y="1598760"/>
            <a:ext cx="3124080" cy="47257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6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How do we know all of this about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632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Tele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look at the Sun through a telescope with special filte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also use a solar telescope that projects the image of the Sun onto a piece of paper instead of into your ey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Calibri"/>
              </a:rPr>
              <a:t>Satell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re are also several spacecraft tha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re observing the Sun: SOHO, TRACE, STERE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se satellites look at the Sun in 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different kinds of light (ultraviolet, visible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frared, X-ray) to see everything that 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going 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any cameras on telescopes need to u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1" i="1" lang="en-US" sz="2000" spc="-1" strike="noStrike">
                <a:solidFill>
                  <a:srgbClr val="ffffff"/>
                </a:solidFill>
                <a:latin typeface="Calibri"/>
              </a:rPr>
              <a:t>caronagraph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, where a disk is used to bloc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out the Sun’s surface so we can see all the dim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tuff that the Sun’s brightness would drow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http://solar-heliospheric.engin.umich.edu/hjenning/fullhalo_c3_big.gif"/>
          <p:cNvPicPr/>
          <p:nvPr/>
        </p:nvPicPr>
        <p:blipFill>
          <a:blip r:embed="rId1"/>
          <a:stretch/>
        </p:blipFill>
        <p:spPr>
          <a:xfrm>
            <a:off x="5562720" y="2819520"/>
            <a:ext cx="3352680" cy="3352680"/>
          </a:xfrm>
          <a:prstGeom prst="rect">
            <a:avLst/>
          </a:prstGeom>
          <a:ln w="0">
            <a:noFill/>
          </a:ln>
        </p:spPr>
      </p:pic>
      <p:sp>
        <p:nvSpPr>
          <p:cNvPr id="16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An average-size yellow star, just like billions of others in the univer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Center of the solar system, Earth orbits around 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Formed about 4.6 billion years ag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The sun has a mass of 2x10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30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kg or  330,000 Earths, that’s</a:t>
            </a:r>
            <a:r>
              <a:rPr b="0" lang="en-US" sz="2500" spc="-1" strike="noStrike" baseline="30000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Calibri"/>
              </a:rPr>
              <a:t>99.8% of the mass in the solar system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sun2.preview.jpg"/>
          <p:cNvPicPr/>
          <p:nvPr/>
        </p:nvPicPr>
        <p:blipFill>
          <a:blip r:embed="rId1"/>
          <a:stretch/>
        </p:blipFill>
        <p:spPr>
          <a:xfrm>
            <a:off x="4637160" y="1676520"/>
            <a:ext cx="4125960" cy="39924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Sun’s Energy &amp; Ear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828440"/>
            <a:ext cx="441972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un is the source of all of the energy on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amount of energy that reaches Earth from the Sun in one second is enough energy to meet Massachusetts’ current energy needs for 32,655,294 years!!!*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bout half the energy that hits the Earth is absorbed and used to heat the plan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You can feel this energy in the form of heat on your skin on a sunny da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4267080" cy="3679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4105800" y="6248520"/>
            <a:ext cx="497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*figure based on data from California Energy Commi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energy.ca.gov/electricity/us_percapita_electricity_200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5"/>
          <p:cNvSpPr/>
          <p:nvPr/>
        </p:nvSpPr>
        <p:spPr>
          <a:xfrm>
            <a:off x="1143000" y="4219560"/>
            <a:ext cx="6858000" cy="2486160"/>
          </a:xfrm>
          <a:prstGeom prst="rect">
            <a:avLst/>
          </a:prstGeom>
          <a:solidFill>
            <a:srgbClr val="fffff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52280" y="1066680"/>
            <a:ext cx="87631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Energy is produced in the Sun’s core through a process known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Calibri"/>
                <a:ea typeface="Arial"/>
              </a:rPr>
              <a:t>nuclear fusion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Nuclear fusion is when nuclei of one kind of element combine to make a new nucleus in that requires less energy to hold it together. This difference in energy is spit out as a result of the reac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e Sun’s nuclear fusion occurs when four hydrogen nuclei combine to make helium and release energ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This type of reaction can’t happen just anywhere, it can only happen at incredibly high temperatures and pressures like those found in stars, somewhere around 23 million degre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4"/>
          <p:cNvGrpSpPr/>
          <p:nvPr/>
        </p:nvGrpSpPr>
        <p:grpSpPr>
          <a:xfrm>
            <a:off x="1600200" y="4317840"/>
            <a:ext cx="6323760" cy="2276280"/>
            <a:chOff x="1600200" y="4317840"/>
            <a:chExt cx="6323760" cy="2276280"/>
          </a:xfrm>
        </p:grpSpPr>
        <p:sp>
          <p:nvSpPr>
            <p:cNvPr id="104" name="Oval 5"/>
            <p:cNvSpPr/>
            <p:nvPr/>
          </p:nvSpPr>
          <p:spPr>
            <a:xfrm>
              <a:off x="1600200" y="48002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6"/>
            <p:cNvSpPr/>
            <p:nvPr/>
          </p:nvSpPr>
          <p:spPr>
            <a:xfrm>
              <a:off x="2594520" y="48002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7"/>
            <p:cNvSpPr/>
            <p:nvPr/>
          </p:nvSpPr>
          <p:spPr>
            <a:xfrm>
              <a:off x="1600200" y="5885640"/>
              <a:ext cx="19872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8"/>
            <p:cNvSpPr/>
            <p:nvPr/>
          </p:nvSpPr>
          <p:spPr>
            <a:xfrm>
              <a:off x="2594520" y="5885640"/>
              <a:ext cx="201600" cy="23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9"/>
            <p:cNvSpPr/>
            <p:nvPr/>
          </p:nvSpPr>
          <p:spPr>
            <a:xfrm flipV="1">
              <a:off x="1798920" y="55224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0"/>
            <p:cNvSpPr/>
            <p:nvPr/>
          </p:nvSpPr>
          <p:spPr>
            <a:xfrm>
              <a:off x="1798920" y="5040000"/>
              <a:ext cx="29808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1"/>
            <p:cNvSpPr/>
            <p:nvPr/>
          </p:nvSpPr>
          <p:spPr>
            <a:xfrm flipH="1" flipV="1">
              <a:off x="2298600" y="55224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H="1">
              <a:off x="2298600" y="5040000"/>
              <a:ext cx="295560" cy="36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>
              <a:off x="2594520" y="5402880"/>
              <a:ext cx="189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4"/>
            <p:cNvSpPr/>
            <p:nvPr/>
          </p:nvSpPr>
          <p:spPr>
            <a:xfrm>
              <a:off x="4885560" y="55224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5"/>
            <p:cNvSpPr/>
            <p:nvPr/>
          </p:nvSpPr>
          <p:spPr>
            <a:xfrm>
              <a:off x="4885560" y="5040000"/>
              <a:ext cx="201600" cy="24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"/>
            <p:cNvSpPr/>
            <p:nvPr/>
          </p:nvSpPr>
          <p:spPr>
            <a:xfrm>
              <a:off x="4985640" y="5283000"/>
              <a:ext cx="19872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7"/>
            <p:cNvSpPr/>
            <p:nvPr/>
          </p:nvSpPr>
          <p:spPr>
            <a:xfrm>
              <a:off x="4786200" y="5283000"/>
              <a:ext cx="199080" cy="23940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18"/>
            <p:cNvSpPr/>
            <p:nvPr/>
          </p:nvSpPr>
          <p:spPr>
            <a:xfrm>
              <a:off x="5213520" y="5121000"/>
              <a:ext cx="962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19" descr=""/>
            <p:cNvPicPr/>
            <p:nvPr/>
          </p:nvPicPr>
          <p:blipFill>
            <a:blip r:embed="rId1"/>
            <a:stretch/>
          </p:blipFill>
          <p:spPr>
            <a:xfrm>
              <a:off x="5883120" y="4317840"/>
              <a:ext cx="2040840" cy="227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0"/>
          <p:cNvSpPr/>
          <p:nvPr/>
        </p:nvSpPr>
        <p:spPr>
          <a:xfrm>
            <a:off x="6477120" y="52992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ere does the Sun’s Energy Come From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23"/>
          <p:cNvSpPr/>
          <p:nvPr/>
        </p:nvSpPr>
        <p:spPr>
          <a:xfrm>
            <a:off x="1219320" y="620064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 Hydrogen nucle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4"/>
          <p:cNvSpPr/>
          <p:nvPr/>
        </p:nvSpPr>
        <p:spPr>
          <a:xfrm>
            <a:off x="4143240" y="59086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 Helium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Нижний колонтитул 2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Untitled.png"/>
          <p:cNvPicPr/>
          <p:nvPr/>
        </p:nvPicPr>
        <p:blipFill>
          <a:blip r:embed="rId1"/>
          <a:stretch/>
        </p:blipFill>
        <p:spPr>
          <a:xfrm>
            <a:off x="4419720" y="1652760"/>
            <a:ext cx="4325760" cy="4443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How much energy does the Sun ma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520" y="15238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We know how much energy the Sun emits by measuring the amount of energy that reaches Eart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The Sun consumes 660 million tons of hydrogen releasing 100 billion megatons of energy per second! That’s the same energy as 20 billion Hydrogen bombs every secon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0"/>
              </a:spcBef>
              <a:buClr>
                <a:srgbClr val="ffffff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Arial"/>
              </a:rPr>
              <a:t>Based on the amount of hydrogen the Sun consumes per second and the mass of the Sun, we estimate its lifetime to be 50 billion yea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472428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Nuclear Fusion Hydrogen Bomb—50 mega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’s inside the su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1101600"/>
            <a:ext cx="5867280" cy="52228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867280" y="1066680"/>
            <a:ext cx="3048120" cy="57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Layers of the 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1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e core of the sun alone is the size of 13 Eart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Radiative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nergy from the core radiates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nvective Lay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nvection cells move energy through this part of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4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Phot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the part of the sun we 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hromosp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 part of the Sun’s atmo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6.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Calibri"/>
              </a:rPr>
              <a:t>Coro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his is a bright halo around the S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0" y="5954760"/>
            <a:ext cx="58672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ameter of the Sun = Diameter of 56 Earth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SUNSECT.JPG"/>
          <p:cNvPicPr/>
          <p:nvPr/>
        </p:nvPicPr>
        <p:blipFill>
          <a:blip r:embed="rId1"/>
          <a:stretch/>
        </p:blipFill>
        <p:spPr>
          <a:xfrm>
            <a:off x="4343400" y="1509840"/>
            <a:ext cx="4308480" cy="42814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Energy Escapes the Su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7800" y="1585440"/>
            <a:ext cx="4035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usion occurs in the Sun’s core, the hottest par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energy released by the fusion in the Sun’s core is in the form of ligh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t only takes 8 minutes for light from the surface of the Sun to reach Ear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ut it takes 170,000 for the light energy from the core to reach the Sun’s surface because it doesn’t go in a straight l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The Changing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1980720"/>
            <a:ext cx="4495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rface of the Sun is constantly chan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 Sun is shooting particles off it all the time called the Solar Win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Demi"/>
              </a:rPr>
              <a:t>There is an 11-year “Solar Cycle” when the Sun goes from being very active (solar maximum) to not not very active (solar minim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648320" y="1955880"/>
            <a:ext cx="4343400" cy="375912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Demi"/>
              </a:rPr>
              <a:t>How is the Sun activ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4197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cycle is characterized by the rising and falling of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The solar maximum is the period of greatest solar 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During solar maximum the Sun is more active meaning there are more sunspots and solar fl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rcRect l="1723" t="15773" r="0" b="0"/>
          <a:stretch/>
        </p:blipFill>
        <p:spPr>
          <a:xfrm>
            <a:off x="76320" y="2286000"/>
            <a:ext cx="4343400" cy="2847960"/>
          </a:xfrm>
          <a:prstGeom prst="rect">
            <a:avLst/>
          </a:prstGeom>
          <a:ln w="0">
            <a:noFill/>
          </a:ln>
        </p:spPr>
      </p:pic>
      <p:sp>
        <p:nvSpPr>
          <p:cNvPr id="145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20:55:02Z</dcterms:created>
  <dc:creator>Ian Cohen User</dc:creator>
  <dc:description/>
  <dc:language>en-US</dc:language>
  <cp:lastModifiedBy>LEGION</cp:lastModifiedBy>
  <dcterms:modified xsi:type="dcterms:W3CDTF">2018-03-22T09:03:55Z</dcterms:modified>
  <cp:revision>21</cp:revision>
  <dc:subject/>
  <dc:title>How are images of the Sun taken?</dc:title>
</cp:coreProperties>
</file>