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0C962-CDAC-41EE-BEB7-2FEA35226B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76BDB-52C1-4796-9C1D-CEA26F76E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F6A-62A1-4BDE-AE8E-8D9A11D9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CA4-127A-493B-9C25-F0DDC821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1B3-5F06-4428-ACD1-8A00C307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17A-63AF-4DF7-B71A-A9F4F8D2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E48B-1693-42A1-B60D-2CD53901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8317-6668-48DE-99BE-7D128CFF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35F3-7A9C-4288-AFCA-085A151A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3075-47B7-442D-8968-06E04415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DC0D-C635-4B93-85AC-59C17D08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3217-1673-417A-A060-5167FB3C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4F78-5A12-45FE-B9AD-CFC10761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8CE-21C6-4311-8746-508197D4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4113-2BC8-483F-A828-215640E0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B2AF-A1E7-4C71-967B-76A14500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4A53-7758-4AE7-A7D7-52475581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41E4-3FDF-41FF-A926-55DEA802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F79E-2DE8-4E57-AAED-3BED2FCE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1D2-94C0-431E-801F-8BDF7857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AB8-F8FD-4ED8-A466-123C8A8A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73B-F2C1-43E6-BFA4-FC768841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E6A-9251-46D3-9477-06B57413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1DC-B04F-40F5-906F-BA7030AF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796-0A83-426D-B07D-0AB62322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2D4-20E9-424A-A1DC-088E4F48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56DE2-0F70-436C-9B10-AF133B8143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65D29-70A8-4DCF-B313-B8FAD4020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2FFFF-D5C3-4BAB-90AD-0378872BB7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CE328-C997-4C5E-B92A-86D459D92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8-03-22T09:03:55Z</dcterms:modified>
  <cp:revision>21</cp:revision>
  <dc:subject/>
  <dc:title>How are images of the Sun taken?</dc:title>
</cp:coreProperties>
</file>