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63DCB-2978-4F67-BD68-008D68F58C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A4A5F-64B8-485B-B94B-DA600B281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1BE-CF6D-4ED9-911A-F1DF58DC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E65-2BE7-46D0-8E2F-9CAC94C9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F0B-134C-492C-A465-B8346BDA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44B-E679-46B0-B2F6-BC85BAD7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7FA9-2114-424B-AF88-9C3A70FB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2C7D-41E6-4834-BEF4-6B06401B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FCAA-5A8F-466B-943A-D0E4A3DE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E259-760F-4B66-9037-6AEB211F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F605-A8D2-43CC-B723-E9423152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52BB-0FAF-4B63-81AF-24627086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F28E-6C09-4593-B648-28DC4787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E268-7E66-4705-87CA-9AD7477F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18CF-862F-40EF-B2A9-7DB4225C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8C15-4DE2-4D84-832C-2E751217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CB3A-7BA7-4F8F-AF0E-FC8C50BD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AFD6-45CE-4ADC-882C-E6B8AD9C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BC2C-0BE2-4D20-BB7F-C82250E3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169-602E-4B39-B067-147589DF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C8D-AAE0-4F3A-862D-5A03EFC6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B9A-1D79-4BA3-B14A-E5DEA029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832-B4B0-404B-B6A0-22B124F8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308-73FE-43FF-A77D-9DFC3843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405-869A-43C2-8865-D421F17D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4B1-A458-4D5B-81CD-2FCB7735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13B2B-F6D6-4CA3-A75E-7C31860FA4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A821A-C845-4432-9748-0B529ED9D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A56CA-4D74-42D0-B1EF-6ABB8C640C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FECE3-694F-4AD3-9B2C-CC5101678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8-03-22T09:03:55Z</dcterms:modified>
  <cp:revision>21</cp:revision>
  <dc:subject/>
  <dc:title>How are images of the Sun taken?</dc:title>
</cp:coreProperties>
</file>