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A5E-D0B7-4736-A580-8EE0984148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FE0-8D8A-40E5-ACB7-67E24CAC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534-D394-47DC-B437-F428567E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0D6-9515-44C7-9874-57B134F1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BD1-98D6-4DEB-817F-EE25E7CC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61-3461-4776-A5C9-1630E9A2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CFB-CE13-43B0-8C57-E9B4079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5AB-5BE8-4772-9E4C-8520D536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018-4A0B-4FD3-BE30-F373668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836-C280-41AD-9685-FB1EB8F8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552-C5E5-4435-9B33-AB517995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E26-C33E-43DB-A670-6B5D8FFE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2EF-CDEC-4F9C-9DC2-BE918A9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67FE-2AB8-4BEE-B0DF-EE5ABF074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ижний колонтитул 9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8-03-22T08:59:41Z</dcterms:modified>
  <cp:revision>147</cp:revision>
  <dc:subject/>
  <dc:title>Introduction to Astronomy</dc:title>
</cp:coreProperties>
</file>