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B3DC-4A9D-4F47-883B-B6591490C7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73F-75E9-4FF6-A5D7-F347A945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3DA-0794-4FF4-B78A-48DADDA5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36D-38DE-4C61-98A5-FEB33F41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088-5313-447B-A9ED-7368344E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E1B-0556-47CF-A9C2-CEABE7FE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4E7-32D9-420E-9E97-F48FE17A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7615-2BAD-4237-B028-2FAF9F42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2F2-96CC-4399-A5ED-6E05018D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6B2-1753-4112-8A60-79E84FFD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2AC-F498-4B59-B290-31263BB5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73F-3EA7-41C5-80B2-F150FC91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69A-A655-4FF6-9705-1DC8DB21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A2E4-7AFC-4A40-B71D-485E4B9BE4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Нижний колонтитул 9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8-03-22T08:59:41Z</dcterms:modified>
  <cp:revision>147</cp:revision>
  <dc:subject/>
  <dc:title>Introduction to Astronomy</dc:title>
</cp:coreProperties>
</file>