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8.jpeg" ContentType="image/jpeg"/>
  <Override PartName="/ppt/media/image17.gif" ContentType="image/gif"/>
  <Override PartName="/ppt/media/image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B253B-89FA-49AA-8909-C0F934CFE86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nounc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ores for first exam are available on Web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s (A and B) with correct answers marked are available on usual course web site (not in WebC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more days of observing for extra credit for first exa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ond exam will be on Friday, October 8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rth exam will be on Wednesday, Nov. 17, instead of Friday, Nov. 1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ores for first exam are available on Web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s (A and B) with correct answers marked are available on usual course web site (not in WebCT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more days of observing for extra credit for first ex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exam will be on Friday, October 8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exam will be on Wednesday, Nov. 17, instead of Friday, Nov. 1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s are about 4000 K (2000 K cooler than solar surface) and have magnetic fields up 1000 the normal solar magnetic field.   They can be as large as 50,000 km and last for many month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low temperature regions in the 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spots are about 4000 K (2000 K cooler than solar surface) and have magnetic fields up 1000 the normal solar magnetic field.   They can be as large as 50,000 km and last for many mon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are low temperature regions in the 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s spiral around magnetic field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on of charged particle (electron, proton, nucleu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s spiral around magnetic field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on of charged particle (electron, proton, nucle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ge magnetic fields in sunspots decrease the flow of heat via convection causing the sunspot to become co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low temperature regions in the 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rge magnetic fields in sunspots decrease the flow of heat via convection causing the sunspot to become co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are low temperature regions in the 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nspot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nspot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can be used to measure the rotation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the equator the Sun rotates once in 25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les rotate more slowly, about once every 36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can be used to measure the rotation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 the equator the Sun rotates once in 25 d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les rotate more slowly, about once every 36 d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11 years, the Sun’s magnetic field changes direction.  Overall cycle is 22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11 years, the Sun’s magnetic field changes direction.  Overall cycle is 22 ye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ran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ran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irect observational evidence supports the model of thermonuclear reactions in the Sun’s co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ino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 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 cou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MD insp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rect observational evidence supports the model of thermonuclear reactions in the Sun’s co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spot cou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MD insp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er Layers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oseism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nences, flares, coronal mass ej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ing 17.3-17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Layers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oseism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sp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minences, flares, coronal mass ej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ing 17.3-17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magnetic fields also create other phenome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w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l mass ej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magnetic fields also create other phenom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w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l mass ej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s spiral around magnetic field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on of charged particle (electron, proton, nucleu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s, that we see, get trapped along magnetic field lines, that we don’t see, stretching out from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s spiral around magnetic field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on of charged particle (electron, proton, nucle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s, that we see, get trapped along magnetic field lines, that we don’t see, stretching out from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nence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ler than phot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minence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er than phot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flare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tter, up to 40,000,000 K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energe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flare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ter, up to 40,000,000 K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nerg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l mass ejection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uption of gas, can reach Earth and affect aurora, satel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l mass ejections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uption of gas, can reach Earth and affect aurora, satell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onal mass ej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v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onal mass ej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o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tatement is not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coronal temperature is about 106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very cool and dark, with temperatures of about 300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core has a temperature about 107 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romosphere is hotter than the phot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statement is not correc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ar coronal temperature is about 106 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are very cool and dark, with temperatures of about 300 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core has a temperature about 107  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romosphere is hotter than the phot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uiding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the Sun is so bright, how is it possible to see its dim outer atmosphere (corona)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n during eclipse, also with space instru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es the solar wind come fr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inuous ‘rain’ of charged particles from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sunspots? Why do they appear dar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ally intense regions, 2000K cooler than surroundings (dark by contrast with hotter surface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connection between sunspots and the Sun’s magnetic fiel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regions of intense magnetic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iding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the Sun is so bright, how is it possible to see its dim outer atmosphere (corona)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n during eclipse, also with space instr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solar wind come fr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ous ‘rain’ of charged particles from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unspots? Why do they appear dar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ically intense regions, 2000K cooler than surroundings (dark by contrast with hotter surfac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connection between sunspots and the Sun’s magnetic fiel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are regions of intense 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 - the 5800 K layer we se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 – a thin layer, a few 1000 km thick, at a temperature of about 10,000 K.  Can be seen during solar eclip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 – Outermost layer, 1,000,000 km thick, at a temperature of about 1,000,000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 - the 5800 K layer we se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 – a thin layer, a few 1000 km thick, at a temperature of about 10,000 K.  Can be seen during solar eclips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 – Outermost layer, 1,000,000 km thick, at a temperature of about 1,000,000 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er layers of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= photosphere, 2 = chromosphere, 3 = 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the outer layers of the Sun’s atmosphere are hotter is a puzz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layers of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= photosphere, 2 = chromosphere, 3 = 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he outer layers of the Sun’s atmosphere are hotter is a puzz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rface of the Sun vibrates up and down in oscillations which can go deep through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observe these oscillations from Earth by looking at the Doppler shifts of different pieces of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oseismology is a way to probe the Sun’s interior using the Sun’s own vibr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rface of the Sun vibrates up and down in oscillations which can go deep through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observe these oscillations from Earth by looking at the Doppler shifts of different pieces of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oseismology is a way to probe the Sun’s interior using the Sun’s own vib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A702-53EC-4A86-AD1A-6AC62901C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0FAD-0BEF-43E0-97B4-C16377EDD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4EF8-C2D9-401B-9047-E98430F03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A679-856C-4852-8530-A08DAA596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2BE0-7D11-440D-A029-800091C53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47EE-BF06-4A94-8768-BDEDC3682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1C00-4C8F-49A2-8CA0-AD98DBEC2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4A44-0239-4D31-932C-B6FD0E360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D588-632C-4AE9-90E0-FF0B20DC8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DEAE-B4C2-4D54-8B4B-2EA36F46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6377-8794-4155-BBF8-61E6A5AC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37FF-234E-4FF2-9A0B-C718245A4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B0EE5-7B41-4F10-8EB4-D5D48A80BF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hyperlink" Target="file:///prominence_10jan00.mo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file:///cme_anim.mo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res for first exam are available on Web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s (A and B) with correct answers marked are available on usual course web site (not in WebCT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more days of observing for extra credit for first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exam will be on Friday, October 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exam will be on Wednesday, Nov. 17, instead of Friday, Nov. 19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629400" y="1066680"/>
            <a:ext cx="236232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b dark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3" descr="temp"/>
          <p:cNvPicPr/>
          <p:nvPr/>
        </p:nvPicPr>
        <p:blipFill>
          <a:blip r:embed="rId1"/>
          <a:srcRect l="5319" t="5326" r="7448" b="7450"/>
          <a:stretch/>
        </p:blipFill>
        <p:spPr>
          <a:xfrm>
            <a:off x="0" y="-28440"/>
            <a:ext cx="7162920" cy="6886440"/>
          </a:xfrm>
          <a:prstGeom prst="rect">
            <a:avLst/>
          </a:prstGeom>
          <a:ln w="0">
            <a:noFill/>
          </a:ln>
        </p:spPr>
      </p:pic>
      <p:sp>
        <p:nvSpPr>
          <p:cNvPr id="7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mb darke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2" descr="temp"/>
          <p:cNvPicPr/>
          <p:nvPr/>
        </p:nvPicPr>
        <p:blipFill>
          <a:blip r:embed="rId1"/>
          <a:stretch/>
        </p:blipFill>
        <p:spPr>
          <a:xfrm>
            <a:off x="0" y="263520"/>
            <a:ext cx="9144000" cy="6518160"/>
          </a:xfrm>
          <a:prstGeom prst="rect">
            <a:avLst/>
          </a:prstGeom>
          <a:ln w="0">
            <a:noFill/>
          </a:ln>
        </p:spPr>
      </p:pic>
      <p:sp>
        <p:nvSpPr>
          <p:cNvPr id="8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027" descr="temp"/>
          <p:cNvPicPr/>
          <p:nvPr/>
        </p:nvPicPr>
        <p:blipFill>
          <a:blip r:embed="rId1"/>
          <a:stretch/>
        </p:blipFill>
        <p:spPr>
          <a:xfrm>
            <a:off x="380880" y="1295280"/>
            <a:ext cx="8458200" cy="39052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028"/>
          <p:cNvSpPr/>
          <p:nvPr/>
        </p:nvSpPr>
        <p:spPr>
          <a:xfrm>
            <a:off x="228600" y="54864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n spots are about 4000 K (2000 K cooler than solar surface) and have magnetic fields up 100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normal solar magnetic field.   They can be as large as 50,000 km and last for many month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s are low temperature regions in the photo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cles spiral around magnetic field 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Z:\kaaret\class\2004f_29c50\spiral.gif"/>
          <p:cNvPicPr/>
          <p:nvPr/>
        </p:nvPicPr>
        <p:blipFill>
          <a:blip r:embed="rId1"/>
          <a:stretch/>
        </p:blipFill>
        <p:spPr>
          <a:xfrm>
            <a:off x="304920" y="2438280"/>
            <a:ext cx="6553080" cy="21337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7086600" y="350532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netic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533520" y="4343400"/>
            <a:ext cx="419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ion of charged particle (electron, proton, nucle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temp"/>
          <p:cNvPicPr/>
          <p:nvPr/>
        </p:nvPicPr>
        <p:blipFill>
          <a:blip r:embed="rId1"/>
          <a:stretch/>
        </p:blipFill>
        <p:spPr>
          <a:xfrm>
            <a:off x="380880" y="1295280"/>
            <a:ext cx="8458200" cy="39052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228600" y="54864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rge magnetic fields in sunspots decrease the flow of heat via convection causing the sunspot to become c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s are low temperature regions in the photo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1026" descr="temp"/>
          <p:cNvPicPr/>
          <p:nvPr/>
        </p:nvPicPr>
        <p:blipFill>
          <a:blip r:embed="rId1"/>
          <a:stretch/>
        </p:blipFill>
        <p:spPr>
          <a:xfrm>
            <a:off x="0" y="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9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s can be used to measure the rotation of the Su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1027" descr="Z:\kaaret\class\2004f_29c50\Sunspot-Rotation-Animation.gif"/>
          <p:cNvPicPr/>
          <p:nvPr/>
        </p:nvPicPr>
        <p:blipFill>
          <a:blip r:embed="rId1"/>
          <a:stretch/>
        </p:blipFill>
        <p:spPr>
          <a:xfrm>
            <a:off x="380880" y="1828800"/>
            <a:ext cx="4649760" cy="46497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028"/>
          <p:cNvSpPr/>
          <p:nvPr/>
        </p:nvSpPr>
        <p:spPr>
          <a:xfrm>
            <a:off x="5562720" y="1905120"/>
            <a:ext cx="31240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ar the equator the Sun rotates once in 25 d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oles rotate more slowly, about once every 36 d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spot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6858000" y="3809880"/>
            <a:ext cx="2286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11 years, the Sun’s magnetic field changes direction.  Overall cycle is 22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3" descr="Z:\kaaret\class\2004f_29c50\17f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n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" descr="temp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10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direct observational evidence supports the model of thermonuclear reactions in the Sun’s cor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2590560"/>
            <a:ext cx="75438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trin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mma 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n spot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D insp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er Layers of the Su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ioseism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n sp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inences, flares, coronal mass ej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ing 17.3-17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ar magnetic fields also create other phenome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31240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in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ar w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onal mass ej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4" descr="temp"/>
          <p:cNvPicPr/>
          <p:nvPr/>
        </p:nvPicPr>
        <p:blipFill>
          <a:blip r:embed="rId1"/>
          <a:stretch/>
        </p:blipFill>
        <p:spPr>
          <a:xfrm>
            <a:off x="3657600" y="1539720"/>
            <a:ext cx="5486400" cy="5318280"/>
          </a:xfrm>
          <a:prstGeom prst="rect">
            <a:avLst/>
          </a:prstGeom>
          <a:ln w="0">
            <a:noFill/>
          </a:ln>
        </p:spPr>
      </p:pic>
      <p:sp>
        <p:nvSpPr>
          <p:cNvPr id="11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cles spiral around magnetic field 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3" descr="Z:\kaaret\class\2004f_29c50\spiral.gif"/>
          <p:cNvPicPr/>
          <p:nvPr/>
        </p:nvPicPr>
        <p:blipFill>
          <a:blip r:embed="rId1"/>
          <a:stretch/>
        </p:blipFill>
        <p:spPr>
          <a:xfrm>
            <a:off x="304920" y="2438280"/>
            <a:ext cx="6553080" cy="21337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4"/>
          <p:cNvSpPr/>
          <p:nvPr/>
        </p:nvSpPr>
        <p:spPr>
          <a:xfrm>
            <a:off x="7086600" y="350532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netic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533520" y="4343400"/>
            <a:ext cx="419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ion of charged particle (electron, proton, nucle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533520" y="571500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cles, that we see, get trapped along magnetic field lines, that we don’t see, stretching out from the S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Z:\kaaret\class\2004f_29c50\SolarProminence.jpg"/>
          <p:cNvPicPr/>
          <p:nvPr/>
        </p:nvPicPr>
        <p:blipFill>
          <a:blip r:embed="rId1"/>
          <a:srcRect l="7146" t="7141" r="9186" b="9191"/>
          <a:stretch/>
        </p:blipFill>
        <p:spPr>
          <a:xfrm>
            <a:off x="0" y="685800"/>
            <a:ext cx="7772400" cy="62197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562720" y="-360"/>
            <a:ext cx="358128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ominences -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oler than photosphe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" descr="Z:\kaaret\class\2004f_29c50\solar_flare.jpg"/>
          <p:cNvPicPr/>
          <p:nvPr/>
        </p:nvPicPr>
        <p:blipFill>
          <a:blip r:embed="rId1"/>
          <a:stretch/>
        </p:blipFill>
        <p:spPr>
          <a:xfrm>
            <a:off x="0" y="0"/>
            <a:ext cx="7010280" cy="68914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486400" y="-360"/>
            <a:ext cx="365760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lar flares -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tter, up to 40,000,000 K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re energet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Z:\kaaret\class\2004f_29c50\prominence_anim.gif"/>
          <p:cNvPicPr/>
          <p:nvPr/>
        </p:nvPicPr>
        <p:blipFill>
          <a:blip r:embed="rId1"/>
          <a:stretch/>
        </p:blipFill>
        <p:spPr>
          <a:xfrm>
            <a:off x="2286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562720" y="-360"/>
            <a:ext cx="358128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onal mass ejections -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ruption of gas, can reach Earth and affect aurora, satell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7467480" y="6172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Mov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Z:\kaaret\class\2004f_29c50\soho_2_400.jpg"/>
          <p:cNvPicPr/>
          <p:nvPr/>
        </p:nvPicPr>
        <p:blipFill>
          <a:blip r:embed="rId1"/>
          <a:stretch/>
        </p:blipFill>
        <p:spPr>
          <a:xfrm>
            <a:off x="0" y="0"/>
            <a:ext cx="8915400" cy="69753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81080" y="0"/>
            <a:ext cx="5105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onal mass ej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7467480" y="6172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Mov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ich statement is not correc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olar coronal temperature is abou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nspots are very cool and dark, with temperatures of about 300 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un’s core has a temperature about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7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hromosphere is hotter than the photosp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uiding Ques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839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the Sun is so bright, how is it possible to see its dim outer atmosphere (corona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n during eclipse, also with space instr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does the solar wind come fro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ous ‘rain’ of charged particles from 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sunspots? Why do they appear dar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netically intense regions, 200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 cooler than surroundings (dark by contrast with hotter surface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connection between sunspots and the Sun’s magnetic fie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nspots are regions of intense magnetic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un’s Atmo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the 5800 K layer we se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a thin layer, a few 1000 km thick, at a temperature of about 10,000 K.  Can be seen during solar eclips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Outermost layer, 1,000,000 km thick, at a temperature of about 1,000,000 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er layers of su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027" descr="Z:\kaaret\class\2004f_29c50\sunlayer.gif"/>
          <p:cNvPicPr/>
          <p:nvPr/>
        </p:nvPicPr>
        <p:blipFill>
          <a:blip r:embed="rId1"/>
          <a:stretch/>
        </p:blipFill>
        <p:spPr>
          <a:xfrm>
            <a:off x="1752480" y="0"/>
            <a:ext cx="5181840" cy="49928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028"/>
          <p:cNvSpPr/>
          <p:nvPr/>
        </p:nvSpPr>
        <p:spPr>
          <a:xfrm>
            <a:off x="609480" y="5181480"/>
            <a:ext cx="8001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= photosphere, 2 = chromosphere, 3 = cor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the outer layers of the Sun’s atmosphere are hotter is a puzz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temp"/>
          <p:cNvPicPr/>
          <p:nvPr/>
        </p:nvPicPr>
        <p:blipFill>
          <a:blip r:embed="rId1"/>
          <a:srcRect l="7367" t="7365" r="7367" b="7371"/>
          <a:stretch/>
        </p:blipFill>
        <p:spPr>
          <a:xfrm>
            <a:off x="228600" y="304920"/>
            <a:ext cx="6553080" cy="63007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3760" y="0"/>
            <a:ext cx="38098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hotosp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Z:\kaaret\class\2004f_29c50\chromosphere.jpg"/>
          <p:cNvPicPr/>
          <p:nvPr/>
        </p:nvPicPr>
        <p:blipFill>
          <a:blip r:embed="rId1"/>
          <a:stretch/>
        </p:blipFill>
        <p:spPr>
          <a:xfrm>
            <a:off x="0" y="0"/>
            <a:ext cx="8686800" cy="68994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6252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romosp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6252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ro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Z:\kaaret\class\2004f_29c50\corona_beer.jpg"/>
          <p:cNvPicPr/>
          <p:nvPr/>
        </p:nvPicPr>
        <p:blipFill>
          <a:blip r:embed="rId1"/>
          <a:stretch/>
        </p:blipFill>
        <p:spPr>
          <a:xfrm>
            <a:off x="-380880" y="1295280"/>
            <a:ext cx="9524880" cy="3265560"/>
          </a:xfrm>
          <a:prstGeom prst="rect">
            <a:avLst/>
          </a:prstGeom>
          <a:ln w="0">
            <a:noFill/>
          </a:ln>
        </p:spPr>
      </p:pic>
      <p:sp>
        <p:nvSpPr>
          <p:cNvPr id="6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Z:\kaaret\class\2004f_29c50\corona.gif"/>
          <p:cNvPicPr/>
          <p:nvPr/>
        </p:nvPicPr>
        <p:blipFill>
          <a:blip r:embed="rId1"/>
          <a:stretch/>
        </p:blipFill>
        <p:spPr>
          <a:xfrm>
            <a:off x="0" y="168120"/>
            <a:ext cx="6689880" cy="66898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6252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ro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0" y="1980720"/>
            <a:ext cx="4191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urface of the Sun vibrates up and down in oscillations which can go deep through the S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observe these oscillations from Earth by looking at the Doppler shifts of different pieces of the S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lioseismology is a way to probe the Sun’s interior using the Sun’s own vibrat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temp"/>
          <p:cNvPicPr/>
          <p:nvPr/>
        </p:nvPicPr>
        <p:blipFill>
          <a:blip r:embed="rId1"/>
          <a:stretch/>
        </p:blipFill>
        <p:spPr>
          <a:xfrm>
            <a:off x="4191120" y="1752480"/>
            <a:ext cx="4952880" cy="4889520"/>
          </a:xfrm>
          <a:prstGeom prst="rect">
            <a:avLst/>
          </a:prstGeom>
          <a:ln w="0">
            <a:noFill/>
          </a:ln>
        </p:spPr>
      </p:pic>
      <p:sp>
        <p:nvSpPr>
          <p:cNvPr id="7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2T00:58:33Z</dcterms:created>
  <dc:creator>Philip Kaaret</dc:creator>
  <dc:description/>
  <dc:language>en-US</dc:language>
  <cp:lastModifiedBy>LEGION</cp:lastModifiedBy>
  <dcterms:modified xsi:type="dcterms:W3CDTF">2018-03-22T08:51:30Z</dcterms:modified>
  <cp:revision>11</cp:revision>
  <dc:subject/>
  <dc:title>Outer Layers of the Sun</dc:title>
</cp:coreProperties>
</file>