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00F1-5A99-425E-B28A-5227198C96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277-9142-4686-AE0D-97518860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656-0814-43F2-B1BC-7056864B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02F-ED19-41AC-91A8-99D967DF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3C4-AA35-4B86-8A37-2613FEDF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B6E-96B7-403E-A4AB-B4BF99D3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92C-090C-4B95-9DE0-DB328D05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8C2-B23A-41B7-A103-7792F80A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699-2917-4B2B-8651-638F72C9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261-1B12-4FFF-ABD1-3D7236AB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7C7-DD03-49A4-B404-A56C9F67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65D-0889-46C1-95D9-28D86AFD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208-7C2F-47F4-ABAE-C5D9F14E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AE72-CBF7-4A0B-803E-E35624C8D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exam will be on Friday, October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8-03-22T08:51:30Z</dcterms:modified>
  <cp:revision>11</cp:revision>
  <dc:subject/>
  <dc:title>Outer Layers of the Sun</dc:title>
</cp:coreProperties>
</file>