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C69E-16D0-4D38-A9AA-6B853CE8EC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00E-D9BF-4D0C-AD46-5541D9D0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7124-C80B-4688-AA66-94B67FC8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EAA-37BB-4DCE-B36B-5E7C95A8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D54-D32F-44D6-A986-18EF86BF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909-1AC7-4AE7-A141-C092AC5E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42B-7CF7-49B2-B484-5554DDD0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314-CBF4-4E25-BE45-D8F6B849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B0C-4A8C-4F40-B52F-44080674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718-CBFC-4148-B665-318C037C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7FA-6D32-42D7-B6C9-ABB4AA2B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C96-860B-46C7-B522-88DF3408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924-DB9C-4BA2-AE49-748F50EA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EFBC-7971-4E33-89D3-CED9CB408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exam will be on Friday, October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8-03-22T08:51:30Z</dcterms:modified>
  <cp:revision>11</cp:revision>
  <dc:subject/>
  <dc:title>Outer Layers of the Sun</dc:title>
</cp:coreProperties>
</file>