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4.jpeg" ContentType="image/jpeg"/>
  <Override PartName="/ppt/media/image23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28.png" ContentType="image/png"/>
  <Override PartName="/ppt/media/image7.jpeg" ContentType="image/jpeg"/>
  <Override PartName="/ppt/media/image13.png" ContentType="image/png"/>
  <Override PartName="/ppt/media/image37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34.png" ContentType="image/png"/>
  <Override PartName="/ppt/media/image30.jpeg" ContentType="image/jpeg"/>
  <Override PartName="/ppt/media/image31.jpeg" ContentType="image/jpeg"/>
  <Override PartName="/ppt/media/image38.wmf" ContentType="image/x-wmf"/>
  <Override PartName="/ppt/media/image4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5.jpeg" ContentType="image/jpeg"/>
  <Override PartName="/ppt/media/image32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verse in the Infrar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gust 200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ed by Catherine Pilachowsk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D7120-FC6B-442B-9D20-02BC7C8C8F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verse in the Infr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Spitzer Space Telescope, and how does it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about Spit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ded by NASA’s Spitzer Science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courtesy NASA/JPL - Calte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verse in the Infrar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Spitzer Space Telescope, and how does it work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about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ded by NASA’s Spitzer Science Cen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courtesy NASA/JPL - Calte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verse in the Infrar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Spitzer Space Telescope, and how does it work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about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ded by NASA’s Spitzer Science Cen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courtesy NASA/JPL - Calte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verse in the Infrar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Spitzer Space Telescope, and how does it work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about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ded by NASA’s Spitzer Science Cen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courtesy NASA/JPL - Calte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verse in the Infrar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Spitzer Space Telescope, and how does it work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about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ded by NASA’s Spitzer Science Cen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courtesy NASA/JPL - Calte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Spitzer C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scope operates at 5.5 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-  Spitzer is itself a black body radiator, and must be colder than the astronomical sources it det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ocentric orb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shield/sola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er shell insulates and cools the tele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Spitzer Col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scope operates at 5.5 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-  Spitzer is itself a black body radiator, and must be colder than the astronomical sources it detec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ocentric orb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shield/solar cel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er shell insulates and cools the telesco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Spitzer Col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scope operates at 5.5 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-  Spitzer is itself a black body radiator, and must be colder than the astronomical sources it detec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ocentric orb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shield/solar cel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er shell insulates and cools the telesco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Spitzer Col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scope operates at 5.5 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-  Spitzer is itself a black body radiator, and must be colder than the astronomical sources it detec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ocentric orb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shield/solar cel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er shell insulates and cools the telesco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Spitzer Col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scope operates at 5.5 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-  Spitzer is itself a black body radiator, and must be colder than the astronomical sources it detec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ocentric orb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shield/solar cel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er shell insulates and cools the telesco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Spitzer’s Instruments Even Col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ank of liquid helium is used to keep Spitzer’s instruments and detectors at 1.5 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Spitzer’s Instruments Even Cold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ank of liquid helium is used to keep Spitzer’s instruments and detectors at 1.5 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Spitzer’s Instruments Even Cold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ank of liquid helium is used to keep Spitzer’s instruments and detectors at 1.5 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Spitzer’s Instruments Even Cold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ank of liquid helium is used to keep Spitzer’s instruments and detectors at 1.5 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Spitzer’s Instruments Even Cold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ank of liquid helium is used to keep Spitzer’s instruments and detectors at 1.5 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pitzer’s Instr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RAC – InfraRed Array Cam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mages at 3.6, 4.5, 5.8, and 8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RS – InfraRed Spectro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d-IR spectros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PS – Multiband Imaging Photometer for Spit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mages at 24, 70, and 160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R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’s Instru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AC – InfraRed Array Camer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at 3.6, 4.5, 5.8, and 8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S – InfraRed Spectrogra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-IR spectroscop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PS – Multiband Imaging Photometer for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at 24, 70, and 160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P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A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’s Instru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AC – InfraRed Array Camer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at 3.6, 4.5, 5.8, and 8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S – InfraRed Spectrogra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-IR spectroscop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PS – Multiband Imaging Photometer for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at 24, 70, and 160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P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A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’s Instru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AC – InfraRed Array Camer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at 3.6, 4.5, 5.8, and 8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S – InfraRed Spectrogra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-IR spectroscop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PS – Multiband Imaging Photometer for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at 24, 70, and 160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P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A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’s Instru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AC – InfraRed Array Camer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at 3.6, 4.5, 5.8, and 8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S – InfraRed Spectrogra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-IR spectroscop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PS – Multiband Imaging Photometer for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at 24, 70, and 160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P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A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raRed Array Camera (IRA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the Smithsonian Astrophysical Observa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ultaneous images in four IR passb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raRed Array Camera (IRAC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the Smithsonian Astrophysical Observato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ultaneous images in four IR passb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raRed Array Camera (IRAC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the Smithsonian Astrophysical Observato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ultaneous images in four IR passb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raRed Array Camera (IRAC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the Smithsonian Astrophysical Observato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ultaneous images in four IR passb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raRed Array Camera (IRAC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the Smithsonian Astrophysical Observato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ultaneous images in four IR passb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raRed Spectro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Cornell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troscopy in the mid-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raRed Spectrome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Cornell Univers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troscopy in the mid-I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raRed Spectrome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Cornell Univers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troscopy in the mid-I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raRed Spectrome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Cornell Univers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troscopy in the mid-I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raRed Spectrome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Cornell Univers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troscopy in the mid-I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band Imaging Photometer for Spitzer (MIP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detector ar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8x128 pixel Si:As for 24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2x32 pixel Ge:Ga for 70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20 pixel Ge:Ga for 160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the University  of Ariz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band Imaging Photometer for Spitzer (MIP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detector array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8x128 pixel Si:As for 24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2x32 pixel Ge:Ga for 70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20 pixel Ge:Ga for 160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the University  of Arizo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band Imaging Photometer for Spitzer (MIP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detector array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8x128 pixel Si:As for 24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2x32 pixel Ge:Ga for 70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20 pixel Ge:Ga for 160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the University  of Arizo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band Imaging Photometer for Spitzer (MIP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detector array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8x128 pixel Si:As for 24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2x32 pixel Ge:Ga for 70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20 pixel Ge:Ga for 160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the University  of Arizo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band Imaging Photometer for Spitzer (MIP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detector array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8x128 pixel Si:As for 24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2x32 pixel Ge:Ga for 70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20 pixel Ge:Ga for 160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the University  of Arizo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Focal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nstruments are arranged in fixed locations on the Spitzer focal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scope is rotated to move a particular science target to the right position for the instrument to be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instruments record data for “serendipitous”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Focal Pla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nstruments are arranged in fixed locations on the Spitzer focal pla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scope is rotated to move a particular science target to the right position for the instrument to be us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instruments record data for “serendipitous” fiel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Focal Pla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nstruments are arranged in fixed locations on the Spitzer focal pla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scope is rotated to move a particular science target to the right position for the instrument to be us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instruments record data for “serendipitous” fiel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Focal Pla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nstruments are arranged in fixed locations on the Spitzer focal pla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scope is rotated to move a particular science target to the right position for the instrument to be us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instruments record data for “serendipitous” fiel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Focal Pla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nstruments are arranged in fixed locations on the Spitzer focal pla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scope is rotated to move a particular science target to the right position for the instrument to be us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instruments record data for “serendipitous” fiel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Op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pitzer.caltech.edu/about/now.s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pitzer Doing 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Oper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pitzer.caltech.edu/about/now.shtm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pitzer Doing Now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Oper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pitzer.caltech.edu/about/now.shtm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pitzer Doing Now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Oper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pitzer.caltech.edu/about/now.shtm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pitzer Doing Now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Oper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pitzer.caltech.edu/about/now.shtm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pitzer Doing Now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ture Infrared Satell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7: Herschel Space Observatory - a European Space Agency infrared-submillimeter mission planned for 2007 to study galaxy formation, interstellar matter, star formation and the atmospheres of comets and plane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7: Planck Surveyor - European Space Agency far infrared-submillimeter mission planned for 2007 to study Cosmic Background Radi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10: The James Webb Space Telescope, planned for launch in about 2011, is a visible/infrared space mission to study the early universe and the formation of galaxies, stars and plane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ture Infrared Satelli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7: Herschel Space Observatory - a European Space Agency infrared-submillimeter mission planned for 2007 to study galaxy formation, interstellar matter, star formation and the atmospheres of comets and planet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7: Planck Surveyor - European Space Agency far infrared-submillimeter mission planned for 2007 to study Cosmic Background Radia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10: The James Webb Space Telescope, planned for launch in about 2011, is a visible/infrared space mission to study the early universe and the formation of galaxies, stars and planet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ture Infrared Satelli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7: Herschel Space Observatory - a European Space Agency infrared-submillimeter mission planned for 2007 to study galaxy formation, interstellar matter, star formation and the atmospheres of comets and planet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7: Planck Surveyor - European Space Agency far infrared-submillimeter mission planned for 2007 to study Cosmic Background Radia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10: The James Webb Space Telescope, planned for launch in about 2011, is a visible/infrared space mission to study the early universe and the formation of galaxies, stars and planet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ture Infrared Satelli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7: Herschel Space Observatory - a European Space Agency infrared-submillimeter mission planned for 2007 to study galaxy formation, interstellar matter, star formation and the atmospheres of comets and planet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7: Planck Surveyor - European Space Agency far infrared-submillimeter mission planned for 2007 to study Cosmic Background Radia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10: The James Webb Space Telescope, planned for launch in about 2011, is a visible/infrared space mission to study the early universe and the formation of galaxies, stars and planet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ture Infrared Satelli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7: Herschel Space Observatory - a European Space Agency infrared-submillimeter mission planned for 2007 to study galaxy formation, interstellar matter, star formation and the atmospheres of comets and planet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7: Planck Surveyor - European Space Agency far infrared-submillimeter mission planned for 2007 to study Cosmic Background Radia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10: The James Webb Space Telescope, planned for launch in about 2011, is a visible/infrared space mission to study the early universe and the formation of galaxies, stars and planet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SA’s Great Observa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troducing Spit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pitzer’s Laun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rb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ming Spit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 Tele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str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uture IR Telesco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’s Great Observato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’s Laun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b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ing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sco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ru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ture IR Telescop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’s Great Observato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’s Laun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b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ing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sco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ru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ture IR Telescop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’s Great Observato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’s Laun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b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ing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sco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ru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ture IR Telescop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’s Great Observato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’s Laun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b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ing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sco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ru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ture IR Telescop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’s Great Observa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s the final spacecraft in NASA's Great Observatories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ST 19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ton GRO 199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dra 19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’s Great Observato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s the final spacecraft in NASA's Great Observatories progra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ST 199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ton GRO 199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dra 199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’s Great Observato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s the final spacecraft in NASA's Great Observatories progra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ST 199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ton GRO 199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dra 199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’s Great Observato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s the final spacecraft in NASA's Great Observatories progra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ST 199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ton GRO 199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dra 199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’s Great Observato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s the final spacecraft in NASA's Great Observatories progra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ST 199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ton GRO 199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dra 199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Spit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itzer Space Telescope is a cryogenically cooled, infrared observatory in spac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can study objects ranging from our Solar System to the distant reaches of the Univer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itzer Space Telescope is a cryogenically cooled, infrared observatory in space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can study objects ranging from our Solar System to the distant reaches of the Universe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itzer Space Telescope is a cryogenically cooled, infrared observatory in space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can study objects ranging from our Solar System to the distant reaches of the Universe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itzer Space Telescope is a cryogenically cooled, infrared observatory in space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can study objects ranging from our Solar System to the distant reaches of the Universe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itzer Space Telescope is a cryogenically cooled, infrared observatory in space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can study objects ranging from our Solar System to the distant reaches of the Universe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ed from KSC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August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ti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 years (minimum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+ years (go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ed from KSC 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August 200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tim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 years (minimum);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+ years (goal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ed from KSC 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August 200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tim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 years (minimum);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+ years (goal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ed from KSC 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August 200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tim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 years (minimum);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+ years (goal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ed from KSC 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August 200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tim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 years (minimum);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+ years (goal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ocentric Orb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space telescopes orbit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orbits the Sun - trailing the Earth as it moves around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s receding from Earth at 9.3 million miles (15 million kilometers) per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now trails the Earth in its orbit by about 20 million miles (~ 32 million kilometer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2008, Spitzer will be about 56 million miles or 90 million kilometers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ocentric Orb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space telescopes orbit the Ear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orbits the Sun - trailing the Earth as it moves around the Su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s receding from Earth at 9.3 million miles (15 million kilometers) per yea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now trails the Earth in its orbit by about 20 million miles (~ 32 million kilometers)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2008, Spitzer will be about 56 million miles or 90 million kilometers aw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ocentric Orb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space telescopes orbit the Ear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orbits the Sun - trailing the Earth as it moves around the Su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s receding from Earth at 9.3 million miles (15 million kilometers) per yea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now trails the Earth in its orbit by about 20 million miles (~ 32 million kilometers)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2008, Spitzer will be about 56 million miles or 90 million kilometers aw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ocentric Orb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space telescopes orbit the Ear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orbits the Sun - trailing the Earth as it moves around the Su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s receding from Earth at 9.3 million miles (15 million kilometers) per yea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now trails the Earth in its orbit by about 20 million miles (~ 32 million kilometers)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2008, Spitzer will be about 56 million miles or 90 million kilometers aw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ocentric Orb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space telescopes orbit the Ear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orbits the Sun - trailing the Earth as it moves around the Su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s receding from Earth at 9.3 million miles (15 million kilometers) per yea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now trails the Earth in its orbit by about 20 million miles (~ 32 million kilometers)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2008, Spitzer will be about 56 million miles or 90 million kilometers aw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d for Lyman Spit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man Spitzer was the driving force behind H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ed the study of the interstellar me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ied interstellar dust and star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d for Lyman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man Spitzer was the driving force behind HS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ed the study of the interstellar mediu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ied interstellar dust and star form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d for Lyman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man Spitzer was the driving force behind HS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ed the study of the interstellar mediu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ied interstellar dust and star form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d for Lyman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man Spitzer was the driving force behind HS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ed the study of the interstellar mediu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ied interstellar dust and star form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d for Lyman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man Spitzer was the driving force behind HS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ed the study of the interstellar mediu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ied interstellar dust and star form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troducing the Tele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the Telesco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the Telesco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the Telesco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the Telesco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pitzer Spe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rr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5 cm (33.5”) di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ightweight berylliu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/12 curv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eigh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elescope: 851.5 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e cryogen: 50.4 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 propellent: 15.6 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Spec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rror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5 cm (33.5”) diame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weight beryllium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/12 curva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scope: 851.5 k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cryogen: 50.4 k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propellent: 15.6 k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Spec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rror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5 cm (33.5”) diame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weight beryllium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/12 curva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scope: 851.5 k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cryogen: 50.4 k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propellent: 15.6 k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Spec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rror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5 cm (33.5”) diame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weight beryllium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/12 curva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scope: 851.5 k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cryogen: 50.4 k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propellent: 15.6 k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Spec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rror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5 cm (33.5”) diame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weight beryllium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/12 curva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scope: 851.5 k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cryogen: 50.4 k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propellent: 15.6 k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CE28-8BD7-4BCF-ABF3-312060C2E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93680" y="274680"/>
            <a:ext cx="669276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81A0-6B85-4DD2-8563-06DE610B2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93680" y="274680"/>
            <a:ext cx="669276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6680-3306-41C8-B217-92AD9AF34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93680" y="274680"/>
            <a:ext cx="669276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903E-A84A-4840-8332-2A85CABCD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93680" y="274680"/>
            <a:ext cx="669276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6AC3-5B09-438F-A1E4-5ED1487E1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93680" y="274680"/>
            <a:ext cx="669276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0206-7D4D-47B3-BDF1-7705AFF4C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93680" y="274680"/>
            <a:ext cx="669276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CE16-8DA9-4B59-A609-0F2474734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93680" y="274680"/>
            <a:ext cx="669276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7CC7-415A-4D6E-B4B4-60AE24114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93680" y="274680"/>
            <a:ext cx="669276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DB1D-DDB4-4F6F-B1B2-1B9060AE0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93680" y="274680"/>
            <a:ext cx="669276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5E6D-E46B-4896-87E0-69A33426D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93680" y="274680"/>
            <a:ext cx="669276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BD2D-C454-42E9-9609-3008F056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93680" y="274680"/>
            <a:ext cx="669276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8795-A765-4295-B93D-784DAABA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93680" y="274680"/>
            <a:ext cx="669276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02280" y="6487920"/>
            <a:ext cx="26496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uk-UA" sz="1400" spc="-1" strike="noStrike">
                <a:solidFill>
                  <a:srgbClr val="a50021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a50021"/>
                </a:solidFill>
                <a:latin typeface="Comic Sans MS"/>
              </a:rPr>
              <a:t>Pilachowski / August 200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840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a50021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81480" y="6514920"/>
            <a:ext cx="1219320" cy="32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a50021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a50021"/>
                </a:solidFill>
                <a:latin typeface="Comic Sans MS"/>
              </a:rPr>
              <a:t>Slide </a:t>
            </a:r>
            <a:fld id="{D27CA98A-A8F4-4875-AAFC-43D916D0D9A4}" type="slidenum">
              <a:rPr b="0" i="1" lang="en-US" sz="1200" spc="-1" strike="noStrike">
                <a:solidFill>
                  <a:srgbClr val="a50021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3405240" y="6619680"/>
            <a:ext cx="2511360" cy="12600"/>
          </a:xfrm>
          <a:prstGeom prst="line">
            <a:avLst/>
          </a:prstGeom>
          <a:ln w="28440">
            <a:solidFill>
              <a:srgbClr val="a50021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Line 8"/>
          <p:cNvSpPr/>
          <p:nvPr/>
        </p:nvSpPr>
        <p:spPr>
          <a:xfrm>
            <a:off x="2063880" y="1262160"/>
            <a:ext cx="6651360" cy="0"/>
          </a:xfrm>
          <a:prstGeom prst="line">
            <a:avLst/>
          </a:prstGeom>
          <a:ln w="38160">
            <a:solidFill>
              <a:srgbClr val="a5002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1.jpeg"/><Relationship Id="rId3" Type="http://schemas.openxmlformats.org/officeDocument/2006/relationships/image" Target="../media/image31.jpeg"/><Relationship Id="rId4" Type="http://schemas.openxmlformats.org/officeDocument/2006/relationships/image" Target="../media/image32.pn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sc.spitzer.caltech.edu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ssc.spitzer.caltech.edu/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hyperlink" Target="http://ssc.spitzer.caltech.edu/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sc.spitzer.caltech.edu/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ssc.spitzer.caltech.edu/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ssc.spitzer.caltech.edu/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22280" y="269640"/>
            <a:ext cx="7662960" cy="10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Universe in the Infrar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476000" y="3593880"/>
            <a:ext cx="7434360" cy="127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is the Spitzer Space Telescope, and how does it work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WordArt 4"/>
          <p:cNvSpPr txBox="1"/>
          <p:nvPr/>
        </p:nvSpPr>
        <p:spPr>
          <a:xfrm>
            <a:off x="3367080" y="1711440"/>
            <a:ext cx="5243400" cy="13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Comic Sans MS"/>
              </a:rPr>
              <a:t>All about Spitzer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Comic Sans MS"/>
              <a:ea typeface="Comic Sans MS"/>
            </a:endParaRPr>
          </a:p>
        </p:txBody>
      </p:sp>
      <p:pic>
        <p:nvPicPr>
          <p:cNvPr id="53" name="Picture 5" descr="spitzer_logo_color_small"/>
          <p:cNvPicPr/>
          <p:nvPr/>
        </p:nvPicPr>
        <p:blipFill>
          <a:blip r:embed="rId1"/>
          <a:stretch/>
        </p:blipFill>
        <p:spPr>
          <a:xfrm>
            <a:off x="250920" y="5659560"/>
            <a:ext cx="2743200" cy="10206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3378600" y="6167520"/>
            <a:ext cx="529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Funded by NASA’s Spitzer Science Cent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Line 7"/>
          <p:cNvSpPr/>
          <p:nvPr/>
        </p:nvSpPr>
        <p:spPr>
          <a:xfrm>
            <a:off x="5977080" y="6613560"/>
            <a:ext cx="2582640" cy="0"/>
          </a:xfrm>
          <a:prstGeom prst="line">
            <a:avLst/>
          </a:prstGeom>
          <a:ln w="28440">
            <a:solidFill>
              <a:srgbClr val="a50021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4062240" y="5527800"/>
            <a:ext cx="463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Images courtesy NASA/JPL - Caltec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7" name="Picture 10" descr="sirtf_09_2002_small"/>
          <p:cNvPicPr/>
          <p:nvPr/>
        </p:nvPicPr>
        <p:blipFill>
          <a:blip r:embed="rId2"/>
          <a:stretch/>
        </p:blipFill>
        <p:spPr>
          <a:xfrm>
            <a:off x="198360" y="212760"/>
            <a:ext cx="1652760" cy="113832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sp>
        <p:nvSpPr>
          <p:cNvPr id="58" name="Нижний колонтитул 9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Нижний колонтитул 5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93680" y="380520"/>
            <a:ext cx="4676760" cy="8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Keeping Spitzer Col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17680" y="1599840"/>
            <a:ext cx="4209840" cy="80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lescope operates at 5.5 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0" name="Picture 4" descr="feature200308-3small"/>
          <p:cNvPicPr/>
          <p:nvPr/>
        </p:nvPicPr>
        <p:blipFill>
          <a:blip r:embed="rId1"/>
          <a:stretch/>
        </p:blipFill>
        <p:spPr>
          <a:xfrm>
            <a:off x="5253120" y="1371600"/>
            <a:ext cx="3424320" cy="515160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pic>
        <p:nvPicPr>
          <p:cNvPr id="111" name="Picture 5" descr="SSC Home Page"/>
          <p:cNvPicPr/>
          <p:nvPr/>
        </p:nvPicPr>
        <p:blipFill>
          <a:blip r:embed="rId2"/>
          <a:stretch/>
        </p:blipFill>
        <p:spPr>
          <a:xfrm>
            <a:off x="297000" y="369720"/>
            <a:ext cx="1663560" cy="86688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6"/>
          <p:cNvSpPr/>
          <p:nvPr/>
        </p:nvSpPr>
        <p:spPr>
          <a:xfrm>
            <a:off x="507960" y="2655720"/>
            <a:ext cx="4197240" cy="13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y?  -  Spitzer is itself a black body radiator, and must be colder than the astronomical sources it detec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582480" y="4386240"/>
            <a:ext cx="37134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liocentric orbi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lar shield/solar cel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uter shell insulates and cools the telescop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Нижний колонтитул 4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31600" y="608040"/>
            <a:ext cx="741204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eeping Spitzer’s Instruments Even Cold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6" name="Picture 5" descr="Cryostat"/>
          <p:cNvPicPr/>
          <p:nvPr/>
        </p:nvPicPr>
        <p:blipFill>
          <a:blip r:embed="rId1"/>
          <a:stretch/>
        </p:blipFill>
        <p:spPr>
          <a:xfrm>
            <a:off x="0" y="0"/>
            <a:ext cx="1736640" cy="2028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Cryostat"/>
          <p:cNvPicPr/>
          <p:nvPr/>
        </p:nvPicPr>
        <p:blipFill>
          <a:blip r:embed="rId2"/>
          <a:stretch/>
        </p:blipFill>
        <p:spPr>
          <a:xfrm>
            <a:off x="216000" y="2637000"/>
            <a:ext cx="2770200" cy="338292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pic>
        <p:nvPicPr>
          <p:cNvPr id="118" name="Picture 13" descr="Diagram 2"/>
          <p:cNvPicPr/>
          <p:nvPr/>
        </p:nvPicPr>
        <p:blipFill>
          <a:blip r:embed="rId3"/>
          <a:stretch/>
        </p:blipFill>
        <p:spPr>
          <a:xfrm>
            <a:off x="3189240" y="2187720"/>
            <a:ext cx="5837400" cy="4167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61840" y="1434600"/>
            <a:ext cx="6986520" cy="8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tank of liquid helium is used to keep Spitzer’s instruments and detectors at 1.5 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Нижний колонтитул 4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94040" y="579240"/>
            <a:ext cx="46130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pitzer’s Instrum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68320" y="1600200"/>
            <a:ext cx="7964640" cy="21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RAC –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fra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ra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mer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mages at 3.6, 4.5, 5.8, and 8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RS –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fra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ctrograp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id-IR spectroscop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PS –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ltiban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ging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tometer f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itz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mages at 24, 70, and 160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3" name="Picture 5" descr="MIC"/>
          <p:cNvPicPr/>
          <p:nvPr/>
        </p:nvPicPr>
        <p:blipFill>
          <a:blip r:embed="rId1"/>
          <a:stretch/>
        </p:blipFill>
        <p:spPr>
          <a:xfrm>
            <a:off x="709560" y="3567240"/>
            <a:ext cx="7602480" cy="2736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SSC Home Page"/>
          <p:cNvPicPr/>
          <p:nvPr/>
        </p:nvPicPr>
        <p:blipFill>
          <a:blip r:embed="rId2"/>
          <a:stretch/>
        </p:blipFill>
        <p:spPr>
          <a:xfrm>
            <a:off x="297000" y="369720"/>
            <a:ext cx="1663560" cy="86688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9"/>
          <p:cNvSpPr/>
          <p:nvPr/>
        </p:nvSpPr>
        <p:spPr>
          <a:xfrm>
            <a:off x="7432200" y="3614760"/>
            <a:ext cx="64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I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4600080" y="5845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MIP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7738920" y="580392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IRA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Нижний колонтитул 4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94040" y="523800"/>
            <a:ext cx="626256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fraRed Array Camera (IRAC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0" name="Picture 5" descr="Various Views of IRAC in Assembly"/>
          <p:cNvPicPr/>
          <p:nvPr/>
        </p:nvPicPr>
        <p:blipFill>
          <a:blip r:embed="rId1"/>
          <a:stretch/>
        </p:blipFill>
        <p:spPr>
          <a:xfrm>
            <a:off x="5078520" y="1776240"/>
            <a:ext cx="3809880" cy="45244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IRAC Conceptual Layout"/>
          <p:cNvPicPr/>
          <p:nvPr/>
        </p:nvPicPr>
        <p:blipFill>
          <a:blip r:embed="rId2"/>
          <a:stretch/>
        </p:blipFill>
        <p:spPr>
          <a:xfrm>
            <a:off x="316080" y="3197160"/>
            <a:ext cx="4422600" cy="32734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IRAC - Infrared Array Camera for the Spitzer Space Telescope"/>
          <p:cNvPicPr/>
          <p:nvPr/>
        </p:nvPicPr>
        <p:blipFill>
          <a:blip r:embed="rId3"/>
          <a:stretch/>
        </p:blipFill>
        <p:spPr>
          <a:xfrm>
            <a:off x="282600" y="430200"/>
            <a:ext cx="1471680" cy="88596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505400" cy="16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ilt at the Smithsonian Astrophysical Observato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multaneous images in four IR passban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Нижний колонтитул 4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93680" y="469800"/>
            <a:ext cx="4794120" cy="7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fraRed Spectromet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043520" y="4898880"/>
            <a:ext cx="4806720" cy="14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ilt at Cornell Univers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ectroscopy in the mid-I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7" name="Picture 7" descr="IRS&amp;Jeff1s"/>
          <p:cNvPicPr/>
          <p:nvPr/>
        </p:nvPicPr>
        <p:blipFill>
          <a:blip r:embed="rId1"/>
          <a:stretch/>
        </p:blipFill>
        <p:spPr>
          <a:xfrm>
            <a:off x="384120" y="3952800"/>
            <a:ext cx="3319560" cy="221004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pic>
        <p:nvPicPr>
          <p:cNvPr id="138" name="Picture 5" descr="IRS Diagram"/>
          <p:cNvPicPr/>
          <p:nvPr/>
        </p:nvPicPr>
        <p:blipFill>
          <a:blip r:embed="rId2"/>
          <a:stretch/>
        </p:blipFill>
        <p:spPr>
          <a:xfrm>
            <a:off x="2936880" y="1492200"/>
            <a:ext cx="5745240" cy="300060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pic>
        <p:nvPicPr>
          <p:cNvPr id="139" name="Picture 9" descr="IRS Logo"/>
          <p:cNvPicPr/>
          <p:nvPr/>
        </p:nvPicPr>
        <p:blipFill>
          <a:blip r:embed="rId3"/>
          <a:stretch/>
        </p:blipFill>
        <p:spPr>
          <a:xfrm>
            <a:off x="311040" y="239760"/>
            <a:ext cx="142884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Нижний колонтитул 4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93680" y="274680"/>
            <a:ext cx="66927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ultiband Imaging Photometer for Spitzer (MIP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2" name="Picture 5" descr="MIPS Diagram"/>
          <p:cNvPicPr/>
          <p:nvPr/>
        </p:nvPicPr>
        <p:blipFill>
          <a:blip r:embed="rId1"/>
          <a:stretch/>
        </p:blipFill>
        <p:spPr>
          <a:xfrm>
            <a:off x="1092240" y="1366920"/>
            <a:ext cx="3965400" cy="36496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cmpmips4.JPG (177820 bytes)"/>
          <p:cNvPicPr/>
          <p:nvPr/>
        </p:nvPicPr>
        <p:blipFill>
          <a:blip r:embed="rId2"/>
          <a:stretch/>
        </p:blipFill>
        <p:spPr>
          <a:xfrm rot="18955800">
            <a:off x="4808160" y="2949120"/>
            <a:ext cx="3822840" cy="252108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pic>
        <p:nvPicPr>
          <p:cNvPr id="144" name="Picture 10" descr="patchfnl2.jpg (17379 bytes)"/>
          <p:cNvPicPr/>
          <p:nvPr/>
        </p:nvPicPr>
        <p:blipFill>
          <a:blip r:embed="rId3"/>
          <a:stretch/>
        </p:blipFill>
        <p:spPr>
          <a:xfrm>
            <a:off x="360360" y="190440"/>
            <a:ext cx="1162080" cy="154296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84200" y="4868640"/>
            <a:ext cx="4875120" cy="168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ree detector array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28x128 pixel Si:As for 24 m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2x32 pixel Ge:Ga for 70 m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x20 pixel Ge:Ga for 160 m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5172120" y="1386000"/>
            <a:ext cx="358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ilt at the University  of Arizon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Нижний колонтитул 4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94040" y="536040"/>
            <a:ext cx="5168880" cy="6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pitzer Focal Plan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44360"/>
            <a:ext cx="4092480" cy="44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2056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itzer instruments are arranged in fixed locations on the Spitzer focal pla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2056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telescope is rotated to move a particular science target to the right position for the instrument to be us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2056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ther instruments record data for “serendipitous” fiel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0" name="Picture 4" descr="focalplane_ch2"/>
          <p:cNvPicPr/>
          <p:nvPr/>
        </p:nvPicPr>
        <p:blipFill>
          <a:blip r:embed="rId4"/>
          <a:stretch/>
        </p:blipFill>
        <p:spPr>
          <a:xfrm>
            <a:off x="4902120" y="1417680"/>
            <a:ext cx="3810240" cy="49640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MIC"/>
          <p:cNvPicPr/>
          <p:nvPr/>
        </p:nvPicPr>
        <p:blipFill>
          <a:blip r:embed="rId5"/>
          <a:srcRect l="54739" t="0" r="0" b="0"/>
          <a:stretch/>
        </p:blipFill>
        <p:spPr>
          <a:xfrm>
            <a:off x="352440" y="174600"/>
            <a:ext cx="159372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Нижний колонтитул 4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94040" y="523800"/>
            <a:ext cx="40320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pitzer Opera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Picture 4" descr="SSC Home Page"/>
          <p:cNvPicPr/>
          <p:nvPr/>
        </p:nvPicPr>
        <p:blipFill>
          <a:blip r:embed="rId1"/>
          <a:stretch/>
        </p:blipFill>
        <p:spPr>
          <a:xfrm>
            <a:off x="297000" y="369720"/>
            <a:ext cx="1663560" cy="866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Blue and Red Diagram of Spitzer"/>
          <p:cNvPicPr/>
          <p:nvPr/>
        </p:nvPicPr>
        <p:blipFill>
          <a:blip r:embed="rId2"/>
          <a:stretch/>
        </p:blipFill>
        <p:spPr>
          <a:xfrm>
            <a:off x="4270320" y="1865160"/>
            <a:ext cx="4481640" cy="41040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0680" y="5958000"/>
            <a:ext cx="6369120" cy="38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ww.spitzer.caltech.edu/about/now.shtm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311040" y="4929120"/>
            <a:ext cx="329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s Spitzer Doing Now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observe.mpeg" descr=""/>
          <p:cNvPicPr/>
          <p:nvPr/>
        </p:nvPicPr>
        <p:blipFill>
          <a:blip r:embed="rId3"/>
          <a:stretch/>
        </p:blipFill>
        <p:spPr>
          <a:xfrm>
            <a:off x="328680" y="1468440"/>
            <a:ext cx="3751200" cy="281304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14" nodeType="clickEffect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Нижний колонтитул 4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94040" y="538200"/>
            <a:ext cx="548784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uture Infrared Satellit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Picture 5" descr="first"/>
          <p:cNvPicPr/>
          <p:nvPr/>
        </p:nvPicPr>
        <p:blipFill>
          <a:blip r:embed="rId1"/>
          <a:stretch/>
        </p:blipFill>
        <p:spPr>
          <a:xfrm>
            <a:off x="214200" y="4573440"/>
            <a:ext cx="2805120" cy="168300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sp>
        <p:nvSpPr>
          <p:cNvPr id="162" name="Text Box 6"/>
          <p:cNvSpPr/>
          <p:nvPr/>
        </p:nvSpPr>
        <p:spPr>
          <a:xfrm>
            <a:off x="254160" y="1682640"/>
            <a:ext cx="28350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2007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Herschel Space Observatory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- a European Space Agency infrared-submillimeter mission planned for 2007 to study galaxy formation, interstellar matter, star formation and the atmospheres of comets and planets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Picture 8" descr="planck"/>
          <p:cNvPicPr/>
          <p:nvPr/>
        </p:nvPicPr>
        <p:blipFill>
          <a:blip r:embed="rId2"/>
          <a:stretch/>
        </p:blipFill>
        <p:spPr>
          <a:xfrm>
            <a:off x="3728880" y="1519200"/>
            <a:ext cx="1352880" cy="166680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sp>
        <p:nvSpPr>
          <p:cNvPr id="164" name="Text Box 9"/>
          <p:cNvSpPr/>
          <p:nvPr/>
        </p:nvSpPr>
        <p:spPr>
          <a:xfrm>
            <a:off x="5222880" y="1484280"/>
            <a:ext cx="3562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2007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lanck Surveyor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- European Space Agency far infrared-submillimeter mission planned for 2007 to study Cosmic Background Radiation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Rectangle 13"/>
          <p:cNvSpPr/>
          <p:nvPr/>
        </p:nvSpPr>
        <p:spPr>
          <a:xfrm>
            <a:off x="3548160" y="3646800"/>
            <a:ext cx="304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010: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The James Webb Space Telescope, planned for launch in about 2011, is a visible/infrared space mission to study the early universe and the formation of galaxies, stars and planets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Picture 15" descr="ngst"/>
          <p:cNvPicPr/>
          <p:nvPr/>
        </p:nvPicPr>
        <p:blipFill>
          <a:blip r:embed="rId3"/>
          <a:stretch/>
        </p:blipFill>
        <p:spPr>
          <a:xfrm>
            <a:off x="6550200" y="3579840"/>
            <a:ext cx="2417760" cy="275904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pic>
        <p:nvPicPr>
          <p:cNvPr id="167" name="Picture 17" descr="MCj02327650000[1]"/>
          <p:cNvPicPr/>
          <p:nvPr/>
        </p:nvPicPr>
        <p:blipFill>
          <a:blip r:embed="rId4"/>
          <a:stretch/>
        </p:blipFill>
        <p:spPr>
          <a:xfrm>
            <a:off x="409680" y="206280"/>
            <a:ext cx="1069920" cy="11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Нижний колонтитул 4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93680" y="446040"/>
            <a:ext cx="263844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884240" y="1600200"/>
            <a:ext cx="6816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ASA’s Great Observatori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troducing Spitz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pitzer’s Laun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rbi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aming Spitz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Telescop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strum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uture IR Telescop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2" name="Picture 4" descr="SSC Home P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000" y="369720"/>
            <a:ext cx="166356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Нижний колонтитул 5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4" name="Picture 10" descr="Hubble Against Earth's Horizon"/>
          <p:cNvPicPr/>
          <p:nvPr/>
        </p:nvPicPr>
        <p:blipFill>
          <a:blip r:embed="rId1"/>
          <a:stretch/>
        </p:blipFill>
        <p:spPr>
          <a:xfrm>
            <a:off x="449280" y="1477800"/>
            <a:ext cx="2190600" cy="146232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93680" y="274680"/>
            <a:ext cx="66927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ASA’s Great Observatori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13040" y="5314680"/>
            <a:ext cx="5991120" cy="10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Spitzer is the final spacecraft in NASA's Great Observatories progra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055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8" name="Picture 8" descr="AXAF-smaller2"/>
          <p:cNvPicPr/>
          <p:nvPr/>
        </p:nvPicPr>
        <p:blipFill>
          <a:blip r:embed="rId2"/>
          <a:stretch/>
        </p:blipFill>
        <p:spPr>
          <a:xfrm>
            <a:off x="450720" y="4903920"/>
            <a:ext cx="2202120" cy="141264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pic>
        <p:nvPicPr>
          <p:cNvPr id="69" name="Picture 5" descr="sirtf_09_2002_small"/>
          <p:cNvPicPr/>
          <p:nvPr/>
        </p:nvPicPr>
        <p:blipFill>
          <a:blip r:embed="rId3"/>
          <a:stretch/>
        </p:blipFill>
        <p:spPr>
          <a:xfrm>
            <a:off x="3176640" y="1495440"/>
            <a:ext cx="5205240" cy="358776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pic>
        <p:nvPicPr>
          <p:cNvPr id="70" name="Picture 12" descr="CGRO Cartoon"/>
          <p:cNvPicPr/>
          <p:nvPr/>
        </p:nvPicPr>
        <p:blipFill>
          <a:blip r:embed="rId4"/>
          <a:stretch/>
        </p:blipFill>
        <p:spPr>
          <a:xfrm>
            <a:off x="423720" y="3137040"/>
            <a:ext cx="2210040" cy="158436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sp>
        <p:nvSpPr>
          <p:cNvPr id="71" name="Text Box 13"/>
          <p:cNvSpPr/>
          <p:nvPr/>
        </p:nvSpPr>
        <p:spPr>
          <a:xfrm>
            <a:off x="459000" y="259236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HST 199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Text Box 14"/>
          <p:cNvSpPr/>
          <p:nvPr/>
        </p:nvSpPr>
        <p:spPr>
          <a:xfrm>
            <a:off x="345240" y="437832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ompton GRO 199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Text Box 15"/>
          <p:cNvSpPr/>
          <p:nvPr/>
        </p:nvSpPr>
        <p:spPr>
          <a:xfrm>
            <a:off x="551520" y="5943600"/>
            <a:ext cx="168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handra 199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4" name="Picture 20" descr="Full White"/>
          <p:cNvPicPr/>
          <p:nvPr/>
        </p:nvPicPr>
        <p:blipFill>
          <a:blip r:embed="rId5"/>
          <a:srcRect l="20720" t="16750" r="17934" b="19830"/>
          <a:stretch/>
        </p:blipFill>
        <p:spPr>
          <a:xfrm>
            <a:off x="527040" y="214200"/>
            <a:ext cx="112392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Нижний колонтитул 5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94040" y="618840"/>
            <a:ext cx="438768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troducing Spitz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2120" y="1663200"/>
            <a:ext cx="3422880" cy="42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The Spitzer Space Telescope is a cryogenically cooled, infrared observatory in space.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Spitzer can study objects ranging from our Solar System to the distant reaches of the Univers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055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9" name="Picture 6" descr="xsirtf_08_2002_small"/>
          <p:cNvPicPr/>
          <p:nvPr/>
        </p:nvPicPr>
        <p:blipFill>
          <a:blip r:embed="rId1"/>
          <a:stretch/>
        </p:blipFill>
        <p:spPr>
          <a:xfrm>
            <a:off x="3879720" y="1663560"/>
            <a:ext cx="4934160" cy="434196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pic>
        <p:nvPicPr>
          <p:cNvPr id="80" name="Picture 7" descr="SSC Home P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97000" y="369720"/>
            <a:ext cx="166356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Нижний колонтитул 5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2" name="Picture 7" descr="ir_launch_3"/>
          <p:cNvPicPr/>
          <p:nvPr/>
        </p:nvPicPr>
        <p:blipFill>
          <a:blip r:embed="rId1"/>
          <a:stretch/>
        </p:blipFill>
        <p:spPr>
          <a:xfrm>
            <a:off x="905040" y="1474920"/>
            <a:ext cx="6502320" cy="487656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93680" y="552600"/>
            <a:ext cx="198756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un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085480" y="1584360"/>
            <a:ext cx="3227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a121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1218"/>
                </a:solidFill>
                <a:latin typeface="Comic Sans MS"/>
              </a:rPr>
              <a:t>Launched from KSC 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1218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a1218"/>
                </a:solidFill>
                <a:latin typeface="Comic Sans MS"/>
              </a:rPr>
              <a:t>25 August 200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a121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1218"/>
                </a:solidFill>
                <a:latin typeface="Comic Sans MS"/>
              </a:rPr>
              <a:t>Lifetim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1218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a1218"/>
                </a:solidFill>
                <a:latin typeface="Comic Sans MS"/>
              </a:rPr>
              <a:t>2.5 years (minimum)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1218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a1218"/>
                </a:solidFill>
                <a:latin typeface="Comic Sans MS"/>
              </a:rPr>
              <a:t>5+ years (goal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5" name="Picture 4" descr="feature200308-4small"/>
          <p:cNvPicPr/>
          <p:nvPr/>
        </p:nvPicPr>
        <p:blipFill>
          <a:blip r:embed="rId2"/>
          <a:stretch/>
        </p:blipFill>
        <p:spPr>
          <a:xfrm>
            <a:off x="5451480" y="395280"/>
            <a:ext cx="3192480" cy="464832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pic>
        <p:nvPicPr>
          <p:cNvPr id="86" name="Picture 5" descr="SSC Home P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97000" y="369720"/>
            <a:ext cx="166356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Нижний колонтитул 5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94040" y="538200"/>
            <a:ext cx="354960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liocentric Orbi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947600"/>
            <a:ext cx="44956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st space telescopes orbit the Eart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pitzer orbits the Sun - trailing the Earth as it moves around the Su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pitzer is receding from Earth at 9.3 million miles (15 million kilometers) per yea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pitzer now trails the Earth in its orbit by about 20 million miles (~ 32 million kilometers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y 2008, Spitzer will be about 56 million miles or 90 million kilometers awa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0" name="Picture 5" descr="SSC Home P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000" y="369720"/>
            <a:ext cx="1663560" cy="866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earth_trailing2small"/>
          <p:cNvPicPr/>
          <p:nvPr/>
        </p:nvPicPr>
        <p:blipFill>
          <a:blip r:embed="rId3"/>
          <a:stretch/>
        </p:blipFill>
        <p:spPr>
          <a:xfrm>
            <a:off x="5892840" y="404640"/>
            <a:ext cx="2609640" cy="196056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pic>
        <p:nvPicPr>
          <p:cNvPr id="92" name="orbit.mpeg" descr=""/>
          <p:cNvPicPr/>
          <p:nvPr/>
        </p:nvPicPr>
        <p:blipFill>
          <a:blip r:embed="rId4"/>
          <a:stretch/>
        </p:blipFill>
        <p:spPr>
          <a:xfrm>
            <a:off x="5013360" y="3021120"/>
            <a:ext cx="3948120" cy="296208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335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Нижний колонтитул 4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076120" y="566640"/>
            <a:ext cx="461484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med for Lyman Spitz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7240" y="1641240"/>
            <a:ext cx="3963960" cy="436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99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yman Spitzer was the driving force behind HS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cc3399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nded the study of the interstellar mediu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cc3399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udied interstellar dust and star form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6" name="Picture 5" descr="Lyman Spitzer, Jr."/>
          <p:cNvPicPr/>
          <p:nvPr/>
        </p:nvPicPr>
        <p:blipFill>
          <a:blip r:embed="rId1"/>
          <a:stretch/>
        </p:blipFill>
        <p:spPr>
          <a:xfrm>
            <a:off x="541440" y="1677960"/>
            <a:ext cx="3440160" cy="437364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pic>
        <p:nvPicPr>
          <p:cNvPr id="97" name="Picture 6" descr="SSC Home P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97000" y="369720"/>
            <a:ext cx="166356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ижний колонтитул 6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93680" y="274680"/>
            <a:ext cx="591804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troducing the Telescop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0" name="Picture 3" descr="config1"/>
          <p:cNvPicPr/>
          <p:nvPr/>
        </p:nvPicPr>
        <p:blipFill>
          <a:blip r:embed="rId1"/>
          <a:stretch/>
        </p:blipFill>
        <p:spPr>
          <a:xfrm>
            <a:off x="1184400" y="1374840"/>
            <a:ext cx="7356240" cy="49100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SSC Home P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97000" y="369720"/>
            <a:ext cx="166356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ижний колонтитул 5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94040" y="274680"/>
            <a:ext cx="364464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pitzer Spec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4648320" cy="458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Mirror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85 cm (33.5”) diame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lightweight beryllium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f/12 curvatu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Weight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Telescope: 851.5 k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He cryogen: 50.4 k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 propellent: 15.6 k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5" name="Picture 4" descr="mirror_tech"/>
          <p:cNvPicPr/>
          <p:nvPr/>
        </p:nvPicPr>
        <p:blipFill>
          <a:blip r:embed="rId1"/>
          <a:stretch/>
        </p:blipFill>
        <p:spPr>
          <a:xfrm>
            <a:off x="4800600" y="1371600"/>
            <a:ext cx="3784680" cy="507672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pic>
        <p:nvPicPr>
          <p:cNvPr id="106" name="Picture 5" descr="SSC Home Page"/>
          <p:cNvPicPr/>
          <p:nvPr/>
        </p:nvPicPr>
        <p:blipFill>
          <a:blip r:embed="rId2"/>
          <a:stretch/>
        </p:blipFill>
        <p:spPr>
          <a:xfrm>
            <a:off x="297000" y="369720"/>
            <a:ext cx="166356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3T14:40:01Z</dcterms:created>
  <dc:creator>Catherine Pilachowski</dc:creator>
  <dc:description/>
  <dc:language>en-US</dc:language>
  <cp:lastModifiedBy>LEGION</cp:lastModifiedBy>
  <dcterms:modified xsi:type="dcterms:W3CDTF">2018-03-22T08:49:35Z</dcterms:modified>
  <cp:revision>17</cp:revision>
  <dc:subject/>
  <dc:title>Slide 1</dc:title>
</cp:coreProperties>
</file>