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32.gif" ContentType="image/gif"/>
  <Override PartName="/ppt/media/image2.gif" ContentType="image/gif"/>
  <Override PartName="/ppt/media/whoosh.wav" ContentType="audio/x-wav"/>
  <Override PartName="/ppt/media/image30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jpeg" ContentType="image/jpeg"/>
  <Override PartName="/ppt/media/image20.gif" ContentType="image/gif"/>
  <Override PartName="/ppt/media/image31.jpeg" ContentType="image/jpeg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565B-06C2-4600-A8FC-B1F399BEB98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71E-A9C3-446C-B910-89E24DCB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36B-110E-433A-90A9-3F60AFF4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483-4754-4A94-87BC-E7E39318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BA4-EA5D-457B-86A8-A4F81616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774-C113-45F0-8F09-F06F3B34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D59-18BE-4942-950C-E9FA6BC3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734-8A88-4181-9686-A615623E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7E3-C43C-400D-AD4E-F50D7E63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526-823F-4A9C-92BA-78992133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372-4147-4093-847D-7CD8B0E3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22D-B08A-43DA-BCC1-7C83AFB0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77D-C122-4948-9AA9-40575BC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4FFA-5922-4969-BC91-9D7B43ED0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oster Bodoni"/>
              </a:rPr>
              <a:t>BY : 1-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wars.mid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685800" y="14479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AIR AND SPACE ABC BOOK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Kitty Haw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5" descr="A:\kittyhawk.jpg"/>
          <p:cNvPicPr/>
          <p:nvPr/>
        </p:nvPicPr>
        <p:blipFill>
          <a:blip r:embed="rId1"/>
          <a:stretch/>
        </p:blipFill>
        <p:spPr>
          <a:xfrm>
            <a:off x="990720" y="1447920"/>
            <a:ext cx="196056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startrek.mid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:\monument.jpg"/>
          <p:cNvPicPr/>
          <p:nvPr/>
        </p:nvPicPr>
        <p:blipFill>
          <a:blip r:embed="rId3"/>
          <a:stretch/>
        </p:blipFill>
        <p:spPr>
          <a:xfrm>
            <a:off x="6183360" y="1371600"/>
            <a:ext cx="211608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lift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atch the space shuttle go up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4" descr="A:\space_shuttle_launch_md_wht.gif"/>
          <p:cNvPicPr/>
          <p:nvPr/>
        </p:nvPicPr>
        <p:blipFill>
          <a:blip r:embed="rId1"/>
          <a:stretch/>
        </p:blipFill>
        <p:spPr>
          <a:xfrm>
            <a:off x="4343400" y="1905120"/>
            <a:ext cx="72072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M is for monkey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2209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monkey  was  the first animal to go into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A:\monkey5.gif"/>
          <p:cNvPicPr/>
          <p:nvPr/>
        </p:nvPicPr>
        <p:blipFill>
          <a:blip r:embed="rId1"/>
          <a:stretch/>
        </p:blipFill>
        <p:spPr>
          <a:xfrm>
            <a:off x="2514600" y="3733920"/>
            <a:ext cx="3809880" cy="2601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N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43828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NASA is the agency that tracks space vehicles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4" descr="A:\nasa_logo.jpg"/>
          <p:cNvPicPr/>
          <p:nvPr/>
        </p:nvPicPr>
        <p:blipFill>
          <a:blip r:embed="rId1"/>
          <a:stretch/>
        </p:blipFill>
        <p:spPr>
          <a:xfrm>
            <a:off x="457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Orville Wr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Orville Wright was the first man to fly in an air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5" descr="A:\wrightbrothers.jpg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P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pilo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4495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pilot is someone who drives a plan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A:\PILOT.JPG"/>
          <p:cNvPicPr/>
          <p:nvPr/>
        </p:nvPicPr>
        <p:blipFill>
          <a:blip r:embed="rId1"/>
          <a:stretch/>
        </p:blipFill>
        <p:spPr>
          <a:xfrm>
            <a:off x="2514600" y="1752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startrek_ds9_0.mid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43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 found answers to many of our questions when we did our projec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5" descr="A:\SKYWATCH.GIF"/>
          <p:cNvPicPr/>
          <p:nvPr/>
        </p:nvPicPr>
        <p:blipFill>
          <a:blip r:embed="rId1"/>
          <a:stretch/>
        </p:blipFill>
        <p:spPr>
          <a:xfrm>
            <a:off x="4038480" y="4419720"/>
            <a:ext cx="144792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rock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895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ockets are vehicles that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A:\SMRCKE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592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spitf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38280" y="190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pitfire is a army 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S is also for satellite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6668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atellite is something that twirls in space to 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7" descr="A:\Satellite-01.gif"/>
          <p:cNvPicPr/>
          <p:nvPr/>
        </p:nvPicPr>
        <p:blipFill>
          <a:blip r:embed="rId1"/>
          <a:stretch/>
        </p:blipFill>
        <p:spPr>
          <a:xfrm>
            <a:off x="228600" y="3124080"/>
            <a:ext cx="85716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:\SPITFIRE.JPG"/>
          <p:cNvPicPr/>
          <p:nvPr/>
        </p:nvPicPr>
        <p:blipFill>
          <a:blip r:embed="rId2"/>
          <a:stretch/>
        </p:blipFill>
        <p:spPr>
          <a:xfrm>
            <a:off x="7238880" y="685800"/>
            <a:ext cx="152424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ake 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2743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is is when an airplane leaves the groun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5" descr="A:\plane taking off.gif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startrek6undiscvrdcntry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Astrona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:\astronaut.gif"/>
          <p:cNvPicPr/>
          <p:nvPr/>
        </p:nvPicPr>
        <p:blipFill>
          <a:blip r:embed="rId1"/>
          <a:stretch/>
        </p:blipFill>
        <p:spPr>
          <a:xfrm>
            <a:off x="380880" y="762120"/>
            <a:ext cx="1905120" cy="163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828800" y="1600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stronauts are people who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9480" y="2819520"/>
            <a:ext cx="8077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 is also for Neil Armstrong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 was the first man to walk on the moon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7" descr="A:\astronaut_e0.gif"/>
          <p:cNvPicPr/>
          <p:nvPr/>
        </p:nvPicPr>
        <p:blipFill>
          <a:blip r:embed="rId2"/>
          <a:stretch/>
        </p:blipFill>
        <p:spPr>
          <a:xfrm>
            <a:off x="2362320" y="5257800"/>
            <a:ext cx="434340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U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unidentified flying objec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A:\SPINUFO.GIF"/>
          <p:cNvPicPr/>
          <p:nvPr/>
        </p:nvPicPr>
        <p:blipFill>
          <a:blip r:embed="rId1"/>
          <a:stretch/>
        </p:blipFill>
        <p:spPr>
          <a:xfrm>
            <a:off x="7010280" y="114300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A:\SANTA51.GIF"/>
          <p:cNvPicPr/>
          <p:nvPr/>
        </p:nvPicPr>
        <p:blipFill>
          <a:blip r:embed="rId2"/>
          <a:stretch/>
        </p:blipFill>
        <p:spPr>
          <a:xfrm>
            <a:off x="1405080" y="3218040"/>
            <a:ext cx="6332400" cy="42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080" y="3886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Is this an unidentified flying object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veloc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080" y="2286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locity is how fast a space ship or airplane travel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4" descr="A:\AIRPLA~1.GIF"/>
          <p:cNvPicPr/>
          <p:nvPr/>
        </p:nvPicPr>
        <p:blipFill>
          <a:blip r:embed="rId1"/>
          <a:stretch/>
        </p:blipFill>
        <p:spPr>
          <a:xfrm>
            <a:off x="1981080" y="3886200"/>
            <a:ext cx="5257800" cy="166536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W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the Wright br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Picture 4" descr="A:\WRIGHT2.JPG"/>
          <p:cNvPicPr/>
          <p:nvPr/>
        </p:nvPicPr>
        <p:blipFill>
          <a:blip r:embed="rId1"/>
          <a:stretch/>
        </p:blipFill>
        <p:spPr>
          <a:xfrm>
            <a:off x="762120" y="1523880"/>
            <a:ext cx="252252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startrek_voy_0.mi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pl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A:\animoon.gif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:\x2.gif"/>
          <p:cNvPicPr/>
          <p:nvPr/>
        </p:nvPicPr>
        <p:blipFill>
          <a:blip r:embed="rId2"/>
          <a:stretch/>
        </p:blipFill>
        <p:spPr>
          <a:xfrm>
            <a:off x="2362320" y="609480"/>
            <a:ext cx="15238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:\starship.gif"/>
          <p:cNvPicPr/>
          <p:nvPr/>
        </p:nvPicPr>
        <p:blipFill>
          <a:blip r:embed="rId3"/>
          <a:stretch/>
        </p:blipFill>
        <p:spPr>
          <a:xfrm>
            <a:off x="533520" y="3322800"/>
            <a:ext cx="3581280" cy="121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4724280" y="25909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Y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Yuri Gagar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411480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Yuri Gagarin was the first man to go into spac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e was from the Soviet Uni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A:\yuri.jpg"/>
          <p:cNvPicPr/>
          <p:nvPr/>
        </p:nvPicPr>
        <p:blipFill>
          <a:blip r:embed="rId1"/>
          <a:stretch/>
        </p:blipFill>
        <p:spPr>
          <a:xfrm>
            <a:off x="3565440" y="1752480"/>
            <a:ext cx="156528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zeppel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133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zeppelin looks like a blim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4" descr="A:\BLIMP-03.GIF"/>
          <p:cNvPicPr/>
          <p:nvPr/>
        </p:nvPicPr>
        <p:blipFill>
          <a:blip r:embed="rId1"/>
          <a:stretch/>
        </p:blipFill>
        <p:spPr>
          <a:xfrm>
            <a:off x="3276720" y="3424320"/>
            <a:ext cx="2895480" cy="25556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A:\firew.gif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A:\spacedog.gif"/>
          <p:cNvPicPr/>
          <p:nvPr/>
        </p:nvPicPr>
        <p:blipFill>
          <a:blip r:embed="rId2"/>
          <a:stretch/>
        </p:blipFill>
        <p:spPr>
          <a:xfrm>
            <a:off x="1371600" y="5105520"/>
            <a:ext cx="8222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295280" y="2362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Poster Bodon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5181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entury Gothic"/>
              </a:rPr>
              <a:t>Be sure to check out the credits on the next pag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90720" y="7621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ritten and produced by: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90720" y="2362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7920" y="19810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58128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Zach T., Lydia ElizabethKatelyn Angelo Zach 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9880" y="21337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90720" y="2209680"/>
            <a:ext cx="198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Kaylyn Cody Gabriella Hunter Anthon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867280" y="21337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Sean Rebekah Christopher Robbie Shann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5280" y="5257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With a little help from Mrs. Maj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bomb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19810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 plane, you know it is a bomb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4191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Cosmonaut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5486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smonaut is a name for Russian  Astronau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8" descr="A:\BOMBER.GIF"/>
          <p:cNvPicPr/>
          <p:nvPr/>
        </p:nvPicPr>
        <p:blipFill>
          <a:blip r:embed="rId1"/>
          <a:stretch/>
        </p:blipFill>
        <p:spPr>
          <a:xfrm>
            <a:off x="380880" y="25909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duck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duck was the first creature to go up in a hot air ballo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4" descr="A:\ducks_013.gif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:\Balloonw.gif"/>
          <p:cNvPicPr/>
          <p:nvPr/>
        </p:nvPicPr>
        <p:blipFill>
          <a:blip r:embed="rId2"/>
          <a:stretch/>
        </p:blipFill>
        <p:spPr>
          <a:xfrm>
            <a:off x="704880" y="4038480"/>
            <a:ext cx="220032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Extra terrestri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3505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ra terrestrials is a long name for alien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4" descr="A:\Alien98.gif"/>
          <p:cNvPicPr/>
          <p:nvPr/>
        </p:nvPicPr>
        <p:blipFill>
          <a:blip r:embed="rId1"/>
          <a:stretch/>
        </p:blipFill>
        <p:spPr>
          <a:xfrm>
            <a:off x="457200" y="0"/>
            <a:ext cx="73188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:\Alien98.gif"/>
          <p:cNvPicPr/>
          <p:nvPr/>
        </p:nvPicPr>
        <p:blipFill>
          <a:blip r:embed="rId2"/>
          <a:stretch/>
        </p:blipFill>
        <p:spPr>
          <a:xfrm>
            <a:off x="3733920" y="182880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:\Alien98.gif"/>
          <p:cNvPicPr/>
          <p:nvPr/>
        </p:nvPicPr>
        <p:blipFill>
          <a:blip r:embed="rId3"/>
          <a:stretch/>
        </p:blipFill>
        <p:spPr>
          <a:xfrm>
            <a:off x="6095880" y="472428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F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figh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n airplane it means it is a figh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9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G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glider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5410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glider is an airplane without an engi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6" descr="A:\planes_flying_around_world_md_wh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90332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helicop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28954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helicopter has propellers.  A helicopter lifts straight up and dow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5" descr="A:\helicoptr.gif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10664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international space st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A:\space_station_rotate_md_wht.gif"/>
          <p:cNvPicPr/>
          <p:nvPr/>
        </p:nvPicPr>
        <p:blipFill>
          <a:blip r:embed="rId1"/>
          <a:stretch/>
        </p:blipFill>
        <p:spPr>
          <a:xfrm>
            <a:off x="327672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14300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t is called the ISS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20574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Jets are planes without propeller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6" descr="A:\JASIO1.GIF"/>
          <p:cNvPicPr/>
          <p:nvPr/>
        </p:nvPicPr>
        <p:blipFill>
          <a:blip r:embed="rId1"/>
          <a:stretch/>
        </p:blipFill>
        <p:spPr>
          <a:xfrm>
            <a:off x="4724280" y="4876920"/>
            <a:ext cx="4038840" cy="14796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2:45:19Z</dcterms:created>
  <dc:creator>Mom</dc:creator>
  <dc:description/>
  <dc:language>en-US</dc:language>
  <cp:lastModifiedBy>LEGION</cp:lastModifiedBy>
  <dcterms:modified xsi:type="dcterms:W3CDTF">2018-03-22T08:48:34Z</dcterms:modified>
  <cp:revision>25</cp:revision>
  <dc:subject/>
  <dc:title>A is for Astronaut</dc:title>
</cp:coreProperties>
</file>