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A3C6-EE2B-45FA-AC7D-CAF5F3E1AF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okshelf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amir S Deeb, PhD, Arno G Motulsky, MD, “Red-Green Color Vision Defects,” GeneReviews, September 19, 2005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LORBLINDNESS, PARTIAL, DEUTAN SERIES; CBD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 ID: 3038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arrison, R.; Hoefnagel, D.; Hayward, J. N.  “Congenital total color blindness.” Arch. Ophthal. 64: 685-692, 1960. PubMed ID: 1371183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tstein, D. “The molecular biology of color vision.” (Editorial) Science 232: 142-143, 1986. PubMed ID: 293714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inderickx, J.; Sanocki, E.; Lindsey, D. T.; Teller, D. Y.; Motulsky, A. G.; Deeb, S. S. 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efective colour vision associated with a missense mutation in the human green visual pigment gene.” Nature Genet. 1: 251-256, 1992.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 ID: 130202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okshel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ir S Deeb, PhD, Arno G Motulsky, MD, “Red-Green Color Vision Defects,” GeneReviews, September 19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LORBLINDNESS, PARTIAL, DEUTAN SERIES; CB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 ID: 303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rison, R.; Hoefnagel, D.; Hayward, J. N.  “Congenital total color blindness.” Arch. Ophthal. 64: 685-692, 1960. PubMed ID: 137118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stein, D. “The molecular biology of color vision.” (Editorial) Science 232: 142-143, 1986. PubMed ID: 293714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nderickx, J.; Sanocki, E.; Lindsey, D. T.; Teller, D. Y.; Motulsky, A. G.; Deeb, S. S.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ective colour vision associated with a missense mutation in the human green visual pigment gene.” Nature Genet. 1: 251-256, 1992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 ID: 13020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BF8-8FDF-4E32-B8B6-1F913B16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377-ED37-42A5-9C62-04A565F2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F2D-ACB3-40F6-9516-2C4C9D8A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8F9-D5B0-4FE6-8CA8-B828CC46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8629-045C-4A24-9FEE-5655C782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25A7-C1B8-4A5E-A974-36319307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DEB5-0013-491A-BE31-E199BE12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C27F-B0D2-4F6A-9E81-7D5B9150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A43F-6821-4653-9D37-7E14E409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F027-3C10-473E-8880-85DB1CD0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766F-6894-4D9A-8CCD-67CC718B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E19-04E9-4222-BE48-90BE7E68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0B21-0478-4950-89B2-38076005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0A7E-C420-4CE2-BDA0-75D5132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8579-F73B-438F-B876-A8D9539A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B96C-9E77-4E47-8F88-87D4F48C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9B89-23B7-48A7-90A6-C3654D07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4D2-3389-445D-8915-F66591C3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901-6513-43ED-8233-E932FA98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E88-6B43-48A2-8B46-4FE77D4E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D2F-ACC3-44A4-883D-38F7B5AC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194-E2C3-4444-9F0B-52739639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8CC-ADD4-4BBC-A25F-AF7B9C32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6ED-C751-462E-B1EE-BAECC86D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9B41-718C-4E4A-9956-406BC01BDC5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4110-83D0-4DC7-AF00-D19DAF1A70C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Color Blindness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By Jessie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41907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mally, there are three kind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es (each one sensitive to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 range of wavelength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r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6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gre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3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2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895840" cy="2427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685800" y="1676520"/>
            <a:ext cx="7543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ormal human retina contains two kinds of light sensitive cells: the rod cells (active only in low light) and the cone cells (active in normal daylight and responsible for color perception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2666880" y="533520"/>
            <a:ext cx="3962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 there be light!!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62120" y="4876920"/>
            <a:ext cx="74674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ifferent kinds of inherited color blindness result from partial or complete loss of function of one or more of the different cone systems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Different Types of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two or all three of the cone pigments are missing and color and lightness vision is reduced to one dimen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Tot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only one of the cone pigments is missing and color is reduced to two dimens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Parti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red-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blue-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Total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known as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rod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complete achromatopsi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typical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are, non-progressive inability to distinguish any colors as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 of absent or nonfunctioning retinal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e everything as white, black, or some shade of gra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ypically caused by a missense mutation (a switched amino aci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</a:t>
            </a:r>
            <a:r>
              <a:rPr b="0" lang="en-US" sz="2000" spc="-1" strike="noStrike">
                <a:solidFill>
                  <a:srgbClr val="66ffff"/>
                </a:solidFill>
                <a:latin typeface="Tahoma"/>
              </a:rPr>
              <a:t>CNGB3 ge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CYCLIC NUCLEOTIDE-GATED CHANNEL, BETA-3 (CNGB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c achromatopsia results from a complete loss of CNGB3 fun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encodes for the beta subunit of the cone cyclic nucleotide-gated cation channel, found photoreceptor plasma membra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on activation by cGMP, it leads to an opening of cation channels which thereby cause a depolarization of rod photorecepto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gene is essential for the generation of light-evoked electrical responses in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is not required for vital processes outside the visual syste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CNGB3 Con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uman CNGB3 gene consists of 18 ex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ed over 200 kb of genomic seque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ene typ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rotein 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omain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imilar to ion transport prot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545120" y="5715000"/>
            <a:ext cx="57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Cytogenetic locus:  chromosome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: 8; </a:t>
            </a: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Location: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 8q21-q2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9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7924680" cy="99072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Amino acid sequ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Length: 809 a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LTIEVKEKAKQ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Mutation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66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The genetic basis for achromatopsia is found on chromosome 8 (location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q21-q22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) where there is a recessive point mutation in CNGB3 tha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ges serine at residue 435 to phenylalanine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 in a highly conserved site in the S6 membrane-spanning domai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Bookshelf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ir S Deeb, PhD, Arno G Motulsky, MD,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Red-Green Color Vision Defects,”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neReviews, September 19, 20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rg, Jeremy M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32.3.5. Rearrangements in the Genes for the Green and Red Pigments Lead to ‘Color Blindness,’”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Biochemistry 5th edition, W.H. Freeman and Company, 200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OMI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LORBLINDNESS, PARTIAL, DEUTAN SERIES; CBD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MIM ID: 3038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PubMed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rrison, R.; Hoefnagel, D.; Hayward, J. N. 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Congenital total color blindness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Arch. Ophthal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4: 685-692, 1960. PubMed ID: 1371183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otstein, D.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The molecular biology of color vision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(Editorial) </a:t>
            </a:r>
            <a:r>
              <a:rPr b="0" i="1" lang="nl-NL" sz="1400" spc="-1" strike="noStrike">
                <a:solidFill>
                  <a:srgbClr val="ffffff"/>
                </a:solidFill>
                <a:latin typeface="Tahoma"/>
              </a:rPr>
              <a:t>Science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232: 142-143, 1986. PubMed ID: 293714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Reyniers, E.; Van Thienen, M.-N.; Meire, F.; De Boulle, K.; Devries, K.; Kestelijn, P.; Willems, P. J.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Tahoma"/>
              </a:rPr>
              <a:t>“Gene conversion between red and defective green opsin gene in blue cone monochromacy.”</a:t>
            </a:r>
            <a:r>
              <a:rPr b="1" lang="nl-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Genomic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9: 323-328, 1995. PubMed ID: 866637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inderickx, J.; Sanocki, E.; Lindsey, D. T.; Teller, D. Y.; Motulsky, A. G.; Deeb, S. S. 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Defective colour vision associated with a missense mutation in the human green visual pigment gene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Nature Genet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: 251-256, 1992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ubMed ID: 130202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0:21:55Z</dcterms:created>
  <dc:creator>Jessie Wright</dc:creator>
  <dc:description/>
  <dc:language>en-US</dc:language>
  <cp:lastModifiedBy>LEGION</cp:lastModifiedBy>
  <dcterms:modified xsi:type="dcterms:W3CDTF">2018-03-22T08:41:49Z</dcterms:modified>
  <cp:revision>18</cp:revision>
  <dc:subject/>
  <dc:title>Color Blindness</dc:title>
</cp:coreProperties>
</file>