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62C30-EECF-496D-9FB6-96D52727F0C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 Blind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Jessie W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Jessie W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rmally, there are three kinds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es (each one sensitive to 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ific range of wavelengths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"red" cones (64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"green" cones (32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"blue" cones (2%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rmal human retina contains two kinds of light sensitive cells: the rod cells (active only in low light) and the cone cells (active in normal daylight and responsible for color perception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 there be light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fferent kinds of inherited color blindness result from partial or complete loss of function of one or more of the different cone systems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ly, there are three kinds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es (each one sensitive to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fic range of wavelengths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red" cones (64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green" cones (32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blue" cones (2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ormal human retina contains two kinds of light sensitive cells: the rod cells (active only in low light) and the cone cells (active in normal daylight and responsible for color perception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there be light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fferent kinds of inherited color blindness result from partial or complete loss of function of one or more of the different cone systems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Types of Color Blind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ochromacy: occurs when two or all three of the cone pigments are missing and color and lightness vision is reduced to one dimens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color blind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chromacy: occurs when only one of the cone pigments is missing and color is reduced to two dimens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al color blind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-gr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ue-yel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Types of Colo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chromacy: occurs when two or all three of the cone pigments are missing and color and lightness vision is reduced to one dimens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colo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hromacy: occurs when only one of the cone pigments is missing and color is reduced to two dimen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al colo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-gr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-yel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Color Blind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so known as rod monochromacy, complete achromatopsia,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ical monochroma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rare, non-progressive inability to distinguish any colors as 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ult of absent or nonfunctioning retinal con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everything as white, black, or some shade of gra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ically caused by a missense mutation (a switched amino acid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CNGB3 ge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Colo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known as rod monochromacy, complete achromatopsia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ical monochroma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are, non-progressive inability to distinguish any colors as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 of absent or nonfunctioning retinal con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everything as white, black, or some shade of gra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ically caused by a missense mutation (a switched amino acid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CNGB3 ge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YCLIC NUCLEOTIDE-GATED CHANNEL, BETA-3 (CNGB3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assic achromatopsia results from a complete loss of CNGB3 func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NGB3 encodes for the beta subunit of the cone cyclic nucleotide-gated cation channel, found photoreceptor plasma membran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pon activation by cGMP, it leads to an opening of cation channels which thereby cause a depolarization of rod photoreceptors. This gene is essential for the generation of light-evoked electrical responses in con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NGB3 is not required for vital processes outside the visual syste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CLIC NUCLEOTIDE-GATED CHANNEL, BETA-3 (CNGB3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c achromatopsia results from a complete loss of CNGB3 func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NGB3 encodes for the beta subunit of the cone cyclic nucleotide-gated cation channel, found photoreceptor plasma membran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on activation by cGMP, it leads to an opening of cation channels which thereby cause a depolarization of rod photoreceptors. This gene is essential for the generation of light-evoked electrical responses in con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NGB3 is not required for vital processes outside the visual syste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NGB3 Co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 human CNGB3 gene consists of 18 ex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istributed over 200 kb of genomic sequenc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ene type: protein co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omain: similar to ion transport prote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ytogenetic locus:  chromosome: 8; Location: 8q21-q2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NGB3 Co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human CNGB3 gene consists of 18 ex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stributed over 200 kb of genomic sequen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ene type: protein co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omain: similar to ion transport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ytogenetic locus:  chromosome: 8; Location: 8q21-q2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mino acid sequ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ength: 809 a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"MFKSLTKVNKVKPIGENNENEQSSRRNEEGSHPSNQSQQTTAQE                 ENKGEEKSLKTKSTPVTSEEPHTNIQDKLSKKNSSGDLTTNPDPQNAAEPTGTVPEQK                   EMDPGKEGPNSPQNKPPAAPVINEYADAQLHNLVKRMRQRTALYKKKLVEGDLSSPEA                    SPQTAKPTAVPPVKESDDKPTEHYYRLLWFKVKKMPLTEYLKRIKLPNSIDSYTDRLY                    LLWLLLVTLAYNWNCWFIPLRLVFPYQTADNIHYWLIADIICDIIYLYDMLFIQPRLQ                    FVRGGDIIVDSNELRKHYRTSTKFQLDVASIIPFDICYLFFGFNPMFRANRMLKYTSF                    FEFNHHLESIMDKAYIYRVIRTTGYLLFILHINACVYYWASNYEGIGTTRWVYDGEGN                     EYLRCYYWAVRTLITIGGLPEPQTLFEIVFQLLNFFSGVFVFSSLIGQMRDVIGAATA                    NQNYFRACMDDTIAYMNNYSIPKLVQKRVRTWYEYTWDSQRMLDESDLLKTLPTTVQL                    ALAIDVNFSIISKVDLFKGCDTQMIYDMLLRLKSVLYLPGDFVCKKGEIGKEMYIIKH                    GEVQVLGGPDGTKVLVTLKAGSVFGEISLLAAGGGNRRTANVVAHGFANLLTLDKKTL                    QEILVHYPDSERILMKKARVLLKQKAKTAEATPPRKDLALLFPPKEETPKLFKTLLGG                    TGKASLARLLKLKREQAAQKKENSEGGEEEGKENEDKQKENEDKQKENEDKGKENEDK                    DKGREPEEKPLDRPECTASPIAVEEEPHSVRRTVLPRGTSRQSLIISMAPSAEGGEE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TIEVKEKAKQ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mino acid sequ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ngth: 809 a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"MFKSLTKVNKVKPIGENNENEQSSRRNEEGSHPSNQSQQTTAQE                 ENKGEEKSLKTKSTPVTSEEPHTNIQDKLSKKNSSGDLTTNPDPQNAAEPTGTVPEQK                   EMDPGKEGPNSPQNKPPAAPVINEYADAQLHNLVKRMRQRTALYKKKLVEGDLSSPEA                    SPQTAKPTAVPPVKESDDKPTEHYYRLLWFKVKKMPLTEYLKRIKLPNSIDSYTDRLY                    LLWLLLVTLAYNWNCWFIPLRLVFPYQTADNIHYWLIADIICDIIYLYDMLFIQPRLQ                    FVRGGDIIVDSNELRKHYRTSTKFQLDVASIIPFDICYLFFGFNPMFRANRMLKYTSF                    FEFNHHLESIMDKAYIYRVIRTTGYLLFILHINACVYYWASNYEGIGTTRWVYDGEGN                     EYLRCYYWAVRTLITIGGLPEPQTLFEIVFQLLNFFSGVFVFSSLIGQMRDVIGAATA                    NQNYFRACMDDTIAYMNNYSIPKLVQKRVRTWYEYTWDSQRMLDESDLLKTLPTTVQL                    ALAIDVNFSIISKVDLFKGCDTQMIYDMLLRLKSVLYLPGDFVCKKGEIGKEMYIIKH                    GEVQVLGGPDGTKVLVTLKAGSVFGEISLLAAGGGNRRTANVVAHGFANLLTLDKKTL                    QEILVHYPDSERILMKKARVLLKQKAKTAEATPPRKDLALLFPPKEETPKLFKTLLGG                    TGKASLARLLKLKREQAAQKKENSEGGEEEGKENEDKQKENEDKQKENEDKGKENEDK                    DKGREPEEKPLDRPECTASPIAVEEEPHSVRRTVLPRGTSRQSLIISMAPSAEGGEE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TIEVKEKAKQ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tation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enetic basis for achromatopsia is found on chromosome 8 (location 8q21-q22) where there is a recessive point mutation in CNGB3 that changes serine at residue 435 to phenylalanine in a highly conserved site in the S6 membrane-spanning domai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tic basis for achromatopsia is found on chromosome 8 (location 8q21-q22) where there is a recessive point mutation in CNGB3 that changes serine at residue 435 to phenylalanine in a highly conserved site in the S6 membrane-spanning domai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Bibliography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Bookshelf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Samir S Deeb, PhD, Arno G Motulsky, MD, “Red-Green Color Vision Defects,” GeneReviews, September 19, 2005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Berg, Jeremy M. “32.3.5. Rearrangements in the Genes for the Green and Red Pigments Lead to ‘Color Blindness,’” Biochemistry 5th edition, W.H. Freeman and Company, 2002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OMIM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COLORBLINDNESS, PARTIAL, DEUTAN SERIES; CBD”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OMIM ID: 30380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PubMed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Harrison, R.; Hoefnagel, D.; Hayward, J. N.  “Congenital total color blindness.” Arch. Ophthal. 64: 685-692, 1960. PubMed ID: 13711836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Botstein, D. “The molecular biology of color vision.” (Editorial) Science 232: 142-143, 1986. PubMed ID: 2937146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eyniers, E.; Van Thienen, M.-N.; Meire, F.; De Boulle, K.; Devries, K.; Kestelijn, P.; Willems, P. J. “Gene conversion between red and defective green opsin gene in blue cone monochromacy.” Genomics 29: 323-328, 1995. PubMed ID: 8666378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Winderickx, J.; Sanocki, E.; Lindsey, D. T.; Teller, D. Y.; Motulsky, A. G.; Deeb, S. S. :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Defective colour vision associated with a missense mutation in the human green visual pigment gene.” Nature Genet. 1: 251-256, 1992. 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PubMed ID: 1302020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ibli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ookshelf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amir S Deeb, PhD, Arno G Motulsky, MD, “Red-Green Color Vision Defects,” GeneReviews, September 19, 200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erg, Jeremy M. “32.3.5. Rearrangements in the Genes for the Green and Red Pigments Lead to ‘Color Blindness,’” Biochemistry 5th edition, W.H. Freeman and Company, 200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MI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LORBLINDNESS, PARTIAL, DEUTAN SERIES; CB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MIM ID: 3038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ubM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arrison, R.; Hoefnagel, D.; Hayward, J. N.  “Congenital total color blindness.” Arch. Ophthal. 64: 685-692, 1960. PubMed ID: 1371183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otstein, D. “The molecular biology of color vision.” (Editorial) Science 232: 142-143, 1986. PubMed ID: 293714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yniers, E.; Van Thienen, M.-N.; Meire, F.; De Boulle, K.; Devries, K.; Kestelijn, P.; Willems, P. J. “Gene conversion between red and defective green opsin gene in blue cone monochromacy.” Genomics 29: 323-328, 1995. PubMed ID: 866637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inderickx, J.; Sanocki, E.; Lindsey, D. T.; Teller, D. Y.; Motulsky, A. G.; Deeb, S. S.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efective colour vision associated with a missense mutation in the human green visual pigment gene.” Nature Genet. 1: 251-256, 1992.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ubMed ID: 130202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D4D1-6474-42F4-818F-4365650DD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1B9B-80FE-4B17-8F15-3CE332744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3A30-9314-4DF5-9D54-A1CF08F85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47EB-3140-417F-907F-F321B35B9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50189-734E-4A34-AFBF-636C90687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D20AB-F4B8-4DE8-9BAD-E586E8BF3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0BAB3-4D3E-48E4-9F39-19DBE0197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DE5EC-671A-4BC1-A176-B785C0DEC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D653C-76EB-4F77-BA2B-EBDCD6803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BBAF6-DF70-4A6C-8E91-FFA96EF17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368AD-C70C-47D2-AEA2-7095B62BC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6E77-1A4F-4331-913B-3B4CD1013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0662F-F39A-4C12-A114-ABFC381C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3F087-0592-420A-BAB3-7745DB96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E8CEA-25DD-45ED-AF5C-2DEB74EC9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35921-C87D-459C-A32F-BEB551EB0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6B3F6-907B-4E79-A323-A96B3EEBD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AF8C-5E16-4A2C-8E74-88B4309FE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F684-1DF8-4785-88DF-0E7D68C62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64D7-B4DC-421B-B9E6-F67600624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6FFB-9526-4666-9D42-28D681B56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7522-A3DA-48D7-8FF5-9654B12CA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1C0B-F390-40AF-AAA5-FB5090D4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F2EF-3DD0-4A0C-9D23-F5396D13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2F661-577B-4EF9-BBB7-EC9FBE92A323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Rectangle 8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" name="Group 10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Rectangle 11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" name="Group 13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Rectangle 14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" name="Group 16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15" name="Rectangle 17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" name="Group 19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Rectangle 20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4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5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Rectangle 6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Group 7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8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Rectangle 9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Group 10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11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Rectangle 12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Group 13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66" name="Rectangle 14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15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DC33B-C95A-4B26-930C-68FAB6D38142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Color Blindness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44792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ahoma"/>
              </a:rPr>
              <a:t>By Jessie Wr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Нижний колонтитул 5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61760" y="2438280"/>
            <a:ext cx="419076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ormally, there are three kinds of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es (each one sensitive to 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pecific range of wavelengths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"</a:t>
            </a: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re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" cones (64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"</a:t>
            </a:r>
            <a:r>
              <a:rPr b="0" lang="en-US" sz="2000" spc="-1" strike="noStrike">
                <a:solidFill>
                  <a:srgbClr val="33cc33"/>
                </a:solidFill>
                <a:latin typeface="Tahoma"/>
              </a:rPr>
              <a:t>gree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" cones (32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"</a:t>
            </a:r>
            <a:r>
              <a:rPr b="0" lang="en-US" sz="2000" spc="-1" strike="noStrike">
                <a:solidFill>
                  <a:srgbClr val="0066ff"/>
                </a:solidFill>
                <a:latin typeface="Tahoma"/>
              </a:rPr>
              <a:t>blu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" cones (2%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5181480" y="2666880"/>
            <a:ext cx="2895840" cy="24274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8"/>
          <p:cNvSpPr/>
          <p:nvPr/>
        </p:nvSpPr>
        <p:spPr>
          <a:xfrm>
            <a:off x="685800" y="1676520"/>
            <a:ext cx="754380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normal human retina contains two kinds of light sensitive cells: the rod cells (active only in low light) and the cone cells (active in normal daylight and responsible for color perception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WordArt 11"/>
          <p:cNvSpPr txBox="1"/>
          <p:nvPr/>
        </p:nvSpPr>
        <p:spPr>
          <a:xfrm>
            <a:off x="2666880" y="533520"/>
            <a:ext cx="396252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Let there be light!!!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762120" y="4876920"/>
            <a:ext cx="7467480" cy="18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different kinds of inherited color blindness result from partial or complete loss of function of one or more of the different cone systems.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Нижний колонтитул 8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ff"/>
                </a:solidFill>
                <a:latin typeface="Tahoma"/>
              </a:rPr>
              <a:t>Different Types of Color Blindnes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Monochromacy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en-US" sz="2000" spc="-1" strike="noStrike">
                <a:solidFill>
                  <a:srgbClr val="ff66cc"/>
                </a:solidFill>
                <a:latin typeface="Tahoma"/>
              </a:rPr>
              <a:t> occurs when two or all three of the cone pigments are missing and color and lightness vision is reduced to one dimension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cc"/>
                </a:solidFill>
                <a:latin typeface="Tahoma"/>
              </a:rPr>
              <a:t>Total color blindn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Dichromacy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en-US" sz="2000" spc="-1" strike="noStrike">
                <a:solidFill>
                  <a:srgbClr val="ff66cc"/>
                </a:solidFill>
                <a:latin typeface="Tahoma"/>
              </a:rPr>
              <a:t> occurs when only one of the cone pigments is missing and color is reduced to two dimension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cc"/>
                </a:solidFill>
                <a:latin typeface="Tahoma"/>
              </a:rPr>
              <a:t>Partial color blindn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66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66cc"/>
                </a:solidFill>
                <a:latin typeface="Tahoma"/>
              </a:rPr>
              <a:t>red-gre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66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66cc"/>
                </a:solidFill>
                <a:latin typeface="Tahoma"/>
              </a:rPr>
              <a:t>blue-yell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Нижний колонтитул 5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ff"/>
                </a:solidFill>
                <a:latin typeface="Tahoma"/>
              </a:rPr>
              <a:t>Total Color Blindnes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lso known as </a:t>
            </a:r>
            <a:r>
              <a:rPr b="0" i="1" lang="en-US" sz="2000" spc="-1" strike="noStrike">
                <a:solidFill>
                  <a:srgbClr val="66ffff"/>
                </a:solidFill>
                <a:latin typeface="Tahoma"/>
              </a:rPr>
              <a:t>rod monochromacy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66ffff"/>
                </a:solidFill>
                <a:latin typeface="Tahoma"/>
              </a:rPr>
              <a:t>complete achromatopsia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 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ffff"/>
                </a:solidFill>
                <a:latin typeface="Tahoma"/>
              </a:rPr>
              <a:t>typical monochromacy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rare, non-progressive inability to distinguish any colors as 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sult of absent or nonfunctioning retinal cone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e everything as white, black, or some shade of gra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ypically caused by a missense mutation (a switched amino acid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 the </a:t>
            </a:r>
            <a:r>
              <a:rPr b="0" lang="en-US" sz="2000" spc="-1" strike="noStrike">
                <a:solidFill>
                  <a:srgbClr val="66ffff"/>
                </a:solidFill>
                <a:latin typeface="Tahoma"/>
              </a:rPr>
              <a:t>CNGB3 gen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Нижний колонтитул 5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Tahoma"/>
              </a:rPr>
              <a:t>CYCLIC NUCLEOTIDE-GATED CHANNEL, BETA-3 (CNGB3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lassic achromatopsia results from a complete loss of CNGB3 function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NGB3 encodes for the beta subunit of the cone cyclic nucleotide-gated cation channel, found photoreceptor plasma membrane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pon activation by cGMP, it leads to an opening of cation channels which thereby cause a depolarization of rod photoreceptors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s gene is essential for the generation of light-evoked electrical responses in cone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NGB3 is not required for vital processes outside the visual system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Нижний колонтитул 5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ff"/>
                </a:solidFill>
                <a:latin typeface="Tahoma"/>
              </a:rPr>
              <a:t>CNGB3 Cont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162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human CNGB3 gene consists of 18 ex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istributed over 200 kb of genomic sequence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Gene type: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protein 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Domain: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similar to ion transport prote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1545120" y="5715000"/>
            <a:ext cx="572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cc"/>
                </a:solidFill>
                <a:latin typeface="Verdana"/>
                <a:ea typeface="Times New Roman"/>
              </a:rPr>
              <a:t>Cytogenetic locus:  chromosome</a:t>
            </a:r>
            <a:r>
              <a:rPr b="0" lang="en-US" sz="1600" spc="-1" strike="noStrike">
                <a:solidFill>
                  <a:srgbClr val="ff66cc"/>
                </a:solidFill>
                <a:latin typeface="Verdana"/>
                <a:ea typeface="Times New Roman"/>
              </a:rPr>
              <a:t>: 8; </a:t>
            </a:r>
            <a:r>
              <a:rPr b="1" lang="en-US" sz="1600" spc="-1" strike="noStrike">
                <a:solidFill>
                  <a:srgbClr val="ff66cc"/>
                </a:solidFill>
                <a:latin typeface="Verdana"/>
                <a:ea typeface="Times New Roman"/>
              </a:rPr>
              <a:t>Location:</a:t>
            </a:r>
            <a:r>
              <a:rPr b="0" lang="en-US" sz="1600" spc="-1" strike="noStrike">
                <a:solidFill>
                  <a:srgbClr val="ff66cc"/>
                </a:solidFill>
                <a:latin typeface="Verdana"/>
                <a:ea typeface="Times New Roman"/>
              </a:rPr>
              <a:t> 8q21-q2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0" y="39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1"/>
          <a:stretch/>
        </p:blipFill>
        <p:spPr>
          <a:xfrm>
            <a:off x="685800" y="4343400"/>
            <a:ext cx="7924680" cy="990720"/>
          </a:xfrm>
          <a:prstGeom prst="rect">
            <a:avLst/>
          </a:prstGeom>
          <a:ln w="0">
            <a:noFill/>
          </a:ln>
        </p:spPr>
      </p:pic>
      <p:sp>
        <p:nvSpPr>
          <p:cNvPr id="139" name="Нижний колонтитул 8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cc"/>
                </a:solidFill>
                <a:latin typeface="Tahoma"/>
              </a:rPr>
              <a:t>Amino acid sequen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cc"/>
                </a:solidFill>
                <a:latin typeface="Tahoma"/>
              </a:rPr>
              <a:t>Length: 809 a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66ffff"/>
                </a:solidFill>
                <a:latin typeface="Tahoma"/>
              </a:rPr>
              <a:t>"MFKSLTKVNKVKPIGENNENEQSSRRNEEGSHPSNQSQQTTAQE                 ENKGEEKSLKTKSTPVTSEEPHTNIQDKLSKKNSSGDLTTNPDPQNAAEPTGTVPEQK                   EMDPGKEGPNSPQNKPPAAPVINEYADAQLHNLVKRMRQRTALYKKKLVEGDLSSPEA                    SPQTAKPTAVPPVKESDDKPTEHYYRLLWFKVKKMPLTEYLKRIKLPNSIDSYTDRLY                    LLWLLLVTLAYNWNCWFIPLRLVFPYQTADNIHYWLIADIICDIIYLYDMLFIQPRLQ                    FVRGGDIIVDSNELRKHYRTSTKFQLDVASIIPFDICYLFFGFNPMFRANRMLKYTSF                    FEFNHHLESIMDKAYIYRVIRTTGYLLFILHINACVYYWASNYEGIGTTRWVYDGEGN                     EYLRCYYWAVRTLITIGGLPEPQTLFEIVFQLLNFFSGVFVFSSLIGQMRDVIGAATA                    NQNYFRACMDDTIAYMNNYSIPKLVQKRVRTWYEYTWDSQRMLDESDLLKTLPTTVQL                    ALAIDVNFSIISKVDLFKGCDTQMIYDMLLRLKSVLYLPGDFVCKKGEIGKEMYIIKH                    GEVQVLGGPDGTKVLVTLKAGSVFGEISLLAAGGGNRRTANVVAHGFANLLTLDKKTL                    QEILVHYPDSERILMKKARVLLKQKAKTAEATPPRKDLALLFPPKEETPKLFKTLLGG                    TGKASLARLLKLKREQAAQKKENSEGGEEEGKENEDKQKENEDKQKENEDKGKENEDK                    DKGREPEEKPLDRPECTASPIAVEEEPHSVRRTVLPRGTSRQSLIISMAPSAEGGEEV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66ffff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66ffff"/>
                </a:solidFill>
                <a:latin typeface="Tahoma"/>
              </a:rPr>
              <a:t>LTIEVKEKAKQ"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Нижний колонтитул 5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ff"/>
                </a:solidFill>
                <a:latin typeface="Tahoma"/>
              </a:rPr>
              <a:t>Mutation…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2667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cc"/>
                </a:solidFill>
                <a:latin typeface="Tahoma"/>
              </a:rPr>
              <a:t>The genetic basis for achromatopsia is found on chromosome 8 (location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8q21-q22</a:t>
            </a:r>
            <a:r>
              <a:rPr b="0" lang="en-US" sz="1800" spc="-1" strike="noStrike">
                <a:solidFill>
                  <a:srgbClr val="ff66cc"/>
                </a:solidFill>
                <a:latin typeface="Tahoma"/>
              </a:rPr>
              <a:t>) where there is a recessive point mutation in CNGB3 that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hanges serine at residue 435 to phenylalanine</a:t>
            </a:r>
            <a:r>
              <a:rPr b="0" lang="en-US" sz="1800" spc="-1" strike="noStrike">
                <a:solidFill>
                  <a:srgbClr val="ff66cc"/>
                </a:solidFill>
                <a:latin typeface="Tahoma"/>
              </a:rPr>
              <a:t> in a highly conserved site in the S6 membrane-spanning domain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3581280" y="144792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146" name="Нижний колонтитул 6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cc"/>
                </a:solidFill>
                <a:latin typeface="Tahoma"/>
              </a:rPr>
              <a:t>Bibliograph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Bookshelf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amir S Deeb, PhD, Arno G Motulsky, MD, “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Red-Green Color Vision Defects,”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GeneReviews, September 19, 2005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Berg, Jeremy M.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“32.3.5. Rearrangements in the Genes for the Green and Red Pigments Lead to ‘Color Blindness,’”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Biochemistry 5th edition, W.H. Freeman and Company, 2002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OMIM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LORBLINDNESS, PARTIAL, DEUTAN SERIES; CBD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OMIM ID: 30380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PubMed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Harrison, R.; Hoefnagel, D.; Hayward, J. N.  “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Congenital total color blindness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.” 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Arch. Ophthal.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64: 685-692, 1960. PubMed ID: 13711836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Botstein, D. “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The molecular biology of color vision.”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nl-NL" sz="1400" spc="-1" strike="noStrike">
                <a:solidFill>
                  <a:srgbClr val="ffffff"/>
                </a:solidFill>
                <a:latin typeface="Tahoma"/>
              </a:rPr>
              <a:t>(Editorial) </a:t>
            </a:r>
            <a:r>
              <a:rPr b="0" i="1" lang="nl-NL" sz="1400" spc="-1" strike="noStrike">
                <a:solidFill>
                  <a:srgbClr val="ffffff"/>
                </a:solidFill>
                <a:latin typeface="Tahoma"/>
              </a:rPr>
              <a:t>Science </a:t>
            </a:r>
            <a:r>
              <a:rPr b="0" lang="nl-NL" sz="1400" spc="-1" strike="noStrike">
                <a:solidFill>
                  <a:srgbClr val="ffffff"/>
                </a:solidFill>
                <a:latin typeface="Tahoma"/>
              </a:rPr>
              <a:t>232: 142-143, 1986. PubMed ID: 2937146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ahoma"/>
              </a:rPr>
              <a:t>Reyniers, E.; Van Thienen, M.-N.; Meire, F.; De Boulle, K.; Devries, K.; Kestelijn, P.; Willems, P. J. </a:t>
            </a:r>
            <a:r>
              <a:rPr b="0" lang="nl-NL" sz="1400" spc="-1" strike="noStrike" u="sng">
                <a:solidFill>
                  <a:srgbClr val="ffffff"/>
                </a:solidFill>
                <a:uFillTx/>
                <a:latin typeface="Tahoma"/>
              </a:rPr>
              <a:t>“Gene conversion between red and defective green opsin gene in blue cone monochromacy.”</a:t>
            </a:r>
            <a:r>
              <a:rPr b="1" lang="nl-NL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Genomics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29: 323-328, 1995. PubMed ID: 8666378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Winderickx, J.; Sanocki, E.; Lindsey, D. T.; Teller, D. Y.; Motulsky, A. G.; Deeb, S. S. :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“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Defective colour vision associated with a missense mutation in the human green visual pigment gene.” 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Nature Genet.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: 251-256, 1992.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ubMed ID: 1302020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Нижний колонтитул 5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00:21:55Z</dcterms:created>
  <dc:creator>Jessie Wright</dc:creator>
  <dc:description/>
  <dc:language>en-US</dc:language>
  <cp:lastModifiedBy>LEGION</cp:lastModifiedBy>
  <dcterms:modified xsi:type="dcterms:W3CDTF">2018-03-22T08:41:49Z</dcterms:modified>
  <cp:revision>18</cp:revision>
  <dc:subject/>
  <dc:title>Color Blindness</dc:title>
</cp:coreProperties>
</file>