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E023-9ACC-40F6-8717-263692335E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Jessie W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ly, there are three kinds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(each one sensitive to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fic range of wavelength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red" cones (64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green" cones (32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blue" cones (2%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rmal human retina contains two kinds of light sensitive cells: the rod cells (active only in low light) and the cone cells (active in normal daylight and responsible for color percepti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re be ligh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t kinds of inherited color blindness result from partial or complete loss of function of one or more of the different cone systems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Types of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hromacy: occurs when two or all three of the cone pigments are missing and color and lightness vision is reduced to one dimen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macy: occurs when only one of the cone pigments is missing and color is reduced to two dim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-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Color Blind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known as rod monochromacy, complete achromatopsia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nochroma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are, non-progressive inability to distinguish any colors as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 of absent or nonfunctioning retinal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everything as white, black, or some shade of gr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ly caused by a missense mutation (a switched amino aci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NGB3 ge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IC NUCLEOTIDE-GATED CHANNEL, BETA-3 (CNGB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c achromatopsia results from a complete loss of CNGB3 fu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encodes for the beta subunit of the cone cyclic nucleotide-gated cation channel, found photoreceptor plasma membra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activation by cGMP, it leads to an opening of cation channels which thereby cause a depolarization of rod photoreceptors. This gene is essential for the generation of light-evoked electrical responses in con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GB3 is not required for vital processes outside the visual syste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NGB3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uman CNGB3 gene consists of 18 e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stributed over 200 kb of genomic sequ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ene type: protein co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: similar to ion transport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ytogenetic locus:  chromosome: 8; Location: 8q21-q2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o acid seq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ngth: 809 a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TIEVKEKAKQ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t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tic basis for achromatopsia is found on chromosome 8 (location 8q21-q22) where there is a recessive point mutation in CNGB3 that changes serine at residue 435 to phenylalanine in a highly conserved site in the S6 membrane-spanning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okshelf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Samir S Deeb, PhD, Arno G Motulsky, MD, “Red-Green Color Vision Defects,” GeneReviews, September 19, 2005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LORBLINDNESS, PARTIAL, DEUTAN SERIES; CBD”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MIM ID: 3038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arrison, R.; Hoefnagel, D.; Hayward, J. N.  “Congenital total color blindness.” Arch. Ophthal. 64: 685-692, 1960. PubMed ID: 1371183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otstein, D. “The molecular biology of color vision.” (Editorial) Science 232: 142-143, 1986. PubMed ID: 293714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inderickx, J.; Sanocki, E.; Lindsey, D. T.; Teller, D. Y.; Motulsky, A. G.; Deeb, S. S. 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Defective colour vision associated with a missense mutation in the human green visual pigment gene.” Nature Genet. 1: 251-256, 1992.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Med ID: 130202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okshel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ir S Deeb, PhD, Arno G Motulsky, MD, “Red-Green Color Vision Defects,” GeneReviews, September 19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rg, Jeremy M. “32.3.5. Rearrangements in the Genes for the Green and Red Pigments Lead to ‘Color Blindness,’” Biochemistry 5th edition, W.H. Freeman and Company,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LORBLINDNESS, PARTIAL, DEUTAN SERIES; CB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MIM ID: 303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rrison, R.; Hoefnagel, D.; Hayward, J. N.  “Congenital total color blindness.” Arch. Ophthal. 64: 685-692, 1960. PubMed ID: 1371183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tstein, D. “The molecular biology of color vision.” (Editorial) Science 232: 142-143, 1986. PubMed ID: 293714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yniers, E.; Van Thienen, M.-N.; Meire, F.; De Boulle, K.; Devries, K.; Kestelijn, P.; Willems, P. J. “Gene conversion between red and defective green opsin gene in blue cone monochromacy.” Genomics 29: 323-328, 1995. PubMed ID: 866637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nderickx, J.; Sanocki, E.; Lindsey, D. T.; Teller, D. Y.; Motulsky, A. G.; Deeb, S. S.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ective colour vision associated with a missense mutation in the human green visual pigment gene.” Nature Genet. 1: 251-256, 1992.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bMed ID: 13020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C13-AFB8-4673-A459-4A311C40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77FD-491D-4510-9A7B-49C0EE0A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229A-16D7-4006-AE91-6A513420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CF2-DE4A-4CAA-99F7-FC9D5D93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0A38B-AB82-41A9-B57B-6519E4B0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354A-0466-42A4-9C34-350A95E9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C6A0-1900-416C-BC02-22F5A44E6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FCC6-8BBE-40ED-97F8-497CDA12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0F8A-08A0-44D4-A579-C13FCB90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7A1C-0B1B-4DD3-9C0F-676D24CB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D6A0-2F6D-4DF0-AF89-7E4EAAE0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3C3-9377-41C4-A245-C59F6C82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733-F667-409D-9EE0-21E9E273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F07-AC68-41A5-9DD5-AE27F006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FD42-D298-45DB-B7A7-91297642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AB25-411A-4857-B848-4E592864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38AC-585A-4A85-AD88-61387C90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7A8-FAE1-497E-84CD-313A2AC7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54C1-C518-4F57-9280-824CB18E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922-E07C-4122-9865-716AF2C4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DDD-44BD-4D75-8D11-5352B1F0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B1F3-C998-4F75-AD17-014C0560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3A6-0089-499B-B205-B2671F0C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5A1-9328-44A6-AD57-1E0AB566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7E95-B45A-45EC-BD2B-1A857681E5E2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62E6-1FBE-4814-BADA-449BD1FB27D7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Color Blindness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4792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ahoma"/>
              </a:rPr>
              <a:t>By Jessie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61760" y="2438280"/>
            <a:ext cx="419076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ormally, there are three kinds of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es (each one sensitive to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 range of wavelength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re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64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gre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32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</a:t>
            </a:r>
            <a:r>
              <a:rPr b="0" lang="en-US" sz="2000" spc="-1" strike="noStrike">
                <a:solidFill>
                  <a:srgbClr val="0066ff"/>
                </a:solidFill>
                <a:latin typeface="Tahoma"/>
              </a:rPr>
              <a:t>blu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" cones (2%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2895840" cy="2427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85800" y="1676520"/>
            <a:ext cx="75438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normal human retina contains two kinds of light sensitive cells: the rod cells (active only in low light) and the cone cells (active in normal daylight and responsible for color perceptio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2666880" y="533520"/>
            <a:ext cx="39625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 there be light!!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762120" y="4876920"/>
            <a:ext cx="74674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fferent kinds of inherited color blindness result from partial or complete loss of function of one or more of the different cone systems.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Different Types of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two or all three of the cone pigments are missing and color and lightness vision is reduced to one dimens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Tot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i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 occurs when only one of the cone pigments is missing and color is reduced to two dimens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Partial color blindn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red-gre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blue-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Tahoma"/>
              </a:rPr>
              <a:t>Total Color Blindnes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so known as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rod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complete achromatopsi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ffff"/>
                </a:solidFill>
                <a:latin typeface="Tahoma"/>
              </a:rPr>
              <a:t>typical monochromacy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rare, non-progressive inability to distinguish any colors as 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sult of absent or nonfunctioning retinal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e everything as white, black, or some shade of gra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ypically caused by a missense mutation (a switched amino acid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the </a:t>
            </a:r>
            <a:r>
              <a:rPr b="0" lang="en-US" sz="2000" spc="-1" strike="noStrike">
                <a:solidFill>
                  <a:srgbClr val="66ffff"/>
                </a:solidFill>
                <a:latin typeface="Tahoma"/>
              </a:rPr>
              <a:t>CNGB3 ge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ahoma"/>
              </a:rPr>
              <a:t>CYCLIC NUCLEOTIDE-GATED CHANNEL, BETA-3 (CNGB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c achromatopsia results from a complete loss of CNGB3 functio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encodes for the beta subunit of the cone cyclic nucleotide-gated cation channel, found photoreceptor plasma membra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on activation by cGMP, it leads to an opening of cation channels which thereby cause a depolarization of rod photoreceptor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s gene is essential for the generation of light-evoked electrical responses in cone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NGB3 is not required for vital processes outside the visual system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CNGB3 Con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human CNGB3 gene consists of 18 ex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tributed over 200 kb of genomic sequenc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Gene type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protein 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Domain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similar to ion transport prot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545120" y="5715000"/>
            <a:ext cx="572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Cytogenetic locus:  chromosome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: 8; </a:t>
            </a:r>
            <a:r>
              <a:rPr b="1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Location:</a:t>
            </a:r>
            <a:r>
              <a:rPr b="0" lang="en-US" sz="1600" spc="-1" strike="noStrike">
                <a:solidFill>
                  <a:srgbClr val="ff66cc"/>
                </a:solidFill>
                <a:latin typeface="Verdana"/>
                <a:ea typeface="Times New Roman"/>
              </a:rPr>
              <a:t> 8q21-q2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39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685800" y="4343400"/>
            <a:ext cx="7924680" cy="99072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8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Amino acid sequen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cc"/>
                </a:solidFill>
                <a:latin typeface="Tahoma"/>
              </a:rPr>
              <a:t>Length: 809 a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66ffff"/>
                </a:solidFill>
                <a:latin typeface="Tahoma"/>
              </a:rPr>
              <a:t>"MFKSLTKVNKVKPIGENNENEQSSRRNEEGSHPSNQSQQTTAQE                 ENKGEEKSLKTKSTPVTSEEPHTNIQDKLSKKNSSGDLTTNPDPQNAAEPTGTVPEQK                   EMDPGKEGPNSPQNKPPAAPVINEYADAQLHNLVKRMRQRTALYKKKLVEGDLSSPEA                    SPQTAKPTAVPPVKESDDKPTEHYYRLLWFKVKKMPLTEYLKRIKLPNSIDSYTDRLY                    LLWLLLVTLAYNWNCWFIPLRLVFPYQTADNIHYWLIADIICDIIYLYDMLFIQPRLQ                    FVRGGDIIVDSNELRKHYRTSTKFQLDVASIIPFDICYLFFGFNPMFRANRMLKYTSF                    FEFNHHLESIMDKAYIYRVIRTTGYLLFILHINACVYYWASNYEGIGTTRWVYDGEGN                     EYLRCYYWAVRTLITIGGLPEPQTLFEIVFQLLNFFSGVFVFSSLIGQMRDVIGAATA                    NQNYFRACMDDTIAYMNNYSIPKLVQKRVRTWYEYTWDSQRMLDESDLLKTLPTTVQL                    ALAIDVNFSIISKVDLFKGCDTQMIYDMLLRLKSVLYLPGDFVCKKGEIGKEMYIIKH                    GEVQVLGGPDGTKVLVTLKAGSVFGEISLLAAGGGNRRTANVVAHGFANLLTLDKKTL                    QEILVHYPDSERILMKKARVLLKQKAKTAEATPPRKDLALLFPPKEETPKLFKTLLGG                    TGKASLARLLKLKREQAAQKKENSEGGEEEGKENEDKQKENEDKQKENEDKGKENEDK                    DKGREPEEKPLDRPECTASPIAVEEEPHSVRRTVLPRGTSRQSLIISMAPSAEGGEE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66ffff"/>
                </a:solidFill>
                <a:latin typeface="Tahoma"/>
              </a:rPr>
              <a:t>LTIEVKEKAKQ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Tahoma"/>
              </a:rPr>
              <a:t>Mutation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266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The genetic basis for achromatopsia is found on chromosome 8 (location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q21-q22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) where there is a recessive point mutation in CNGB3 that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anges serine at residue 435 to phenylalanine</a:t>
            </a:r>
            <a:r>
              <a:rPr b="0" lang="en-US" sz="1800" spc="-1" strike="noStrike">
                <a:solidFill>
                  <a:srgbClr val="ff66cc"/>
                </a:solidFill>
                <a:latin typeface="Tahoma"/>
              </a:rPr>
              <a:t> in a highly conserved site in the S6 membrane-spanning domain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581280" y="144792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146" name="Нижний колонтитул 6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Tahoma"/>
              </a:rPr>
              <a:t>Bibliograp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Bookshelf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Samir S Deeb, PhD, Arno G Motulsky, MD,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Red-Green Color Vision Defects,”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GeneReviews, September 19, 200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erg, Jeremy M.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32.3.5. Rearrangements in the Genes for the Green and Red Pigments Lead to ‘Color Blindness,’”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Biochemistry 5th edition, W.H. Freeman and Company, 2002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OMIM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LORBLINDNESS, PARTIAL, DEUTAN SERIES; CBD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OMIM ID: 3038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PubMed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arrison, R.; Hoefnagel, D.; Hayward, J. N. 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Congenital total color blindness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Arch. Ophthal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4: 685-692, 1960. PubMed ID: 1371183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Botstein, D. 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The molecular biology of color vision.”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(Editorial) </a:t>
            </a:r>
            <a:r>
              <a:rPr b="0" i="1" lang="nl-NL" sz="1400" spc="-1" strike="noStrike">
                <a:solidFill>
                  <a:srgbClr val="ffffff"/>
                </a:solidFill>
                <a:latin typeface="Tahoma"/>
              </a:rPr>
              <a:t>Science </a:t>
            </a: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232: 142-143, 1986. PubMed ID: 2937146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ahoma"/>
              </a:rPr>
              <a:t>Reyniers, E.; Van Thienen, M.-N.; Meire, F.; De Boulle, K.; Devries, K.; Kestelijn, P.; Willems, P. J. </a:t>
            </a:r>
            <a:r>
              <a:rPr b="0" lang="nl-NL" sz="1400" spc="-1" strike="noStrike" u="sng">
                <a:solidFill>
                  <a:srgbClr val="ffffff"/>
                </a:solidFill>
                <a:uFillTx/>
                <a:latin typeface="Tahoma"/>
              </a:rPr>
              <a:t>“Gene conversion between red and defective green opsin gene in blue cone monochromacy.”</a:t>
            </a:r>
            <a:r>
              <a:rPr b="1" lang="nl-NL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Genomics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9: 323-328, 1995. PubMed ID: 866637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Winderickx, J.; Sanocki, E.; Lindsey, D. T.; Teller, D. Y.; Motulsky, A. G.; Deeb, S. S. :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96969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“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Defective colour vision associated with a missense mutation in the human green visual pigment gene.” </a:t>
            </a:r>
            <a:r>
              <a:rPr b="0" i="1" lang="en-US" sz="1400" spc="-1" strike="noStrike">
                <a:solidFill>
                  <a:srgbClr val="ffffff"/>
                </a:solidFill>
                <a:latin typeface="Tahoma"/>
              </a:rPr>
              <a:t>Nature Genet.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: 251-256, 1992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ubMed ID: 1302020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Нижний колонтитул 5"/>
          <p:cNvSpPr/>
          <p:nvPr/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0:21:55Z</dcterms:created>
  <dc:creator>Jessie Wright</dc:creator>
  <dc:description/>
  <dc:language>en-US</dc:language>
  <cp:lastModifiedBy>LEGION</cp:lastModifiedBy>
  <dcterms:modified xsi:type="dcterms:W3CDTF">2018-03-22T08:41:49Z</dcterms:modified>
  <cp:revision>18</cp:revision>
  <dc:subject/>
  <dc:title>Color Blindness</dc:title>
</cp:coreProperties>
</file>